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79.xml" ContentType="application/vnd.openxmlformats-officedocument.presentationml.notesSlide+xml"/>
  <Override PartName="/ppt/notesSlides/_rels/notesSlide82.xml.rels" ContentType="application/vnd.openxmlformats-package.relationships+xml"/>
  <Override PartName="/ppt/notesSlides/_rels/notesSlide64.xml.rels" ContentType="application/vnd.openxmlformats-package.relationships+xml"/>
  <Override PartName="/ppt/notesSlides/_rels/notesSlide60.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60.xml" ContentType="application/vnd.openxmlformats-officedocument.presentationml.notesSlide+xml"/>
  <Override PartName="/ppt/notesSlides/notesSlide64.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40.jpeg" ContentType="image/jpeg"/>
  <Override PartName="/ppt/media/image44.png" ContentType="image/pn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5080" y="686880"/>
            <a:ext cx="4589280" cy="3441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1380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71380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15A5-1ECB-4FA7-BCAE-95928B484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35080" y="687240"/>
            <a:ext cx="4589280" cy="3441960"/>
          </a:xfrm>
          <a:prstGeom prst="rect">
            <a:avLst/>
          </a:prstGeom>
          <a:ln w="0">
            <a:noFill/>
          </a:ln>
        </p:spPr>
      </p:sp>
      <p:sp>
        <p:nvSpPr>
          <p:cNvPr id="74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2: What information do we encode automatically? What information do we encode effortfully, and how does the distribution of practice influence reten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35080" y="687240"/>
            <a:ext cx="4589280" cy="3441960"/>
          </a:xfrm>
          <a:prstGeom prst="rect">
            <a:avLst/>
          </a:prstGeom>
          <a:ln w="0">
            <a:noFill/>
          </a:ln>
        </p:spPr>
      </p:sp>
      <p:sp>
        <p:nvSpPr>
          <p:cNvPr id="74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3:What effortful processing methods aid in forming memo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35080" y="687240"/>
            <a:ext cx="4589280" cy="3441960"/>
          </a:xfrm>
          <a:prstGeom prst="rect">
            <a:avLst/>
          </a:prstGeom>
          <a:ln w="0">
            <a:noFill/>
          </a:ln>
        </p:spPr>
      </p:sp>
      <p:sp>
        <p:nvSpPr>
          <p:cNvPr id="74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4: What is sensory memor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35080" y="687240"/>
            <a:ext cx="4589280" cy="3441960"/>
          </a:xfrm>
          <a:prstGeom prst="rect">
            <a:avLst/>
          </a:prstGeom>
          <a:ln w="0">
            <a:noFill/>
          </a:ln>
        </p:spPr>
      </p:sp>
      <p:sp>
        <p:nvSpPr>
          <p:cNvPr id="74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5: What are the duration and capacity of short-term and of long-term memor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35080" y="687240"/>
            <a:ext cx="4589280" cy="3441960"/>
          </a:xfrm>
          <a:prstGeom prst="rect">
            <a:avLst/>
          </a:prstGeom>
          <a:ln w="0">
            <a:noFill/>
          </a:ln>
        </p:spPr>
      </p:sp>
      <p:sp>
        <p:nvSpPr>
          <p:cNvPr id="749"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6: How does the brain store our memori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35080" y="687240"/>
            <a:ext cx="4589280" cy="3441960"/>
          </a:xfrm>
          <a:prstGeom prst="rect">
            <a:avLst/>
          </a:prstGeom>
          <a:ln w="0">
            <a:noFill/>
          </a:ln>
        </p:spPr>
      </p:sp>
      <p:sp>
        <p:nvSpPr>
          <p:cNvPr id="75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7: How do we get information out of memo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35080" y="687240"/>
            <a:ext cx="4589280" cy="3441960"/>
          </a:xfrm>
          <a:prstGeom prst="rect">
            <a:avLst/>
          </a:prstGeom>
          <a:ln w="0">
            <a:noFill/>
          </a:ln>
        </p:spPr>
      </p:sp>
      <p:sp>
        <p:nvSpPr>
          <p:cNvPr id="75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8: How do external contexts and internal emotions influence memory retrieval?</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35080" y="687240"/>
            <a:ext cx="4589280" cy="3441960"/>
          </a:xfrm>
          <a:prstGeom prst="rect">
            <a:avLst/>
          </a:prstGeom>
          <a:ln w="0">
            <a:noFill/>
          </a:ln>
        </p:spPr>
      </p:sp>
      <p:sp>
        <p:nvSpPr>
          <p:cNvPr id="75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9: Why do we forget?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35080" y="687240"/>
            <a:ext cx="4589280" cy="3441960"/>
          </a:xfrm>
          <a:prstGeom prst="rect">
            <a:avLst/>
          </a:prstGeom>
          <a:ln w="0">
            <a:noFill/>
          </a:ln>
        </p:spPr>
      </p:sp>
      <p:sp>
        <p:nvSpPr>
          <p:cNvPr id="75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0: How do misinformation, imagination, and source amnesia influence our memory construction? How real-seeming are false memories?</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35080" y="687240"/>
            <a:ext cx="4589280" cy="3441960"/>
          </a:xfrm>
          <a:prstGeom prst="rect">
            <a:avLst/>
          </a:prstGeom>
          <a:ln w="0">
            <a:noFill/>
          </a:ln>
        </p:spPr>
      </p:sp>
      <p:sp>
        <p:nvSpPr>
          <p:cNvPr id="759"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11: What is the controversy related to claims of repressed and recovered memorie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35080" y="687240"/>
            <a:ext cx="4589280" cy="3441960"/>
          </a:xfrm>
          <a:prstGeom prst="rect">
            <a:avLst/>
          </a:prstGeom>
          <a:ln w="0">
            <a:noFill/>
          </a:ln>
        </p:spPr>
      </p:sp>
      <p:sp>
        <p:nvSpPr>
          <p:cNvPr id="76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2: How can an understanding of memory contribute to more effective study techniqu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35080" y="687240"/>
            <a:ext cx="4589280" cy="3441960"/>
          </a:xfrm>
          <a:prstGeom prst="rect">
            <a:avLst/>
          </a:prstGeom>
          <a:ln w="0">
            <a:noFill/>
          </a:ln>
        </p:spPr>
      </p:sp>
      <p:sp>
        <p:nvSpPr>
          <p:cNvPr id="739"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 How do psychologists describe the human memory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D3F46-95D4-4901-9422-40F7AE237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295E0-CA73-4F50-BF8F-D953ED968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93C7B-4F32-48DC-9AA1-B1D253A43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B15D8-7119-4F1E-B8AC-0A7FDF88E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F5E29-0EC6-418C-AF25-F04B875E5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56E55-674C-426F-8CFC-980F0EC3F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E2FCE-C71E-43CF-985E-474E6E81A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F42A7-0A7F-44E6-BB77-2A85E1809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89403-9C5D-4B2D-9AE7-37DBE709C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7919-CA26-4D67-AC16-0F5105CC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4DD5B-4EB4-4D82-A8D7-AFD8E7D3E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DE173-8BE1-4822-8265-C4D139672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28E7-729F-475D-A7F7-658A68432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usr/lib/libreoffice/share/gallery/sounds/applause.wav" TargetMode="External"/><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1.jpe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package" Target="../embeddings/oleObject1.xlsx"/><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9th Edition)</a:t>
            </a:r>
            <a:br>
              <a:rPr sz="2800"/>
            </a:br>
            <a:br>
              <a:rPr sz="2800"/>
            </a:br>
            <a:r>
              <a:rPr b="0" lang="en-US" sz="2800" spc="-1" strike="noStrike">
                <a:solidFill>
                  <a:srgbClr val="0000ff"/>
                </a:solidFill>
                <a:latin typeface="Palatino Linotype"/>
              </a:rPr>
              <a:t>David G. Myers</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Times New Roman"/>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
        <p:nvSpPr>
          <p:cNvPr id="4" name="PlaceHolder 3"/>
          <p:cNvSpPr>
            <a:spLocks noGrp="1"/>
          </p:cNvSpPr>
          <p:nvPr>
            <p:ph type="sldNum" idx="3"/>
          </p:nvPr>
        </p:nvSpPr>
        <p:spPr/>
        <p:txBody>
          <a:bodyPr/>
          <a:p>
            <a:fld id="{86E3658D-A587-402A-84F2-80187D24CF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formation Processing</a:t>
            </a:r>
            <a:endParaRPr b="0" lang="en-US" sz="4000" spc="-1" strike="noStrike">
              <a:solidFill>
                <a:srgbClr val="000000"/>
              </a:solidFill>
              <a:latin typeface="Times New Roman"/>
            </a:endParaRPr>
          </a:p>
        </p:txBody>
      </p:sp>
      <p:sp>
        <p:nvSpPr>
          <p:cNvPr id="160" name="PlaceHolder 2"/>
          <p:cNvSpPr>
            <a:spLocks noGrp="1"/>
          </p:cNvSpPr>
          <p:nvPr>
            <p:ph/>
          </p:nvPr>
        </p:nvSpPr>
        <p:spPr>
          <a:xfrm>
            <a:off x="609480" y="1371600"/>
            <a:ext cx="7872480" cy="1300320"/>
          </a:xfrm>
          <a:prstGeom prst="rect">
            <a:avLst/>
          </a:prstGeom>
          <a:noFill/>
          <a:ln w="0">
            <a:noFill/>
          </a:ln>
        </p:spPr>
        <p:txBody>
          <a:bodyPr lIns="90000" rIns="90000" tIns="46800" bIns="46800" anchor="t">
            <a:normAutofit fontScale="95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tkinson-Schiffrin (1968) three-stage model of memory includes a)</a:t>
            </a:r>
            <a:r>
              <a:rPr b="0" lang="en-US" sz="2800" spc="-1" strike="noStrike">
                <a:solidFill>
                  <a:srgbClr val="0000ff"/>
                </a:solidFill>
                <a:latin typeface="Palatino Linotype"/>
              </a:rPr>
              <a:t> sensory memory</a:t>
            </a:r>
            <a:r>
              <a:rPr b="0" lang="en-US" sz="2800" spc="-1" strike="noStrike">
                <a:solidFill>
                  <a:srgbClr val="000000"/>
                </a:solidFill>
                <a:latin typeface="Palatino Linotype"/>
              </a:rPr>
              <a:t>,</a:t>
            </a:r>
            <a:r>
              <a:rPr b="0" lang="en-US" sz="2800" spc="-1" strike="noStrike">
                <a:solidFill>
                  <a:srgbClr val="0000ff"/>
                </a:solidFill>
                <a:latin typeface="Palatino Linotype"/>
              </a:rPr>
              <a:t> </a:t>
            </a:r>
            <a:r>
              <a:rPr b="0" lang="en-US" sz="2800" spc="-1" strike="noStrike">
                <a:solidFill>
                  <a:srgbClr val="000000"/>
                </a:solidFill>
                <a:latin typeface="Palatino Linotype"/>
              </a:rPr>
              <a:t>b)</a:t>
            </a:r>
            <a:r>
              <a:rPr b="0" lang="en-US" sz="2800" spc="-1" strike="noStrike">
                <a:solidFill>
                  <a:srgbClr val="0000ff"/>
                </a:solidFill>
                <a:latin typeface="Palatino Linotype"/>
              </a:rPr>
              <a:t> short-term memory,</a:t>
            </a:r>
            <a:r>
              <a:rPr b="0" lang="en-US" sz="2800" spc="-1" strike="noStrike">
                <a:solidFill>
                  <a:srgbClr val="000000"/>
                </a:solidFill>
                <a:latin typeface="Palatino Linotype"/>
              </a:rPr>
              <a:t> and c)</a:t>
            </a:r>
            <a:r>
              <a:rPr b="0" lang="en-US" sz="2800" spc="-1" strike="noStrike">
                <a:solidFill>
                  <a:srgbClr val="0000ff"/>
                </a:solidFill>
                <a:latin typeface="Palatino Linotype"/>
              </a:rPr>
              <a:t> long-term memory</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161" name="" descr=""/>
          <p:cNvPicPr/>
          <p:nvPr/>
        </p:nvPicPr>
        <p:blipFill>
          <a:blip r:embed="rId1"/>
          <a:stretch/>
        </p:blipFill>
        <p:spPr>
          <a:xfrm>
            <a:off x="762120" y="2819520"/>
            <a:ext cx="7576920" cy="3512880"/>
          </a:xfrm>
          <a:prstGeom prst="rect">
            <a:avLst/>
          </a:prstGeom>
          <a:ln w="0">
            <a:noFill/>
          </a:ln>
        </p:spPr>
      </p:pic>
      <p:sp>
        <p:nvSpPr>
          <p:cNvPr id="162" name=""/>
          <p:cNvSpPr/>
          <p:nvPr/>
        </p:nvSpPr>
        <p:spPr>
          <a:xfrm rot="16200000">
            <a:off x="2097000" y="4989960"/>
            <a:ext cx="1828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b Daemmrich/ The Image Works</a:t>
            </a:r>
            <a:endParaRPr b="0" lang="en-US" sz="900" spc="-1" strike="noStrike">
              <a:solidFill>
                <a:srgbClr val="000000"/>
              </a:solidFill>
              <a:latin typeface="Times New Roman"/>
            </a:endParaRPr>
          </a:p>
        </p:txBody>
      </p:sp>
      <p:sp>
        <p:nvSpPr>
          <p:cNvPr id="163" name=""/>
          <p:cNvSpPr/>
          <p:nvPr/>
        </p:nvSpPr>
        <p:spPr>
          <a:xfrm rot="16200000">
            <a:off x="4535640" y="4913640"/>
            <a:ext cx="1828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b Daemmrich/ The Image Works</a:t>
            </a:r>
            <a:endParaRPr b="0" lang="en-US" sz="900" spc="-1" strike="noStrike">
              <a:solidFill>
                <a:srgbClr val="000000"/>
              </a:solidFill>
              <a:latin typeface="Times New Roman"/>
            </a:endParaRPr>
          </a:p>
        </p:txBody>
      </p:sp>
      <p:sp>
        <p:nvSpPr>
          <p:cNvPr id="164" name=""/>
          <p:cNvSpPr/>
          <p:nvPr/>
        </p:nvSpPr>
        <p:spPr>
          <a:xfrm rot="16200000">
            <a:off x="7255440" y="4887720"/>
            <a:ext cx="17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nk Wartenberg/ Picture Pres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rbi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EA46442E-9ECA-44D3-ABAF-07ADB8AA94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difications to the Three-Stage Model</a:t>
            </a:r>
            <a:endParaRPr b="0" lang="en-US" sz="4000" spc="-1" strike="noStrike">
              <a:solidFill>
                <a:srgbClr val="000000"/>
              </a:solidFill>
              <a:latin typeface="Times New Roman"/>
            </a:endParaRPr>
          </a:p>
        </p:txBody>
      </p:sp>
      <p:sp>
        <p:nvSpPr>
          <p:cNvPr id="166" name="PlaceHolder 2"/>
          <p:cNvSpPr>
            <a:spLocks noGrp="1"/>
          </p:cNvSpPr>
          <p:nvPr>
            <p:ph/>
          </p:nvPr>
        </p:nvSpPr>
        <p:spPr>
          <a:xfrm>
            <a:off x="456840" y="1980720"/>
            <a:ext cx="7986600" cy="3886200"/>
          </a:xfrm>
          <a:prstGeom prst="rect">
            <a:avLst/>
          </a:prstGeom>
          <a:noFill/>
          <a:ln w="0">
            <a:noFill/>
          </a:ln>
        </p:spPr>
        <p:txBody>
          <a:bodyPr lIns="90000" rIns="90000" tIns="46800" bIns="46800" anchor="t">
            <a:normAutofit fontScale="96000"/>
          </a:bodyPr>
          <a:p>
            <a:pPr marL="585000" indent="-58500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me information skips the first two stages and enters long-term memory automatically.</a:t>
            </a:r>
            <a:endParaRPr b="0" lang="en-US" sz="2800" spc="-1" strike="noStrike">
              <a:solidFill>
                <a:srgbClr val="000000"/>
              </a:solidFill>
              <a:latin typeface="Times New Roman"/>
            </a:endParaRPr>
          </a:p>
          <a:p>
            <a:pPr marL="585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85000" indent="-58500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ince we cannot focus on all the sensory information received, we select information that is important to us and actively process it into our </a:t>
            </a:r>
            <a:r>
              <a:rPr b="0" lang="en-US" sz="2800" spc="-1" strike="noStrike">
                <a:solidFill>
                  <a:srgbClr val="0000ff"/>
                </a:solidFill>
                <a:latin typeface="Palatino Linotype"/>
              </a:rPr>
              <a:t>working memory</a:t>
            </a:r>
            <a:r>
              <a:rPr b="0" lang="en-US" sz="2800" spc="-1" strike="noStrike">
                <a:solidFill>
                  <a:srgbClr val="000000"/>
                </a:solidFill>
                <a:latin typeface="Palatino Linotype"/>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60FA93-F8BE-4BA2-BBEF-1850F14BD0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ing Memory</a:t>
            </a:r>
            <a:endParaRPr b="0" lang="en-US" sz="4000" spc="-1" strike="noStrike">
              <a:solidFill>
                <a:srgbClr val="000000"/>
              </a:solidFill>
              <a:latin typeface="Times New Roman"/>
            </a:endParaRPr>
          </a:p>
        </p:txBody>
      </p:sp>
      <p:sp>
        <p:nvSpPr>
          <p:cNvPr id="168" name="PlaceHolder 2"/>
          <p:cNvSpPr>
            <a:spLocks noGrp="1"/>
          </p:cNvSpPr>
          <p:nvPr>
            <p:ph/>
          </p:nvPr>
        </p:nvSpPr>
        <p:spPr>
          <a:xfrm>
            <a:off x="533160" y="1980720"/>
            <a:ext cx="7924680" cy="31244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newer understanding of short-term memory that involves conscious, active processing of incoming auditory and visual-spatial information, and of information retrieved from long-term memo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EBE8F5-A051-4A35-A077-30BC87A332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coding: Getting Information In</a:t>
            </a:r>
            <a:endParaRPr b="0" lang="en-US" sz="4000" spc="-1" strike="noStrike">
              <a:solidFill>
                <a:srgbClr val="000000"/>
              </a:solidFill>
              <a:latin typeface="Times New Roman"/>
            </a:endParaRPr>
          </a:p>
        </p:txBody>
      </p:sp>
      <p:sp>
        <p:nvSpPr>
          <p:cNvPr id="170" name=""/>
          <p:cNvSpPr/>
          <p:nvPr/>
        </p:nvSpPr>
        <p:spPr>
          <a:xfrm>
            <a:off x="2847960" y="160020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We Encode</a:t>
            </a:r>
            <a:endParaRPr b="0" lang="en-US" sz="2800" spc="-1" strike="noStrike">
              <a:solidFill>
                <a:srgbClr val="000000"/>
              </a:solidFill>
              <a:latin typeface="Times New Roman"/>
            </a:endParaRPr>
          </a:p>
        </p:txBody>
      </p:sp>
      <p:sp>
        <p:nvSpPr>
          <p:cNvPr id="171" name=""/>
          <p:cNvSpPr/>
          <p:nvPr/>
        </p:nvSpPr>
        <p:spPr>
          <a:xfrm>
            <a:off x="685800" y="2438280"/>
            <a:ext cx="7772400" cy="2590920"/>
          </a:xfrm>
          <a:prstGeom prst="rect">
            <a:avLst/>
          </a:prstGeom>
          <a:noFill/>
          <a:ln w="0">
            <a:noFill/>
          </a:ln>
        </p:spPr>
        <p:style>
          <a:lnRef idx="0"/>
          <a:fillRef idx="0"/>
          <a:effectRef idx="0"/>
          <a:fontRef idx="minor"/>
        </p:style>
        <p:txBody>
          <a:bodyPr lIns="90000" rIns="90000" tIns="46800" bIns="46800" anchor="t">
            <a:normAutofit fontScale="89000"/>
          </a:bodyPr>
          <a:p>
            <a:pPr marL="542160" indent="-54216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me information (route to your school) is automatically processed.</a:t>
            </a:r>
            <a:endParaRPr b="0" lang="en-US" sz="2800" spc="-1" strike="noStrike">
              <a:solidFill>
                <a:srgbClr val="000000"/>
              </a:solidFill>
              <a:latin typeface="Times New Roman"/>
            </a:endParaRPr>
          </a:p>
          <a:p>
            <a:pPr marL="542160" indent="-54216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2160" indent="-54216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ever, new or unusual information (friend’s new cell-phone number) requires attention and effor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D0A06D8-CDE9-4E14-9033-C8ABF7A7BB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utomatic Processing</a:t>
            </a:r>
            <a:endParaRPr b="0" lang="en-US" sz="3600" spc="-1" strike="noStrike">
              <a:solidFill>
                <a:srgbClr val="000000"/>
              </a:solidFill>
              <a:latin typeface="Times New Roman"/>
            </a:endParaRPr>
          </a:p>
        </p:txBody>
      </p:sp>
      <p:sp>
        <p:nvSpPr>
          <p:cNvPr id="173" name=""/>
          <p:cNvSpPr/>
          <p:nvPr/>
        </p:nvSpPr>
        <p:spPr>
          <a:xfrm>
            <a:off x="762120" y="1371600"/>
            <a:ext cx="7772400" cy="9907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process an enormous amount of information effortlessly, such as the following: </a:t>
            </a:r>
            <a:endParaRPr b="0" lang="en-US" sz="2800" spc="-1" strike="noStrike">
              <a:solidFill>
                <a:srgbClr val="000000"/>
              </a:solidFill>
              <a:latin typeface="Times New Roman"/>
            </a:endParaRPr>
          </a:p>
        </p:txBody>
      </p:sp>
      <p:sp>
        <p:nvSpPr>
          <p:cNvPr id="174" name=""/>
          <p:cNvSpPr/>
          <p:nvPr/>
        </p:nvSpPr>
        <p:spPr>
          <a:xfrm>
            <a:off x="671400" y="2895480"/>
            <a:ext cx="7772400" cy="33530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pace:</a:t>
            </a:r>
            <a:r>
              <a:rPr b="0" lang="en-US" sz="2800" spc="-1" strike="noStrike">
                <a:solidFill>
                  <a:srgbClr val="000000"/>
                </a:solidFill>
                <a:latin typeface="Palatino Linotype"/>
              </a:rPr>
              <a:t> While reading a textbook, you automatically encode the place of a picture on a page.</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Time:</a:t>
            </a:r>
            <a:r>
              <a:rPr b="0" lang="en-US" sz="2800" spc="-1" strike="noStrike">
                <a:solidFill>
                  <a:srgbClr val="000000"/>
                </a:solidFill>
                <a:latin typeface="Palatino Linotype"/>
              </a:rPr>
              <a:t> We unintentionally note the events that take place in a day.</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requency:</a:t>
            </a:r>
            <a:r>
              <a:rPr b="0" lang="en-US" sz="2800" spc="-1" strike="noStrike">
                <a:solidFill>
                  <a:srgbClr val="000000"/>
                </a:solidFill>
                <a:latin typeface="Palatino Linotype"/>
              </a:rPr>
              <a:t> You effortlessly keep track of things that happen to you.</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F525534-4B95-48E2-BB8A-27B03700C9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ffortful Processing</a:t>
            </a:r>
            <a:endParaRPr b="0" lang="en-US" sz="4000" spc="-1" strike="noStrike">
              <a:solidFill>
                <a:srgbClr val="000000"/>
              </a:solidFill>
              <a:latin typeface="Times New Roman"/>
            </a:endParaRPr>
          </a:p>
        </p:txBody>
      </p:sp>
      <p:sp>
        <p:nvSpPr>
          <p:cNvPr id="176" name=""/>
          <p:cNvSpPr/>
          <p:nvPr/>
        </p:nvSpPr>
        <p:spPr>
          <a:xfrm>
            <a:off x="457200" y="2057400"/>
            <a:ext cx="4114800" cy="35812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mmitting novel information to memory requires effort just like learning a concept from a textbook. Such processing leads to durable and accessible memories.</a:t>
            </a:r>
            <a:endParaRPr b="0" lang="en-US" sz="2800" spc="-1" strike="noStrike">
              <a:solidFill>
                <a:srgbClr val="000000"/>
              </a:solidFill>
              <a:latin typeface="Times New Roman"/>
            </a:endParaRPr>
          </a:p>
        </p:txBody>
      </p:sp>
      <p:pic>
        <p:nvPicPr>
          <p:cNvPr id="177" name="" descr=""/>
          <p:cNvPicPr/>
          <p:nvPr/>
        </p:nvPicPr>
        <p:blipFill>
          <a:blip r:embed="rId1"/>
          <a:stretch/>
        </p:blipFill>
        <p:spPr>
          <a:xfrm>
            <a:off x="4876920" y="1600200"/>
            <a:ext cx="3774960" cy="4267080"/>
          </a:xfrm>
          <a:prstGeom prst="rect">
            <a:avLst/>
          </a:prstGeom>
          <a:ln w="0">
            <a:noFill/>
          </a:ln>
        </p:spPr>
      </p:pic>
      <p:sp>
        <p:nvSpPr>
          <p:cNvPr id="178" name=""/>
          <p:cNvSpPr/>
          <p:nvPr/>
        </p:nvSpPr>
        <p:spPr>
          <a:xfrm rot="5400000">
            <a:off x="4065480" y="5073840"/>
            <a:ext cx="1390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ncer Grant/ Photo Edit</a:t>
            </a:r>
            <a:endParaRPr b="0" lang="en-US" sz="900" spc="-1" strike="noStrike">
              <a:solidFill>
                <a:srgbClr val="000000"/>
              </a:solidFill>
              <a:latin typeface="Times New Roman"/>
            </a:endParaRPr>
          </a:p>
        </p:txBody>
      </p:sp>
      <p:sp>
        <p:nvSpPr>
          <p:cNvPr id="179" name=""/>
          <p:cNvSpPr/>
          <p:nvPr/>
        </p:nvSpPr>
        <p:spPr>
          <a:xfrm rot="5400000">
            <a:off x="8037360" y="5294520"/>
            <a:ext cx="1371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Bananastock/ Alamy</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D0BCC069-F6DA-4AF6-B71D-C5E799C9E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hearsal</a:t>
            </a:r>
            <a:endParaRPr b="0" lang="en-US" sz="4000" spc="-1" strike="noStrike">
              <a:solidFill>
                <a:srgbClr val="000000"/>
              </a:solidFill>
              <a:latin typeface="Times New Roman"/>
            </a:endParaRPr>
          </a:p>
        </p:txBody>
      </p:sp>
      <p:sp>
        <p:nvSpPr>
          <p:cNvPr id="181" name=""/>
          <p:cNvSpPr/>
          <p:nvPr/>
        </p:nvSpPr>
        <p:spPr>
          <a:xfrm>
            <a:off x="576360" y="1657440"/>
            <a:ext cx="392436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ffortful learning usually requires rehearsal or conscious repeti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bbinghaus studied rehearsal by using </a:t>
            </a:r>
            <a:r>
              <a:rPr b="0" lang="en-US" sz="2800" spc="-1" strike="noStrike">
                <a:solidFill>
                  <a:srgbClr val="0000ff"/>
                </a:solidFill>
                <a:latin typeface="Palatino Linotype"/>
              </a:rPr>
              <a:t>nonsense syllables</a:t>
            </a:r>
            <a:r>
              <a:rPr b="0" lang="en-US" sz="2800" spc="-1" strike="noStrike">
                <a:solidFill>
                  <a:srgbClr val="000000"/>
                </a:solidFill>
                <a:latin typeface="Palatino Linotype"/>
              </a:rPr>
              <a:t>: TUV YOF GEK XOZ</a:t>
            </a:r>
            <a:endParaRPr b="0" lang="en-US" sz="2800" spc="-1" strike="noStrike">
              <a:solidFill>
                <a:srgbClr val="000000"/>
              </a:solidFill>
              <a:latin typeface="Times New Roman"/>
            </a:endParaRPr>
          </a:p>
        </p:txBody>
      </p:sp>
      <p:sp>
        <p:nvSpPr>
          <p:cNvPr id="182" name=""/>
          <p:cNvSpPr/>
          <p:nvPr/>
        </p:nvSpPr>
        <p:spPr>
          <a:xfrm>
            <a:off x="5106600" y="5775480"/>
            <a:ext cx="2852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rmann Ebbingha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850-1909)</a:t>
            </a:r>
            <a:endParaRPr b="0" lang="en-US" sz="2000" spc="-1" strike="noStrike">
              <a:solidFill>
                <a:srgbClr val="000000"/>
              </a:solidFill>
              <a:latin typeface="Times New Roman"/>
            </a:endParaRPr>
          </a:p>
        </p:txBody>
      </p:sp>
      <p:pic>
        <p:nvPicPr>
          <p:cNvPr id="183" name="" descr=""/>
          <p:cNvPicPr/>
          <p:nvPr/>
        </p:nvPicPr>
        <p:blipFill>
          <a:blip r:embed="rId1"/>
          <a:stretch/>
        </p:blipFill>
        <p:spPr>
          <a:xfrm>
            <a:off x="4800600" y="1676520"/>
            <a:ext cx="3378240" cy="4114800"/>
          </a:xfrm>
          <a:prstGeom prst="rect">
            <a:avLst/>
          </a:prstGeom>
          <a:ln w="0">
            <a:noFill/>
          </a:ln>
        </p:spPr>
      </p:pic>
      <p:sp>
        <p:nvSpPr>
          <p:cNvPr id="184" name=""/>
          <p:cNvSpPr/>
          <p:nvPr/>
        </p:nvSpPr>
        <p:spPr>
          <a:xfrm rot="5400000">
            <a:off x="7143840" y="4577040"/>
            <a:ext cx="226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sbn3-540-21358-9.d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1EBDDFA-0EDA-437B-BA02-D1EA098C8B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hearsal</a:t>
            </a:r>
            <a:endParaRPr b="0" lang="en-US" sz="4000" spc="-1" strike="noStrike">
              <a:solidFill>
                <a:srgbClr val="000000"/>
              </a:solidFill>
              <a:latin typeface="Times New Roman"/>
            </a:endParaRPr>
          </a:p>
        </p:txBody>
      </p:sp>
      <p:pic>
        <p:nvPicPr>
          <p:cNvPr id="186" name="" descr=""/>
          <p:cNvPicPr/>
          <p:nvPr/>
        </p:nvPicPr>
        <p:blipFill>
          <a:blip r:embed="rId1"/>
          <a:stretch/>
        </p:blipFill>
        <p:spPr>
          <a:xfrm>
            <a:off x="3573360" y="1523880"/>
            <a:ext cx="5113440" cy="4446720"/>
          </a:xfrm>
          <a:prstGeom prst="rect">
            <a:avLst/>
          </a:prstGeom>
          <a:ln w="0">
            <a:noFill/>
          </a:ln>
        </p:spPr>
      </p:pic>
      <p:sp>
        <p:nvSpPr>
          <p:cNvPr id="187" name=""/>
          <p:cNvSpPr/>
          <p:nvPr/>
        </p:nvSpPr>
        <p:spPr>
          <a:xfrm>
            <a:off x="304920" y="2590920"/>
            <a:ext cx="441936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ore times the nonsense syllables were practiced on Day 1,</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fewer repetitions were required to remember them on Day 2.</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7B94CBC-5A1E-4DB2-875A-418FBA9A7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Effect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Spacing Effect:</a:t>
            </a:r>
            <a:r>
              <a:rPr b="0" lang="en-US" sz="3200" spc="-1" strike="noStrike">
                <a:solidFill>
                  <a:srgbClr val="000000"/>
                </a:solidFill>
                <a:latin typeface="Palatino Linotype"/>
              </a:rPr>
              <a:t> We retain information better when we rehearse over time.</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00000"/>
              </a:lnSpc>
              <a:spcBef>
                <a:spcPts val="799"/>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Serial Position Effect:</a:t>
            </a:r>
            <a:r>
              <a:rPr b="0" lang="en-US" sz="3200" spc="-1" strike="noStrike">
                <a:solidFill>
                  <a:srgbClr val="000000"/>
                </a:solidFill>
                <a:latin typeface="Palatino Linotype"/>
              </a:rPr>
              <a:t> When your recall is better for first and last items on a list, but poor for middle ite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73CF6A-32FA-4E99-BDD7-183266673A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at We Encode</a:t>
            </a:r>
            <a:endParaRPr b="0" lang="en-US" sz="4000" spc="-1" strike="noStrike">
              <a:solidFill>
                <a:srgbClr val="000000"/>
              </a:solidFill>
              <a:latin typeface="Times New Roman"/>
            </a:endParaRPr>
          </a:p>
        </p:txBody>
      </p:sp>
      <p:sp>
        <p:nvSpPr>
          <p:cNvPr id="191" name="PlaceHolder 2"/>
          <p:cNvSpPr>
            <a:spLocks noGrp="1"/>
          </p:cNvSpPr>
          <p:nvPr>
            <p:ph/>
          </p:nvPr>
        </p:nvSpPr>
        <p:spPr>
          <a:xfrm>
            <a:off x="1695240" y="2118960"/>
            <a:ext cx="5715000" cy="199548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ncoding by meaning</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ncoding by image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ncoding by organiz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710010-1118-48DF-B04F-E5B03F3CE6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2604600"/>
            <a:ext cx="7681680" cy="318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Memory</a:t>
            </a:r>
            <a:br>
              <a:rPr sz="5400"/>
            </a:br>
            <a:br>
              <a:rPr sz="5400"/>
            </a:br>
            <a:r>
              <a:rPr b="0" lang="en-US" sz="3600" spc="-1" strike="noStrike">
                <a:solidFill>
                  <a:srgbClr val="000000"/>
                </a:solidFill>
                <a:latin typeface="Palatino Linotype"/>
                <a:ea typeface="Times New Roman"/>
              </a:rPr>
              <a:t>Chapter 8</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76320" y="76320"/>
            <a:ext cx="2471760" cy="3429000"/>
          </a:xfrm>
          <a:prstGeom prst="rect">
            <a:avLst/>
          </a:prstGeom>
          <a:ln w="0">
            <a:noFill/>
          </a:ln>
        </p:spPr>
      </p:pic>
      <p:sp>
        <p:nvSpPr>
          <p:cNvPr id="3" name="PlaceHolder 2"/>
          <p:cNvSpPr>
            <a:spLocks noGrp="1"/>
          </p:cNvSpPr>
          <p:nvPr>
            <p:ph type="sldNum" idx="3"/>
          </p:nvPr>
        </p:nvSpPr>
        <p:spPr/>
        <p:txBody>
          <a:bodyPr/>
          <a:p>
            <a:fld id="{080BC643-186B-42E8-A62F-64C7BDB78C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coding Meaning</a:t>
            </a:r>
            <a:endParaRPr b="0" lang="en-US" sz="4000" spc="-1" strike="noStrike">
              <a:solidFill>
                <a:srgbClr val="000000"/>
              </a:solidFill>
              <a:latin typeface="Times New Roman"/>
            </a:endParaRPr>
          </a:p>
        </p:txBody>
      </p:sp>
      <p:sp>
        <p:nvSpPr>
          <p:cNvPr id="193" name=""/>
          <p:cNvSpPr/>
          <p:nvPr/>
        </p:nvSpPr>
        <p:spPr>
          <a:xfrm>
            <a:off x="990720" y="2057400"/>
            <a:ext cx="6858000" cy="39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ocessing the meaning of verbal information by associating it with what we already know or imagine. Encoding meaning (semantic encoding) results in better recognition later than visual or acoustic encoding.</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8A3889F-065F-4EF3-AB68-90644EBC36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Visual Encoding</a:t>
            </a:r>
            <a:endParaRPr b="0" lang="en-US" sz="4000" spc="-1" strike="noStrike">
              <a:solidFill>
                <a:srgbClr val="000000"/>
              </a:solidFill>
              <a:latin typeface="Times New Roman"/>
            </a:endParaRPr>
          </a:p>
        </p:txBody>
      </p:sp>
      <p:sp>
        <p:nvSpPr>
          <p:cNvPr id="195" name="PlaceHolder 2"/>
          <p:cNvSpPr>
            <a:spLocks noGrp="1"/>
          </p:cNvSpPr>
          <p:nvPr>
            <p:ph/>
          </p:nvPr>
        </p:nvSpPr>
        <p:spPr>
          <a:xfrm>
            <a:off x="671400" y="1585800"/>
            <a:ext cx="7772400" cy="14623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ntal pictures (imagery) are a powerful aid to effortful processing, especially when combined with semantic encoding.</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2403360" y="2995560"/>
            <a:ext cx="4316400" cy="2867040"/>
          </a:xfrm>
          <a:prstGeom prst="rect">
            <a:avLst/>
          </a:prstGeom>
          <a:ln w="0">
            <a:noFill/>
          </a:ln>
        </p:spPr>
      </p:pic>
      <p:sp>
        <p:nvSpPr>
          <p:cNvPr id="197" name=""/>
          <p:cNvSpPr/>
          <p:nvPr/>
        </p:nvSpPr>
        <p:spPr>
          <a:xfrm>
            <a:off x="484920" y="5867280"/>
            <a:ext cx="7889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howing adverse effects of tanning and smok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 a picture may be more powerful than simply talking about it.</a:t>
            </a:r>
            <a:endParaRPr b="0" lang="en-US" sz="2000" spc="-1" strike="noStrike">
              <a:solidFill>
                <a:srgbClr val="000000"/>
              </a:solidFill>
              <a:latin typeface="Times New Roman"/>
            </a:endParaRPr>
          </a:p>
        </p:txBody>
      </p:sp>
      <p:sp>
        <p:nvSpPr>
          <p:cNvPr id="198" name=""/>
          <p:cNvSpPr/>
          <p:nvPr/>
        </p:nvSpPr>
        <p:spPr>
          <a:xfrm rot="5400000">
            <a:off x="6052680" y="5069520"/>
            <a:ext cx="154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th photos: Ho/AP Photo</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702E7ABF-DAB7-4A4E-858D-F0DE22DF36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nemonics</a:t>
            </a:r>
            <a:endParaRPr b="0" lang="en-US" sz="4000" spc="-1" strike="noStrike">
              <a:solidFill>
                <a:srgbClr val="000000"/>
              </a:solidFill>
              <a:latin typeface="Times New Roman"/>
            </a:endParaRPr>
          </a:p>
        </p:txBody>
      </p:sp>
      <p:sp>
        <p:nvSpPr>
          <p:cNvPr id="200" name="PlaceHolder 2"/>
          <p:cNvSpPr>
            <a:spLocks noGrp="1"/>
          </p:cNvSpPr>
          <p:nvPr>
            <p:ph/>
          </p:nvPr>
        </p:nvSpPr>
        <p:spPr>
          <a:xfrm>
            <a:off x="762120" y="2286000"/>
            <a:ext cx="7619760" cy="23623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magery is at the heart of many memory aids. Mnemonic techniques use vivid imagery and organizational devices in aiding memo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D6F459-1808-4A97-8966-4BAF44A1CF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47640" y="1904760"/>
            <a:ext cx="7848720" cy="15238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reak down complex information into broad concepts and further subdivide them into categories and subcategories.</a:t>
            </a:r>
            <a:endParaRPr b="0" lang="en-US" sz="2800" spc="-1" strike="noStrike">
              <a:solidFill>
                <a:srgbClr val="000000"/>
              </a:solidFill>
              <a:latin typeface="Times New Roman"/>
            </a:endParaRPr>
          </a:p>
        </p:txBody>
      </p:sp>
      <p:sp>
        <p:nvSpPr>
          <p:cNvPr id="202" name="PlaceHolder 2"/>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Organizing Information for Encoding</a:t>
            </a:r>
            <a:endParaRPr b="0" lang="en-US" sz="3600" spc="-1" strike="noStrike">
              <a:solidFill>
                <a:srgbClr val="000000"/>
              </a:solidFill>
              <a:latin typeface="Times New Roman"/>
            </a:endParaRPr>
          </a:p>
        </p:txBody>
      </p:sp>
      <p:sp>
        <p:nvSpPr>
          <p:cNvPr id="203" name=""/>
          <p:cNvSpPr/>
          <p:nvPr/>
        </p:nvSpPr>
        <p:spPr>
          <a:xfrm>
            <a:off x="3414600" y="3886200"/>
            <a:ext cx="27576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unking</a:t>
            </a:r>
            <a:endParaRPr b="0" lang="en-US" sz="2800" spc="-1" strike="noStrike">
              <a:solidFill>
                <a:srgbClr val="000000"/>
              </a:solidFill>
              <a:latin typeface="Times New Roman"/>
            </a:endParaRPr>
          </a:p>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ierarchi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8B0D13-932A-4CE8-8611-F7640A1028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unking</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595520"/>
            <a:ext cx="7772400" cy="1071360"/>
          </a:xfrm>
          <a:prstGeom prst="rect">
            <a:avLst/>
          </a:prstGeom>
          <a:noFill/>
          <a:ln w="0">
            <a:noFill/>
          </a:ln>
        </p:spPr>
        <p:txBody>
          <a:bodyPr lIns="90000" rIns="90000" tIns="46800" bIns="46800" anchor="t">
            <a:normAutofit fontScale="8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rganizing items into a familiar, manageable unit. Try to remember the numbers below.</a:t>
            </a:r>
            <a:endParaRPr b="0" lang="en-US" sz="2800" spc="-1" strike="noStrike">
              <a:solidFill>
                <a:srgbClr val="000000"/>
              </a:solidFill>
              <a:latin typeface="Times New Roman"/>
            </a:endParaRPr>
          </a:p>
        </p:txBody>
      </p:sp>
      <p:sp>
        <p:nvSpPr>
          <p:cNvPr id="206" name=""/>
          <p:cNvSpPr/>
          <p:nvPr/>
        </p:nvSpPr>
        <p:spPr>
          <a:xfrm>
            <a:off x="723960" y="2909880"/>
            <a:ext cx="769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7-7-6-1-4-9-2-1-8-1-2-1-9-4-1</a:t>
            </a:r>
            <a:endParaRPr b="0" lang="en-US" sz="2800" spc="-1" strike="noStrike">
              <a:solidFill>
                <a:srgbClr val="000000"/>
              </a:solidFill>
              <a:latin typeface="Times New Roman"/>
            </a:endParaRPr>
          </a:p>
        </p:txBody>
      </p:sp>
      <p:sp>
        <p:nvSpPr>
          <p:cNvPr id="207" name=""/>
          <p:cNvSpPr/>
          <p:nvPr/>
        </p:nvSpPr>
        <p:spPr>
          <a:xfrm>
            <a:off x="866880" y="3960720"/>
            <a:ext cx="73911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f you are well versed with American history, chunk the numbers together and see if you can recall them better.  1776 1492 1812 194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CF17EC-8B7D-41CD-86B5-29ED7B3AD436}" type="slidenum">
              <a:t>2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207"/>
                                        </p:tgtEl>
                                        <p:attrNameLst>
                                          <p:attrName>style.visibility</p:attrName>
                                        </p:attrNameLst>
                                      </p:cBhvr>
                                      <p:to>
                                        <p:strVal val="visible"/>
                                      </p:to>
                                    </p:set>
                                    <p:animEffect filter="dissolve" transition="in">
                                      <p:cBhvr additive="repl">
                                        <p:cTn id="3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unking</a:t>
            </a:r>
            <a:endParaRPr b="0" lang="en-US" sz="4000" spc="-1" strike="noStrike">
              <a:solidFill>
                <a:srgbClr val="000000"/>
              </a:solidFill>
              <a:latin typeface="Times New Roman"/>
            </a:endParaRPr>
          </a:p>
        </p:txBody>
      </p:sp>
      <p:sp>
        <p:nvSpPr>
          <p:cNvPr id="209" name=""/>
          <p:cNvSpPr/>
          <p:nvPr/>
        </p:nvSpPr>
        <p:spPr>
          <a:xfrm>
            <a:off x="685800" y="1600200"/>
            <a:ext cx="7772400" cy="1219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cronyms are another way of chunking information to remember it.</a:t>
            </a:r>
            <a:endParaRPr b="0" lang="en-US" sz="2800" spc="-1" strike="noStrike">
              <a:solidFill>
                <a:srgbClr val="000000"/>
              </a:solidFill>
              <a:latin typeface="Times New Roman"/>
            </a:endParaRPr>
          </a:p>
        </p:txBody>
      </p:sp>
      <p:sp>
        <p:nvSpPr>
          <p:cNvPr id="210" name=""/>
          <p:cNvSpPr/>
          <p:nvPr/>
        </p:nvSpPr>
        <p:spPr>
          <a:xfrm>
            <a:off x="457200" y="3429000"/>
            <a:ext cx="8153280" cy="1130400"/>
          </a:xfrm>
          <a:prstGeom prst="rect">
            <a:avLst/>
          </a:prstGeom>
          <a:noFill/>
          <a:ln w="0">
            <a:noFill/>
          </a:ln>
        </p:spPr>
        <p:style>
          <a:lnRef idx="0"/>
          <a:fillRef idx="0"/>
          <a:effectRef idx="0"/>
          <a:fontRef idx="minor"/>
        </p:style>
        <p:txBody>
          <a:bodyPr lIns="90000" rIns="90000" tIns="46800" bIns="46800" anchor="t">
            <a:spAutoFit/>
          </a:bodyPr>
          <a:p>
            <a:pPr marL="1654200" indent="-1654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OMES = </a:t>
            </a:r>
            <a:r>
              <a:rPr b="0" lang="en-US" sz="2000" spc="-1" strike="noStrike">
                <a:solidFill>
                  <a:srgbClr val="0000ff"/>
                </a:solidFill>
                <a:latin typeface="Palatino Linotype"/>
              </a:rPr>
              <a:t>H</a:t>
            </a:r>
            <a:r>
              <a:rPr b="0" lang="en-US" sz="2000" spc="-1" strike="noStrike">
                <a:solidFill>
                  <a:srgbClr val="000000"/>
                </a:solidFill>
                <a:latin typeface="Palatino Linotype"/>
              </a:rPr>
              <a:t>uron, </a:t>
            </a:r>
            <a:r>
              <a:rPr b="0" lang="en-US" sz="2000" spc="-1" strike="noStrike">
                <a:solidFill>
                  <a:srgbClr val="0000ff"/>
                </a:solidFill>
                <a:latin typeface="Palatino Linotype"/>
              </a:rPr>
              <a:t>O</a:t>
            </a:r>
            <a:r>
              <a:rPr b="0" lang="en-US" sz="2000" spc="-1" strike="noStrike">
                <a:solidFill>
                  <a:srgbClr val="000000"/>
                </a:solidFill>
                <a:latin typeface="Palatino Linotype"/>
              </a:rPr>
              <a:t>ntario, </a:t>
            </a:r>
            <a:r>
              <a:rPr b="0" lang="en-US" sz="2000" spc="-1" strike="noStrike">
                <a:solidFill>
                  <a:srgbClr val="0000ff"/>
                </a:solidFill>
                <a:latin typeface="Palatino Linotype"/>
              </a:rPr>
              <a:t>M</a:t>
            </a:r>
            <a:r>
              <a:rPr b="0" lang="en-US" sz="2000" spc="-1" strike="noStrike">
                <a:solidFill>
                  <a:srgbClr val="000000"/>
                </a:solidFill>
                <a:latin typeface="Palatino Linotype"/>
              </a:rPr>
              <a:t>ichigan,</a:t>
            </a:r>
            <a:r>
              <a:rPr b="0" lang="en-US" sz="2000" spc="-1" strike="noStrike">
                <a:solidFill>
                  <a:srgbClr val="6600cc"/>
                </a:solidFill>
                <a:latin typeface="Palatino Linotype"/>
              </a:rPr>
              <a:t> </a:t>
            </a:r>
            <a:r>
              <a:rPr b="0" lang="en-US" sz="2000" spc="-1" strike="noStrike">
                <a:solidFill>
                  <a:srgbClr val="0000ff"/>
                </a:solidFill>
                <a:latin typeface="Palatino Linotype"/>
              </a:rPr>
              <a:t>E</a:t>
            </a:r>
            <a:r>
              <a:rPr b="0" lang="en-US" sz="2000" spc="-1" strike="noStrike">
                <a:solidFill>
                  <a:srgbClr val="000000"/>
                </a:solidFill>
                <a:latin typeface="Palatino Linotype"/>
              </a:rPr>
              <a:t>rie, </a:t>
            </a:r>
            <a:r>
              <a:rPr b="0" lang="en-US" sz="2000" spc="-1" strike="noStrike">
                <a:solidFill>
                  <a:srgbClr val="0000ff"/>
                </a:solidFill>
                <a:latin typeface="Palatino Linotype"/>
              </a:rPr>
              <a:t>S</a:t>
            </a:r>
            <a:r>
              <a:rPr b="0" lang="en-US" sz="2000" spc="-1" strike="noStrike">
                <a:solidFill>
                  <a:srgbClr val="000000"/>
                </a:solidFill>
                <a:latin typeface="Palatino Linotype"/>
              </a:rPr>
              <a:t>uperior</a:t>
            </a:r>
            <a:endParaRPr b="0" lang="en-US" sz="2000" spc="-1" strike="noStrike">
              <a:solidFill>
                <a:srgbClr val="000000"/>
              </a:solidFill>
              <a:latin typeface="Times New Roman"/>
            </a:endParaRPr>
          </a:p>
          <a:p>
            <a:pPr marL="1654200" indent="-1654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54200" indent="-1654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OY G. BIV = </a:t>
            </a:r>
            <a:r>
              <a:rPr b="0" lang="en-US" sz="2000" spc="-1" strike="noStrike">
                <a:solidFill>
                  <a:srgbClr val="0000ff"/>
                </a:solidFill>
                <a:latin typeface="Palatino Linotype"/>
              </a:rPr>
              <a:t>R</a:t>
            </a:r>
            <a:r>
              <a:rPr b="0" lang="en-US" sz="2000" spc="-1" strike="noStrike">
                <a:solidFill>
                  <a:srgbClr val="000000"/>
                </a:solidFill>
                <a:latin typeface="Palatino Linotype"/>
              </a:rPr>
              <a:t>ed, </a:t>
            </a:r>
            <a:r>
              <a:rPr b="0" lang="en-US" sz="2000" spc="-1" strike="noStrike">
                <a:solidFill>
                  <a:srgbClr val="0000ff"/>
                </a:solidFill>
                <a:latin typeface="Palatino Linotype"/>
              </a:rPr>
              <a:t>O</a:t>
            </a:r>
            <a:r>
              <a:rPr b="0" lang="en-US" sz="2000" spc="-1" strike="noStrike">
                <a:solidFill>
                  <a:srgbClr val="000000"/>
                </a:solidFill>
                <a:latin typeface="Palatino Linotype"/>
              </a:rPr>
              <a:t>range, </a:t>
            </a:r>
            <a:r>
              <a:rPr b="0" lang="en-US" sz="2000" spc="-1" strike="noStrike">
                <a:solidFill>
                  <a:srgbClr val="0000ff"/>
                </a:solidFill>
                <a:latin typeface="Palatino Linotype"/>
              </a:rPr>
              <a:t>Y</a:t>
            </a:r>
            <a:r>
              <a:rPr b="0" lang="en-US" sz="2000" spc="-1" strike="noStrike">
                <a:solidFill>
                  <a:srgbClr val="000000"/>
                </a:solidFill>
                <a:latin typeface="Palatino Linotype"/>
              </a:rPr>
              <a:t>ellow, </a:t>
            </a:r>
            <a:r>
              <a:rPr b="0" lang="en-US" sz="2000" spc="-1" strike="noStrike">
                <a:solidFill>
                  <a:srgbClr val="0000ff"/>
                </a:solidFill>
                <a:latin typeface="Palatino Linotype"/>
              </a:rPr>
              <a:t>G</a:t>
            </a:r>
            <a:r>
              <a:rPr b="0" lang="en-US" sz="2000" spc="-1" strike="noStrike">
                <a:solidFill>
                  <a:srgbClr val="000000"/>
                </a:solidFill>
                <a:latin typeface="Palatino Linotype"/>
              </a:rPr>
              <a:t>reen, </a:t>
            </a:r>
            <a:r>
              <a:rPr b="0" lang="en-US" sz="2000" spc="-1" strike="noStrike">
                <a:solidFill>
                  <a:srgbClr val="0000ff"/>
                </a:solidFill>
                <a:latin typeface="Palatino Linotype"/>
              </a:rPr>
              <a:t>B</a:t>
            </a:r>
            <a:r>
              <a:rPr b="0" lang="en-US" sz="2000" spc="-1" strike="noStrike">
                <a:solidFill>
                  <a:srgbClr val="000000"/>
                </a:solidFill>
                <a:latin typeface="Palatino Linotype"/>
              </a:rPr>
              <a:t>lue, </a:t>
            </a:r>
            <a:r>
              <a:rPr b="0" lang="en-US" sz="2000" spc="-1" strike="noStrike">
                <a:solidFill>
                  <a:srgbClr val="0000ff"/>
                </a:solidFill>
                <a:latin typeface="Palatino Linotype"/>
              </a:rPr>
              <a:t>I</a:t>
            </a:r>
            <a:r>
              <a:rPr b="0" lang="en-US" sz="2000" spc="-1" strike="noStrike">
                <a:solidFill>
                  <a:srgbClr val="000000"/>
                </a:solidFill>
                <a:latin typeface="Palatino Linotype"/>
              </a:rPr>
              <a:t>ndigo, </a:t>
            </a:r>
            <a:r>
              <a:rPr b="0" lang="en-US" sz="2000" spc="-1" strike="noStrike">
                <a:solidFill>
                  <a:srgbClr val="0000ff"/>
                </a:solidFill>
                <a:latin typeface="Palatino Linotype"/>
              </a:rPr>
              <a:t>V</a:t>
            </a:r>
            <a:r>
              <a:rPr b="0" lang="en-US" sz="2000" spc="-1" strike="noStrike">
                <a:solidFill>
                  <a:srgbClr val="000000"/>
                </a:solidFill>
                <a:latin typeface="Palatino Linotype"/>
              </a:rPr>
              <a:t>iole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4A0CED0-EF44-4FC6-B0EC-60FC411836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erarchy</a:t>
            </a:r>
            <a:endParaRPr b="0" lang="en-US" sz="4000" spc="-1" strike="noStrike">
              <a:solidFill>
                <a:srgbClr val="000000"/>
              </a:solidFill>
              <a:latin typeface="Times New Roman"/>
            </a:endParaRPr>
          </a:p>
        </p:txBody>
      </p:sp>
      <p:sp>
        <p:nvSpPr>
          <p:cNvPr id="212" name=""/>
          <p:cNvSpPr/>
          <p:nvPr/>
        </p:nvSpPr>
        <p:spPr>
          <a:xfrm>
            <a:off x="647640" y="1600200"/>
            <a:ext cx="784872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mplex information broken down into broad concepts and further subdivided into categories and subcategories.</a:t>
            </a:r>
            <a:endParaRPr b="0" lang="en-US" sz="2800" spc="-1" strike="noStrike">
              <a:solidFill>
                <a:srgbClr val="000000"/>
              </a:solidFill>
              <a:latin typeface="Times New Roman"/>
            </a:endParaRPr>
          </a:p>
        </p:txBody>
      </p:sp>
      <p:pic>
        <p:nvPicPr>
          <p:cNvPr id="213" name="" descr=""/>
          <p:cNvPicPr/>
          <p:nvPr/>
        </p:nvPicPr>
        <p:blipFill>
          <a:blip r:embed="rId1"/>
          <a:stretch/>
        </p:blipFill>
        <p:spPr>
          <a:xfrm>
            <a:off x="685800" y="3429000"/>
            <a:ext cx="7772400" cy="2793960"/>
          </a:xfrm>
          <a:prstGeom prst="rect">
            <a:avLst/>
          </a:prstGeom>
          <a:ln w="0">
            <a:noFill/>
          </a:ln>
        </p:spPr>
      </p:pic>
      <p:sp>
        <p:nvSpPr>
          <p:cNvPr id="3" name="PlaceHolder 2"/>
          <p:cNvSpPr>
            <a:spLocks noGrp="1"/>
          </p:cNvSpPr>
          <p:nvPr>
            <p:ph type="sldNum" idx="3"/>
          </p:nvPr>
        </p:nvSpPr>
        <p:spPr/>
        <p:txBody>
          <a:bodyPr/>
          <a:p>
            <a:fld id="{B5D480C7-5FA7-4F8E-A59E-1C15A2FF38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ncoding Summarized in a Hierarchy</a:t>
            </a:r>
            <a:endParaRPr b="0" lang="en-US" sz="3600" spc="-1" strike="noStrike">
              <a:solidFill>
                <a:srgbClr val="000000"/>
              </a:solidFill>
              <a:latin typeface="Times New Roman"/>
            </a:endParaRPr>
          </a:p>
        </p:txBody>
      </p:sp>
      <p:pic>
        <p:nvPicPr>
          <p:cNvPr id="215" name="" descr=""/>
          <p:cNvPicPr/>
          <p:nvPr/>
        </p:nvPicPr>
        <p:blipFill>
          <a:blip r:embed="rId1"/>
          <a:stretch/>
        </p:blipFill>
        <p:spPr>
          <a:xfrm>
            <a:off x="442800" y="1828800"/>
            <a:ext cx="8229600" cy="3078000"/>
          </a:xfrm>
          <a:prstGeom prst="rect">
            <a:avLst/>
          </a:prstGeom>
          <a:ln w="0">
            <a:noFill/>
          </a:ln>
        </p:spPr>
      </p:pic>
      <p:sp>
        <p:nvSpPr>
          <p:cNvPr id="3" name="PlaceHolder 2"/>
          <p:cNvSpPr>
            <a:spLocks noGrp="1"/>
          </p:cNvSpPr>
          <p:nvPr>
            <p:ph type="sldNum" idx="3"/>
          </p:nvPr>
        </p:nvSpPr>
        <p:spPr/>
        <p:txBody>
          <a:bodyPr/>
          <a:p>
            <a:fld id="{16F0B5F4-2D83-4BCC-84D3-774F6267E7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orage: Retaining Information</a:t>
            </a:r>
            <a:endParaRPr b="0" lang="en-US" sz="4000" spc="-1" strike="noStrike">
              <a:solidFill>
                <a:srgbClr val="000000"/>
              </a:solidFill>
              <a:latin typeface="Times New Roman"/>
            </a:endParaRPr>
          </a:p>
        </p:txBody>
      </p:sp>
      <p:sp>
        <p:nvSpPr>
          <p:cNvPr id="217" name=""/>
          <p:cNvSpPr/>
          <p:nvPr/>
        </p:nvSpPr>
        <p:spPr>
          <a:xfrm>
            <a:off x="976320" y="1600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orage is at the heart of memory. Three stores of memory are shown below:</a:t>
            </a:r>
            <a:endParaRPr b="0" lang="en-US" sz="2800" spc="-1" strike="noStrike">
              <a:solidFill>
                <a:srgbClr val="000000"/>
              </a:solidFill>
              <a:latin typeface="Times New Roman"/>
            </a:endParaRPr>
          </a:p>
        </p:txBody>
      </p:sp>
      <p:sp>
        <p:nvSpPr>
          <p:cNvPr id="218" name=""/>
          <p:cNvSpPr/>
          <p:nvPr/>
        </p:nvSpPr>
        <p:spPr>
          <a:xfrm>
            <a:off x="2119320" y="2941560"/>
            <a:ext cx="120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ens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219" name=""/>
          <p:cNvSpPr/>
          <p:nvPr/>
        </p:nvSpPr>
        <p:spPr>
          <a:xfrm>
            <a:off x="3934800" y="2941560"/>
            <a:ext cx="124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220" name=""/>
          <p:cNvSpPr/>
          <p:nvPr/>
        </p:nvSpPr>
        <p:spPr>
          <a:xfrm>
            <a:off x="5732280" y="294156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ong-te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221" name=""/>
          <p:cNvSpPr/>
          <p:nvPr/>
        </p:nvSpPr>
        <p:spPr>
          <a:xfrm>
            <a:off x="2043000" y="3641760"/>
            <a:ext cx="137160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63880" y="3641760"/>
            <a:ext cx="137160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732640" y="3641760"/>
            <a:ext cx="137160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862520" y="387036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Encoding</a:t>
            </a:r>
            <a:endParaRPr b="0" lang="en-US" sz="1800" spc="-1" strike="noStrike">
              <a:solidFill>
                <a:srgbClr val="000000"/>
              </a:solidFill>
              <a:latin typeface="Times New Roman"/>
            </a:endParaRPr>
          </a:p>
        </p:txBody>
      </p:sp>
      <p:sp>
        <p:nvSpPr>
          <p:cNvPr id="225" name=""/>
          <p:cNvSpPr/>
          <p:nvPr/>
        </p:nvSpPr>
        <p:spPr>
          <a:xfrm flipH="1">
            <a:off x="4710240" y="4813200"/>
            <a:ext cx="1295280" cy="457200"/>
          </a:xfrm>
          <a:custGeom>
            <a:avLst/>
            <a:gdLst>
              <a:gd name="textAreaLeft" fmla="*/ 360 w 1295280"/>
              <a:gd name="textAreaRight" fmla="*/ 129600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00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Retrieval</a:t>
            </a:r>
            <a:endParaRPr b="0" lang="en-US" sz="1800" spc="-1" strike="noStrike">
              <a:solidFill>
                <a:srgbClr val="000000"/>
              </a:solidFill>
              <a:latin typeface="Times New Roman"/>
            </a:endParaRPr>
          </a:p>
        </p:txBody>
      </p:sp>
      <p:sp>
        <p:nvSpPr>
          <p:cNvPr id="226" name=""/>
          <p:cNvSpPr/>
          <p:nvPr/>
        </p:nvSpPr>
        <p:spPr>
          <a:xfrm flipH="1" rot="16200000">
            <a:off x="4233600" y="5489280"/>
            <a:ext cx="647640" cy="457200"/>
          </a:xfrm>
          <a:custGeom>
            <a:avLst/>
            <a:gdLst>
              <a:gd name="textAreaLeft" fmla="*/ -360 w 647640"/>
              <a:gd name="textAreaRight" fmla="*/ 647640 w 647640"/>
              <a:gd name="textAreaTop" fmla="*/ 0 h 457200"/>
              <a:gd name="textAreaBottom" fmla="*/ 457560 h 457200"/>
            </a:gdLst>
            <a:ahLst/>
            <a:rect l="textAreaLeft" t="textAreaTop" r="textAreaRight" b="textAreaBottom"/>
            <a:pathLst>
              <a:path w="21600" h="21600">
                <a:moveTo>
                  <a:pt x="0" y="0"/>
                </a:moveTo>
                <a:lnTo>
                  <a:pt x="13817" y="0"/>
                </a:lnTo>
                <a:lnTo>
                  <a:pt x="21600" y="10800"/>
                </a:lnTo>
                <a:lnTo>
                  <a:pt x="13817" y="21600"/>
                </a:lnTo>
                <a:lnTo>
                  <a:pt x="0" y="21600"/>
                </a:ln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076560" y="481320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Encoding</a:t>
            </a:r>
            <a:endParaRPr b="0" lang="en-US" sz="1800" spc="-1" strike="noStrike">
              <a:solidFill>
                <a:srgbClr val="000000"/>
              </a:solidFill>
              <a:latin typeface="Times New Roman"/>
            </a:endParaRPr>
          </a:p>
        </p:txBody>
      </p:sp>
      <p:sp>
        <p:nvSpPr>
          <p:cNvPr id="228" name=""/>
          <p:cNvSpPr/>
          <p:nvPr/>
        </p:nvSpPr>
        <p:spPr>
          <a:xfrm>
            <a:off x="685800" y="432756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ffb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vents</a:t>
            </a:r>
            <a:endParaRPr b="0" lang="en-US" sz="2000" spc="-1" strike="noStrike">
              <a:solidFill>
                <a:srgbClr val="000000"/>
              </a:solidFill>
              <a:latin typeface="Times New Roman"/>
            </a:endParaRPr>
          </a:p>
        </p:txBody>
      </p:sp>
      <p:sp>
        <p:nvSpPr>
          <p:cNvPr id="229" name=""/>
          <p:cNvSpPr/>
          <p:nvPr/>
        </p:nvSpPr>
        <p:spPr>
          <a:xfrm>
            <a:off x="3906360" y="608004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trie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75479A-095D-493E-AE08-A5076983007E}" type="slidenum">
              <a:t>28</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28"/>
                                        </p:tgtEl>
                                        <p:attrNameLst>
                                          <p:attrName>style.visibility</p:attrName>
                                        </p:attrNameLst>
                                      </p:cBhvr>
                                      <p:to>
                                        <p:strVal val="visible"/>
                                      </p:to>
                                    </p:set>
                                    <p:animEffect filter="dissolve" transition="in">
                                      <p:cBhvr additive="repl">
                                        <p:cTn id="38" dur="500"/>
                                        <p:tgtEl>
                                          <p:spTgt spid="228"/>
                                        </p:tgtEl>
                                      </p:cBhvr>
                                    </p:animEffect>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227"/>
                                        </p:tgtEl>
                                        <p:attrNameLst>
                                          <p:attrName>style.visibility</p:attrName>
                                        </p:attrNameLst>
                                      </p:cBhvr>
                                      <p:to>
                                        <p:strVal val="visible"/>
                                      </p:to>
                                    </p:set>
                                    <p:animEffect filter="dissolve" transition="in">
                                      <p:cBhvr additive="repl">
                                        <p:cTn id="42" dur="500"/>
                                        <p:tgtEl>
                                          <p:spTgt spid="227"/>
                                        </p:tgtEl>
                                      </p:cBhvr>
                                    </p:animEffect>
                                  </p:childTnLst>
                                </p:cTn>
                              </p:par>
                            </p:childTnLst>
                          </p:cTn>
                        </p:par>
                        <p:par>
                          <p:cTn id="43" fill="hold">
                            <p:stCondLst>
                              <p:cond delay="1000"/>
                            </p:stCondLst>
                            <p:childTnLst>
                              <p:par>
                                <p:cTn id="44" nodeType="afterEffect" fill="hold" presetClass="entr" presetID="9">
                                  <p:stCondLst>
                                    <p:cond delay="0"/>
                                  </p:stCondLst>
                                  <p:childTnLst>
                                    <p:set>
                                      <p:cBhvr>
                                        <p:cTn id="45" dur="1" fill="hold">
                                          <p:stCondLst>
                                            <p:cond delay="0"/>
                                          </p:stCondLst>
                                        </p:cTn>
                                        <p:tgtEl>
                                          <p:spTgt spid="224"/>
                                        </p:tgtEl>
                                        <p:attrNameLst>
                                          <p:attrName>style.visibility</p:attrName>
                                        </p:attrNameLst>
                                      </p:cBhvr>
                                      <p:to>
                                        <p:strVal val="visible"/>
                                      </p:to>
                                    </p:set>
                                    <p:animEffect filter="dissolve" transition="in">
                                      <p:cBhvr additive="repl">
                                        <p:cTn id="46" dur="500"/>
                                        <p:tgtEl>
                                          <p:spTgt spid="224"/>
                                        </p:tgtEl>
                                      </p:cBhvr>
                                    </p:animEffect>
                                  </p:childTnLst>
                                </p:cTn>
                              </p:par>
                            </p:childTnLst>
                          </p:cTn>
                        </p:par>
                        <p:par>
                          <p:cTn id="47" fill="hold">
                            <p:stCondLst>
                              <p:cond delay="1500"/>
                            </p:stCondLst>
                            <p:childTnLst>
                              <p:par>
                                <p:cTn id="48" nodeType="afterEffect" fill="hold" presetClass="entr" presetID="9">
                                  <p:stCondLst>
                                    <p:cond delay="0"/>
                                  </p:stCondLst>
                                  <p:childTnLst>
                                    <p:set>
                                      <p:cBhvr>
                                        <p:cTn id="49" dur="1" fill="hold">
                                          <p:stCondLst>
                                            <p:cond delay="0"/>
                                          </p:stCondLst>
                                        </p:cTn>
                                        <p:tgtEl>
                                          <p:spTgt spid="225"/>
                                        </p:tgtEl>
                                        <p:attrNameLst>
                                          <p:attrName>style.visibility</p:attrName>
                                        </p:attrNameLst>
                                      </p:cBhvr>
                                      <p:to>
                                        <p:strVal val="visible"/>
                                      </p:to>
                                    </p:set>
                                    <p:animEffect filter="dissolve" transition="in">
                                      <p:cBhvr additive="repl">
                                        <p:cTn id="50" dur="500"/>
                                        <p:tgtEl>
                                          <p:spTgt spid="225"/>
                                        </p:tgtEl>
                                      </p:cBhvr>
                                    </p:animEffect>
                                  </p:childTnLst>
                                </p:cTn>
                              </p:par>
                            </p:childTnLst>
                          </p:cTn>
                        </p:par>
                        <p:par>
                          <p:cTn id="51" fill="hold">
                            <p:stCondLst>
                              <p:cond delay="2000"/>
                            </p:stCondLst>
                            <p:childTnLst>
                              <p:par>
                                <p:cTn id="52" nodeType="afterEffect" fill="hold" presetClass="entr" presetID="9">
                                  <p:stCondLst>
                                    <p:cond delay="0"/>
                                  </p:stCondLst>
                                  <p:childTnLst>
                                    <p:set>
                                      <p:cBhvr>
                                        <p:cTn id="53" dur="1" fill="hold">
                                          <p:stCondLst>
                                            <p:cond delay="0"/>
                                          </p:stCondLst>
                                        </p:cTn>
                                        <p:tgtEl>
                                          <p:spTgt spid="226"/>
                                        </p:tgtEl>
                                        <p:attrNameLst>
                                          <p:attrName>style.visibility</p:attrName>
                                        </p:attrNameLst>
                                      </p:cBhvr>
                                      <p:to>
                                        <p:strVal val="visible"/>
                                      </p:to>
                                    </p:set>
                                    <p:animEffect filter="dissolve" transition="in">
                                      <p:cBhvr additive="repl">
                                        <p:cTn id="54" dur="500"/>
                                        <p:tgtEl>
                                          <p:spTgt spid="226"/>
                                        </p:tgtEl>
                                      </p:cBhvr>
                                    </p:animEffect>
                                  </p:childTnLst>
                                </p:cTn>
                              </p:par>
                            </p:childTnLst>
                          </p:cTn>
                        </p:par>
                        <p:par>
                          <p:cTn id="55" fill="hold">
                            <p:stCondLst>
                              <p:cond delay="2500"/>
                            </p:stCondLst>
                            <p:childTnLst>
                              <p:par>
                                <p:cTn id="56" nodeType="after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ory Memory</a:t>
            </a:r>
            <a:endParaRPr b="0" lang="en-US" sz="4000" spc="-1" strike="noStrike">
              <a:solidFill>
                <a:srgbClr val="000000"/>
              </a:solidFill>
              <a:latin typeface="Times New Roman"/>
            </a:endParaRPr>
          </a:p>
        </p:txBody>
      </p:sp>
      <p:sp>
        <p:nvSpPr>
          <p:cNvPr id="231" name=""/>
          <p:cNvSpPr/>
          <p:nvPr/>
        </p:nvSpPr>
        <p:spPr>
          <a:xfrm>
            <a:off x="2133720" y="2043000"/>
            <a:ext cx="120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ens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232" name=""/>
          <p:cNvSpPr/>
          <p:nvPr/>
        </p:nvSpPr>
        <p:spPr>
          <a:xfrm>
            <a:off x="3949200" y="2043000"/>
            <a:ext cx="124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233" name=""/>
          <p:cNvSpPr/>
          <p:nvPr/>
        </p:nvSpPr>
        <p:spPr>
          <a:xfrm>
            <a:off x="5746680" y="204300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Long-te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234" name=""/>
          <p:cNvSpPr/>
          <p:nvPr/>
        </p:nvSpPr>
        <p:spPr>
          <a:xfrm>
            <a:off x="2057400" y="2743200"/>
            <a:ext cx="1371600" cy="1828800"/>
          </a:xfrm>
          <a:prstGeom prst="rect">
            <a:avLst/>
          </a:prstGeom>
          <a:solidFill>
            <a:srgbClr val="1389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7828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4668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876920" y="297180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238" name=""/>
          <p:cNvSpPr/>
          <p:nvPr/>
        </p:nvSpPr>
        <p:spPr>
          <a:xfrm flipH="1">
            <a:off x="4723560" y="3914640"/>
            <a:ext cx="1295640" cy="457200"/>
          </a:xfrm>
          <a:custGeom>
            <a:avLst/>
            <a:gdLst>
              <a:gd name="textAreaLeft" fmla="*/ -360 w 1295640"/>
              <a:gd name="textAreaRight" fmla="*/ 129564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Retrieval</a:t>
            </a:r>
            <a:endParaRPr b="0" lang="en-US" sz="1800" spc="-1" strike="noStrike">
              <a:solidFill>
                <a:srgbClr val="000000"/>
              </a:solidFill>
              <a:latin typeface="Times New Roman"/>
            </a:endParaRPr>
          </a:p>
        </p:txBody>
      </p:sp>
      <p:sp>
        <p:nvSpPr>
          <p:cNvPr id="239" name=""/>
          <p:cNvSpPr/>
          <p:nvPr/>
        </p:nvSpPr>
        <p:spPr>
          <a:xfrm flipH="1" rot="16200000">
            <a:off x="4248000" y="4591080"/>
            <a:ext cx="648000" cy="457200"/>
          </a:xfrm>
          <a:custGeom>
            <a:avLst/>
            <a:gdLst>
              <a:gd name="textAreaLeft" fmla="*/ 0 w 648000"/>
              <a:gd name="textAreaRight" fmla="*/ 648000 w 648000"/>
              <a:gd name="textAreaTop" fmla="*/ 0 h 457200"/>
              <a:gd name="textAreaBottom" fmla="*/ 457560 h 457200"/>
            </a:gdLst>
            <a:ahLst/>
            <a:rect l="textAreaLeft" t="textAreaTop" r="textAreaRight" b="textAreaBottom"/>
            <a:pathLst>
              <a:path w="21600" h="21600">
                <a:moveTo>
                  <a:pt x="0" y="0"/>
                </a:moveTo>
                <a:lnTo>
                  <a:pt x="13817" y="0"/>
                </a:lnTo>
                <a:lnTo>
                  <a:pt x="21600" y="10800"/>
                </a:lnTo>
                <a:lnTo>
                  <a:pt x="13817"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090960" y="391464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241" name=""/>
          <p:cNvSpPr/>
          <p:nvPr/>
        </p:nvSpPr>
        <p:spPr>
          <a:xfrm>
            <a:off x="609480" y="3429000"/>
            <a:ext cx="1295640" cy="457200"/>
          </a:xfrm>
          <a:custGeom>
            <a:avLst/>
            <a:gdLst>
              <a:gd name="textAreaLeft" fmla="*/ 0 w 1295640"/>
              <a:gd name="textAreaRight" fmla="*/ 129600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Events</a:t>
            </a:r>
            <a:endParaRPr b="0" lang="en-US" sz="2000" spc="-1" strike="noStrike">
              <a:solidFill>
                <a:srgbClr val="000000"/>
              </a:solidFill>
              <a:latin typeface="Times New Roman"/>
            </a:endParaRPr>
          </a:p>
        </p:txBody>
      </p:sp>
      <p:sp>
        <p:nvSpPr>
          <p:cNvPr id="242" name=""/>
          <p:cNvSpPr/>
          <p:nvPr/>
        </p:nvSpPr>
        <p:spPr>
          <a:xfrm>
            <a:off x="3920400" y="518148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Retrie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415ED34-CE6F-421C-A5E9-C3EA9C1871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a:t>
            </a:r>
            <a:endParaRPr b="0" lang="en-US" sz="4000" spc="-1" strike="noStrike">
              <a:solidFill>
                <a:srgbClr val="000000"/>
              </a:solidFill>
              <a:latin typeface="Times New Roman"/>
            </a:endParaRPr>
          </a:p>
        </p:txBody>
      </p:sp>
      <p:sp>
        <p:nvSpPr>
          <p:cNvPr id="54" name="PlaceHolder 2"/>
          <p:cNvSpPr>
            <a:spLocks noGrp="1"/>
          </p:cNvSpPr>
          <p:nvPr>
            <p:ph/>
          </p:nvPr>
        </p:nvSpPr>
        <p:spPr>
          <a:xfrm>
            <a:off x="1590480" y="1371600"/>
            <a:ext cx="6257880" cy="5022720"/>
          </a:xfrm>
          <a:prstGeom prst="rect">
            <a:avLst/>
          </a:prstGeom>
          <a:noFill/>
          <a:ln w="0">
            <a:noFill/>
          </a:ln>
        </p:spPr>
        <p:txBody>
          <a:bodyPr lIns="90000" rIns="90000" tIns="46800" bIns="46800" anchor="t">
            <a:normAutofit fontScale="99000"/>
          </a:bodyPr>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The Phenomenon of Memory</a:t>
            </a:r>
            <a:endParaRPr b="0" lang="en-US" sz="3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Studying Memory: Information Processing Models</a:t>
            </a:r>
            <a:endParaRPr b="0" lang="en-US" sz="3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Encoding: Getting Information In</a:t>
            </a:r>
            <a:endParaRPr b="0" lang="en-US" sz="3200" spc="-1" strike="noStrike">
              <a:solidFill>
                <a:srgbClr val="000000"/>
              </a:solidFill>
              <a:latin typeface="Times New Roman"/>
            </a:endParaRPr>
          </a:p>
          <a:p>
            <a:pPr lvl="1" marL="376920" indent="-26352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ow We Encode</a:t>
            </a:r>
            <a:endParaRPr b="0" lang="en-US" sz="2400" spc="-1" strike="noStrike">
              <a:solidFill>
                <a:srgbClr val="000000"/>
              </a:solidFill>
              <a:latin typeface="Times New Roman"/>
            </a:endParaRPr>
          </a:p>
          <a:p>
            <a:pPr lvl="1" marL="376920" indent="-26352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at We Enc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76D1FE-D895-492B-8C19-48247E1F5F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ole Report</a:t>
            </a:r>
            <a:endParaRPr b="0" lang="en-US" sz="4000" spc="-1" strike="noStrike">
              <a:solidFill>
                <a:srgbClr val="000000"/>
              </a:solidFill>
              <a:latin typeface="Times New Roman"/>
            </a:endParaRPr>
          </a:p>
        </p:txBody>
      </p:sp>
      <p:sp>
        <p:nvSpPr>
          <p:cNvPr id="244" name=""/>
          <p:cNvSpPr/>
          <p:nvPr/>
        </p:nvSpPr>
        <p:spPr>
          <a:xfrm>
            <a:off x="1157040" y="5334120"/>
            <a:ext cx="6829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exposure time for the stimulus is so sma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at items cannot be rehearsed.</a:t>
            </a:r>
            <a:endParaRPr b="0" lang="en-US" sz="2400" spc="-1" strike="noStrike">
              <a:solidFill>
                <a:srgbClr val="000000"/>
              </a:solidFill>
              <a:latin typeface="Times New Roman"/>
            </a:endParaRPr>
          </a:p>
        </p:txBody>
      </p:sp>
      <p:sp>
        <p:nvSpPr>
          <p:cNvPr id="245" name=""/>
          <p:cNvSpPr/>
          <p:nvPr/>
        </p:nvSpPr>
        <p:spPr>
          <a:xfrm>
            <a:off x="1595520" y="2390760"/>
            <a:ext cx="1861560" cy="19224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  G  T</a:t>
            </a:r>
            <a:br>
              <a:rPr sz="4000"/>
            </a:br>
            <a:r>
              <a:rPr b="0" lang="en-US" sz="4000" spc="-1" strike="noStrike">
                <a:solidFill>
                  <a:srgbClr val="000000"/>
                </a:solidFill>
                <a:latin typeface="Palatino Linotype"/>
              </a:rPr>
              <a:t>F  M  Q</a:t>
            </a:r>
            <a:br>
              <a:rPr sz="4000"/>
            </a:br>
            <a:r>
              <a:rPr b="0" lang="en-US" sz="4000" spc="-1" strike="noStrike">
                <a:solidFill>
                  <a:srgbClr val="000000"/>
                </a:solidFill>
                <a:latin typeface="Palatino Linotype"/>
              </a:rPr>
              <a:t>L  Z  S</a:t>
            </a:r>
            <a:endParaRPr b="0" lang="en-US" sz="4000" spc="-1" strike="noStrike">
              <a:solidFill>
                <a:srgbClr val="000000"/>
              </a:solidFill>
              <a:latin typeface="Times New Roman"/>
            </a:endParaRPr>
          </a:p>
        </p:txBody>
      </p:sp>
      <p:sp>
        <p:nvSpPr>
          <p:cNvPr id="246" name=""/>
          <p:cNvSpPr/>
          <p:nvPr/>
        </p:nvSpPr>
        <p:spPr>
          <a:xfrm>
            <a:off x="1254240" y="4440240"/>
            <a:ext cx="253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0 ms (1/20 second)</a:t>
            </a:r>
            <a:endParaRPr b="0" lang="en-US" sz="2000" spc="-1" strike="noStrike">
              <a:solidFill>
                <a:srgbClr val="000000"/>
              </a:solidFill>
              <a:latin typeface="Times New Roman"/>
            </a:endParaRPr>
          </a:p>
        </p:txBody>
      </p:sp>
      <p:sp>
        <p:nvSpPr>
          <p:cNvPr id="247" name=""/>
          <p:cNvSpPr/>
          <p:nvPr/>
        </p:nvSpPr>
        <p:spPr>
          <a:xfrm>
            <a:off x="5262480" y="2717640"/>
            <a:ext cx="21877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Recal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 T M Z</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4% recall)</a:t>
            </a:r>
            <a:endParaRPr b="0" lang="en-US" sz="2800" spc="-1" strike="noStrike">
              <a:solidFill>
                <a:srgbClr val="000000"/>
              </a:solidFill>
              <a:latin typeface="Times New Roman"/>
            </a:endParaRPr>
          </a:p>
        </p:txBody>
      </p:sp>
      <p:sp>
        <p:nvSpPr>
          <p:cNvPr id="248" name=""/>
          <p:cNvSpPr/>
          <p:nvPr/>
        </p:nvSpPr>
        <p:spPr>
          <a:xfrm>
            <a:off x="3440520" y="1609560"/>
            <a:ext cx="23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perling (196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B728A4-E6C3-4782-82EB-E17CCEAE02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artial Report</a:t>
            </a:r>
            <a:endParaRPr b="0" lang="en-US" sz="4000" spc="-1" strike="noStrike">
              <a:solidFill>
                <a:srgbClr val="000000"/>
              </a:solidFill>
              <a:latin typeface="Times New Roman"/>
            </a:endParaRPr>
          </a:p>
        </p:txBody>
      </p:sp>
      <p:sp>
        <p:nvSpPr>
          <p:cNvPr id="250" name=""/>
          <p:cNvSpPr/>
          <p:nvPr/>
        </p:nvSpPr>
        <p:spPr>
          <a:xfrm>
            <a:off x="3458520" y="2527200"/>
            <a:ext cx="2198520" cy="17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ow T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edium T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igh Tone</a:t>
            </a:r>
            <a:endParaRPr b="0" lang="en-US" sz="2400" spc="-1" strike="noStrike">
              <a:solidFill>
                <a:srgbClr val="000000"/>
              </a:solidFill>
              <a:latin typeface="Times New Roman"/>
            </a:endParaRPr>
          </a:p>
        </p:txBody>
      </p:sp>
      <p:sp>
        <p:nvSpPr>
          <p:cNvPr id="251" name=""/>
          <p:cNvSpPr/>
          <p:nvPr/>
        </p:nvSpPr>
        <p:spPr>
          <a:xfrm>
            <a:off x="6123960" y="2733840"/>
            <a:ext cx="23860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Recal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J R 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00% recall)</a:t>
            </a:r>
            <a:endParaRPr b="0" lang="en-US" sz="2800" spc="-1" strike="noStrike">
              <a:solidFill>
                <a:srgbClr val="000000"/>
              </a:solidFill>
              <a:latin typeface="Times New Roman"/>
            </a:endParaRPr>
          </a:p>
        </p:txBody>
      </p:sp>
      <p:sp>
        <p:nvSpPr>
          <p:cNvPr id="252" name=""/>
          <p:cNvSpPr/>
          <p:nvPr/>
        </p:nvSpPr>
        <p:spPr>
          <a:xfrm>
            <a:off x="776160" y="5349960"/>
            <a:ext cx="756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perling (1960) argued that sensory memory capacity was larger than what was originally thought.</a:t>
            </a:r>
            <a:endParaRPr b="0" lang="en-US" sz="2400" spc="-1" strike="noStrike">
              <a:solidFill>
                <a:srgbClr val="000000"/>
              </a:solidFill>
              <a:latin typeface="Times New Roman"/>
            </a:endParaRPr>
          </a:p>
        </p:txBody>
      </p:sp>
      <p:sp>
        <p:nvSpPr>
          <p:cNvPr id="253" name=""/>
          <p:cNvSpPr/>
          <p:nvPr/>
        </p:nvSpPr>
        <p:spPr>
          <a:xfrm>
            <a:off x="454320" y="4335480"/>
            <a:ext cx="253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0 ms (1/20 second)</a:t>
            </a:r>
            <a:endParaRPr b="0" lang="en-US" sz="2000" spc="-1" strike="noStrike">
              <a:solidFill>
                <a:srgbClr val="000000"/>
              </a:solidFill>
              <a:latin typeface="Times New Roman"/>
            </a:endParaRPr>
          </a:p>
        </p:txBody>
      </p:sp>
      <p:sp>
        <p:nvSpPr>
          <p:cNvPr id="254" name=""/>
          <p:cNvSpPr/>
          <p:nvPr/>
        </p:nvSpPr>
        <p:spPr>
          <a:xfrm>
            <a:off x="865080" y="2438280"/>
            <a:ext cx="1689480" cy="19224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  X  T</a:t>
            </a:r>
            <a:br>
              <a:rPr sz="4000"/>
            </a:br>
            <a:r>
              <a:rPr b="0" lang="en-US" sz="4000" spc="-1" strike="noStrike">
                <a:solidFill>
                  <a:srgbClr val="000000"/>
                </a:solidFill>
                <a:latin typeface="Palatino Linotype"/>
              </a:rPr>
              <a:t>J  R  S</a:t>
            </a:r>
            <a:br>
              <a:rPr sz="4000"/>
            </a:br>
            <a:r>
              <a:rPr b="0" lang="en-US" sz="4000" spc="-1" strike="noStrike">
                <a:solidFill>
                  <a:srgbClr val="000000"/>
                </a:solidFill>
                <a:latin typeface="Palatino Linotype"/>
              </a:rPr>
              <a:t>P  K  Y</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C268B08-431E-4DAC-8125-626F8A5145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ime Delay</a:t>
            </a:r>
            <a:endParaRPr b="0" lang="en-US" sz="4000" spc="-1" strike="noStrike">
              <a:solidFill>
                <a:srgbClr val="000000"/>
              </a:solidFill>
              <a:latin typeface="Times New Roman"/>
            </a:endParaRPr>
          </a:p>
        </p:txBody>
      </p:sp>
      <p:sp>
        <p:nvSpPr>
          <p:cNvPr id="256" name=""/>
          <p:cNvSpPr/>
          <p:nvPr/>
        </p:nvSpPr>
        <p:spPr>
          <a:xfrm>
            <a:off x="6570720" y="2727360"/>
            <a:ext cx="21877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Recal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 _ _</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33% recall)</a:t>
            </a:r>
            <a:endParaRPr b="0" lang="en-US" sz="2800" spc="-1" strike="noStrike">
              <a:solidFill>
                <a:srgbClr val="000000"/>
              </a:solidFill>
              <a:latin typeface="Times New Roman"/>
            </a:endParaRPr>
          </a:p>
        </p:txBody>
      </p:sp>
      <p:sp>
        <p:nvSpPr>
          <p:cNvPr id="257" name=""/>
          <p:cNvSpPr/>
          <p:nvPr/>
        </p:nvSpPr>
        <p:spPr>
          <a:xfrm>
            <a:off x="3100320" y="2998800"/>
            <a:ext cx="1003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latino Linotype"/>
              </a:rPr>
              <a:t>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latino Linotype"/>
              </a:rPr>
              <a:t>Delay</a:t>
            </a:r>
            <a:endParaRPr b="0" lang="en-US" sz="2400" spc="-1" strike="noStrike">
              <a:solidFill>
                <a:srgbClr val="000000"/>
              </a:solidFill>
              <a:latin typeface="Times New Roman"/>
            </a:endParaRPr>
          </a:p>
        </p:txBody>
      </p:sp>
      <p:sp>
        <p:nvSpPr>
          <p:cNvPr id="258" name=""/>
          <p:cNvSpPr/>
          <p:nvPr/>
        </p:nvSpPr>
        <p:spPr>
          <a:xfrm>
            <a:off x="378000" y="4479840"/>
            <a:ext cx="253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0 ms (1/20 second)</a:t>
            </a:r>
            <a:endParaRPr b="0" lang="en-US" sz="2000" spc="-1" strike="noStrike">
              <a:solidFill>
                <a:srgbClr val="000000"/>
              </a:solidFill>
              <a:latin typeface="Times New Roman"/>
            </a:endParaRPr>
          </a:p>
        </p:txBody>
      </p:sp>
      <p:sp>
        <p:nvSpPr>
          <p:cNvPr id="259" name=""/>
          <p:cNvSpPr/>
          <p:nvPr/>
        </p:nvSpPr>
        <p:spPr>
          <a:xfrm>
            <a:off x="718200" y="2446200"/>
            <a:ext cx="1852560" cy="19224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  D  I</a:t>
            </a:r>
            <a:br>
              <a:rPr sz="4000"/>
            </a:br>
            <a:r>
              <a:rPr b="0" lang="en-US" sz="4000" spc="-1" strike="noStrike">
                <a:solidFill>
                  <a:srgbClr val="000000"/>
                </a:solidFill>
                <a:latin typeface="Palatino Linotype"/>
              </a:rPr>
              <a:t>N  L  V</a:t>
            </a:r>
            <a:br>
              <a:rPr sz="4000"/>
            </a:br>
            <a:r>
              <a:rPr b="0" lang="en-US" sz="4000" spc="-1" strike="noStrike">
                <a:solidFill>
                  <a:srgbClr val="000000"/>
                </a:solidFill>
                <a:latin typeface="Palatino Linotype"/>
              </a:rPr>
              <a:t>O  G  H</a:t>
            </a:r>
            <a:endParaRPr b="0" lang="en-US" sz="4000" spc="-1" strike="noStrike">
              <a:solidFill>
                <a:srgbClr val="000000"/>
              </a:solidFill>
              <a:latin typeface="Times New Roman"/>
            </a:endParaRPr>
          </a:p>
        </p:txBody>
      </p:sp>
      <p:sp>
        <p:nvSpPr>
          <p:cNvPr id="260" name=""/>
          <p:cNvSpPr/>
          <p:nvPr/>
        </p:nvSpPr>
        <p:spPr>
          <a:xfrm>
            <a:off x="4417560" y="2527200"/>
            <a:ext cx="2198520" cy="17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ow T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edium T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igh Ton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96B865-AE71-430E-B89D-D9FF3202C3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ory Memory</a:t>
            </a:r>
            <a:endParaRPr b="0" lang="en-US" sz="4000" spc="-1" strike="noStrike">
              <a:solidFill>
                <a:srgbClr val="000000"/>
              </a:solidFill>
              <a:latin typeface="Times New Roman"/>
            </a:endParaRPr>
          </a:p>
        </p:txBody>
      </p:sp>
      <p:sp>
        <p:nvSpPr>
          <p:cNvPr id="262" name=""/>
          <p:cNvSpPr/>
          <p:nvPr/>
        </p:nvSpPr>
        <p:spPr>
          <a:xfrm>
            <a:off x="228600" y="1552680"/>
            <a:ext cx="8667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longer the delay, the greater the memory loss.</a:t>
            </a:r>
            <a:endParaRPr b="0" lang="en-US" sz="2800" spc="-1" strike="noStrike">
              <a:solidFill>
                <a:srgbClr val="000000"/>
              </a:solidFill>
              <a:latin typeface="Times New Roman"/>
            </a:endParaRPr>
          </a:p>
        </p:txBody>
      </p:sp>
      <p:grpSp>
        <p:nvGrpSpPr>
          <p:cNvPr id="263" name=""/>
          <p:cNvGrpSpPr/>
          <p:nvPr/>
        </p:nvGrpSpPr>
        <p:grpSpPr>
          <a:xfrm>
            <a:off x="1324080" y="2523960"/>
            <a:ext cx="5838840" cy="4107240"/>
            <a:chOff x="1324080" y="2523960"/>
            <a:chExt cx="5838840" cy="4107240"/>
          </a:xfrm>
        </p:grpSpPr>
        <p:sp>
          <p:nvSpPr>
            <p:cNvPr id="264" name=""/>
            <p:cNvSpPr/>
            <p:nvPr/>
          </p:nvSpPr>
          <p:spPr>
            <a:xfrm>
              <a:off x="2224080" y="52308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24080" y="45543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24080" y="387792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24080" y="32004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24080" y="25239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28840" y="5230800"/>
              <a:ext cx="9162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28840" y="4554360"/>
              <a:ext cx="9162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28840" y="3877920"/>
              <a:ext cx="9162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28840" y="3200400"/>
              <a:ext cx="9162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28840" y="2523960"/>
              <a:ext cx="9162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235400" y="52308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235400" y="45543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35400" y="387792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235400" y="32004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235400" y="25239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41960" y="52308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1960" y="45543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241960" y="387792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241960" y="32004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41960" y="25239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39160" y="496872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20</a:t>
              </a:r>
              <a:endParaRPr b="0" lang="en-US" sz="1800" spc="-1" strike="noStrike">
                <a:solidFill>
                  <a:srgbClr val="000000"/>
                </a:solidFill>
                <a:latin typeface="Times New Roman"/>
              </a:endParaRPr>
            </a:p>
          </p:txBody>
        </p:sp>
        <p:sp>
          <p:nvSpPr>
            <p:cNvPr id="285" name=""/>
            <p:cNvSpPr/>
            <p:nvPr/>
          </p:nvSpPr>
          <p:spPr>
            <a:xfrm>
              <a:off x="1739160" y="429408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40</a:t>
              </a:r>
              <a:endParaRPr b="0" lang="en-US" sz="1800" spc="-1" strike="noStrike">
                <a:solidFill>
                  <a:srgbClr val="000000"/>
                </a:solidFill>
                <a:latin typeface="Times New Roman"/>
              </a:endParaRPr>
            </a:p>
          </p:txBody>
        </p:sp>
        <p:sp>
          <p:nvSpPr>
            <p:cNvPr id="286" name=""/>
            <p:cNvSpPr/>
            <p:nvPr/>
          </p:nvSpPr>
          <p:spPr>
            <a:xfrm>
              <a:off x="1755000" y="358272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60</a:t>
              </a:r>
              <a:endParaRPr b="0" lang="en-US" sz="1800" spc="-1" strike="noStrike">
                <a:solidFill>
                  <a:srgbClr val="000000"/>
                </a:solidFill>
                <a:latin typeface="Times New Roman"/>
              </a:endParaRPr>
            </a:p>
          </p:txBody>
        </p:sp>
        <p:sp>
          <p:nvSpPr>
            <p:cNvPr id="287" name=""/>
            <p:cNvSpPr/>
            <p:nvPr/>
          </p:nvSpPr>
          <p:spPr>
            <a:xfrm>
              <a:off x="1769400" y="291456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80</a:t>
              </a:r>
              <a:endParaRPr b="0" lang="en-US" sz="1800" spc="-1" strike="noStrike">
                <a:solidFill>
                  <a:srgbClr val="000000"/>
                </a:solidFill>
                <a:latin typeface="Times New Roman"/>
              </a:endParaRPr>
            </a:p>
          </p:txBody>
        </p:sp>
        <p:sp>
          <p:nvSpPr>
            <p:cNvPr id="288" name=""/>
            <p:cNvSpPr/>
            <p:nvPr/>
          </p:nvSpPr>
          <p:spPr>
            <a:xfrm rot="16200000">
              <a:off x="174240" y="3800520"/>
              <a:ext cx="269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Percent Recognized</a:t>
              </a:r>
              <a:endParaRPr b="0" lang="en-US" sz="2000" spc="-1" strike="noStrike">
                <a:solidFill>
                  <a:srgbClr val="000000"/>
                </a:solidFill>
                <a:latin typeface="Times New Roman"/>
              </a:endParaRPr>
            </a:p>
          </p:txBody>
        </p:sp>
        <p:sp>
          <p:nvSpPr>
            <p:cNvPr id="289" name=""/>
            <p:cNvSpPr/>
            <p:nvPr/>
          </p:nvSpPr>
          <p:spPr>
            <a:xfrm>
              <a:off x="2878200" y="578484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0.15</a:t>
              </a:r>
              <a:endParaRPr b="0" lang="en-US" sz="1800" spc="-1" strike="noStrike">
                <a:solidFill>
                  <a:srgbClr val="000000"/>
                </a:solidFill>
                <a:latin typeface="Times New Roman"/>
              </a:endParaRPr>
            </a:p>
          </p:txBody>
        </p:sp>
        <p:sp>
          <p:nvSpPr>
            <p:cNvPr id="290" name=""/>
            <p:cNvSpPr/>
            <p:nvPr/>
          </p:nvSpPr>
          <p:spPr>
            <a:xfrm>
              <a:off x="3846600" y="578772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0.30</a:t>
              </a:r>
              <a:endParaRPr b="0" lang="en-US" sz="1800" spc="-1" strike="noStrike">
                <a:solidFill>
                  <a:srgbClr val="000000"/>
                </a:solidFill>
                <a:latin typeface="Times New Roman"/>
              </a:endParaRPr>
            </a:p>
          </p:txBody>
        </p:sp>
        <p:sp>
          <p:nvSpPr>
            <p:cNvPr id="291" name=""/>
            <p:cNvSpPr/>
            <p:nvPr/>
          </p:nvSpPr>
          <p:spPr>
            <a:xfrm>
              <a:off x="4883400" y="578772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0.50</a:t>
              </a:r>
              <a:endParaRPr b="0" lang="en-US" sz="1800" spc="-1" strike="noStrike">
                <a:solidFill>
                  <a:srgbClr val="000000"/>
                </a:solidFill>
                <a:latin typeface="Times New Roman"/>
              </a:endParaRPr>
            </a:p>
          </p:txBody>
        </p:sp>
        <p:sp>
          <p:nvSpPr>
            <p:cNvPr id="292" name=""/>
            <p:cNvSpPr/>
            <p:nvPr/>
          </p:nvSpPr>
          <p:spPr>
            <a:xfrm>
              <a:off x="6248520" y="52308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48520" y="45543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248520" y="387792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248520" y="32004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248520" y="25239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857920" y="579564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1.00</a:t>
              </a:r>
              <a:endParaRPr b="0" lang="en-US" sz="1800" spc="-1" strike="noStrike">
                <a:solidFill>
                  <a:srgbClr val="000000"/>
                </a:solidFill>
                <a:latin typeface="Times New Roman"/>
              </a:endParaRPr>
            </a:p>
          </p:txBody>
        </p:sp>
        <p:sp>
          <p:nvSpPr>
            <p:cNvPr id="298" name=""/>
            <p:cNvSpPr/>
            <p:nvPr/>
          </p:nvSpPr>
          <p:spPr>
            <a:xfrm>
              <a:off x="2955960" y="3103560"/>
              <a:ext cx="457200" cy="2708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960720" y="3805200"/>
              <a:ext cx="457200" cy="20066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967280" y="4384440"/>
              <a:ext cx="457200" cy="1427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58000" y="4848120"/>
              <a:ext cx="457200" cy="963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702240" y="6232320"/>
              <a:ext cx="201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ime (Seconds)</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A2DEDF18-7462-4EB3-9C5D-E452D29E5A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ory Memories</a:t>
            </a:r>
            <a:endParaRPr b="0" lang="en-US" sz="4000" spc="-1" strike="noStrike">
              <a:solidFill>
                <a:srgbClr val="000000"/>
              </a:solidFill>
              <a:latin typeface="Times New Roman"/>
            </a:endParaRPr>
          </a:p>
        </p:txBody>
      </p:sp>
      <p:grpSp>
        <p:nvGrpSpPr>
          <p:cNvPr id="304" name=""/>
          <p:cNvGrpSpPr/>
          <p:nvPr/>
        </p:nvGrpSpPr>
        <p:grpSpPr>
          <a:xfrm>
            <a:off x="1743120" y="2743200"/>
            <a:ext cx="5619600" cy="3733560"/>
            <a:chOff x="1743120" y="2743200"/>
            <a:chExt cx="5619600" cy="3733560"/>
          </a:xfrm>
        </p:grpSpPr>
        <p:sp>
          <p:nvSpPr>
            <p:cNvPr id="305" name=""/>
            <p:cNvSpPr/>
            <p:nvPr/>
          </p:nvSpPr>
          <p:spPr>
            <a:xfrm>
              <a:off x="1743120" y="2743200"/>
              <a:ext cx="5619600" cy="373356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225520" y="3365280"/>
              <a:ext cx="1866960" cy="777960"/>
            </a:xfrm>
            <a:prstGeom prst="rect">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con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0.5 sec. long</a:t>
              </a:r>
              <a:endParaRPr b="0" lang="en-US" sz="2000" spc="-1" strike="noStrike">
                <a:solidFill>
                  <a:srgbClr val="000000"/>
                </a:solidFill>
                <a:latin typeface="Times New Roman"/>
              </a:endParaRPr>
            </a:p>
          </p:txBody>
        </p:sp>
        <p:sp>
          <p:nvSpPr>
            <p:cNvPr id="307" name=""/>
            <p:cNvSpPr/>
            <p:nvPr/>
          </p:nvSpPr>
          <p:spPr>
            <a:xfrm>
              <a:off x="2254320" y="4298760"/>
              <a:ext cx="1866960" cy="777960"/>
            </a:xfrm>
            <a:prstGeom prst="rect">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cho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3-4 sec. long</a:t>
              </a:r>
              <a:endParaRPr b="0" lang="en-US" sz="2000" spc="-1" strike="noStrike">
                <a:solidFill>
                  <a:srgbClr val="000000"/>
                </a:solidFill>
                <a:latin typeface="Times New Roman"/>
              </a:endParaRPr>
            </a:p>
          </p:txBody>
        </p:sp>
        <p:sp>
          <p:nvSpPr>
            <p:cNvPr id="308" name=""/>
            <p:cNvSpPr/>
            <p:nvPr/>
          </p:nvSpPr>
          <p:spPr>
            <a:xfrm>
              <a:off x="2254320" y="5232240"/>
              <a:ext cx="1866960" cy="777960"/>
            </a:xfrm>
            <a:prstGeom prst="rect">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pat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t; 1 sec. long</a:t>
              </a:r>
              <a:endParaRPr b="0" lang="en-US" sz="2000" spc="-1" strike="noStrike">
                <a:solidFill>
                  <a:srgbClr val="000000"/>
                </a:solidFill>
                <a:latin typeface="Times New Roman"/>
              </a:endParaRPr>
            </a:p>
          </p:txBody>
        </p:sp>
        <p:grpSp>
          <p:nvGrpSpPr>
            <p:cNvPr id="309" name=""/>
            <p:cNvGrpSpPr/>
            <p:nvPr/>
          </p:nvGrpSpPr>
          <p:grpSpPr>
            <a:xfrm>
              <a:off x="5288040" y="3254400"/>
              <a:ext cx="1176120" cy="982440"/>
              <a:chOff x="5288040" y="3254400"/>
              <a:chExt cx="1176120" cy="982440"/>
            </a:xfrm>
          </p:grpSpPr>
          <p:sp>
            <p:nvSpPr>
              <p:cNvPr id="310" name=""/>
              <p:cNvSpPr/>
              <p:nvPr/>
            </p:nvSpPr>
            <p:spPr>
              <a:xfrm>
                <a:off x="5605560" y="3679560"/>
                <a:ext cx="471240" cy="255600"/>
              </a:xfrm>
              <a:custGeom>
                <a:avLst/>
                <a:gdLst/>
                <a:ahLst/>
                <a:rect l="l" t="t" r="r" b="b"/>
                <a:pathLst>
                  <a:path w="593" h="322">
                    <a:moveTo>
                      <a:pt x="0" y="97"/>
                    </a:moveTo>
                    <a:lnTo>
                      <a:pt x="201" y="0"/>
                    </a:lnTo>
                    <a:lnTo>
                      <a:pt x="243" y="116"/>
                    </a:lnTo>
                    <a:lnTo>
                      <a:pt x="331" y="133"/>
                    </a:lnTo>
                    <a:lnTo>
                      <a:pt x="403" y="8"/>
                    </a:lnTo>
                    <a:lnTo>
                      <a:pt x="593" y="63"/>
                    </a:lnTo>
                    <a:lnTo>
                      <a:pt x="562" y="171"/>
                    </a:lnTo>
                    <a:lnTo>
                      <a:pt x="494" y="278"/>
                    </a:lnTo>
                    <a:lnTo>
                      <a:pt x="351" y="322"/>
                    </a:lnTo>
                    <a:lnTo>
                      <a:pt x="131" y="261"/>
                    </a:lnTo>
                    <a:lnTo>
                      <a:pt x="21" y="164"/>
                    </a:lnTo>
                    <a:lnTo>
                      <a:pt x="0" y="97"/>
                    </a:lnTo>
                    <a:lnTo>
                      <a:pt x="0" y="97"/>
                    </a:lnTo>
                    <a:close/>
                  </a:path>
                </a:pathLst>
              </a:custGeom>
              <a:solidFill>
                <a:srgbClr val="abab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415120" y="3711600"/>
                <a:ext cx="938160" cy="315720"/>
              </a:xfrm>
              <a:custGeom>
                <a:avLst/>
                <a:gdLst/>
                <a:ahLst/>
                <a:rect l="l" t="t" r="r" b="b"/>
                <a:pathLst>
                  <a:path w="1181" h="398">
                    <a:moveTo>
                      <a:pt x="838" y="31"/>
                    </a:moveTo>
                    <a:lnTo>
                      <a:pt x="986" y="91"/>
                    </a:lnTo>
                    <a:lnTo>
                      <a:pt x="1119" y="173"/>
                    </a:lnTo>
                    <a:lnTo>
                      <a:pt x="1181" y="242"/>
                    </a:lnTo>
                    <a:lnTo>
                      <a:pt x="896" y="369"/>
                    </a:lnTo>
                    <a:lnTo>
                      <a:pt x="494" y="398"/>
                    </a:lnTo>
                    <a:lnTo>
                      <a:pt x="218" y="343"/>
                    </a:lnTo>
                    <a:lnTo>
                      <a:pt x="83" y="244"/>
                    </a:lnTo>
                    <a:lnTo>
                      <a:pt x="17" y="253"/>
                    </a:lnTo>
                    <a:lnTo>
                      <a:pt x="0" y="185"/>
                    </a:lnTo>
                    <a:lnTo>
                      <a:pt x="15" y="143"/>
                    </a:lnTo>
                    <a:lnTo>
                      <a:pt x="133" y="95"/>
                    </a:lnTo>
                    <a:lnTo>
                      <a:pt x="298" y="0"/>
                    </a:lnTo>
                    <a:lnTo>
                      <a:pt x="249" y="80"/>
                    </a:lnTo>
                    <a:lnTo>
                      <a:pt x="313" y="173"/>
                    </a:lnTo>
                    <a:lnTo>
                      <a:pt x="473" y="268"/>
                    </a:lnTo>
                    <a:lnTo>
                      <a:pt x="606" y="268"/>
                    </a:lnTo>
                    <a:lnTo>
                      <a:pt x="743" y="232"/>
                    </a:lnTo>
                    <a:lnTo>
                      <a:pt x="786" y="147"/>
                    </a:lnTo>
                    <a:lnTo>
                      <a:pt x="838" y="31"/>
                    </a:lnTo>
                    <a:lnTo>
                      <a:pt x="838" y="31"/>
                    </a:lnTo>
                    <a:close/>
                  </a:path>
                </a:pathLst>
              </a:custGeom>
              <a:solidFill>
                <a:srgbClr val="cccc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056280" y="4122720"/>
                <a:ext cx="55440" cy="114120"/>
              </a:xfrm>
              <a:custGeom>
                <a:avLst/>
                <a:gdLst/>
                <a:ahLst/>
                <a:rect l="l" t="t" r="r" b="b"/>
                <a:pathLst>
                  <a:path w="70" h="145">
                    <a:moveTo>
                      <a:pt x="0" y="0"/>
                    </a:moveTo>
                    <a:lnTo>
                      <a:pt x="13" y="21"/>
                    </a:lnTo>
                    <a:lnTo>
                      <a:pt x="25" y="44"/>
                    </a:lnTo>
                    <a:lnTo>
                      <a:pt x="38" y="69"/>
                    </a:lnTo>
                    <a:lnTo>
                      <a:pt x="50" y="94"/>
                    </a:lnTo>
                    <a:lnTo>
                      <a:pt x="61" y="118"/>
                    </a:lnTo>
                    <a:lnTo>
                      <a:pt x="70" y="145"/>
                    </a:lnTo>
                    <a:lnTo>
                      <a:pt x="55" y="137"/>
                    </a:lnTo>
                    <a:lnTo>
                      <a:pt x="40" y="124"/>
                    </a:lnTo>
                    <a:lnTo>
                      <a:pt x="27" y="105"/>
                    </a:lnTo>
                    <a:lnTo>
                      <a:pt x="15" y="84"/>
                    </a:lnTo>
                    <a:lnTo>
                      <a:pt x="2" y="3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857920" y="4168800"/>
                <a:ext cx="42840" cy="55440"/>
              </a:xfrm>
              <a:custGeom>
                <a:avLst/>
                <a:gdLst/>
                <a:ahLst/>
                <a:rect l="l" t="t" r="r" b="b"/>
                <a:pathLst>
                  <a:path w="53" h="71">
                    <a:moveTo>
                      <a:pt x="19" y="71"/>
                    </a:moveTo>
                    <a:lnTo>
                      <a:pt x="10" y="61"/>
                    </a:lnTo>
                    <a:lnTo>
                      <a:pt x="0" y="52"/>
                    </a:lnTo>
                    <a:lnTo>
                      <a:pt x="4" y="0"/>
                    </a:lnTo>
                    <a:lnTo>
                      <a:pt x="14" y="10"/>
                    </a:lnTo>
                    <a:lnTo>
                      <a:pt x="31" y="29"/>
                    </a:lnTo>
                    <a:lnTo>
                      <a:pt x="46" y="48"/>
                    </a:lnTo>
                    <a:lnTo>
                      <a:pt x="53" y="56"/>
                    </a:lnTo>
                    <a:lnTo>
                      <a:pt x="53" y="63"/>
                    </a:lnTo>
                    <a:lnTo>
                      <a:pt x="42" y="67"/>
                    </a:lnTo>
                    <a:lnTo>
                      <a:pt x="19" y="71"/>
                    </a:lnTo>
                    <a:lnTo>
                      <a:pt x="19" y="7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 name=""/>
              <p:cNvSpPr/>
              <p:nvPr/>
            </p:nvSpPr>
            <p:spPr>
              <a:xfrm>
                <a:off x="6234120" y="4106880"/>
                <a:ext cx="65160" cy="115920"/>
              </a:xfrm>
              <a:custGeom>
                <a:avLst/>
                <a:gdLst/>
                <a:ahLst/>
                <a:rect l="l" t="t" r="r" b="b"/>
                <a:pathLst>
                  <a:path w="82" h="147">
                    <a:moveTo>
                      <a:pt x="0" y="0"/>
                    </a:moveTo>
                    <a:lnTo>
                      <a:pt x="14" y="21"/>
                    </a:lnTo>
                    <a:lnTo>
                      <a:pt x="25" y="42"/>
                    </a:lnTo>
                    <a:lnTo>
                      <a:pt x="38" y="67"/>
                    </a:lnTo>
                    <a:lnTo>
                      <a:pt x="52" y="92"/>
                    </a:lnTo>
                    <a:lnTo>
                      <a:pt x="63" y="116"/>
                    </a:lnTo>
                    <a:lnTo>
                      <a:pt x="74" y="135"/>
                    </a:lnTo>
                    <a:lnTo>
                      <a:pt x="82" y="147"/>
                    </a:lnTo>
                    <a:lnTo>
                      <a:pt x="59" y="132"/>
                    </a:lnTo>
                    <a:lnTo>
                      <a:pt x="44" y="113"/>
                    </a:lnTo>
                    <a:lnTo>
                      <a:pt x="29" y="88"/>
                    </a:lnTo>
                    <a:lnTo>
                      <a:pt x="21" y="76"/>
                    </a:lnTo>
                    <a:lnTo>
                      <a:pt x="16" y="63"/>
                    </a:lnTo>
                    <a:lnTo>
                      <a:pt x="4" y="3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69040" y="4097160"/>
                <a:ext cx="69840" cy="127080"/>
              </a:xfrm>
              <a:custGeom>
                <a:avLst/>
                <a:gdLst/>
                <a:ahLst/>
                <a:rect l="l" t="t" r="r" b="b"/>
                <a:pathLst>
                  <a:path w="89" h="162">
                    <a:moveTo>
                      <a:pt x="67" y="162"/>
                    </a:moveTo>
                    <a:lnTo>
                      <a:pt x="61" y="150"/>
                    </a:lnTo>
                    <a:lnTo>
                      <a:pt x="53" y="131"/>
                    </a:lnTo>
                    <a:lnTo>
                      <a:pt x="42" y="105"/>
                    </a:lnTo>
                    <a:lnTo>
                      <a:pt x="29" y="76"/>
                    </a:lnTo>
                    <a:lnTo>
                      <a:pt x="17" y="48"/>
                    </a:lnTo>
                    <a:lnTo>
                      <a:pt x="8" y="25"/>
                    </a:lnTo>
                    <a:lnTo>
                      <a:pt x="0" y="0"/>
                    </a:lnTo>
                    <a:lnTo>
                      <a:pt x="13" y="10"/>
                    </a:lnTo>
                    <a:lnTo>
                      <a:pt x="27" y="23"/>
                    </a:lnTo>
                    <a:lnTo>
                      <a:pt x="40" y="36"/>
                    </a:lnTo>
                    <a:lnTo>
                      <a:pt x="51" y="51"/>
                    </a:lnTo>
                    <a:lnTo>
                      <a:pt x="63" y="67"/>
                    </a:lnTo>
                    <a:lnTo>
                      <a:pt x="72" y="82"/>
                    </a:lnTo>
                    <a:lnTo>
                      <a:pt x="89" y="114"/>
                    </a:lnTo>
                    <a:lnTo>
                      <a:pt x="72" y="147"/>
                    </a:lnTo>
                    <a:lnTo>
                      <a:pt x="72" y="156"/>
                    </a:lnTo>
                    <a:lnTo>
                      <a:pt x="67" y="162"/>
                    </a:lnTo>
                    <a:lnTo>
                      <a:pt x="6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83280" y="4106880"/>
                <a:ext cx="57240" cy="115920"/>
              </a:xfrm>
              <a:custGeom>
                <a:avLst/>
                <a:gdLst/>
                <a:ahLst/>
                <a:rect l="l" t="t" r="r" b="b"/>
                <a:pathLst>
                  <a:path w="73" h="147">
                    <a:moveTo>
                      <a:pt x="73" y="147"/>
                    </a:moveTo>
                    <a:lnTo>
                      <a:pt x="67" y="128"/>
                    </a:lnTo>
                    <a:lnTo>
                      <a:pt x="57" y="111"/>
                    </a:lnTo>
                    <a:lnTo>
                      <a:pt x="48" y="94"/>
                    </a:lnTo>
                    <a:lnTo>
                      <a:pt x="38" y="75"/>
                    </a:lnTo>
                    <a:lnTo>
                      <a:pt x="27" y="56"/>
                    </a:lnTo>
                    <a:lnTo>
                      <a:pt x="17" y="38"/>
                    </a:lnTo>
                    <a:lnTo>
                      <a:pt x="0" y="0"/>
                    </a:lnTo>
                    <a:lnTo>
                      <a:pt x="17" y="4"/>
                    </a:lnTo>
                    <a:lnTo>
                      <a:pt x="33" y="18"/>
                    </a:lnTo>
                    <a:lnTo>
                      <a:pt x="46" y="38"/>
                    </a:lnTo>
                    <a:lnTo>
                      <a:pt x="57" y="61"/>
                    </a:lnTo>
                    <a:lnTo>
                      <a:pt x="71" y="109"/>
                    </a:lnTo>
                    <a:lnTo>
                      <a:pt x="73" y="147"/>
                    </a:lnTo>
                    <a:lnTo>
                      <a:pt x="7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645160" y="4076640"/>
                <a:ext cx="28440" cy="114120"/>
              </a:xfrm>
              <a:custGeom>
                <a:avLst/>
                <a:gdLst/>
                <a:ahLst/>
                <a:rect l="l" t="t" r="r" b="b"/>
                <a:pathLst>
                  <a:path w="36" h="145">
                    <a:moveTo>
                      <a:pt x="36" y="145"/>
                    </a:moveTo>
                    <a:lnTo>
                      <a:pt x="16" y="126"/>
                    </a:lnTo>
                    <a:lnTo>
                      <a:pt x="0" y="97"/>
                    </a:lnTo>
                    <a:lnTo>
                      <a:pt x="2" y="56"/>
                    </a:lnTo>
                    <a:lnTo>
                      <a:pt x="10" y="31"/>
                    </a:lnTo>
                    <a:lnTo>
                      <a:pt x="16" y="16"/>
                    </a:lnTo>
                    <a:lnTo>
                      <a:pt x="25" y="0"/>
                    </a:lnTo>
                    <a:lnTo>
                      <a:pt x="31" y="33"/>
                    </a:lnTo>
                    <a:lnTo>
                      <a:pt x="33" y="67"/>
                    </a:lnTo>
                    <a:lnTo>
                      <a:pt x="36" y="145"/>
                    </a:lnTo>
                    <a:lnTo>
                      <a:pt x="36"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695920" y="4098960"/>
                <a:ext cx="22320" cy="91800"/>
              </a:xfrm>
              <a:custGeom>
                <a:avLst/>
                <a:gdLst/>
                <a:ahLst/>
                <a:rect l="l" t="t" r="r" b="b"/>
                <a:pathLst>
                  <a:path w="29" h="118">
                    <a:moveTo>
                      <a:pt x="0" y="0"/>
                    </a:moveTo>
                    <a:lnTo>
                      <a:pt x="15" y="27"/>
                    </a:lnTo>
                    <a:lnTo>
                      <a:pt x="27" y="61"/>
                    </a:lnTo>
                    <a:lnTo>
                      <a:pt x="29" y="78"/>
                    </a:lnTo>
                    <a:lnTo>
                      <a:pt x="27" y="93"/>
                    </a:lnTo>
                    <a:lnTo>
                      <a:pt x="19" y="107"/>
                    </a:lnTo>
                    <a:lnTo>
                      <a:pt x="15" y="112"/>
                    </a:lnTo>
                    <a:lnTo>
                      <a:pt x="8" y="118"/>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5827680" y="4106880"/>
                <a:ext cx="14400" cy="83880"/>
              </a:xfrm>
              <a:custGeom>
                <a:avLst/>
                <a:gdLst/>
                <a:ahLst/>
                <a:rect l="l" t="t" r="r" b="b"/>
                <a:pathLst>
                  <a:path w="17" h="107">
                    <a:moveTo>
                      <a:pt x="14" y="107"/>
                    </a:moveTo>
                    <a:lnTo>
                      <a:pt x="4" y="75"/>
                    </a:lnTo>
                    <a:lnTo>
                      <a:pt x="0" y="46"/>
                    </a:lnTo>
                    <a:lnTo>
                      <a:pt x="4" y="21"/>
                    </a:lnTo>
                    <a:lnTo>
                      <a:pt x="8" y="0"/>
                    </a:lnTo>
                    <a:lnTo>
                      <a:pt x="17" y="0"/>
                    </a:lnTo>
                    <a:lnTo>
                      <a:pt x="14" y="107"/>
                    </a:lnTo>
                    <a:lnTo>
                      <a:pt x="14" y="10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5861160" y="4101840"/>
                <a:ext cx="48960" cy="88920"/>
              </a:xfrm>
              <a:custGeom>
                <a:avLst/>
                <a:gdLst/>
                <a:ahLst/>
                <a:rect l="l" t="t" r="r" b="b"/>
                <a:pathLst>
                  <a:path w="63" h="110">
                    <a:moveTo>
                      <a:pt x="61" y="110"/>
                    </a:moveTo>
                    <a:lnTo>
                      <a:pt x="51" y="102"/>
                    </a:lnTo>
                    <a:lnTo>
                      <a:pt x="42" y="95"/>
                    </a:lnTo>
                    <a:lnTo>
                      <a:pt x="34" y="83"/>
                    </a:lnTo>
                    <a:lnTo>
                      <a:pt x="15" y="64"/>
                    </a:lnTo>
                    <a:lnTo>
                      <a:pt x="10" y="59"/>
                    </a:lnTo>
                    <a:lnTo>
                      <a:pt x="4" y="53"/>
                    </a:lnTo>
                    <a:lnTo>
                      <a:pt x="0" y="0"/>
                    </a:lnTo>
                    <a:lnTo>
                      <a:pt x="19" y="17"/>
                    </a:lnTo>
                    <a:lnTo>
                      <a:pt x="30" y="32"/>
                    </a:lnTo>
                    <a:lnTo>
                      <a:pt x="42" y="49"/>
                    </a:lnTo>
                    <a:lnTo>
                      <a:pt x="59" y="83"/>
                    </a:lnTo>
                    <a:lnTo>
                      <a:pt x="63" y="108"/>
                    </a:lnTo>
                    <a:lnTo>
                      <a:pt x="61" y="110"/>
                    </a:lnTo>
                    <a:lnTo>
                      <a:pt x="61" y="1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1" name=""/>
              <p:cNvSpPr/>
              <p:nvPr/>
            </p:nvSpPr>
            <p:spPr>
              <a:xfrm>
                <a:off x="5497560" y="4079880"/>
                <a:ext cx="47520" cy="88920"/>
              </a:xfrm>
              <a:custGeom>
                <a:avLst/>
                <a:gdLst/>
                <a:ahLst/>
                <a:rect l="l" t="t" r="r" b="b"/>
                <a:pathLst>
                  <a:path w="61" h="112">
                    <a:moveTo>
                      <a:pt x="0" y="112"/>
                    </a:moveTo>
                    <a:lnTo>
                      <a:pt x="50" y="0"/>
                    </a:lnTo>
                    <a:lnTo>
                      <a:pt x="57" y="6"/>
                    </a:lnTo>
                    <a:lnTo>
                      <a:pt x="61" y="19"/>
                    </a:lnTo>
                    <a:lnTo>
                      <a:pt x="59" y="38"/>
                    </a:lnTo>
                    <a:lnTo>
                      <a:pt x="53" y="57"/>
                    </a:lnTo>
                    <a:lnTo>
                      <a:pt x="44" y="78"/>
                    </a:lnTo>
                    <a:lnTo>
                      <a:pt x="31" y="95"/>
                    </a:lnTo>
                    <a:lnTo>
                      <a:pt x="25" y="103"/>
                    </a:lnTo>
                    <a:lnTo>
                      <a:pt x="17" y="109"/>
                    </a:lnTo>
                    <a:lnTo>
                      <a:pt x="0" y="112"/>
                    </a:lnTo>
                    <a:lnTo>
                      <a:pt x="0"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5472000" y="4066920"/>
                <a:ext cx="32040" cy="79560"/>
              </a:xfrm>
              <a:custGeom>
                <a:avLst/>
                <a:gdLst/>
                <a:ahLst/>
                <a:rect l="l" t="t" r="r" b="b"/>
                <a:pathLst>
                  <a:path w="40" h="99">
                    <a:moveTo>
                      <a:pt x="2" y="99"/>
                    </a:moveTo>
                    <a:lnTo>
                      <a:pt x="0" y="68"/>
                    </a:lnTo>
                    <a:lnTo>
                      <a:pt x="6" y="46"/>
                    </a:lnTo>
                    <a:lnTo>
                      <a:pt x="11" y="36"/>
                    </a:lnTo>
                    <a:lnTo>
                      <a:pt x="19" y="25"/>
                    </a:lnTo>
                    <a:lnTo>
                      <a:pt x="28" y="13"/>
                    </a:lnTo>
                    <a:lnTo>
                      <a:pt x="40" y="0"/>
                    </a:lnTo>
                    <a:lnTo>
                      <a:pt x="2" y="99"/>
                    </a:lnTo>
                    <a:lnTo>
                      <a:pt x="2" y="9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3" name=""/>
              <p:cNvSpPr/>
              <p:nvPr/>
            </p:nvSpPr>
            <p:spPr>
              <a:xfrm>
                <a:off x="6240600" y="3984480"/>
                <a:ext cx="152280" cy="68400"/>
              </a:xfrm>
              <a:custGeom>
                <a:avLst/>
                <a:gdLst/>
                <a:ahLst/>
                <a:rect l="l" t="t" r="r" b="b"/>
                <a:pathLst>
                  <a:path w="192" h="86">
                    <a:moveTo>
                      <a:pt x="0" y="82"/>
                    </a:moveTo>
                    <a:lnTo>
                      <a:pt x="13" y="76"/>
                    </a:lnTo>
                    <a:lnTo>
                      <a:pt x="38" y="67"/>
                    </a:lnTo>
                    <a:lnTo>
                      <a:pt x="51" y="61"/>
                    </a:lnTo>
                    <a:lnTo>
                      <a:pt x="68" y="54"/>
                    </a:lnTo>
                    <a:lnTo>
                      <a:pt x="85" y="46"/>
                    </a:lnTo>
                    <a:lnTo>
                      <a:pt x="102" y="38"/>
                    </a:lnTo>
                    <a:lnTo>
                      <a:pt x="120" y="31"/>
                    </a:lnTo>
                    <a:lnTo>
                      <a:pt x="135" y="25"/>
                    </a:lnTo>
                    <a:lnTo>
                      <a:pt x="163" y="12"/>
                    </a:lnTo>
                    <a:lnTo>
                      <a:pt x="184" y="4"/>
                    </a:lnTo>
                    <a:lnTo>
                      <a:pt x="192" y="0"/>
                    </a:lnTo>
                    <a:lnTo>
                      <a:pt x="178" y="18"/>
                    </a:lnTo>
                    <a:lnTo>
                      <a:pt x="167" y="25"/>
                    </a:lnTo>
                    <a:lnTo>
                      <a:pt x="158" y="35"/>
                    </a:lnTo>
                    <a:lnTo>
                      <a:pt x="144" y="42"/>
                    </a:lnTo>
                    <a:lnTo>
                      <a:pt x="131" y="50"/>
                    </a:lnTo>
                    <a:lnTo>
                      <a:pt x="118" y="57"/>
                    </a:lnTo>
                    <a:lnTo>
                      <a:pt x="102" y="65"/>
                    </a:lnTo>
                    <a:lnTo>
                      <a:pt x="89" y="73"/>
                    </a:lnTo>
                    <a:lnTo>
                      <a:pt x="74" y="76"/>
                    </a:lnTo>
                    <a:lnTo>
                      <a:pt x="45" y="86"/>
                    </a:lnTo>
                    <a:lnTo>
                      <a:pt x="0" y="82"/>
                    </a:lnTo>
                    <a:lnTo>
                      <a:pt x="0" y="8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 name=""/>
              <p:cNvSpPr/>
              <p:nvPr/>
            </p:nvSpPr>
            <p:spPr>
              <a:xfrm>
                <a:off x="5362560" y="3949560"/>
                <a:ext cx="263520" cy="88920"/>
              </a:xfrm>
              <a:custGeom>
                <a:avLst/>
                <a:gdLst/>
                <a:ahLst/>
                <a:rect l="l" t="t" r="r" b="b"/>
                <a:pathLst>
                  <a:path w="333" h="112">
                    <a:moveTo>
                      <a:pt x="287" y="112"/>
                    </a:moveTo>
                    <a:lnTo>
                      <a:pt x="251" y="104"/>
                    </a:lnTo>
                    <a:lnTo>
                      <a:pt x="215" y="95"/>
                    </a:lnTo>
                    <a:lnTo>
                      <a:pt x="177" y="83"/>
                    </a:lnTo>
                    <a:lnTo>
                      <a:pt x="139" y="70"/>
                    </a:lnTo>
                    <a:lnTo>
                      <a:pt x="120" y="62"/>
                    </a:lnTo>
                    <a:lnTo>
                      <a:pt x="101" y="55"/>
                    </a:lnTo>
                    <a:lnTo>
                      <a:pt x="84" y="47"/>
                    </a:lnTo>
                    <a:lnTo>
                      <a:pt x="65" y="38"/>
                    </a:lnTo>
                    <a:lnTo>
                      <a:pt x="48" y="30"/>
                    </a:lnTo>
                    <a:lnTo>
                      <a:pt x="31" y="21"/>
                    </a:lnTo>
                    <a:lnTo>
                      <a:pt x="15" y="11"/>
                    </a:lnTo>
                    <a:lnTo>
                      <a:pt x="0" y="0"/>
                    </a:lnTo>
                    <a:lnTo>
                      <a:pt x="27" y="11"/>
                    </a:lnTo>
                    <a:lnTo>
                      <a:pt x="55" y="21"/>
                    </a:lnTo>
                    <a:lnTo>
                      <a:pt x="82" y="30"/>
                    </a:lnTo>
                    <a:lnTo>
                      <a:pt x="110" y="38"/>
                    </a:lnTo>
                    <a:lnTo>
                      <a:pt x="139" y="45"/>
                    </a:lnTo>
                    <a:lnTo>
                      <a:pt x="167" y="51"/>
                    </a:lnTo>
                    <a:lnTo>
                      <a:pt x="224" y="55"/>
                    </a:lnTo>
                    <a:lnTo>
                      <a:pt x="251" y="64"/>
                    </a:lnTo>
                    <a:lnTo>
                      <a:pt x="278" y="74"/>
                    </a:lnTo>
                    <a:lnTo>
                      <a:pt x="306" y="85"/>
                    </a:lnTo>
                    <a:lnTo>
                      <a:pt x="333" y="95"/>
                    </a:lnTo>
                    <a:lnTo>
                      <a:pt x="287" y="112"/>
                    </a:lnTo>
                    <a:lnTo>
                      <a:pt x="287"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 name=""/>
              <p:cNvSpPr/>
              <p:nvPr/>
            </p:nvSpPr>
            <p:spPr>
              <a:xfrm>
                <a:off x="5402160" y="3641760"/>
                <a:ext cx="568440" cy="404640"/>
              </a:xfrm>
              <a:custGeom>
                <a:avLst/>
                <a:gdLst/>
                <a:ahLst/>
                <a:rect l="l" t="t" r="r" b="b"/>
                <a:pathLst>
                  <a:path w="717" h="509">
                    <a:moveTo>
                      <a:pt x="107" y="372"/>
                    </a:moveTo>
                    <a:lnTo>
                      <a:pt x="75" y="372"/>
                    </a:lnTo>
                    <a:lnTo>
                      <a:pt x="48" y="365"/>
                    </a:lnTo>
                    <a:lnTo>
                      <a:pt x="27" y="350"/>
                    </a:lnTo>
                    <a:lnTo>
                      <a:pt x="10" y="329"/>
                    </a:lnTo>
                    <a:lnTo>
                      <a:pt x="0" y="304"/>
                    </a:lnTo>
                    <a:lnTo>
                      <a:pt x="0" y="277"/>
                    </a:lnTo>
                    <a:lnTo>
                      <a:pt x="4" y="264"/>
                    </a:lnTo>
                    <a:lnTo>
                      <a:pt x="10" y="249"/>
                    </a:lnTo>
                    <a:lnTo>
                      <a:pt x="18" y="236"/>
                    </a:lnTo>
                    <a:lnTo>
                      <a:pt x="29" y="220"/>
                    </a:lnTo>
                    <a:lnTo>
                      <a:pt x="40" y="213"/>
                    </a:lnTo>
                    <a:lnTo>
                      <a:pt x="52" y="207"/>
                    </a:lnTo>
                    <a:lnTo>
                      <a:pt x="75" y="201"/>
                    </a:lnTo>
                    <a:lnTo>
                      <a:pt x="95" y="192"/>
                    </a:lnTo>
                    <a:lnTo>
                      <a:pt x="114" y="175"/>
                    </a:lnTo>
                    <a:lnTo>
                      <a:pt x="130" y="161"/>
                    </a:lnTo>
                    <a:lnTo>
                      <a:pt x="145" y="150"/>
                    </a:lnTo>
                    <a:lnTo>
                      <a:pt x="160" y="139"/>
                    </a:lnTo>
                    <a:lnTo>
                      <a:pt x="175" y="127"/>
                    </a:lnTo>
                    <a:lnTo>
                      <a:pt x="192" y="118"/>
                    </a:lnTo>
                    <a:lnTo>
                      <a:pt x="209" y="106"/>
                    </a:lnTo>
                    <a:lnTo>
                      <a:pt x="225" y="97"/>
                    </a:lnTo>
                    <a:lnTo>
                      <a:pt x="242" y="87"/>
                    </a:lnTo>
                    <a:lnTo>
                      <a:pt x="261" y="80"/>
                    </a:lnTo>
                    <a:lnTo>
                      <a:pt x="278" y="70"/>
                    </a:lnTo>
                    <a:lnTo>
                      <a:pt x="297" y="62"/>
                    </a:lnTo>
                    <a:lnTo>
                      <a:pt x="314" y="55"/>
                    </a:lnTo>
                    <a:lnTo>
                      <a:pt x="333" y="47"/>
                    </a:lnTo>
                    <a:lnTo>
                      <a:pt x="352" y="42"/>
                    </a:lnTo>
                    <a:lnTo>
                      <a:pt x="390" y="28"/>
                    </a:lnTo>
                    <a:lnTo>
                      <a:pt x="428" y="19"/>
                    </a:lnTo>
                    <a:lnTo>
                      <a:pt x="468" y="11"/>
                    </a:lnTo>
                    <a:lnTo>
                      <a:pt x="506" y="4"/>
                    </a:lnTo>
                    <a:lnTo>
                      <a:pt x="546" y="0"/>
                    </a:lnTo>
                    <a:lnTo>
                      <a:pt x="624" y="0"/>
                    </a:lnTo>
                    <a:lnTo>
                      <a:pt x="700" y="7"/>
                    </a:lnTo>
                    <a:lnTo>
                      <a:pt x="700" y="93"/>
                    </a:lnTo>
                    <a:lnTo>
                      <a:pt x="673" y="91"/>
                    </a:lnTo>
                    <a:lnTo>
                      <a:pt x="669" y="120"/>
                    </a:lnTo>
                    <a:lnTo>
                      <a:pt x="662" y="144"/>
                    </a:lnTo>
                    <a:lnTo>
                      <a:pt x="563" y="129"/>
                    </a:lnTo>
                    <a:lnTo>
                      <a:pt x="569" y="99"/>
                    </a:lnTo>
                    <a:lnTo>
                      <a:pt x="561" y="83"/>
                    </a:lnTo>
                    <a:lnTo>
                      <a:pt x="548" y="76"/>
                    </a:lnTo>
                    <a:lnTo>
                      <a:pt x="550" y="72"/>
                    </a:lnTo>
                    <a:lnTo>
                      <a:pt x="553" y="66"/>
                    </a:lnTo>
                    <a:lnTo>
                      <a:pt x="538" y="64"/>
                    </a:lnTo>
                    <a:lnTo>
                      <a:pt x="525" y="70"/>
                    </a:lnTo>
                    <a:lnTo>
                      <a:pt x="512" y="80"/>
                    </a:lnTo>
                    <a:lnTo>
                      <a:pt x="498" y="89"/>
                    </a:lnTo>
                    <a:lnTo>
                      <a:pt x="498" y="93"/>
                    </a:lnTo>
                    <a:lnTo>
                      <a:pt x="506" y="102"/>
                    </a:lnTo>
                    <a:lnTo>
                      <a:pt x="517" y="116"/>
                    </a:lnTo>
                    <a:lnTo>
                      <a:pt x="443" y="125"/>
                    </a:lnTo>
                    <a:lnTo>
                      <a:pt x="430" y="104"/>
                    </a:lnTo>
                    <a:lnTo>
                      <a:pt x="426" y="91"/>
                    </a:lnTo>
                    <a:lnTo>
                      <a:pt x="420" y="83"/>
                    </a:lnTo>
                    <a:lnTo>
                      <a:pt x="396" y="99"/>
                    </a:lnTo>
                    <a:lnTo>
                      <a:pt x="369" y="110"/>
                    </a:lnTo>
                    <a:lnTo>
                      <a:pt x="342" y="123"/>
                    </a:lnTo>
                    <a:lnTo>
                      <a:pt x="325" y="129"/>
                    </a:lnTo>
                    <a:lnTo>
                      <a:pt x="306" y="139"/>
                    </a:lnTo>
                    <a:lnTo>
                      <a:pt x="308" y="167"/>
                    </a:lnTo>
                    <a:lnTo>
                      <a:pt x="316" y="194"/>
                    </a:lnTo>
                    <a:lnTo>
                      <a:pt x="323" y="205"/>
                    </a:lnTo>
                    <a:lnTo>
                      <a:pt x="329" y="217"/>
                    </a:lnTo>
                    <a:lnTo>
                      <a:pt x="337" y="228"/>
                    </a:lnTo>
                    <a:lnTo>
                      <a:pt x="346" y="237"/>
                    </a:lnTo>
                    <a:lnTo>
                      <a:pt x="356" y="249"/>
                    </a:lnTo>
                    <a:lnTo>
                      <a:pt x="367" y="258"/>
                    </a:lnTo>
                    <a:lnTo>
                      <a:pt x="379" y="266"/>
                    </a:lnTo>
                    <a:lnTo>
                      <a:pt x="392" y="274"/>
                    </a:lnTo>
                    <a:lnTo>
                      <a:pt x="403" y="283"/>
                    </a:lnTo>
                    <a:lnTo>
                      <a:pt x="417" y="289"/>
                    </a:lnTo>
                    <a:lnTo>
                      <a:pt x="432" y="296"/>
                    </a:lnTo>
                    <a:lnTo>
                      <a:pt x="445" y="302"/>
                    </a:lnTo>
                    <a:lnTo>
                      <a:pt x="475" y="312"/>
                    </a:lnTo>
                    <a:lnTo>
                      <a:pt x="506" y="321"/>
                    </a:lnTo>
                    <a:lnTo>
                      <a:pt x="536" y="327"/>
                    </a:lnTo>
                    <a:lnTo>
                      <a:pt x="567" y="331"/>
                    </a:lnTo>
                    <a:lnTo>
                      <a:pt x="624" y="333"/>
                    </a:lnTo>
                    <a:lnTo>
                      <a:pt x="671" y="325"/>
                    </a:lnTo>
                    <a:lnTo>
                      <a:pt x="675" y="372"/>
                    </a:lnTo>
                    <a:lnTo>
                      <a:pt x="618" y="382"/>
                    </a:lnTo>
                    <a:lnTo>
                      <a:pt x="561" y="382"/>
                    </a:lnTo>
                    <a:lnTo>
                      <a:pt x="510" y="374"/>
                    </a:lnTo>
                    <a:lnTo>
                      <a:pt x="458" y="359"/>
                    </a:lnTo>
                    <a:lnTo>
                      <a:pt x="434" y="350"/>
                    </a:lnTo>
                    <a:lnTo>
                      <a:pt x="411" y="338"/>
                    </a:lnTo>
                    <a:lnTo>
                      <a:pt x="388" y="325"/>
                    </a:lnTo>
                    <a:lnTo>
                      <a:pt x="377" y="317"/>
                    </a:lnTo>
                    <a:lnTo>
                      <a:pt x="365" y="310"/>
                    </a:lnTo>
                    <a:lnTo>
                      <a:pt x="354" y="302"/>
                    </a:lnTo>
                    <a:lnTo>
                      <a:pt x="344" y="293"/>
                    </a:lnTo>
                    <a:lnTo>
                      <a:pt x="333" y="285"/>
                    </a:lnTo>
                    <a:lnTo>
                      <a:pt x="323" y="275"/>
                    </a:lnTo>
                    <a:lnTo>
                      <a:pt x="312" y="266"/>
                    </a:lnTo>
                    <a:lnTo>
                      <a:pt x="303" y="256"/>
                    </a:lnTo>
                    <a:lnTo>
                      <a:pt x="284" y="236"/>
                    </a:lnTo>
                    <a:lnTo>
                      <a:pt x="274" y="215"/>
                    </a:lnTo>
                    <a:lnTo>
                      <a:pt x="266" y="199"/>
                    </a:lnTo>
                    <a:lnTo>
                      <a:pt x="257" y="186"/>
                    </a:lnTo>
                    <a:lnTo>
                      <a:pt x="249" y="178"/>
                    </a:lnTo>
                    <a:lnTo>
                      <a:pt x="240" y="171"/>
                    </a:lnTo>
                    <a:lnTo>
                      <a:pt x="196" y="186"/>
                    </a:lnTo>
                    <a:lnTo>
                      <a:pt x="173" y="198"/>
                    </a:lnTo>
                    <a:lnTo>
                      <a:pt x="152" y="211"/>
                    </a:lnTo>
                    <a:lnTo>
                      <a:pt x="80" y="234"/>
                    </a:lnTo>
                    <a:lnTo>
                      <a:pt x="44" y="253"/>
                    </a:lnTo>
                    <a:lnTo>
                      <a:pt x="31" y="270"/>
                    </a:lnTo>
                    <a:lnTo>
                      <a:pt x="31" y="277"/>
                    </a:lnTo>
                    <a:lnTo>
                      <a:pt x="37" y="287"/>
                    </a:lnTo>
                    <a:lnTo>
                      <a:pt x="56" y="279"/>
                    </a:lnTo>
                    <a:lnTo>
                      <a:pt x="82" y="266"/>
                    </a:lnTo>
                    <a:lnTo>
                      <a:pt x="95" y="258"/>
                    </a:lnTo>
                    <a:lnTo>
                      <a:pt x="109" y="251"/>
                    </a:lnTo>
                    <a:lnTo>
                      <a:pt x="128" y="241"/>
                    </a:lnTo>
                    <a:lnTo>
                      <a:pt x="132" y="256"/>
                    </a:lnTo>
                    <a:lnTo>
                      <a:pt x="111" y="264"/>
                    </a:lnTo>
                    <a:lnTo>
                      <a:pt x="90" y="272"/>
                    </a:lnTo>
                    <a:lnTo>
                      <a:pt x="69" y="281"/>
                    </a:lnTo>
                    <a:lnTo>
                      <a:pt x="50" y="291"/>
                    </a:lnTo>
                    <a:lnTo>
                      <a:pt x="48" y="296"/>
                    </a:lnTo>
                    <a:lnTo>
                      <a:pt x="50" y="302"/>
                    </a:lnTo>
                    <a:lnTo>
                      <a:pt x="61" y="308"/>
                    </a:lnTo>
                    <a:lnTo>
                      <a:pt x="84" y="308"/>
                    </a:lnTo>
                    <a:lnTo>
                      <a:pt x="94" y="289"/>
                    </a:lnTo>
                    <a:lnTo>
                      <a:pt x="103" y="281"/>
                    </a:lnTo>
                    <a:lnTo>
                      <a:pt x="135" y="283"/>
                    </a:lnTo>
                    <a:lnTo>
                      <a:pt x="143" y="336"/>
                    </a:lnTo>
                    <a:lnTo>
                      <a:pt x="154" y="346"/>
                    </a:lnTo>
                    <a:lnTo>
                      <a:pt x="168" y="355"/>
                    </a:lnTo>
                    <a:lnTo>
                      <a:pt x="181" y="363"/>
                    </a:lnTo>
                    <a:lnTo>
                      <a:pt x="196" y="371"/>
                    </a:lnTo>
                    <a:lnTo>
                      <a:pt x="213" y="378"/>
                    </a:lnTo>
                    <a:lnTo>
                      <a:pt x="228" y="386"/>
                    </a:lnTo>
                    <a:lnTo>
                      <a:pt x="246" y="393"/>
                    </a:lnTo>
                    <a:lnTo>
                      <a:pt x="263" y="399"/>
                    </a:lnTo>
                    <a:lnTo>
                      <a:pt x="301" y="412"/>
                    </a:lnTo>
                    <a:lnTo>
                      <a:pt x="339" y="422"/>
                    </a:lnTo>
                    <a:lnTo>
                      <a:pt x="377" y="431"/>
                    </a:lnTo>
                    <a:lnTo>
                      <a:pt x="417" y="439"/>
                    </a:lnTo>
                    <a:lnTo>
                      <a:pt x="456" y="447"/>
                    </a:lnTo>
                    <a:lnTo>
                      <a:pt x="496" y="452"/>
                    </a:lnTo>
                    <a:lnTo>
                      <a:pt x="570" y="460"/>
                    </a:lnTo>
                    <a:lnTo>
                      <a:pt x="686" y="464"/>
                    </a:lnTo>
                    <a:lnTo>
                      <a:pt x="717" y="509"/>
                    </a:lnTo>
                    <a:lnTo>
                      <a:pt x="572" y="506"/>
                    </a:lnTo>
                    <a:lnTo>
                      <a:pt x="409" y="488"/>
                    </a:lnTo>
                    <a:lnTo>
                      <a:pt x="325" y="471"/>
                    </a:lnTo>
                    <a:lnTo>
                      <a:pt x="285" y="460"/>
                    </a:lnTo>
                    <a:lnTo>
                      <a:pt x="246" y="447"/>
                    </a:lnTo>
                    <a:lnTo>
                      <a:pt x="227" y="441"/>
                    </a:lnTo>
                    <a:lnTo>
                      <a:pt x="208" y="433"/>
                    </a:lnTo>
                    <a:lnTo>
                      <a:pt x="190" y="424"/>
                    </a:lnTo>
                    <a:lnTo>
                      <a:pt x="171" y="414"/>
                    </a:lnTo>
                    <a:lnTo>
                      <a:pt x="154" y="405"/>
                    </a:lnTo>
                    <a:lnTo>
                      <a:pt x="137" y="395"/>
                    </a:lnTo>
                    <a:lnTo>
                      <a:pt x="122" y="384"/>
                    </a:lnTo>
                    <a:lnTo>
                      <a:pt x="107" y="372"/>
                    </a:lnTo>
                    <a:lnTo>
                      <a:pt x="107"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23080" y="3644640"/>
                <a:ext cx="504720" cy="401760"/>
              </a:xfrm>
              <a:custGeom>
                <a:avLst/>
                <a:gdLst/>
                <a:ahLst/>
                <a:rect l="l" t="t" r="r" b="b"/>
                <a:pathLst>
                  <a:path w="636" h="505">
                    <a:moveTo>
                      <a:pt x="9" y="505"/>
                    </a:moveTo>
                    <a:lnTo>
                      <a:pt x="0" y="460"/>
                    </a:lnTo>
                    <a:lnTo>
                      <a:pt x="99" y="452"/>
                    </a:lnTo>
                    <a:lnTo>
                      <a:pt x="167" y="443"/>
                    </a:lnTo>
                    <a:lnTo>
                      <a:pt x="243" y="427"/>
                    </a:lnTo>
                    <a:lnTo>
                      <a:pt x="281" y="418"/>
                    </a:lnTo>
                    <a:lnTo>
                      <a:pt x="319" y="406"/>
                    </a:lnTo>
                    <a:lnTo>
                      <a:pt x="353" y="393"/>
                    </a:lnTo>
                    <a:lnTo>
                      <a:pt x="388" y="382"/>
                    </a:lnTo>
                    <a:lnTo>
                      <a:pt x="420" y="367"/>
                    </a:lnTo>
                    <a:lnTo>
                      <a:pt x="433" y="357"/>
                    </a:lnTo>
                    <a:lnTo>
                      <a:pt x="446" y="349"/>
                    </a:lnTo>
                    <a:lnTo>
                      <a:pt x="460" y="340"/>
                    </a:lnTo>
                    <a:lnTo>
                      <a:pt x="471" y="330"/>
                    </a:lnTo>
                    <a:lnTo>
                      <a:pt x="488" y="311"/>
                    </a:lnTo>
                    <a:lnTo>
                      <a:pt x="479" y="300"/>
                    </a:lnTo>
                    <a:lnTo>
                      <a:pt x="465" y="287"/>
                    </a:lnTo>
                    <a:lnTo>
                      <a:pt x="452" y="273"/>
                    </a:lnTo>
                    <a:lnTo>
                      <a:pt x="437" y="262"/>
                    </a:lnTo>
                    <a:lnTo>
                      <a:pt x="420" y="249"/>
                    </a:lnTo>
                    <a:lnTo>
                      <a:pt x="405" y="235"/>
                    </a:lnTo>
                    <a:lnTo>
                      <a:pt x="388" y="224"/>
                    </a:lnTo>
                    <a:lnTo>
                      <a:pt x="369" y="213"/>
                    </a:lnTo>
                    <a:lnTo>
                      <a:pt x="351" y="201"/>
                    </a:lnTo>
                    <a:lnTo>
                      <a:pt x="332" y="192"/>
                    </a:lnTo>
                    <a:lnTo>
                      <a:pt x="313" y="184"/>
                    </a:lnTo>
                    <a:lnTo>
                      <a:pt x="296" y="174"/>
                    </a:lnTo>
                    <a:lnTo>
                      <a:pt x="277" y="169"/>
                    </a:lnTo>
                    <a:lnTo>
                      <a:pt x="260" y="163"/>
                    </a:lnTo>
                    <a:lnTo>
                      <a:pt x="226" y="159"/>
                    </a:lnTo>
                    <a:lnTo>
                      <a:pt x="220" y="174"/>
                    </a:lnTo>
                    <a:lnTo>
                      <a:pt x="213" y="192"/>
                    </a:lnTo>
                    <a:lnTo>
                      <a:pt x="205" y="207"/>
                    </a:lnTo>
                    <a:lnTo>
                      <a:pt x="196" y="224"/>
                    </a:lnTo>
                    <a:lnTo>
                      <a:pt x="184" y="241"/>
                    </a:lnTo>
                    <a:lnTo>
                      <a:pt x="173" y="256"/>
                    </a:lnTo>
                    <a:lnTo>
                      <a:pt x="161" y="271"/>
                    </a:lnTo>
                    <a:lnTo>
                      <a:pt x="148" y="287"/>
                    </a:lnTo>
                    <a:lnTo>
                      <a:pt x="141" y="294"/>
                    </a:lnTo>
                    <a:lnTo>
                      <a:pt x="133" y="302"/>
                    </a:lnTo>
                    <a:lnTo>
                      <a:pt x="125" y="310"/>
                    </a:lnTo>
                    <a:lnTo>
                      <a:pt x="118" y="315"/>
                    </a:lnTo>
                    <a:lnTo>
                      <a:pt x="103" y="329"/>
                    </a:lnTo>
                    <a:lnTo>
                      <a:pt x="84" y="340"/>
                    </a:lnTo>
                    <a:lnTo>
                      <a:pt x="66" y="349"/>
                    </a:lnTo>
                    <a:lnTo>
                      <a:pt x="47" y="359"/>
                    </a:lnTo>
                    <a:lnTo>
                      <a:pt x="28" y="365"/>
                    </a:lnTo>
                    <a:lnTo>
                      <a:pt x="8" y="370"/>
                    </a:lnTo>
                    <a:lnTo>
                      <a:pt x="9" y="323"/>
                    </a:lnTo>
                    <a:lnTo>
                      <a:pt x="38" y="313"/>
                    </a:lnTo>
                    <a:lnTo>
                      <a:pt x="66" y="298"/>
                    </a:lnTo>
                    <a:lnTo>
                      <a:pt x="80" y="287"/>
                    </a:lnTo>
                    <a:lnTo>
                      <a:pt x="91" y="275"/>
                    </a:lnTo>
                    <a:lnTo>
                      <a:pt x="114" y="251"/>
                    </a:lnTo>
                    <a:lnTo>
                      <a:pt x="123" y="237"/>
                    </a:lnTo>
                    <a:lnTo>
                      <a:pt x="131" y="222"/>
                    </a:lnTo>
                    <a:lnTo>
                      <a:pt x="144" y="192"/>
                    </a:lnTo>
                    <a:lnTo>
                      <a:pt x="154" y="131"/>
                    </a:lnTo>
                    <a:lnTo>
                      <a:pt x="144" y="123"/>
                    </a:lnTo>
                    <a:lnTo>
                      <a:pt x="131" y="116"/>
                    </a:lnTo>
                    <a:lnTo>
                      <a:pt x="112" y="108"/>
                    </a:lnTo>
                    <a:lnTo>
                      <a:pt x="91" y="100"/>
                    </a:lnTo>
                    <a:lnTo>
                      <a:pt x="51" y="89"/>
                    </a:lnTo>
                    <a:lnTo>
                      <a:pt x="25" y="85"/>
                    </a:lnTo>
                    <a:lnTo>
                      <a:pt x="8" y="0"/>
                    </a:lnTo>
                    <a:lnTo>
                      <a:pt x="93" y="13"/>
                    </a:lnTo>
                    <a:lnTo>
                      <a:pt x="139" y="22"/>
                    </a:lnTo>
                    <a:lnTo>
                      <a:pt x="182" y="38"/>
                    </a:lnTo>
                    <a:lnTo>
                      <a:pt x="205" y="45"/>
                    </a:lnTo>
                    <a:lnTo>
                      <a:pt x="228" y="53"/>
                    </a:lnTo>
                    <a:lnTo>
                      <a:pt x="249" y="62"/>
                    </a:lnTo>
                    <a:lnTo>
                      <a:pt x="272" y="72"/>
                    </a:lnTo>
                    <a:lnTo>
                      <a:pt x="293" y="81"/>
                    </a:lnTo>
                    <a:lnTo>
                      <a:pt x="315" y="93"/>
                    </a:lnTo>
                    <a:lnTo>
                      <a:pt x="336" y="102"/>
                    </a:lnTo>
                    <a:lnTo>
                      <a:pt x="359" y="114"/>
                    </a:lnTo>
                    <a:lnTo>
                      <a:pt x="380" y="125"/>
                    </a:lnTo>
                    <a:lnTo>
                      <a:pt x="401" y="136"/>
                    </a:lnTo>
                    <a:lnTo>
                      <a:pt x="420" y="150"/>
                    </a:lnTo>
                    <a:lnTo>
                      <a:pt x="441" y="161"/>
                    </a:lnTo>
                    <a:lnTo>
                      <a:pt x="460" y="174"/>
                    </a:lnTo>
                    <a:lnTo>
                      <a:pt x="479" y="186"/>
                    </a:lnTo>
                    <a:lnTo>
                      <a:pt x="498" y="199"/>
                    </a:lnTo>
                    <a:lnTo>
                      <a:pt x="515" y="213"/>
                    </a:lnTo>
                    <a:lnTo>
                      <a:pt x="532" y="224"/>
                    </a:lnTo>
                    <a:lnTo>
                      <a:pt x="549" y="237"/>
                    </a:lnTo>
                    <a:lnTo>
                      <a:pt x="566" y="251"/>
                    </a:lnTo>
                    <a:lnTo>
                      <a:pt x="581" y="262"/>
                    </a:lnTo>
                    <a:lnTo>
                      <a:pt x="597" y="275"/>
                    </a:lnTo>
                    <a:lnTo>
                      <a:pt x="610" y="289"/>
                    </a:lnTo>
                    <a:lnTo>
                      <a:pt x="623" y="300"/>
                    </a:lnTo>
                    <a:lnTo>
                      <a:pt x="636" y="311"/>
                    </a:lnTo>
                    <a:lnTo>
                      <a:pt x="623" y="325"/>
                    </a:lnTo>
                    <a:lnTo>
                      <a:pt x="612" y="315"/>
                    </a:lnTo>
                    <a:lnTo>
                      <a:pt x="597" y="302"/>
                    </a:lnTo>
                    <a:lnTo>
                      <a:pt x="585" y="294"/>
                    </a:lnTo>
                    <a:lnTo>
                      <a:pt x="576" y="287"/>
                    </a:lnTo>
                    <a:lnTo>
                      <a:pt x="562" y="277"/>
                    </a:lnTo>
                    <a:lnTo>
                      <a:pt x="551" y="268"/>
                    </a:lnTo>
                    <a:lnTo>
                      <a:pt x="538" y="258"/>
                    </a:lnTo>
                    <a:lnTo>
                      <a:pt x="522" y="247"/>
                    </a:lnTo>
                    <a:lnTo>
                      <a:pt x="509" y="235"/>
                    </a:lnTo>
                    <a:lnTo>
                      <a:pt x="494" y="224"/>
                    </a:lnTo>
                    <a:lnTo>
                      <a:pt x="477" y="214"/>
                    </a:lnTo>
                    <a:lnTo>
                      <a:pt x="462" y="201"/>
                    </a:lnTo>
                    <a:lnTo>
                      <a:pt x="445" y="190"/>
                    </a:lnTo>
                    <a:lnTo>
                      <a:pt x="427" y="178"/>
                    </a:lnTo>
                    <a:lnTo>
                      <a:pt x="410" y="169"/>
                    </a:lnTo>
                    <a:lnTo>
                      <a:pt x="393" y="157"/>
                    </a:lnTo>
                    <a:lnTo>
                      <a:pt x="376" y="146"/>
                    </a:lnTo>
                    <a:lnTo>
                      <a:pt x="359" y="136"/>
                    </a:lnTo>
                    <a:lnTo>
                      <a:pt x="342" y="125"/>
                    </a:lnTo>
                    <a:lnTo>
                      <a:pt x="323" y="117"/>
                    </a:lnTo>
                    <a:lnTo>
                      <a:pt x="306" y="108"/>
                    </a:lnTo>
                    <a:lnTo>
                      <a:pt x="291" y="100"/>
                    </a:lnTo>
                    <a:lnTo>
                      <a:pt x="274" y="93"/>
                    </a:lnTo>
                    <a:lnTo>
                      <a:pt x="258" y="87"/>
                    </a:lnTo>
                    <a:lnTo>
                      <a:pt x="228" y="76"/>
                    </a:lnTo>
                    <a:lnTo>
                      <a:pt x="199" y="70"/>
                    </a:lnTo>
                    <a:lnTo>
                      <a:pt x="175" y="70"/>
                    </a:lnTo>
                    <a:lnTo>
                      <a:pt x="209" y="83"/>
                    </a:lnTo>
                    <a:lnTo>
                      <a:pt x="230" y="91"/>
                    </a:lnTo>
                    <a:lnTo>
                      <a:pt x="255" y="102"/>
                    </a:lnTo>
                    <a:lnTo>
                      <a:pt x="281" y="116"/>
                    </a:lnTo>
                    <a:lnTo>
                      <a:pt x="294" y="123"/>
                    </a:lnTo>
                    <a:lnTo>
                      <a:pt x="308" y="129"/>
                    </a:lnTo>
                    <a:lnTo>
                      <a:pt x="323" y="138"/>
                    </a:lnTo>
                    <a:lnTo>
                      <a:pt x="338" y="146"/>
                    </a:lnTo>
                    <a:lnTo>
                      <a:pt x="351" y="154"/>
                    </a:lnTo>
                    <a:lnTo>
                      <a:pt x="367" y="163"/>
                    </a:lnTo>
                    <a:lnTo>
                      <a:pt x="382" y="173"/>
                    </a:lnTo>
                    <a:lnTo>
                      <a:pt x="397" y="180"/>
                    </a:lnTo>
                    <a:lnTo>
                      <a:pt x="412" y="192"/>
                    </a:lnTo>
                    <a:lnTo>
                      <a:pt x="427" y="201"/>
                    </a:lnTo>
                    <a:lnTo>
                      <a:pt x="443" y="211"/>
                    </a:lnTo>
                    <a:lnTo>
                      <a:pt x="458" y="222"/>
                    </a:lnTo>
                    <a:lnTo>
                      <a:pt x="471" y="232"/>
                    </a:lnTo>
                    <a:lnTo>
                      <a:pt x="484" y="243"/>
                    </a:lnTo>
                    <a:lnTo>
                      <a:pt x="500" y="254"/>
                    </a:lnTo>
                    <a:lnTo>
                      <a:pt x="513" y="266"/>
                    </a:lnTo>
                    <a:lnTo>
                      <a:pt x="526" y="277"/>
                    </a:lnTo>
                    <a:lnTo>
                      <a:pt x="540" y="289"/>
                    </a:lnTo>
                    <a:lnTo>
                      <a:pt x="551" y="300"/>
                    </a:lnTo>
                    <a:lnTo>
                      <a:pt x="562" y="311"/>
                    </a:lnTo>
                    <a:lnTo>
                      <a:pt x="583" y="336"/>
                    </a:lnTo>
                    <a:lnTo>
                      <a:pt x="566" y="348"/>
                    </a:lnTo>
                    <a:lnTo>
                      <a:pt x="551" y="357"/>
                    </a:lnTo>
                    <a:lnTo>
                      <a:pt x="534" y="367"/>
                    </a:lnTo>
                    <a:lnTo>
                      <a:pt x="517" y="376"/>
                    </a:lnTo>
                    <a:lnTo>
                      <a:pt x="502" y="386"/>
                    </a:lnTo>
                    <a:lnTo>
                      <a:pt x="484" y="393"/>
                    </a:lnTo>
                    <a:lnTo>
                      <a:pt x="467" y="403"/>
                    </a:lnTo>
                    <a:lnTo>
                      <a:pt x="450" y="410"/>
                    </a:lnTo>
                    <a:lnTo>
                      <a:pt x="433" y="418"/>
                    </a:lnTo>
                    <a:lnTo>
                      <a:pt x="416" y="426"/>
                    </a:lnTo>
                    <a:lnTo>
                      <a:pt x="399" y="433"/>
                    </a:lnTo>
                    <a:lnTo>
                      <a:pt x="380" y="441"/>
                    </a:lnTo>
                    <a:lnTo>
                      <a:pt x="363" y="446"/>
                    </a:lnTo>
                    <a:lnTo>
                      <a:pt x="346" y="454"/>
                    </a:lnTo>
                    <a:lnTo>
                      <a:pt x="310" y="465"/>
                    </a:lnTo>
                    <a:lnTo>
                      <a:pt x="274" y="475"/>
                    </a:lnTo>
                    <a:lnTo>
                      <a:pt x="236" y="484"/>
                    </a:lnTo>
                    <a:lnTo>
                      <a:pt x="199" y="492"/>
                    </a:lnTo>
                    <a:lnTo>
                      <a:pt x="161" y="498"/>
                    </a:lnTo>
                    <a:lnTo>
                      <a:pt x="87" y="505"/>
                    </a:lnTo>
                    <a:lnTo>
                      <a:pt x="9" y="505"/>
                    </a:lnTo>
                    <a:lnTo>
                      <a:pt x="9"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191280" y="3906720"/>
                <a:ext cx="244440" cy="141120"/>
              </a:xfrm>
              <a:custGeom>
                <a:avLst/>
                <a:gdLst/>
                <a:ahLst/>
                <a:rect l="l" t="t" r="r" b="b"/>
                <a:pathLst>
                  <a:path w="308" h="178">
                    <a:moveTo>
                      <a:pt x="0" y="178"/>
                    </a:moveTo>
                    <a:lnTo>
                      <a:pt x="17" y="165"/>
                    </a:lnTo>
                    <a:lnTo>
                      <a:pt x="36" y="154"/>
                    </a:lnTo>
                    <a:lnTo>
                      <a:pt x="55" y="142"/>
                    </a:lnTo>
                    <a:lnTo>
                      <a:pt x="74" y="131"/>
                    </a:lnTo>
                    <a:lnTo>
                      <a:pt x="93" y="119"/>
                    </a:lnTo>
                    <a:lnTo>
                      <a:pt x="114" y="108"/>
                    </a:lnTo>
                    <a:lnTo>
                      <a:pt x="133" y="98"/>
                    </a:lnTo>
                    <a:lnTo>
                      <a:pt x="154" y="87"/>
                    </a:lnTo>
                    <a:lnTo>
                      <a:pt x="173" y="77"/>
                    </a:lnTo>
                    <a:lnTo>
                      <a:pt x="194" y="68"/>
                    </a:lnTo>
                    <a:lnTo>
                      <a:pt x="213" y="57"/>
                    </a:lnTo>
                    <a:lnTo>
                      <a:pt x="234" y="47"/>
                    </a:lnTo>
                    <a:lnTo>
                      <a:pt x="253" y="36"/>
                    </a:lnTo>
                    <a:lnTo>
                      <a:pt x="272" y="24"/>
                    </a:lnTo>
                    <a:lnTo>
                      <a:pt x="291" y="13"/>
                    </a:lnTo>
                    <a:lnTo>
                      <a:pt x="308" y="0"/>
                    </a:lnTo>
                    <a:lnTo>
                      <a:pt x="293" y="20"/>
                    </a:lnTo>
                    <a:lnTo>
                      <a:pt x="283" y="32"/>
                    </a:lnTo>
                    <a:lnTo>
                      <a:pt x="272" y="43"/>
                    </a:lnTo>
                    <a:lnTo>
                      <a:pt x="262" y="55"/>
                    </a:lnTo>
                    <a:lnTo>
                      <a:pt x="253" y="66"/>
                    </a:lnTo>
                    <a:lnTo>
                      <a:pt x="240" y="85"/>
                    </a:lnTo>
                    <a:lnTo>
                      <a:pt x="211" y="98"/>
                    </a:lnTo>
                    <a:lnTo>
                      <a:pt x="181" y="110"/>
                    </a:lnTo>
                    <a:lnTo>
                      <a:pt x="152" y="121"/>
                    </a:lnTo>
                    <a:lnTo>
                      <a:pt x="122" y="135"/>
                    </a:lnTo>
                    <a:lnTo>
                      <a:pt x="91" y="144"/>
                    </a:lnTo>
                    <a:lnTo>
                      <a:pt x="61" y="155"/>
                    </a:lnTo>
                    <a:lnTo>
                      <a:pt x="31" y="167"/>
                    </a:lnTo>
                    <a:lnTo>
                      <a:pt x="0" y="178"/>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100920" y="3956040"/>
                <a:ext cx="12600" cy="9360"/>
              </a:xfrm>
              <a:custGeom>
                <a:avLst/>
                <a:gdLst/>
                <a:ahLst/>
                <a:rect l="l" t="t" r="r" b="b"/>
                <a:pathLst>
                  <a:path w="15" h="12">
                    <a:moveTo>
                      <a:pt x="0" y="12"/>
                    </a:moveTo>
                    <a:lnTo>
                      <a:pt x="8" y="4"/>
                    </a:lnTo>
                    <a:lnTo>
                      <a:pt x="15" y="0"/>
                    </a:lnTo>
                    <a:lnTo>
                      <a:pt x="15" y="6"/>
                    </a:lnTo>
                    <a:lnTo>
                      <a:pt x="8" y="10"/>
                    </a:lnTo>
                    <a:lnTo>
                      <a:pt x="0"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6046920" y="3940200"/>
                <a:ext cx="44280" cy="25200"/>
              </a:xfrm>
              <a:custGeom>
                <a:avLst/>
                <a:gdLst/>
                <a:ahLst/>
                <a:rect l="l" t="t" r="r" b="b"/>
                <a:pathLst>
                  <a:path w="57" h="33">
                    <a:moveTo>
                      <a:pt x="0" y="33"/>
                    </a:moveTo>
                    <a:lnTo>
                      <a:pt x="0" y="27"/>
                    </a:lnTo>
                    <a:lnTo>
                      <a:pt x="49" y="0"/>
                    </a:lnTo>
                    <a:lnTo>
                      <a:pt x="57" y="8"/>
                    </a:lnTo>
                    <a:lnTo>
                      <a:pt x="0" y="33"/>
                    </a:lnTo>
                    <a:lnTo>
                      <a:pt x="0" y="3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5334120" y="3806640"/>
                <a:ext cx="158760" cy="168480"/>
              </a:xfrm>
              <a:custGeom>
                <a:avLst/>
                <a:gdLst/>
                <a:ahLst/>
                <a:rect l="l" t="t" r="r" b="b"/>
                <a:pathLst>
                  <a:path w="201" h="213">
                    <a:moveTo>
                      <a:pt x="201" y="213"/>
                    </a:moveTo>
                    <a:lnTo>
                      <a:pt x="158" y="202"/>
                    </a:lnTo>
                    <a:lnTo>
                      <a:pt x="122" y="192"/>
                    </a:lnTo>
                    <a:lnTo>
                      <a:pt x="84" y="179"/>
                    </a:lnTo>
                    <a:lnTo>
                      <a:pt x="49" y="165"/>
                    </a:lnTo>
                    <a:lnTo>
                      <a:pt x="19" y="148"/>
                    </a:lnTo>
                    <a:lnTo>
                      <a:pt x="2" y="131"/>
                    </a:lnTo>
                    <a:lnTo>
                      <a:pt x="0" y="114"/>
                    </a:lnTo>
                    <a:lnTo>
                      <a:pt x="4" y="86"/>
                    </a:lnTo>
                    <a:lnTo>
                      <a:pt x="15" y="48"/>
                    </a:lnTo>
                    <a:lnTo>
                      <a:pt x="23" y="29"/>
                    </a:lnTo>
                    <a:lnTo>
                      <a:pt x="30" y="13"/>
                    </a:lnTo>
                    <a:lnTo>
                      <a:pt x="40" y="4"/>
                    </a:lnTo>
                    <a:lnTo>
                      <a:pt x="48" y="0"/>
                    </a:lnTo>
                    <a:lnTo>
                      <a:pt x="57" y="25"/>
                    </a:lnTo>
                    <a:lnTo>
                      <a:pt x="55" y="51"/>
                    </a:lnTo>
                    <a:lnTo>
                      <a:pt x="49" y="67"/>
                    </a:lnTo>
                    <a:lnTo>
                      <a:pt x="38" y="82"/>
                    </a:lnTo>
                    <a:lnTo>
                      <a:pt x="30" y="95"/>
                    </a:lnTo>
                    <a:lnTo>
                      <a:pt x="32" y="112"/>
                    </a:lnTo>
                    <a:lnTo>
                      <a:pt x="201" y="213"/>
                    </a:lnTo>
                    <a:lnTo>
                      <a:pt x="201"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29400" y="3925800"/>
                <a:ext cx="187200" cy="44280"/>
              </a:xfrm>
              <a:custGeom>
                <a:avLst/>
                <a:gdLst/>
                <a:ahLst/>
                <a:rect l="l" t="t" r="r" b="b"/>
                <a:pathLst>
                  <a:path w="235" h="55">
                    <a:moveTo>
                      <a:pt x="0" y="0"/>
                    </a:moveTo>
                    <a:lnTo>
                      <a:pt x="32" y="12"/>
                    </a:lnTo>
                    <a:lnTo>
                      <a:pt x="61" y="21"/>
                    </a:lnTo>
                    <a:lnTo>
                      <a:pt x="89" y="29"/>
                    </a:lnTo>
                    <a:lnTo>
                      <a:pt x="118" y="33"/>
                    </a:lnTo>
                    <a:lnTo>
                      <a:pt x="235" y="33"/>
                    </a:lnTo>
                    <a:lnTo>
                      <a:pt x="228" y="40"/>
                    </a:lnTo>
                    <a:lnTo>
                      <a:pt x="218" y="48"/>
                    </a:lnTo>
                    <a:lnTo>
                      <a:pt x="192" y="55"/>
                    </a:lnTo>
                    <a:lnTo>
                      <a:pt x="121" y="52"/>
                    </a:lnTo>
                    <a:lnTo>
                      <a:pt x="83" y="42"/>
                    </a:lnTo>
                    <a:lnTo>
                      <a:pt x="49" y="31"/>
                    </a:lnTo>
                    <a:lnTo>
                      <a:pt x="21" y="15"/>
                    </a:lnTo>
                    <a:lnTo>
                      <a:pt x="0"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2" name=""/>
              <p:cNvSpPr/>
              <p:nvPr/>
            </p:nvSpPr>
            <p:spPr>
              <a:xfrm>
                <a:off x="5999040" y="3900240"/>
                <a:ext cx="69840" cy="42840"/>
              </a:xfrm>
              <a:custGeom>
                <a:avLst/>
                <a:gdLst/>
                <a:ahLst/>
                <a:rect l="l" t="t" r="r" b="b"/>
                <a:pathLst>
                  <a:path w="87" h="53">
                    <a:moveTo>
                      <a:pt x="78" y="0"/>
                    </a:moveTo>
                    <a:lnTo>
                      <a:pt x="82" y="9"/>
                    </a:lnTo>
                    <a:lnTo>
                      <a:pt x="87" y="23"/>
                    </a:lnTo>
                    <a:lnTo>
                      <a:pt x="66" y="32"/>
                    </a:lnTo>
                    <a:lnTo>
                      <a:pt x="45" y="40"/>
                    </a:lnTo>
                    <a:lnTo>
                      <a:pt x="23" y="47"/>
                    </a:lnTo>
                    <a:lnTo>
                      <a:pt x="0" y="53"/>
                    </a:lnTo>
                    <a:lnTo>
                      <a:pt x="78" y="0"/>
                    </a:lnTo>
                    <a:lnTo>
                      <a:pt x="7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 name=""/>
              <p:cNvSpPr/>
              <p:nvPr/>
            </p:nvSpPr>
            <p:spPr>
              <a:xfrm>
                <a:off x="6135840" y="3927240"/>
                <a:ext cx="25200" cy="19080"/>
              </a:xfrm>
              <a:custGeom>
                <a:avLst/>
                <a:gdLst/>
                <a:ahLst/>
                <a:rect l="l" t="t" r="r" b="b"/>
                <a:pathLst>
                  <a:path w="32" h="25">
                    <a:moveTo>
                      <a:pt x="4" y="25"/>
                    </a:moveTo>
                    <a:lnTo>
                      <a:pt x="0" y="17"/>
                    </a:lnTo>
                    <a:lnTo>
                      <a:pt x="17" y="2"/>
                    </a:lnTo>
                    <a:lnTo>
                      <a:pt x="25" y="0"/>
                    </a:lnTo>
                    <a:lnTo>
                      <a:pt x="32" y="12"/>
                    </a:lnTo>
                    <a:lnTo>
                      <a:pt x="4" y="25"/>
                    </a:lnTo>
                    <a:lnTo>
                      <a:pt x="4"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 name=""/>
              <p:cNvSpPr/>
              <p:nvPr/>
            </p:nvSpPr>
            <p:spPr>
              <a:xfrm>
                <a:off x="6203880" y="3914640"/>
                <a:ext cx="27000" cy="19080"/>
              </a:xfrm>
              <a:custGeom>
                <a:avLst/>
                <a:gdLst/>
                <a:ahLst/>
                <a:rect l="l" t="t" r="r" b="b"/>
                <a:pathLst>
                  <a:path w="35" h="23">
                    <a:moveTo>
                      <a:pt x="0" y="23"/>
                    </a:moveTo>
                    <a:lnTo>
                      <a:pt x="8" y="11"/>
                    </a:lnTo>
                    <a:lnTo>
                      <a:pt x="23" y="0"/>
                    </a:lnTo>
                    <a:lnTo>
                      <a:pt x="35" y="4"/>
                    </a:lnTo>
                    <a:lnTo>
                      <a:pt x="0" y="23"/>
                    </a:lnTo>
                    <a:lnTo>
                      <a:pt x="0"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 name=""/>
              <p:cNvSpPr/>
              <p:nvPr/>
            </p:nvSpPr>
            <p:spPr>
              <a:xfrm>
                <a:off x="6099120" y="3911400"/>
                <a:ext cx="22320" cy="17640"/>
              </a:xfrm>
              <a:custGeom>
                <a:avLst/>
                <a:gdLst/>
                <a:ahLst/>
                <a:rect l="l" t="t" r="r" b="b"/>
                <a:pathLst>
                  <a:path w="29" h="23">
                    <a:moveTo>
                      <a:pt x="10" y="23"/>
                    </a:moveTo>
                    <a:lnTo>
                      <a:pt x="0" y="10"/>
                    </a:lnTo>
                    <a:lnTo>
                      <a:pt x="8" y="0"/>
                    </a:lnTo>
                    <a:lnTo>
                      <a:pt x="19" y="0"/>
                    </a:lnTo>
                    <a:lnTo>
                      <a:pt x="29" y="8"/>
                    </a:lnTo>
                    <a:lnTo>
                      <a:pt x="21" y="17"/>
                    </a:lnTo>
                    <a:lnTo>
                      <a:pt x="10" y="23"/>
                    </a:lnTo>
                    <a:lnTo>
                      <a:pt x="10" y="2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 name=""/>
              <p:cNvSpPr/>
              <p:nvPr/>
            </p:nvSpPr>
            <p:spPr>
              <a:xfrm>
                <a:off x="6164280" y="3892320"/>
                <a:ext cx="30240" cy="28800"/>
              </a:xfrm>
              <a:custGeom>
                <a:avLst/>
                <a:gdLst/>
                <a:ahLst/>
                <a:rect l="l" t="t" r="r" b="b"/>
                <a:pathLst>
                  <a:path w="38" h="37">
                    <a:moveTo>
                      <a:pt x="9" y="37"/>
                    </a:moveTo>
                    <a:lnTo>
                      <a:pt x="0" y="23"/>
                    </a:lnTo>
                    <a:lnTo>
                      <a:pt x="28" y="0"/>
                    </a:lnTo>
                    <a:lnTo>
                      <a:pt x="36" y="6"/>
                    </a:lnTo>
                    <a:lnTo>
                      <a:pt x="38" y="16"/>
                    </a:lnTo>
                    <a:lnTo>
                      <a:pt x="9" y="37"/>
                    </a:lnTo>
                    <a:lnTo>
                      <a:pt x="9"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7" name=""/>
              <p:cNvSpPr/>
              <p:nvPr/>
            </p:nvSpPr>
            <p:spPr>
              <a:xfrm>
                <a:off x="5518080" y="3846240"/>
                <a:ext cx="73080" cy="79560"/>
              </a:xfrm>
              <a:custGeom>
                <a:avLst/>
                <a:gdLst/>
                <a:ahLst/>
                <a:rect l="l" t="t" r="r" b="b"/>
                <a:pathLst>
                  <a:path w="91" h="101">
                    <a:moveTo>
                      <a:pt x="15" y="48"/>
                    </a:moveTo>
                    <a:lnTo>
                      <a:pt x="2" y="27"/>
                    </a:lnTo>
                    <a:lnTo>
                      <a:pt x="0" y="0"/>
                    </a:lnTo>
                    <a:lnTo>
                      <a:pt x="7" y="16"/>
                    </a:lnTo>
                    <a:lnTo>
                      <a:pt x="17" y="31"/>
                    </a:lnTo>
                    <a:lnTo>
                      <a:pt x="28" y="44"/>
                    </a:lnTo>
                    <a:lnTo>
                      <a:pt x="40" y="56"/>
                    </a:lnTo>
                    <a:lnTo>
                      <a:pt x="51" y="69"/>
                    </a:lnTo>
                    <a:lnTo>
                      <a:pt x="62" y="80"/>
                    </a:lnTo>
                    <a:lnTo>
                      <a:pt x="76" y="90"/>
                    </a:lnTo>
                    <a:lnTo>
                      <a:pt x="91" y="101"/>
                    </a:lnTo>
                    <a:lnTo>
                      <a:pt x="72" y="97"/>
                    </a:lnTo>
                    <a:lnTo>
                      <a:pt x="49" y="82"/>
                    </a:lnTo>
                    <a:lnTo>
                      <a:pt x="40" y="73"/>
                    </a:lnTo>
                    <a:lnTo>
                      <a:pt x="30" y="63"/>
                    </a:lnTo>
                    <a:lnTo>
                      <a:pt x="15" y="48"/>
                    </a:lnTo>
                    <a:lnTo>
                      <a:pt x="15" y="4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8" name=""/>
              <p:cNvSpPr/>
              <p:nvPr/>
            </p:nvSpPr>
            <p:spPr>
              <a:xfrm>
                <a:off x="5524560" y="3822480"/>
                <a:ext cx="90360" cy="106560"/>
              </a:xfrm>
              <a:custGeom>
                <a:avLst/>
                <a:gdLst/>
                <a:ahLst/>
                <a:rect l="l" t="t" r="r" b="b"/>
                <a:pathLst>
                  <a:path w="114" h="133">
                    <a:moveTo>
                      <a:pt x="114" y="133"/>
                    </a:moveTo>
                    <a:lnTo>
                      <a:pt x="99" y="122"/>
                    </a:lnTo>
                    <a:lnTo>
                      <a:pt x="84" y="108"/>
                    </a:lnTo>
                    <a:lnTo>
                      <a:pt x="69" y="97"/>
                    </a:lnTo>
                    <a:lnTo>
                      <a:pt x="54" y="84"/>
                    </a:lnTo>
                    <a:lnTo>
                      <a:pt x="40" y="70"/>
                    </a:lnTo>
                    <a:lnTo>
                      <a:pt x="27" y="55"/>
                    </a:lnTo>
                    <a:lnTo>
                      <a:pt x="14" y="42"/>
                    </a:lnTo>
                    <a:lnTo>
                      <a:pt x="2" y="25"/>
                    </a:lnTo>
                    <a:lnTo>
                      <a:pt x="0" y="17"/>
                    </a:lnTo>
                    <a:lnTo>
                      <a:pt x="4" y="9"/>
                    </a:lnTo>
                    <a:lnTo>
                      <a:pt x="12" y="2"/>
                    </a:lnTo>
                    <a:lnTo>
                      <a:pt x="19" y="0"/>
                    </a:lnTo>
                    <a:lnTo>
                      <a:pt x="25" y="13"/>
                    </a:lnTo>
                    <a:lnTo>
                      <a:pt x="36" y="28"/>
                    </a:lnTo>
                    <a:lnTo>
                      <a:pt x="52" y="47"/>
                    </a:lnTo>
                    <a:lnTo>
                      <a:pt x="69" y="68"/>
                    </a:lnTo>
                    <a:lnTo>
                      <a:pt x="84" y="89"/>
                    </a:lnTo>
                    <a:lnTo>
                      <a:pt x="99" y="108"/>
                    </a:lnTo>
                    <a:lnTo>
                      <a:pt x="114" y="133"/>
                    </a:lnTo>
                    <a:lnTo>
                      <a:pt x="114"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5360" y="3889080"/>
                <a:ext cx="19080" cy="19080"/>
              </a:xfrm>
              <a:custGeom>
                <a:avLst/>
                <a:gdLst/>
                <a:ahLst/>
                <a:rect l="l" t="t" r="r" b="b"/>
                <a:pathLst>
                  <a:path w="25" h="22">
                    <a:moveTo>
                      <a:pt x="0" y="5"/>
                    </a:moveTo>
                    <a:lnTo>
                      <a:pt x="6" y="0"/>
                    </a:lnTo>
                    <a:lnTo>
                      <a:pt x="17" y="3"/>
                    </a:lnTo>
                    <a:lnTo>
                      <a:pt x="25" y="13"/>
                    </a:lnTo>
                    <a:lnTo>
                      <a:pt x="15" y="22"/>
                    </a:lnTo>
                    <a:lnTo>
                      <a:pt x="6" y="15"/>
                    </a:lnTo>
                    <a:lnTo>
                      <a:pt x="0" y="5"/>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 name=""/>
              <p:cNvSpPr/>
              <p:nvPr/>
            </p:nvSpPr>
            <p:spPr>
              <a:xfrm>
                <a:off x="6124680" y="3873240"/>
                <a:ext cx="33120" cy="27000"/>
              </a:xfrm>
              <a:custGeom>
                <a:avLst/>
                <a:gdLst/>
                <a:ahLst/>
                <a:rect l="l" t="t" r="r" b="b"/>
                <a:pathLst>
                  <a:path w="41" h="34">
                    <a:moveTo>
                      <a:pt x="13" y="34"/>
                    </a:moveTo>
                    <a:lnTo>
                      <a:pt x="0" y="21"/>
                    </a:lnTo>
                    <a:lnTo>
                      <a:pt x="11" y="9"/>
                    </a:lnTo>
                    <a:lnTo>
                      <a:pt x="22" y="0"/>
                    </a:lnTo>
                    <a:lnTo>
                      <a:pt x="41" y="11"/>
                    </a:lnTo>
                    <a:lnTo>
                      <a:pt x="13" y="34"/>
                    </a:lnTo>
                    <a:lnTo>
                      <a:pt x="1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5575320" y="3794040"/>
                <a:ext cx="96840" cy="101520"/>
              </a:xfrm>
              <a:custGeom>
                <a:avLst/>
                <a:gdLst/>
                <a:ahLst/>
                <a:rect l="l" t="t" r="r" b="b"/>
                <a:pathLst>
                  <a:path w="122" h="127">
                    <a:moveTo>
                      <a:pt x="0" y="0"/>
                    </a:moveTo>
                    <a:lnTo>
                      <a:pt x="13" y="4"/>
                    </a:lnTo>
                    <a:lnTo>
                      <a:pt x="27" y="13"/>
                    </a:lnTo>
                    <a:lnTo>
                      <a:pt x="38" y="28"/>
                    </a:lnTo>
                    <a:lnTo>
                      <a:pt x="51" y="47"/>
                    </a:lnTo>
                    <a:lnTo>
                      <a:pt x="65" y="66"/>
                    </a:lnTo>
                    <a:lnTo>
                      <a:pt x="82" y="87"/>
                    </a:lnTo>
                    <a:lnTo>
                      <a:pt x="89" y="97"/>
                    </a:lnTo>
                    <a:lnTo>
                      <a:pt x="99" y="104"/>
                    </a:lnTo>
                    <a:lnTo>
                      <a:pt x="110" y="114"/>
                    </a:lnTo>
                    <a:lnTo>
                      <a:pt x="122" y="120"/>
                    </a:lnTo>
                    <a:lnTo>
                      <a:pt x="122" y="127"/>
                    </a:lnTo>
                    <a:lnTo>
                      <a:pt x="95" y="114"/>
                    </a:lnTo>
                    <a:lnTo>
                      <a:pt x="82" y="106"/>
                    </a:lnTo>
                    <a:lnTo>
                      <a:pt x="70" y="97"/>
                    </a:lnTo>
                    <a:lnTo>
                      <a:pt x="59" y="89"/>
                    </a:lnTo>
                    <a:lnTo>
                      <a:pt x="49" y="80"/>
                    </a:lnTo>
                    <a:lnTo>
                      <a:pt x="34" y="59"/>
                    </a:lnTo>
                    <a:lnTo>
                      <a:pt x="21" y="42"/>
                    </a:lnTo>
                    <a:lnTo>
                      <a:pt x="9" y="2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37360" y="3857400"/>
                <a:ext cx="31680" cy="41400"/>
              </a:xfrm>
              <a:custGeom>
                <a:avLst/>
                <a:gdLst/>
                <a:ahLst/>
                <a:rect l="l" t="t" r="r" b="b"/>
                <a:pathLst>
                  <a:path w="42" h="51">
                    <a:moveTo>
                      <a:pt x="19" y="51"/>
                    </a:moveTo>
                    <a:lnTo>
                      <a:pt x="0" y="42"/>
                    </a:lnTo>
                    <a:lnTo>
                      <a:pt x="23" y="0"/>
                    </a:lnTo>
                    <a:lnTo>
                      <a:pt x="32" y="5"/>
                    </a:lnTo>
                    <a:lnTo>
                      <a:pt x="42" y="13"/>
                    </a:lnTo>
                    <a:lnTo>
                      <a:pt x="36" y="38"/>
                    </a:lnTo>
                    <a:lnTo>
                      <a:pt x="29" y="47"/>
                    </a:lnTo>
                    <a:lnTo>
                      <a:pt x="19" y="51"/>
                    </a:lnTo>
                    <a:lnTo>
                      <a:pt x="19" y="5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 name=""/>
              <p:cNvSpPr/>
              <p:nvPr/>
            </p:nvSpPr>
            <p:spPr>
              <a:xfrm>
                <a:off x="5548320" y="3814560"/>
                <a:ext cx="81000" cy="88920"/>
              </a:xfrm>
              <a:custGeom>
                <a:avLst/>
                <a:gdLst/>
                <a:ahLst/>
                <a:rect l="l" t="t" r="r" b="b"/>
                <a:pathLst>
                  <a:path w="100" h="112">
                    <a:moveTo>
                      <a:pt x="51" y="77"/>
                    </a:moveTo>
                    <a:lnTo>
                      <a:pt x="0" y="7"/>
                    </a:lnTo>
                    <a:lnTo>
                      <a:pt x="13" y="0"/>
                    </a:lnTo>
                    <a:lnTo>
                      <a:pt x="28" y="3"/>
                    </a:lnTo>
                    <a:lnTo>
                      <a:pt x="34" y="19"/>
                    </a:lnTo>
                    <a:lnTo>
                      <a:pt x="43" y="32"/>
                    </a:lnTo>
                    <a:lnTo>
                      <a:pt x="53" y="45"/>
                    </a:lnTo>
                    <a:lnTo>
                      <a:pt x="64" y="58"/>
                    </a:lnTo>
                    <a:lnTo>
                      <a:pt x="76" y="72"/>
                    </a:lnTo>
                    <a:lnTo>
                      <a:pt x="87" y="85"/>
                    </a:lnTo>
                    <a:lnTo>
                      <a:pt x="100" y="112"/>
                    </a:lnTo>
                    <a:lnTo>
                      <a:pt x="91" y="108"/>
                    </a:lnTo>
                    <a:lnTo>
                      <a:pt x="78" y="95"/>
                    </a:lnTo>
                    <a:lnTo>
                      <a:pt x="72" y="89"/>
                    </a:lnTo>
                    <a:lnTo>
                      <a:pt x="64" y="83"/>
                    </a:lnTo>
                    <a:lnTo>
                      <a:pt x="51" y="77"/>
                    </a:lnTo>
                    <a:lnTo>
                      <a:pt x="51" y="7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4" name=""/>
              <p:cNvSpPr/>
              <p:nvPr/>
            </p:nvSpPr>
            <p:spPr>
              <a:xfrm>
                <a:off x="6095880" y="3852720"/>
                <a:ext cx="27000" cy="30240"/>
              </a:xfrm>
              <a:custGeom>
                <a:avLst/>
                <a:gdLst/>
                <a:ahLst/>
                <a:rect l="l" t="t" r="r" b="b"/>
                <a:pathLst>
                  <a:path w="35" h="36">
                    <a:moveTo>
                      <a:pt x="16" y="36"/>
                    </a:moveTo>
                    <a:lnTo>
                      <a:pt x="0" y="21"/>
                    </a:lnTo>
                    <a:lnTo>
                      <a:pt x="6" y="11"/>
                    </a:lnTo>
                    <a:lnTo>
                      <a:pt x="16" y="0"/>
                    </a:lnTo>
                    <a:lnTo>
                      <a:pt x="35" y="17"/>
                    </a:lnTo>
                    <a:lnTo>
                      <a:pt x="16" y="36"/>
                    </a:lnTo>
                    <a:lnTo>
                      <a:pt x="16" y="3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5" name=""/>
              <p:cNvSpPr/>
              <p:nvPr/>
            </p:nvSpPr>
            <p:spPr>
              <a:xfrm>
                <a:off x="6197760" y="3832200"/>
                <a:ext cx="37800" cy="46080"/>
              </a:xfrm>
              <a:custGeom>
                <a:avLst/>
                <a:gdLst/>
                <a:ahLst/>
                <a:rect l="l" t="t" r="r" b="b"/>
                <a:pathLst>
                  <a:path w="47" h="57">
                    <a:moveTo>
                      <a:pt x="17" y="57"/>
                    </a:moveTo>
                    <a:lnTo>
                      <a:pt x="0" y="48"/>
                    </a:lnTo>
                    <a:lnTo>
                      <a:pt x="2" y="36"/>
                    </a:lnTo>
                    <a:lnTo>
                      <a:pt x="11" y="25"/>
                    </a:lnTo>
                    <a:lnTo>
                      <a:pt x="21" y="10"/>
                    </a:lnTo>
                    <a:lnTo>
                      <a:pt x="26" y="0"/>
                    </a:lnTo>
                    <a:lnTo>
                      <a:pt x="47" y="14"/>
                    </a:lnTo>
                    <a:lnTo>
                      <a:pt x="17" y="57"/>
                    </a:lnTo>
                    <a:lnTo>
                      <a:pt x="17"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6" name=""/>
              <p:cNvSpPr/>
              <p:nvPr/>
            </p:nvSpPr>
            <p:spPr>
              <a:xfrm>
                <a:off x="5842080" y="3725640"/>
                <a:ext cx="195120" cy="160560"/>
              </a:xfrm>
              <a:custGeom>
                <a:avLst/>
                <a:gdLst/>
                <a:ahLst/>
                <a:rect l="l" t="t" r="r" b="b"/>
                <a:pathLst>
                  <a:path w="247" h="204">
                    <a:moveTo>
                      <a:pt x="55" y="204"/>
                    </a:moveTo>
                    <a:lnTo>
                      <a:pt x="93" y="192"/>
                    </a:lnTo>
                    <a:lnTo>
                      <a:pt x="112" y="185"/>
                    </a:lnTo>
                    <a:lnTo>
                      <a:pt x="131" y="173"/>
                    </a:lnTo>
                    <a:lnTo>
                      <a:pt x="150" y="162"/>
                    </a:lnTo>
                    <a:lnTo>
                      <a:pt x="168" y="149"/>
                    </a:lnTo>
                    <a:lnTo>
                      <a:pt x="190" y="120"/>
                    </a:lnTo>
                    <a:lnTo>
                      <a:pt x="188" y="114"/>
                    </a:lnTo>
                    <a:lnTo>
                      <a:pt x="181" y="113"/>
                    </a:lnTo>
                    <a:lnTo>
                      <a:pt x="173" y="120"/>
                    </a:lnTo>
                    <a:lnTo>
                      <a:pt x="166" y="128"/>
                    </a:lnTo>
                    <a:lnTo>
                      <a:pt x="156" y="133"/>
                    </a:lnTo>
                    <a:lnTo>
                      <a:pt x="149" y="141"/>
                    </a:lnTo>
                    <a:lnTo>
                      <a:pt x="141" y="149"/>
                    </a:lnTo>
                    <a:lnTo>
                      <a:pt x="131" y="154"/>
                    </a:lnTo>
                    <a:lnTo>
                      <a:pt x="124" y="162"/>
                    </a:lnTo>
                    <a:lnTo>
                      <a:pt x="114" y="168"/>
                    </a:lnTo>
                    <a:lnTo>
                      <a:pt x="95" y="179"/>
                    </a:lnTo>
                    <a:lnTo>
                      <a:pt x="76" y="187"/>
                    </a:lnTo>
                    <a:lnTo>
                      <a:pt x="54" y="190"/>
                    </a:lnTo>
                    <a:lnTo>
                      <a:pt x="31" y="192"/>
                    </a:lnTo>
                    <a:lnTo>
                      <a:pt x="21" y="190"/>
                    </a:lnTo>
                    <a:lnTo>
                      <a:pt x="73" y="175"/>
                    </a:lnTo>
                    <a:lnTo>
                      <a:pt x="109" y="156"/>
                    </a:lnTo>
                    <a:lnTo>
                      <a:pt x="122" y="145"/>
                    </a:lnTo>
                    <a:lnTo>
                      <a:pt x="133" y="132"/>
                    </a:lnTo>
                    <a:lnTo>
                      <a:pt x="152" y="105"/>
                    </a:lnTo>
                    <a:lnTo>
                      <a:pt x="143" y="114"/>
                    </a:lnTo>
                    <a:lnTo>
                      <a:pt x="133" y="124"/>
                    </a:lnTo>
                    <a:lnTo>
                      <a:pt x="124" y="133"/>
                    </a:lnTo>
                    <a:lnTo>
                      <a:pt x="114" y="139"/>
                    </a:lnTo>
                    <a:lnTo>
                      <a:pt x="105" y="147"/>
                    </a:lnTo>
                    <a:lnTo>
                      <a:pt x="95" y="152"/>
                    </a:lnTo>
                    <a:lnTo>
                      <a:pt x="76" y="164"/>
                    </a:lnTo>
                    <a:lnTo>
                      <a:pt x="57" y="171"/>
                    </a:lnTo>
                    <a:lnTo>
                      <a:pt x="38" y="177"/>
                    </a:lnTo>
                    <a:lnTo>
                      <a:pt x="0" y="179"/>
                    </a:lnTo>
                    <a:lnTo>
                      <a:pt x="25" y="162"/>
                    </a:lnTo>
                    <a:lnTo>
                      <a:pt x="61" y="154"/>
                    </a:lnTo>
                    <a:lnTo>
                      <a:pt x="92" y="135"/>
                    </a:lnTo>
                    <a:lnTo>
                      <a:pt x="116" y="109"/>
                    </a:lnTo>
                    <a:lnTo>
                      <a:pt x="126" y="94"/>
                    </a:lnTo>
                    <a:lnTo>
                      <a:pt x="133" y="78"/>
                    </a:lnTo>
                    <a:lnTo>
                      <a:pt x="147" y="50"/>
                    </a:lnTo>
                    <a:lnTo>
                      <a:pt x="156" y="23"/>
                    </a:lnTo>
                    <a:lnTo>
                      <a:pt x="162" y="6"/>
                    </a:lnTo>
                    <a:lnTo>
                      <a:pt x="166" y="0"/>
                    </a:lnTo>
                    <a:lnTo>
                      <a:pt x="207" y="14"/>
                    </a:lnTo>
                    <a:lnTo>
                      <a:pt x="247" y="31"/>
                    </a:lnTo>
                    <a:lnTo>
                      <a:pt x="245" y="54"/>
                    </a:lnTo>
                    <a:lnTo>
                      <a:pt x="236" y="82"/>
                    </a:lnTo>
                    <a:lnTo>
                      <a:pt x="228" y="95"/>
                    </a:lnTo>
                    <a:lnTo>
                      <a:pt x="219" y="111"/>
                    </a:lnTo>
                    <a:lnTo>
                      <a:pt x="209" y="126"/>
                    </a:lnTo>
                    <a:lnTo>
                      <a:pt x="198" y="139"/>
                    </a:lnTo>
                    <a:lnTo>
                      <a:pt x="185" y="152"/>
                    </a:lnTo>
                    <a:lnTo>
                      <a:pt x="171" y="164"/>
                    </a:lnTo>
                    <a:lnTo>
                      <a:pt x="154" y="175"/>
                    </a:lnTo>
                    <a:lnTo>
                      <a:pt x="137" y="185"/>
                    </a:lnTo>
                    <a:lnTo>
                      <a:pt x="120" y="192"/>
                    </a:lnTo>
                    <a:lnTo>
                      <a:pt x="99" y="198"/>
                    </a:lnTo>
                    <a:lnTo>
                      <a:pt x="55" y="204"/>
                    </a:lnTo>
                    <a:lnTo>
                      <a:pt x="5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149880" y="3809880"/>
                <a:ext cx="44640" cy="54000"/>
              </a:xfrm>
              <a:custGeom>
                <a:avLst/>
                <a:gdLst/>
                <a:ahLst/>
                <a:rect l="l" t="t" r="r" b="b"/>
                <a:pathLst>
                  <a:path w="55" h="68">
                    <a:moveTo>
                      <a:pt x="15" y="68"/>
                    </a:moveTo>
                    <a:lnTo>
                      <a:pt x="0" y="55"/>
                    </a:lnTo>
                    <a:lnTo>
                      <a:pt x="13" y="36"/>
                    </a:lnTo>
                    <a:lnTo>
                      <a:pt x="21" y="19"/>
                    </a:lnTo>
                    <a:lnTo>
                      <a:pt x="32" y="0"/>
                    </a:lnTo>
                    <a:lnTo>
                      <a:pt x="45" y="4"/>
                    </a:lnTo>
                    <a:lnTo>
                      <a:pt x="55" y="11"/>
                    </a:lnTo>
                    <a:lnTo>
                      <a:pt x="45" y="26"/>
                    </a:lnTo>
                    <a:lnTo>
                      <a:pt x="38" y="42"/>
                    </a:lnTo>
                    <a:lnTo>
                      <a:pt x="28" y="57"/>
                    </a:lnTo>
                    <a:lnTo>
                      <a:pt x="23" y="63"/>
                    </a:lnTo>
                    <a:lnTo>
                      <a:pt x="15" y="68"/>
                    </a:lnTo>
                    <a:lnTo>
                      <a:pt x="15"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8" name=""/>
              <p:cNvSpPr/>
              <p:nvPr/>
            </p:nvSpPr>
            <p:spPr>
              <a:xfrm>
                <a:off x="6343560" y="3790800"/>
                <a:ext cx="120600" cy="87480"/>
              </a:xfrm>
              <a:custGeom>
                <a:avLst/>
                <a:gdLst/>
                <a:ahLst/>
                <a:rect l="l" t="t" r="r" b="b"/>
                <a:pathLst>
                  <a:path w="152" h="110">
                    <a:moveTo>
                      <a:pt x="124" y="110"/>
                    </a:moveTo>
                    <a:lnTo>
                      <a:pt x="110" y="95"/>
                    </a:lnTo>
                    <a:lnTo>
                      <a:pt x="95" y="80"/>
                    </a:lnTo>
                    <a:lnTo>
                      <a:pt x="87" y="72"/>
                    </a:lnTo>
                    <a:lnTo>
                      <a:pt x="80" y="65"/>
                    </a:lnTo>
                    <a:lnTo>
                      <a:pt x="74" y="59"/>
                    </a:lnTo>
                    <a:lnTo>
                      <a:pt x="67" y="51"/>
                    </a:lnTo>
                    <a:lnTo>
                      <a:pt x="59" y="46"/>
                    </a:lnTo>
                    <a:lnTo>
                      <a:pt x="51" y="38"/>
                    </a:lnTo>
                    <a:lnTo>
                      <a:pt x="36" y="25"/>
                    </a:lnTo>
                    <a:lnTo>
                      <a:pt x="19" y="13"/>
                    </a:lnTo>
                    <a:lnTo>
                      <a:pt x="0" y="0"/>
                    </a:lnTo>
                    <a:lnTo>
                      <a:pt x="30" y="10"/>
                    </a:lnTo>
                    <a:lnTo>
                      <a:pt x="53" y="21"/>
                    </a:lnTo>
                    <a:lnTo>
                      <a:pt x="78" y="34"/>
                    </a:lnTo>
                    <a:lnTo>
                      <a:pt x="91" y="42"/>
                    </a:lnTo>
                    <a:lnTo>
                      <a:pt x="103" y="50"/>
                    </a:lnTo>
                    <a:lnTo>
                      <a:pt x="125" y="63"/>
                    </a:lnTo>
                    <a:lnTo>
                      <a:pt x="143" y="76"/>
                    </a:lnTo>
                    <a:lnTo>
                      <a:pt x="152" y="88"/>
                    </a:lnTo>
                    <a:lnTo>
                      <a:pt x="124" y="110"/>
                    </a:lnTo>
                    <a:lnTo>
                      <a:pt x="124" y="1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9" name=""/>
              <p:cNvSpPr/>
              <p:nvPr/>
            </p:nvSpPr>
            <p:spPr>
              <a:xfrm>
                <a:off x="5656320" y="3782880"/>
                <a:ext cx="117360" cy="95400"/>
              </a:xfrm>
              <a:custGeom>
                <a:avLst/>
                <a:gdLst/>
                <a:ahLst/>
                <a:rect l="l" t="t" r="r" b="b"/>
                <a:pathLst>
                  <a:path w="148" h="119">
                    <a:moveTo>
                      <a:pt x="138" y="119"/>
                    </a:moveTo>
                    <a:lnTo>
                      <a:pt x="114" y="110"/>
                    </a:lnTo>
                    <a:lnTo>
                      <a:pt x="93" y="100"/>
                    </a:lnTo>
                    <a:lnTo>
                      <a:pt x="74" y="87"/>
                    </a:lnTo>
                    <a:lnTo>
                      <a:pt x="57" y="72"/>
                    </a:lnTo>
                    <a:lnTo>
                      <a:pt x="49" y="64"/>
                    </a:lnTo>
                    <a:lnTo>
                      <a:pt x="40" y="57"/>
                    </a:lnTo>
                    <a:lnTo>
                      <a:pt x="26" y="40"/>
                    </a:lnTo>
                    <a:lnTo>
                      <a:pt x="13" y="21"/>
                    </a:lnTo>
                    <a:lnTo>
                      <a:pt x="0" y="0"/>
                    </a:lnTo>
                    <a:lnTo>
                      <a:pt x="7" y="0"/>
                    </a:lnTo>
                    <a:lnTo>
                      <a:pt x="15" y="3"/>
                    </a:lnTo>
                    <a:lnTo>
                      <a:pt x="26" y="21"/>
                    </a:lnTo>
                    <a:lnTo>
                      <a:pt x="40" y="36"/>
                    </a:lnTo>
                    <a:lnTo>
                      <a:pt x="47" y="43"/>
                    </a:lnTo>
                    <a:lnTo>
                      <a:pt x="55" y="51"/>
                    </a:lnTo>
                    <a:lnTo>
                      <a:pt x="62" y="57"/>
                    </a:lnTo>
                    <a:lnTo>
                      <a:pt x="72" y="62"/>
                    </a:lnTo>
                    <a:lnTo>
                      <a:pt x="89" y="76"/>
                    </a:lnTo>
                    <a:lnTo>
                      <a:pt x="108" y="87"/>
                    </a:lnTo>
                    <a:lnTo>
                      <a:pt x="129" y="97"/>
                    </a:lnTo>
                    <a:lnTo>
                      <a:pt x="148" y="106"/>
                    </a:lnTo>
                    <a:lnTo>
                      <a:pt x="144" y="114"/>
                    </a:lnTo>
                    <a:lnTo>
                      <a:pt x="138" y="119"/>
                    </a:lnTo>
                    <a:lnTo>
                      <a:pt x="138"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119640" y="3787560"/>
                <a:ext cx="46080" cy="54000"/>
              </a:xfrm>
              <a:custGeom>
                <a:avLst/>
                <a:gdLst/>
                <a:ahLst/>
                <a:rect l="l" t="t" r="r" b="b"/>
                <a:pathLst>
                  <a:path w="57" h="69">
                    <a:moveTo>
                      <a:pt x="23" y="69"/>
                    </a:moveTo>
                    <a:lnTo>
                      <a:pt x="0" y="55"/>
                    </a:lnTo>
                    <a:lnTo>
                      <a:pt x="25" y="0"/>
                    </a:lnTo>
                    <a:lnTo>
                      <a:pt x="57" y="17"/>
                    </a:lnTo>
                    <a:lnTo>
                      <a:pt x="40" y="46"/>
                    </a:lnTo>
                    <a:lnTo>
                      <a:pt x="32" y="61"/>
                    </a:lnTo>
                    <a:lnTo>
                      <a:pt x="28" y="67"/>
                    </a:lnTo>
                    <a:lnTo>
                      <a:pt x="23" y="69"/>
                    </a:lnTo>
                    <a:lnTo>
                      <a:pt x="23" y="6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1" name=""/>
              <p:cNvSpPr/>
              <p:nvPr/>
            </p:nvSpPr>
            <p:spPr>
              <a:xfrm>
                <a:off x="5657760" y="3722400"/>
                <a:ext cx="136440" cy="120960"/>
              </a:xfrm>
              <a:custGeom>
                <a:avLst/>
                <a:gdLst/>
                <a:ahLst/>
                <a:rect l="l" t="t" r="r" b="b"/>
                <a:pathLst>
                  <a:path w="172" h="152">
                    <a:moveTo>
                      <a:pt x="119" y="152"/>
                    </a:moveTo>
                    <a:lnTo>
                      <a:pt x="89" y="140"/>
                    </a:lnTo>
                    <a:lnTo>
                      <a:pt x="60" y="123"/>
                    </a:lnTo>
                    <a:lnTo>
                      <a:pt x="38" y="100"/>
                    </a:lnTo>
                    <a:lnTo>
                      <a:pt x="20" y="70"/>
                    </a:lnTo>
                    <a:lnTo>
                      <a:pt x="7" y="57"/>
                    </a:lnTo>
                    <a:lnTo>
                      <a:pt x="0" y="39"/>
                    </a:lnTo>
                    <a:lnTo>
                      <a:pt x="83" y="0"/>
                    </a:lnTo>
                    <a:lnTo>
                      <a:pt x="95" y="19"/>
                    </a:lnTo>
                    <a:lnTo>
                      <a:pt x="104" y="36"/>
                    </a:lnTo>
                    <a:lnTo>
                      <a:pt x="114" y="53"/>
                    </a:lnTo>
                    <a:lnTo>
                      <a:pt x="123" y="68"/>
                    </a:lnTo>
                    <a:lnTo>
                      <a:pt x="134" y="83"/>
                    </a:lnTo>
                    <a:lnTo>
                      <a:pt x="146" y="98"/>
                    </a:lnTo>
                    <a:lnTo>
                      <a:pt x="159" y="112"/>
                    </a:lnTo>
                    <a:lnTo>
                      <a:pt x="172" y="127"/>
                    </a:lnTo>
                    <a:lnTo>
                      <a:pt x="148" y="117"/>
                    </a:lnTo>
                    <a:lnTo>
                      <a:pt x="134" y="110"/>
                    </a:lnTo>
                    <a:lnTo>
                      <a:pt x="117" y="98"/>
                    </a:lnTo>
                    <a:lnTo>
                      <a:pt x="102" y="87"/>
                    </a:lnTo>
                    <a:lnTo>
                      <a:pt x="89" y="76"/>
                    </a:lnTo>
                    <a:lnTo>
                      <a:pt x="77" y="66"/>
                    </a:lnTo>
                    <a:lnTo>
                      <a:pt x="72" y="58"/>
                    </a:lnTo>
                    <a:lnTo>
                      <a:pt x="68" y="53"/>
                    </a:lnTo>
                    <a:lnTo>
                      <a:pt x="62" y="53"/>
                    </a:lnTo>
                    <a:lnTo>
                      <a:pt x="55" y="57"/>
                    </a:lnTo>
                    <a:lnTo>
                      <a:pt x="66" y="68"/>
                    </a:lnTo>
                    <a:lnTo>
                      <a:pt x="79" y="79"/>
                    </a:lnTo>
                    <a:lnTo>
                      <a:pt x="93" y="91"/>
                    </a:lnTo>
                    <a:lnTo>
                      <a:pt x="104" y="102"/>
                    </a:lnTo>
                    <a:lnTo>
                      <a:pt x="117" y="112"/>
                    </a:lnTo>
                    <a:lnTo>
                      <a:pt x="129" y="123"/>
                    </a:lnTo>
                    <a:lnTo>
                      <a:pt x="144" y="133"/>
                    </a:lnTo>
                    <a:lnTo>
                      <a:pt x="157" y="144"/>
                    </a:lnTo>
                    <a:lnTo>
                      <a:pt x="152" y="148"/>
                    </a:lnTo>
                    <a:lnTo>
                      <a:pt x="140" y="146"/>
                    </a:lnTo>
                    <a:lnTo>
                      <a:pt x="125" y="138"/>
                    </a:lnTo>
                    <a:lnTo>
                      <a:pt x="108" y="127"/>
                    </a:lnTo>
                    <a:lnTo>
                      <a:pt x="89" y="114"/>
                    </a:lnTo>
                    <a:lnTo>
                      <a:pt x="72" y="102"/>
                    </a:lnTo>
                    <a:lnTo>
                      <a:pt x="60" y="93"/>
                    </a:lnTo>
                    <a:lnTo>
                      <a:pt x="53" y="87"/>
                    </a:lnTo>
                    <a:lnTo>
                      <a:pt x="49" y="91"/>
                    </a:lnTo>
                    <a:lnTo>
                      <a:pt x="57" y="98"/>
                    </a:lnTo>
                    <a:lnTo>
                      <a:pt x="66" y="108"/>
                    </a:lnTo>
                    <a:lnTo>
                      <a:pt x="74" y="117"/>
                    </a:lnTo>
                    <a:lnTo>
                      <a:pt x="83" y="125"/>
                    </a:lnTo>
                    <a:lnTo>
                      <a:pt x="93" y="133"/>
                    </a:lnTo>
                    <a:lnTo>
                      <a:pt x="104" y="140"/>
                    </a:lnTo>
                    <a:lnTo>
                      <a:pt x="115" y="146"/>
                    </a:lnTo>
                    <a:lnTo>
                      <a:pt x="127" y="150"/>
                    </a:lnTo>
                    <a:lnTo>
                      <a:pt x="119" y="152"/>
                    </a:lnTo>
                    <a:lnTo>
                      <a:pt x="119"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746680" y="3711600"/>
                <a:ext cx="217440" cy="117360"/>
              </a:xfrm>
              <a:custGeom>
                <a:avLst/>
                <a:gdLst/>
                <a:ahLst/>
                <a:rect l="l" t="t" r="r" b="b"/>
                <a:pathLst>
                  <a:path w="273" h="149">
                    <a:moveTo>
                      <a:pt x="0" y="25"/>
                    </a:moveTo>
                    <a:lnTo>
                      <a:pt x="81" y="27"/>
                    </a:lnTo>
                    <a:lnTo>
                      <a:pt x="81" y="31"/>
                    </a:lnTo>
                    <a:lnTo>
                      <a:pt x="76" y="36"/>
                    </a:lnTo>
                    <a:lnTo>
                      <a:pt x="72" y="46"/>
                    </a:lnTo>
                    <a:lnTo>
                      <a:pt x="87" y="42"/>
                    </a:lnTo>
                    <a:lnTo>
                      <a:pt x="97" y="48"/>
                    </a:lnTo>
                    <a:lnTo>
                      <a:pt x="100" y="53"/>
                    </a:lnTo>
                    <a:lnTo>
                      <a:pt x="106" y="57"/>
                    </a:lnTo>
                    <a:lnTo>
                      <a:pt x="135" y="29"/>
                    </a:lnTo>
                    <a:lnTo>
                      <a:pt x="184" y="31"/>
                    </a:lnTo>
                    <a:lnTo>
                      <a:pt x="235" y="31"/>
                    </a:lnTo>
                    <a:lnTo>
                      <a:pt x="231" y="46"/>
                    </a:lnTo>
                    <a:lnTo>
                      <a:pt x="226" y="61"/>
                    </a:lnTo>
                    <a:lnTo>
                      <a:pt x="216" y="76"/>
                    </a:lnTo>
                    <a:lnTo>
                      <a:pt x="207" y="90"/>
                    </a:lnTo>
                    <a:lnTo>
                      <a:pt x="195" y="101"/>
                    </a:lnTo>
                    <a:lnTo>
                      <a:pt x="182" y="111"/>
                    </a:lnTo>
                    <a:lnTo>
                      <a:pt x="169" y="118"/>
                    </a:lnTo>
                    <a:lnTo>
                      <a:pt x="154" y="122"/>
                    </a:lnTo>
                    <a:lnTo>
                      <a:pt x="148" y="133"/>
                    </a:lnTo>
                    <a:lnTo>
                      <a:pt x="190" y="116"/>
                    </a:lnTo>
                    <a:lnTo>
                      <a:pt x="207" y="101"/>
                    </a:lnTo>
                    <a:lnTo>
                      <a:pt x="222" y="84"/>
                    </a:lnTo>
                    <a:lnTo>
                      <a:pt x="235" y="63"/>
                    </a:lnTo>
                    <a:lnTo>
                      <a:pt x="245" y="42"/>
                    </a:lnTo>
                    <a:lnTo>
                      <a:pt x="254" y="0"/>
                    </a:lnTo>
                    <a:lnTo>
                      <a:pt x="273" y="2"/>
                    </a:lnTo>
                    <a:lnTo>
                      <a:pt x="269" y="34"/>
                    </a:lnTo>
                    <a:lnTo>
                      <a:pt x="262" y="61"/>
                    </a:lnTo>
                    <a:lnTo>
                      <a:pt x="249" y="86"/>
                    </a:lnTo>
                    <a:lnTo>
                      <a:pt x="241" y="97"/>
                    </a:lnTo>
                    <a:lnTo>
                      <a:pt x="233" y="107"/>
                    </a:lnTo>
                    <a:lnTo>
                      <a:pt x="224" y="114"/>
                    </a:lnTo>
                    <a:lnTo>
                      <a:pt x="214" y="122"/>
                    </a:lnTo>
                    <a:lnTo>
                      <a:pt x="205" y="130"/>
                    </a:lnTo>
                    <a:lnTo>
                      <a:pt x="193" y="135"/>
                    </a:lnTo>
                    <a:lnTo>
                      <a:pt x="173" y="143"/>
                    </a:lnTo>
                    <a:lnTo>
                      <a:pt x="148" y="149"/>
                    </a:lnTo>
                    <a:lnTo>
                      <a:pt x="102" y="143"/>
                    </a:lnTo>
                    <a:lnTo>
                      <a:pt x="59" y="122"/>
                    </a:lnTo>
                    <a:lnTo>
                      <a:pt x="49" y="114"/>
                    </a:lnTo>
                    <a:lnTo>
                      <a:pt x="40" y="105"/>
                    </a:lnTo>
                    <a:lnTo>
                      <a:pt x="22" y="82"/>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319720" y="3476520"/>
                <a:ext cx="1130400" cy="293760"/>
              </a:xfrm>
              <a:custGeom>
                <a:avLst/>
                <a:gdLst/>
                <a:ahLst/>
                <a:rect l="l" t="t" r="r" b="b"/>
                <a:pathLst>
                  <a:path w="1423" h="370">
                    <a:moveTo>
                      <a:pt x="6" y="336"/>
                    </a:moveTo>
                    <a:lnTo>
                      <a:pt x="0" y="311"/>
                    </a:lnTo>
                    <a:lnTo>
                      <a:pt x="6" y="287"/>
                    </a:lnTo>
                    <a:lnTo>
                      <a:pt x="11" y="273"/>
                    </a:lnTo>
                    <a:lnTo>
                      <a:pt x="19" y="262"/>
                    </a:lnTo>
                    <a:lnTo>
                      <a:pt x="30" y="249"/>
                    </a:lnTo>
                    <a:lnTo>
                      <a:pt x="42" y="237"/>
                    </a:lnTo>
                    <a:lnTo>
                      <a:pt x="55" y="224"/>
                    </a:lnTo>
                    <a:lnTo>
                      <a:pt x="70" y="213"/>
                    </a:lnTo>
                    <a:lnTo>
                      <a:pt x="85" y="201"/>
                    </a:lnTo>
                    <a:lnTo>
                      <a:pt x="104" y="188"/>
                    </a:lnTo>
                    <a:lnTo>
                      <a:pt x="123" y="176"/>
                    </a:lnTo>
                    <a:lnTo>
                      <a:pt x="142" y="167"/>
                    </a:lnTo>
                    <a:lnTo>
                      <a:pt x="161" y="155"/>
                    </a:lnTo>
                    <a:lnTo>
                      <a:pt x="182" y="144"/>
                    </a:lnTo>
                    <a:lnTo>
                      <a:pt x="203" y="135"/>
                    </a:lnTo>
                    <a:lnTo>
                      <a:pt x="226" y="123"/>
                    </a:lnTo>
                    <a:lnTo>
                      <a:pt x="247" y="114"/>
                    </a:lnTo>
                    <a:lnTo>
                      <a:pt x="270" y="104"/>
                    </a:lnTo>
                    <a:lnTo>
                      <a:pt x="291" y="97"/>
                    </a:lnTo>
                    <a:lnTo>
                      <a:pt x="312" y="87"/>
                    </a:lnTo>
                    <a:lnTo>
                      <a:pt x="332" y="79"/>
                    </a:lnTo>
                    <a:lnTo>
                      <a:pt x="351" y="72"/>
                    </a:lnTo>
                    <a:lnTo>
                      <a:pt x="370" y="66"/>
                    </a:lnTo>
                    <a:lnTo>
                      <a:pt x="389" y="59"/>
                    </a:lnTo>
                    <a:lnTo>
                      <a:pt x="422" y="49"/>
                    </a:lnTo>
                    <a:lnTo>
                      <a:pt x="448" y="39"/>
                    </a:lnTo>
                    <a:lnTo>
                      <a:pt x="467" y="34"/>
                    </a:lnTo>
                    <a:lnTo>
                      <a:pt x="462" y="39"/>
                    </a:lnTo>
                    <a:lnTo>
                      <a:pt x="452" y="49"/>
                    </a:lnTo>
                    <a:lnTo>
                      <a:pt x="437" y="68"/>
                    </a:lnTo>
                    <a:lnTo>
                      <a:pt x="426" y="89"/>
                    </a:lnTo>
                    <a:lnTo>
                      <a:pt x="426" y="97"/>
                    </a:lnTo>
                    <a:lnTo>
                      <a:pt x="429" y="104"/>
                    </a:lnTo>
                    <a:lnTo>
                      <a:pt x="445" y="87"/>
                    </a:lnTo>
                    <a:lnTo>
                      <a:pt x="454" y="79"/>
                    </a:lnTo>
                    <a:lnTo>
                      <a:pt x="464" y="72"/>
                    </a:lnTo>
                    <a:lnTo>
                      <a:pt x="475" y="62"/>
                    </a:lnTo>
                    <a:lnTo>
                      <a:pt x="486" y="55"/>
                    </a:lnTo>
                    <a:lnTo>
                      <a:pt x="500" y="47"/>
                    </a:lnTo>
                    <a:lnTo>
                      <a:pt x="511" y="39"/>
                    </a:lnTo>
                    <a:lnTo>
                      <a:pt x="524" y="34"/>
                    </a:lnTo>
                    <a:lnTo>
                      <a:pt x="538" y="28"/>
                    </a:lnTo>
                    <a:lnTo>
                      <a:pt x="562" y="19"/>
                    </a:lnTo>
                    <a:lnTo>
                      <a:pt x="585" y="11"/>
                    </a:lnTo>
                    <a:lnTo>
                      <a:pt x="606" y="9"/>
                    </a:lnTo>
                    <a:lnTo>
                      <a:pt x="598" y="19"/>
                    </a:lnTo>
                    <a:lnTo>
                      <a:pt x="591" y="26"/>
                    </a:lnTo>
                    <a:lnTo>
                      <a:pt x="581" y="32"/>
                    </a:lnTo>
                    <a:lnTo>
                      <a:pt x="560" y="60"/>
                    </a:lnTo>
                    <a:lnTo>
                      <a:pt x="568" y="53"/>
                    </a:lnTo>
                    <a:lnTo>
                      <a:pt x="578" y="47"/>
                    </a:lnTo>
                    <a:lnTo>
                      <a:pt x="598" y="36"/>
                    </a:lnTo>
                    <a:lnTo>
                      <a:pt x="621" y="24"/>
                    </a:lnTo>
                    <a:lnTo>
                      <a:pt x="644" y="17"/>
                    </a:lnTo>
                    <a:lnTo>
                      <a:pt x="665" y="11"/>
                    </a:lnTo>
                    <a:lnTo>
                      <a:pt x="686" y="5"/>
                    </a:lnTo>
                    <a:lnTo>
                      <a:pt x="714" y="1"/>
                    </a:lnTo>
                    <a:lnTo>
                      <a:pt x="678" y="38"/>
                    </a:lnTo>
                    <a:lnTo>
                      <a:pt x="688" y="43"/>
                    </a:lnTo>
                    <a:lnTo>
                      <a:pt x="703" y="41"/>
                    </a:lnTo>
                    <a:lnTo>
                      <a:pt x="722" y="34"/>
                    </a:lnTo>
                    <a:lnTo>
                      <a:pt x="741" y="24"/>
                    </a:lnTo>
                    <a:lnTo>
                      <a:pt x="762" y="13"/>
                    </a:lnTo>
                    <a:lnTo>
                      <a:pt x="783" y="3"/>
                    </a:lnTo>
                    <a:lnTo>
                      <a:pt x="802" y="0"/>
                    </a:lnTo>
                    <a:lnTo>
                      <a:pt x="821" y="1"/>
                    </a:lnTo>
                    <a:lnTo>
                      <a:pt x="813" y="11"/>
                    </a:lnTo>
                    <a:lnTo>
                      <a:pt x="807" y="19"/>
                    </a:lnTo>
                    <a:lnTo>
                      <a:pt x="800" y="26"/>
                    </a:lnTo>
                    <a:lnTo>
                      <a:pt x="790" y="34"/>
                    </a:lnTo>
                    <a:lnTo>
                      <a:pt x="785" y="39"/>
                    </a:lnTo>
                    <a:lnTo>
                      <a:pt x="775" y="51"/>
                    </a:lnTo>
                    <a:lnTo>
                      <a:pt x="792" y="53"/>
                    </a:lnTo>
                    <a:lnTo>
                      <a:pt x="811" y="47"/>
                    </a:lnTo>
                    <a:lnTo>
                      <a:pt x="832" y="38"/>
                    </a:lnTo>
                    <a:lnTo>
                      <a:pt x="855" y="26"/>
                    </a:lnTo>
                    <a:lnTo>
                      <a:pt x="880" y="17"/>
                    </a:lnTo>
                    <a:lnTo>
                      <a:pt x="904" y="9"/>
                    </a:lnTo>
                    <a:lnTo>
                      <a:pt x="931" y="7"/>
                    </a:lnTo>
                    <a:lnTo>
                      <a:pt x="959" y="15"/>
                    </a:lnTo>
                    <a:lnTo>
                      <a:pt x="944" y="24"/>
                    </a:lnTo>
                    <a:lnTo>
                      <a:pt x="925" y="38"/>
                    </a:lnTo>
                    <a:lnTo>
                      <a:pt x="910" y="53"/>
                    </a:lnTo>
                    <a:lnTo>
                      <a:pt x="906" y="68"/>
                    </a:lnTo>
                    <a:lnTo>
                      <a:pt x="942" y="60"/>
                    </a:lnTo>
                    <a:lnTo>
                      <a:pt x="959" y="53"/>
                    </a:lnTo>
                    <a:lnTo>
                      <a:pt x="977" y="45"/>
                    </a:lnTo>
                    <a:lnTo>
                      <a:pt x="996" y="39"/>
                    </a:lnTo>
                    <a:lnTo>
                      <a:pt x="1015" y="36"/>
                    </a:lnTo>
                    <a:lnTo>
                      <a:pt x="1054" y="47"/>
                    </a:lnTo>
                    <a:lnTo>
                      <a:pt x="1005" y="87"/>
                    </a:lnTo>
                    <a:lnTo>
                      <a:pt x="1041" y="83"/>
                    </a:lnTo>
                    <a:lnTo>
                      <a:pt x="1079" y="76"/>
                    </a:lnTo>
                    <a:lnTo>
                      <a:pt x="1117" y="72"/>
                    </a:lnTo>
                    <a:lnTo>
                      <a:pt x="1157" y="79"/>
                    </a:lnTo>
                    <a:lnTo>
                      <a:pt x="1098" y="116"/>
                    </a:lnTo>
                    <a:lnTo>
                      <a:pt x="1121" y="119"/>
                    </a:lnTo>
                    <a:lnTo>
                      <a:pt x="1168" y="117"/>
                    </a:lnTo>
                    <a:lnTo>
                      <a:pt x="1222" y="116"/>
                    </a:lnTo>
                    <a:lnTo>
                      <a:pt x="1263" y="125"/>
                    </a:lnTo>
                    <a:lnTo>
                      <a:pt x="1252" y="135"/>
                    </a:lnTo>
                    <a:lnTo>
                      <a:pt x="1231" y="144"/>
                    </a:lnTo>
                    <a:lnTo>
                      <a:pt x="1216" y="155"/>
                    </a:lnTo>
                    <a:lnTo>
                      <a:pt x="1214" y="161"/>
                    </a:lnTo>
                    <a:lnTo>
                      <a:pt x="1220" y="167"/>
                    </a:lnTo>
                    <a:lnTo>
                      <a:pt x="1243" y="161"/>
                    </a:lnTo>
                    <a:lnTo>
                      <a:pt x="1263" y="157"/>
                    </a:lnTo>
                    <a:lnTo>
                      <a:pt x="1301" y="154"/>
                    </a:lnTo>
                    <a:lnTo>
                      <a:pt x="1334" y="161"/>
                    </a:lnTo>
                    <a:lnTo>
                      <a:pt x="1358" y="176"/>
                    </a:lnTo>
                    <a:lnTo>
                      <a:pt x="1328" y="188"/>
                    </a:lnTo>
                    <a:lnTo>
                      <a:pt x="1311" y="213"/>
                    </a:lnTo>
                    <a:lnTo>
                      <a:pt x="1372" y="213"/>
                    </a:lnTo>
                    <a:lnTo>
                      <a:pt x="1408" y="220"/>
                    </a:lnTo>
                    <a:lnTo>
                      <a:pt x="1423" y="235"/>
                    </a:lnTo>
                    <a:lnTo>
                      <a:pt x="1391" y="270"/>
                    </a:lnTo>
                    <a:lnTo>
                      <a:pt x="1421" y="291"/>
                    </a:lnTo>
                    <a:lnTo>
                      <a:pt x="1383" y="287"/>
                    </a:lnTo>
                    <a:lnTo>
                      <a:pt x="1349" y="273"/>
                    </a:lnTo>
                    <a:lnTo>
                      <a:pt x="1332" y="264"/>
                    </a:lnTo>
                    <a:lnTo>
                      <a:pt x="1315" y="254"/>
                    </a:lnTo>
                    <a:lnTo>
                      <a:pt x="1300" y="245"/>
                    </a:lnTo>
                    <a:lnTo>
                      <a:pt x="1282" y="233"/>
                    </a:lnTo>
                    <a:lnTo>
                      <a:pt x="1263" y="226"/>
                    </a:lnTo>
                    <a:lnTo>
                      <a:pt x="1243" y="218"/>
                    </a:lnTo>
                    <a:lnTo>
                      <a:pt x="1224" y="209"/>
                    </a:lnTo>
                    <a:lnTo>
                      <a:pt x="1205" y="201"/>
                    </a:lnTo>
                    <a:lnTo>
                      <a:pt x="1184" y="194"/>
                    </a:lnTo>
                    <a:lnTo>
                      <a:pt x="1165" y="188"/>
                    </a:lnTo>
                    <a:lnTo>
                      <a:pt x="1146" y="180"/>
                    </a:lnTo>
                    <a:lnTo>
                      <a:pt x="1127" y="173"/>
                    </a:lnTo>
                    <a:lnTo>
                      <a:pt x="1089" y="161"/>
                    </a:lnTo>
                    <a:lnTo>
                      <a:pt x="1051" y="150"/>
                    </a:lnTo>
                    <a:lnTo>
                      <a:pt x="1013" y="138"/>
                    </a:lnTo>
                    <a:lnTo>
                      <a:pt x="977" y="129"/>
                    </a:lnTo>
                    <a:lnTo>
                      <a:pt x="940" y="121"/>
                    </a:lnTo>
                    <a:lnTo>
                      <a:pt x="902" y="114"/>
                    </a:lnTo>
                    <a:lnTo>
                      <a:pt x="830" y="102"/>
                    </a:lnTo>
                    <a:lnTo>
                      <a:pt x="760" y="97"/>
                    </a:lnTo>
                    <a:lnTo>
                      <a:pt x="688" y="97"/>
                    </a:lnTo>
                    <a:lnTo>
                      <a:pt x="545" y="110"/>
                    </a:lnTo>
                    <a:lnTo>
                      <a:pt x="473" y="125"/>
                    </a:lnTo>
                    <a:lnTo>
                      <a:pt x="437" y="136"/>
                    </a:lnTo>
                    <a:lnTo>
                      <a:pt x="401" y="148"/>
                    </a:lnTo>
                    <a:lnTo>
                      <a:pt x="365" y="161"/>
                    </a:lnTo>
                    <a:lnTo>
                      <a:pt x="346" y="169"/>
                    </a:lnTo>
                    <a:lnTo>
                      <a:pt x="327" y="176"/>
                    </a:lnTo>
                    <a:lnTo>
                      <a:pt x="310" y="184"/>
                    </a:lnTo>
                    <a:lnTo>
                      <a:pt x="291" y="192"/>
                    </a:lnTo>
                    <a:lnTo>
                      <a:pt x="272" y="201"/>
                    </a:lnTo>
                    <a:lnTo>
                      <a:pt x="253" y="209"/>
                    </a:lnTo>
                    <a:lnTo>
                      <a:pt x="234" y="220"/>
                    </a:lnTo>
                    <a:lnTo>
                      <a:pt x="215" y="230"/>
                    </a:lnTo>
                    <a:lnTo>
                      <a:pt x="196" y="239"/>
                    </a:lnTo>
                    <a:lnTo>
                      <a:pt x="177" y="251"/>
                    </a:lnTo>
                    <a:lnTo>
                      <a:pt x="158" y="262"/>
                    </a:lnTo>
                    <a:lnTo>
                      <a:pt x="139" y="273"/>
                    </a:lnTo>
                    <a:lnTo>
                      <a:pt x="120" y="285"/>
                    </a:lnTo>
                    <a:lnTo>
                      <a:pt x="99" y="298"/>
                    </a:lnTo>
                    <a:lnTo>
                      <a:pt x="103" y="306"/>
                    </a:lnTo>
                    <a:lnTo>
                      <a:pt x="110" y="310"/>
                    </a:lnTo>
                    <a:lnTo>
                      <a:pt x="127" y="310"/>
                    </a:lnTo>
                    <a:lnTo>
                      <a:pt x="141" y="304"/>
                    </a:lnTo>
                    <a:lnTo>
                      <a:pt x="152" y="296"/>
                    </a:lnTo>
                    <a:lnTo>
                      <a:pt x="169" y="289"/>
                    </a:lnTo>
                    <a:lnTo>
                      <a:pt x="188" y="277"/>
                    </a:lnTo>
                    <a:lnTo>
                      <a:pt x="209" y="266"/>
                    </a:lnTo>
                    <a:lnTo>
                      <a:pt x="232" y="254"/>
                    </a:lnTo>
                    <a:lnTo>
                      <a:pt x="255" y="243"/>
                    </a:lnTo>
                    <a:lnTo>
                      <a:pt x="279" y="230"/>
                    </a:lnTo>
                    <a:lnTo>
                      <a:pt x="302" y="220"/>
                    </a:lnTo>
                    <a:lnTo>
                      <a:pt x="325" y="209"/>
                    </a:lnTo>
                    <a:lnTo>
                      <a:pt x="346" y="199"/>
                    </a:lnTo>
                    <a:lnTo>
                      <a:pt x="363" y="194"/>
                    </a:lnTo>
                    <a:lnTo>
                      <a:pt x="378" y="188"/>
                    </a:lnTo>
                    <a:lnTo>
                      <a:pt x="393" y="186"/>
                    </a:lnTo>
                    <a:lnTo>
                      <a:pt x="384" y="194"/>
                    </a:lnTo>
                    <a:lnTo>
                      <a:pt x="372" y="199"/>
                    </a:lnTo>
                    <a:lnTo>
                      <a:pt x="361" y="207"/>
                    </a:lnTo>
                    <a:lnTo>
                      <a:pt x="348" y="214"/>
                    </a:lnTo>
                    <a:lnTo>
                      <a:pt x="334" y="220"/>
                    </a:lnTo>
                    <a:lnTo>
                      <a:pt x="321" y="228"/>
                    </a:lnTo>
                    <a:lnTo>
                      <a:pt x="310" y="235"/>
                    </a:lnTo>
                    <a:lnTo>
                      <a:pt x="296" y="243"/>
                    </a:lnTo>
                    <a:lnTo>
                      <a:pt x="283" y="252"/>
                    </a:lnTo>
                    <a:lnTo>
                      <a:pt x="272" y="260"/>
                    </a:lnTo>
                    <a:lnTo>
                      <a:pt x="258" y="268"/>
                    </a:lnTo>
                    <a:lnTo>
                      <a:pt x="247" y="277"/>
                    </a:lnTo>
                    <a:lnTo>
                      <a:pt x="237" y="285"/>
                    </a:lnTo>
                    <a:lnTo>
                      <a:pt x="228" y="294"/>
                    </a:lnTo>
                    <a:lnTo>
                      <a:pt x="211" y="311"/>
                    </a:lnTo>
                    <a:lnTo>
                      <a:pt x="203" y="319"/>
                    </a:lnTo>
                    <a:lnTo>
                      <a:pt x="192" y="325"/>
                    </a:lnTo>
                    <a:lnTo>
                      <a:pt x="180" y="332"/>
                    </a:lnTo>
                    <a:lnTo>
                      <a:pt x="167" y="340"/>
                    </a:lnTo>
                    <a:lnTo>
                      <a:pt x="154" y="348"/>
                    </a:lnTo>
                    <a:lnTo>
                      <a:pt x="139" y="355"/>
                    </a:lnTo>
                    <a:lnTo>
                      <a:pt x="108" y="365"/>
                    </a:lnTo>
                    <a:lnTo>
                      <a:pt x="76" y="370"/>
                    </a:lnTo>
                    <a:lnTo>
                      <a:pt x="47" y="368"/>
                    </a:lnTo>
                    <a:lnTo>
                      <a:pt x="23" y="359"/>
                    </a:lnTo>
                    <a:lnTo>
                      <a:pt x="6" y="336"/>
                    </a:lnTo>
                    <a:lnTo>
                      <a:pt x="6"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829480" y="3732120"/>
                <a:ext cx="14040" cy="9360"/>
              </a:xfrm>
              <a:custGeom>
                <a:avLst/>
                <a:gdLst/>
                <a:ahLst/>
                <a:rect l="l" t="t" r="r" b="b"/>
                <a:pathLst>
                  <a:path w="17" h="11">
                    <a:moveTo>
                      <a:pt x="6" y="11"/>
                    </a:moveTo>
                    <a:lnTo>
                      <a:pt x="0" y="4"/>
                    </a:lnTo>
                    <a:lnTo>
                      <a:pt x="6" y="0"/>
                    </a:lnTo>
                    <a:lnTo>
                      <a:pt x="15" y="0"/>
                    </a:lnTo>
                    <a:lnTo>
                      <a:pt x="17" y="9"/>
                    </a:lnTo>
                    <a:lnTo>
                      <a:pt x="6" y="11"/>
                    </a:lnTo>
                    <a:lnTo>
                      <a:pt x="6"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218280" y="3657600"/>
                <a:ext cx="162000" cy="74520"/>
              </a:xfrm>
              <a:custGeom>
                <a:avLst/>
                <a:gdLst/>
                <a:ahLst/>
                <a:rect l="l" t="t" r="r" b="b"/>
                <a:pathLst>
                  <a:path w="204" h="95">
                    <a:moveTo>
                      <a:pt x="204" y="95"/>
                    </a:moveTo>
                    <a:lnTo>
                      <a:pt x="179" y="82"/>
                    </a:lnTo>
                    <a:lnTo>
                      <a:pt x="154" y="70"/>
                    </a:lnTo>
                    <a:lnTo>
                      <a:pt x="130" y="57"/>
                    </a:lnTo>
                    <a:lnTo>
                      <a:pt x="103" y="43"/>
                    </a:lnTo>
                    <a:lnTo>
                      <a:pt x="78" y="30"/>
                    </a:lnTo>
                    <a:lnTo>
                      <a:pt x="52" y="19"/>
                    </a:lnTo>
                    <a:lnTo>
                      <a:pt x="27" y="9"/>
                    </a:lnTo>
                    <a:lnTo>
                      <a:pt x="0" y="0"/>
                    </a:lnTo>
                    <a:lnTo>
                      <a:pt x="71" y="11"/>
                    </a:lnTo>
                    <a:lnTo>
                      <a:pt x="107" y="23"/>
                    </a:lnTo>
                    <a:lnTo>
                      <a:pt x="141" y="38"/>
                    </a:lnTo>
                    <a:lnTo>
                      <a:pt x="204" y="95"/>
                    </a:lnTo>
                    <a:lnTo>
                      <a:pt x="204" y="9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a:off x="5813280" y="3709800"/>
                <a:ext cx="12960" cy="14400"/>
              </a:xfrm>
              <a:custGeom>
                <a:avLst/>
                <a:gdLst/>
                <a:ahLst/>
                <a:rect l="l" t="t" r="r" b="b"/>
                <a:pathLst>
                  <a:path w="17" h="17">
                    <a:moveTo>
                      <a:pt x="8" y="17"/>
                    </a:moveTo>
                    <a:lnTo>
                      <a:pt x="0" y="8"/>
                    </a:lnTo>
                    <a:lnTo>
                      <a:pt x="10" y="0"/>
                    </a:lnTo>
                    <a:lnTo>
                      <a:pt x="17" y="10"/>
                    </a:lnTo>
                    <a:lnTo>
                      <a:pt x="14" y="16"/>
                    </a:lnTo>
                    <a:lnTo>
                      <a:pt x="8" y="17"/>
                    </a:lnTo>
                    <a:lnTo>
                      <a:pt x="8"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 name=""/>
              <p:cNvSpPr/>
              <p:nvPr/>
            </p:nvSpPr>
            <p:spPr>
              <a:xfrm>
                <a:off x="5297400" y="3547800"/>
                <a:ext cx="192240" cy="123840"/>
              </a:xfrm>
              <a:custGeom>
                <a:avLst/>
                <a:gdLst/>
                <a:ahLst/>
                <a:rect l="l" t="t" r="r" b="b"/>
                <a:pathLst>
                  <a:path w="244" h="156">
                    <a:moveTo>
                      <a:pt x="0" y="135"/>
                    </a:moveTo>
                    <a:lnTo>
                      <a:pt x="14" y="120"/>
                    </a:lnTo>
                    <a:lnTo>
                      <a:pt x="27" y="104"/>
                    </a:lnTo>
                    <a:lnTo>
                      <a:pt x="40" y="91"/>
                    </a:lnTo>
                    <a:lnTo>
                      <a:pt x="48" y="84"/>
                    </a:lnTo>
                    <a:lnTo>
                      <a:pt x="54" y="76"/>
                    </a:lnTo>
                    <a:lnTo>
                      <a:pt x="61" y="70"/>
                    </a:lnTo>
                    <a:lnTo>
                      <a:pt x="69" y="63"/>
                    </a:lnTo>
                    <a:lnTo>
                      <a:pt x="84" y="51"/>
                    </a:lnTo>
                    <a:lnTo>
                      <a:pt x="101" y="40"/>
                    </a:lnTo>
                    <a:lnTo>
                      <a:pt x="118" y="32"/>
                    </a:lnTo>
                    <a:lnTo>
                      <a:pt x="244" y="0"/>
                    </a:lnTo>
                    <a:lnTo>
                      <a:pt x="230" y="7"/>
                    </a:lnTo>
                    <a:lnTo>
                      <a:pt x="217" y="15"/>
                    </a:lnTo>
                    <a:lnTo>
                      <a:pt x="202" y="23"/>
                    </a:lnTo>
                    <a:lnTo>
                      <a:pt x="187" y="30"/>
                    </a:lnTo>
                    <a:lnTo>
                      <a:pt x="171" y="40"/>
                    </a:lnTo>
                    <a:lnTo>
                      <a:pt x="154" y="49"/>
                    </a:lnTo>
                    <a:lnTo>
                      <a:pt x="137" y="59"/>
                    </a:lnTo>
                    <a:lnTo>
                      <a:pt x="120" y="68"/>
                    </a:lnTo>
                    <a:lnTo>
                      <a:pt x="105" y="78"/>
                    </a:lnTo>
                    <a:lnTo>
                      <a:pt x="90" y="87"/>
                    </a:lnTo>
                    <a:lnTo>
                      <a:pt x="75" y="99"/>
                    </a:lnTo>
                    <a:lnTo>
                      <a:pt x="61" y="110"/>
                    </a:lnTo>
                    <a:lnTo>
                      <a:pt x="50" y="120"/>
                    </a:lnTo>
                    <a:lnTo>
                      <a:pt x="38" y="131"/>
                    </a:lnTo>
                    <a:lnTo>
                      <a:pt x="21" y="154"/>
                    </a:lnTo>
                    <a:lnTo>
                      <a:pt x="10" y="156"/>
                    </a:lnTo>
                    <a:lnTo>
                      <a:pt x="4" y="150"/>
                    </a:lnTo>
                    <a:lnTo>
                      <a:pt x="0" y="135"/>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008760" y="3593880"/>
                <a:ext cx="250920" cy="55800"/>
              </a:xfrm>
              <a:custGeom>
                <a:avLst/>
                <a:gdLst/>
                <a:ahLst/>
                <a:rect l="l" t="t" r="r" b="b"/>
                <a:pathLst>
                  <a:path w="316" h="70">
                    <a:moveTo>
                      <a:pt x="314" y="70"/>
                    </a:moveTo>
                    <a:lnTo>
                      <a:pt x="223" y="61"/>
                    </a:lnTo>
                    <a:lnTo>
                      <a:pt x="177" y="53"/>
                    </a:lnTo>
                    <a:lnTo>
                      <a:pt x="133" y="36"/>
                    </a:lnTo>
                    <a:lnTo>
                      <a:pt x="2" y="6"/>
                    </a:lnTo>
                    <a:lnTo>
                      <a:pt x="0" y="2"/>
                    </a:lnTo>
                    <a:lnTo>
                      <a:pt x="67" y="0"/>
                    </a:lnTo>
                    <a:lnTo>
                      <a:pt x="133" y="11"/>
                    </a:lnTo>
                    <a:lnTo>
                      <a:pt x="167" y="21"/>
                    </a:lnTo>
                    <a:lnTo>
                      <a:pt x="202" y="30"/>
                    </a:lnTo>
                    <a:lnTo>
                      <a:pt x="236" y="42"/>
                    </a:lnTo>
                    <a:lnTo>
                      <a:pt x="270" y="51"/>
                    </a:lnTo>
                    <a:lnTo>
                      <a:pt x="316" y="66"/>
                    </a:lnTo>
                    <a:lnTo>
                      <a:pt x="314" y="70"/>
                    </a:lnTo>
                    <a:lnTo>
                      <a:pt x="314" y="7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9" name=""/>
              <p:cNvSpPr/>
              <p:nvPr/>
            </p:nvSpPr>
            <p:spPr>
              <a:xfrm>
                <a:off x="5450040" y="3485880"/>
                <a:ext cx="114120" cy="52560"/>
              </a:xfrm>
              <a:custGeom>
                <a:avLst/>
                <a:gdLst/>
                <a:ahLst/>
                <a:rect l="l" t="t" r="r" b="b"/>
                <a:pathLst>
                  <a:path w="145" h="65">
                    <a:moveTo>
                      <a:pt x="52" y="34"/>
                    </a:moveTo>
                    <a:lnTo>
                      <a:pt x="145" y="0"/>
                    </a:lnTo>
                    <a:lnTo>
                      <a:pt x="131" y="15"/>
                    </a:lnTo>
                    <a:lnTo>
                      <a:pt x="124" y="21"/>
                    </a:lnTo>
                    <a:lnTo>
                      <a:pt x="116" y="26"/>
                    </a:lnTo>
                    <a:lnTo>
                      <a:pt x="99" y="36"/>
                    </a:lnTo>
                    <a:lnTo>
                      <a:pt x="80" y="44"/>
                    </a:lnTo>
                    <a:lnTo>
                      <a:pt x="40" y="55"/>
                    </a:lnTo>
                    <a:lnTo>
                      <a:pt x="0" y="65"/>
                    </a:lnTo>
                    <a:lnTo>
                      <a:pt x="52" y="34"/>
                    </a:lnTo>
                    <a:lnTo>
                      <a:pt x="52" y="3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0" name=""/>
              <p:cNvSpPr/>
              <p:nvPr/>
            </p:nvSpPr>
            <p:spPr>
              <a:xfrm>
                <a:off x="5575320" y="3458880"/>
                <a:ext cx="117360" cy="51120"/>
              </a:xfrm>
              <a:custGeom>
                <a:avLst/>
                <a:gdLst/>
                <a:ahLst/>
                <a:rect l="l" t="t" r="r" b="b"/>
                <a:pathLst>
                  <a:path w="148" h="62">
                    <a:moveTo>
                      <a:pt x="0" y="62"/>
                    </a:moveTo>
                    <a:lnTo>
                      <a:pt x="4" y="55"/>
                    </a:lnTo>
                    <a:lnTo>
                      <a:pt x="11" y="47"/>
                    </a:lnTo>
                    <a:lnTo>
                      <a:pt x="19" y="38"/>
                    </a:lnTo>
                    <a:lnTo>
                      <a:pt x="29" y="30"/>
                    </a:lnTo>
                    <a:lnTo>
                      <a:pt x="40" y="22"/>
                    </a:lnTo>
                    <a:lnTo>
                      <a:pt x="51" y="15"/>
                    </a:lnTo>
                    <a:lnTo>
                      <a:pt x="78" y="5"/>
                    </a:lnTo>
                    <a:lnTo>
                      <a:pt x="103" y="0"/>
                    </a:lnTo>
                    <a:lnTo>
                      <a:pt x="124" y="0"/>
                    </a:lnTo>
                    <a:lnTo>
                      <a:pt x="141" y="11"/>
                    </a:lnTo>
                    <a:lnTo>
                      <a:pt x="148" y="30"/>
                    </a:lnTo>
                    <a:lnTo>
                      <a:pt x="120" y="38"/>
                    </a:lnTo>
                    <a:lnTo>
                      <a:pt x="97" y="43"/>
                    </a:lnTo>
                    <a:lnTo>
                      <a:pt x="70" y="51"/>
                    </a:lnTo>
                    <a:lnTo>
                      <a:pt x="23" y="60"/>
                    </a:lnTo>
                    <a:lnTo>
                      <a:pt x="0" y="62"/>
                    </a:lnTo>
                    <a:lnTo>
                      <a:pt x="0" y="6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1" name=""/>
              <p:cNvSpPr/>
              <p:nvPr/>
            </p:nvSpPr>
            <p:spPr>
              <a:xfrm>
                <a:off x="5364000" y="3414600"/>
                <a:ext cx="68400" cy="54000"/>
              </a:xfrm>
              <a:custGeom>
                <a:avLst/>
                <a:gdLst/>
                <a:ahLst/>
                <a:rect l="l" t="t" r="r" b="b"/>
                <a:pathLst>
                  <a:path w="85" h="68">
                    <a:moveTo>
                      <a:pt x="76" y="68"/>
                    </a:moveTo>
                    <a:lnTo>
                      <a:pt x="68" y="59"/>
                    </a:lnTo>
                    <a:lnTo>
                      <a:pt x="59" y="49"/>
                    </a:lnTo>
                    <a:lnTo>
                      <a:pt x="49" y="41"/>
                    </a:lnTo>
                    <a:lnTo>
                      <a:pt x="40" y="34"/>
                    </a:lnTo>
                    <a:lnTo>
                      <a:pt x="28" y="26"/>
                    </a:lnTo>
                    <a:lnTo>
                      <a:pt x="19" y="17"/>
                    </a:lnTo>
                    <a:lnTo>
                      <a:pt x="9" y="9"/>
                    </a:lnTo>
                    <a:lnTo>
                      <a:pt x="0" y="0"/>
                    </a:lnTo>
                    <a:lnTo>
                      <a:pt x="85" y="51"/>
                    </a:lnTo>
                    <a:lnTo>
                      <a:pt x="76" y="68"/>
                    </a:lnTo>
                    <a:lnTo>
                      <a:pt x="76"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2" name=""/>
              <p:cNvSpPr/>
              <p:nvPr/>
            </p:nvSpPr>
            <p:spPr>
              <a:xfrm>
                <a:off x="6288120" y="3351240"/>
                <a:ext cx="55440" cy="114120"/>
              </a:xfrm>
              <a:custGeom>
                <a:avLst/>
                <a:gdLst/>
                <a:ahLst/>
                <a:rect l="l" t="t" r="r" b="b"/>
                <a:pathLst>
                  <a:path w="70" h="144">
                    <a:moveTo>
                      <a:pt x="7" y="144"/>
                    </a:moveTo>
                    <a:lnTo>
                      <a:pt x="0" y="135"/>
                    </a:lnTo>
                    <a:lnTo>
                      <a:pt x="70" y="0"/>
                    </a:lnTo>
                    <a:lnTo>
                      <a:pt x="68" y="30"/>
                    </a:lnTo>
                    <a:lnTo>
                      <a:pt x="62" y="62"/>
                    </a:lnTo>
                    <a:lnTo>
                      <a:pt x="55" y="95"/>
                    </a:lnTo>
                    <a:lnTo>
                      <a:pt x="43" y="127"/>
                    </a:lnTo>
                    <a:lnTo>
                      <a:pt x="38" y="133"/>
                    </a:lnTo>
                    <a:lnTo>
                      <a:pt x="28" y="137"/>
                    </a:lnTo>
                    <a:lnTo>
                      <a:pt x="9" y="144"/>
                    </a:lnTo>
                    <a:lnTo>
                      <a:pt x="7" y="144"/>
                    </a:lnTo>
                    <a:lnTo>
                      <a:pt x="7"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288040" y="3368520"/>
                <a:ext cx="92160" cy="93600"/>
              </a:xfrm>
              <a:custGeom>
                <a:avLst/>
                <a:gdLst/>
                <a:ahLst/>
                <a:rect l="l" t="t" r="r" b="b"/>
                <a:pathLst>
                  <a:path w="116" h="117">
                    <a:moveTo>
                      <a:pt x="0" y="0"/>
                    </a:moveTo>
                    <a:lnTo>
                      <a:pt x="25" y="15"/>
                    </a:lnTo>
                    <a:lnTo>
                      <a:pt x="34" y="22"/>
                    </a:lnTo>
                    <a:lnTo>
                      <a:pt x="42" y="32"/>
                    </a:lnTo>
                    <a:lnTo>
                      <a:pt x="61" y="51"/>
                    </a:lnTo>
                    <a:lnTo>
                      <a:pt x="78" y="72"/>
                    </a:lnTo>
                    <a:lnTo>
                      <a:pt x="95" y="91"/>
                    </a:lnTo>
                    <a:lnTo>
                      <a:pt x="108" y="106"/>
                    </a:lnTo>
                    <a:lnTo>
                      <a:pt x="116" y="117"/>
                    </a:lnTo>
                    <a:lnTo>
                      <a:pt x="105" y="116"/>
                    </a:lnTo>
                    <a:lnTo>
                      <a:pt x="89" y="108"/>
                    </a:lnTo>
                    <a:lnTo>
                      <a:pt x="80" y="100"/>
                    </a:lnTo>
                    <a:lnTo>
                      <a:pt x="70" y="93"/>
                    </a:lnTo>
                    <a:lnTo>
                      <a:pt x="61" y="83"/>
                    </a:lnTo>
                    <a:lnTo>
                      <a:pt x="49" y="72"/>
                    </a:lnTo>
                    <a:lnTo>
                      <a:pt x="32" y="51"/>
                    </a:lnTo>
                    <a:lnTo>
                      <a:pt x="15" y="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70480" y="3340080"/>
                <a:ext cx="59040" cy="96840"/>
              </a:xfrm>
              <a:custGeom>
                <a:avLst/>
                <a:gdLst/>
                <a:ahLst/>
                <a:rect l="l" t="t" r="r" b="b"/>
                <a:pathLst>
                  <a:path w="72" h="122">
                    <a:moveTo>
                      <a:pt x="0" y="122"/>
                    </a:moveTo>
                    <a:lnTo>
                      <a:pt x="7" y="56"/>
                    </a:lnTo>
                    <a:lnTo>
                      <a:pt x="17" y="44"/>
                    </a:lnTo>
                    <a:lnTo>
                      <a:pt x="28" y="42"/>
                    </a:lnTo>
                    <a:lnTo>
                      <a:pt x="34" y="33"/>
                    </a:lnTo>
                    <a:lnTo>
                      <a:pt x="72" y="0"/>
                    </a:lnTo>
                    <a:lnTo>
                      <a:pt x="72" y="4"/>
                    </a:lnTo>
                    <a:lnTo>
                      <a:pt x="44" y="46"/>
                    </a:lnTo>
                    <a:lnTo>
                      <a:pt x="0"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661000" y="3332160"/>
                <a:ext cx="60480" cy="93600"/>
              </a:xfrm>
              <a:custGeom>
                <a:avLst/>
                <a:gdLst/>
                <a:ahLst/>
                <a:rect l="l" t="t" r="r" b="b"/>
                <a:pathLst>
                  <a:path w="76" h="118">
                    <a:moveTo>
                      <a:pt x="44" y="118"/>
                    </a:moveTo>
                    <a:lnTo>
                      <a:pt x="23" y="87"/>
                    </a:lnTo>
                    <a:lnTo>
                      <a:pt x="14" y="61"/>
                    </a:lnTo>
                    <a:lnTo>
                      <a:pt x="0" y="0"/>
                    </a:lnTo>
                    <a:lnTo>
                      <a:pt x="76" y="103"/>
                    </a:lnTo>
                    <a:lnTo>
                      <a:pt x="44" y="118"/>
                    </a:lnTo>
                    <a:lnTo>
                      <a:pt x="44"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89480" y="3354120"/>
                <a:ext cx="127080" cy="65160"/>
              </a:xfrm>
              <a:custGeom>
                <a:avLst/>
                <a:gdLst/>
                <a:ahLst/>
                <a:rect l="l" t="t" r="r" b="b"/>
                <a:pathLst>
                  <a:path w="160" h="81">
                    <a:moveTo>
                      <a:pt x="0" y="0"/>
                    </a:moveTo>
                    <a:lnTo>
                      <a:pt x="123" y="22"/>
                    </a:lnTo>
                    <a:lnTo>
                      <a:pt x="131" y="34"/>
                    </a:lnTo>
                    <a:lnTo>
                      <a:pt x="144" y="53"/>
                    </a:lnTo>
                    <a:lnTo>
                      <a:pt x="160" y="81"/>
                    </a:lnTo>
                    <a:lnTo>
                      <a:pt x="137" y="76"/>
                    </a:lnTo>
                    <a:lnTo>
                      <a:pt x="114" y="64"/>
                    </a:lnTo>
                    <a:lnTo>
                      <a:pt x="101" y="57"/>
                    </a:lnTo>
                    <a:lnTo>
                      <a:pt x="85" y="49"/>
                    </a:lnTo>
                    <a:lnTo>
                      <a:pt x="72" y="41"/>
                    </a:lnTo>
                    <a:lnTo>
                      <a:pt x="57" y="32"/>
                    </a:lnTo>
                    <a:lnTo>
                      <a:pt x="44" y="24"/>
                    </a:lnTo>
                    <a:lnTo>
                      <a:pt x="32" y="19"/>
                    </a:lnTo>
                    <a:lnTo>
                      <a:pt x="11" y="5"/>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5977080" y="3321000"/>
                <a:ext cx="36360" cy="82440"/>
              </a:xfrm>
              <a:custGeom>
                <a:avLst/>
                <a:gdLst/>
                <a:ahLst/>
                <a:rect l="l" t="t" r="r" b="b"/>
                <a:pathLst>
                  <a:path w="46" h="104">
                    <a:moveTo>
                      <a:pt x="42" y="104"/>
                    </a:moveTo>
                    <a:lnTo>
                      <a:pt x="0" y="93"/>
                    </a:lnTo>
                    <a:lnTo>
                      <a:pt x="4" y="72"/>
                    </a:lnTo>
                    <a:lnTo>
                      <a:pt x="4" y="47"/>
                    </a:lnTo>
                    <a:lnTo>
                      <a:pt x="2" y="0"/>
                    </a:lnTo>
                    <a:lnTo>
                      <a:pt x="23" y="47"/>
                    </a:lnTo>
                    <a:lnTo>
                      <a:pt x="46" y="102"/>
                    </a:lnTo>
                    <a:lnTo>
                      <a:pt x="42" y="104"/>
                    </a:lnTo>
                    <a:lnTo>
                      <a:pt x="42" y="10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5670720" y="3281400"/>
                <a:ext cx="55440" cy="107640"/>
              </a:xfrm>
              <a:custGeom>
                <a:avLst/>
                <a:gdLst/>
                <a:ahLst/>
                <a:rect l="l" t="t" r="r" b="b"/>
                <a:pathLst>
                  <a:path w="68" h="135">
                    <a:moveTo>
                      <a:pt x="68" y="135"/>
                    </a:moveTo>
                    <a:lnTo>
                      <a:pt x="0" y="29"/>
                    </a:lnTo>
                    <a:lnTo>
                      <a:pt x="19" y="0"/>
                    </a:lnTo>
                    <a:lnTo>
                      <a:pt x="68" y="135"/>
                    </a:lnTo>
                    <a:lnTo>
                      <a:pt x="68"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992920" y="3254400"/>
                <a:ext cx="36360" cy="134640"/>
              </a:xfrm>
              <a:custGeom>
                <a:avLst/>
                <a:gdLst/>
                <a:ahLst/>
                <a:rect l="l" t="t" r="r" b="b"/>
                <a:pathLst>
                  <a:path w="48" h="169">
                    <a:moveTo>
                      <a:pt x="48" y="169"/>
                    </a:moveTo>
                    <a:lnTo>
                      <a:pt x="6" y="78"/>
                    </a:lnTo>
                    <a:lnTo>
                      <a:pt x="0" y="34"/>
                    </a:lnTo>
                    <a:lnTo>
                      <a:pt x="23" y="0"/>
                    </a:lnTo>
                    <a:lnTo>
                      <a:pt x="35" y="53"/>
                    </a:lnTo>
                    <a:lnTo>
                      <a:pt x="44" y="108"/>
                    </a:lnTo>
                    <a:lnTo>
                      <a:pt x="48" y="169"/>
                    </a:lnTo>
                    <a:lnTo>
                      <a:pt x="48"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937120" y="3265200"/>
                <a:ext cx="20880" cy="109800"/>
              </a:xfrm>
              <a:custGeom>
                <a:avLst/>
                <a:gdLst/>
                <a:ahLst/>
                <a:rect l="l" t="t" r="r" b="b"/>
                <a:pathLst>
                  <a:path w="25" h="139">
                    <a:moveTo>
                      <a:pt x="25" y="139"/>
                    </a:moveTo>
                    <a:lnTo>
                      <a:pt x="19" y="128"/>
                    </a:lnTo>
                    <a:lnTo>
                      <a:pt x="13" y="114"/>
                    </a:lnTo>
                    <a:lnTo>
                      <a:pt x="8" y="88"/>
                    </a:lnTo>
                    <a:lnTo>
                      <a:pt x="0" y="86"/>
                    </a:lnTo>
                    <a:lnTo>
                      <a:pt x="0" y="65"/>
                    </a:lnTo>
                    <a:lnTo>
                      <a:pt x="6" y="44"/>
                    </a:lnTo>
                    <a:lnTo>
                      <a:pt x="13" y="21"/>
                    </a:lnTo>
                    <a:lnTo>
                      <a:pt x="23" y="0"/>
                    </a:lnTo>
                    <a:lnTo>
                      <a:pt x="25" y="139"/>
                    </a:lnTo>
                    <a:lnTo>
                      <a:pt x="2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76760" y="3887640"/>
                <a:ext cx="685800" cy="114480"/>
              </a:xfrm>
              <a:custGeom>
                <a:avLst/>
                <a:gdLst/>
                <a:ahLst/>
                <a:rect l="l" t="t" r="r" b="b"/>
                <a:pathLst>
                  <a:path w="862" h="142">
                    <a:moveTo>
                      <a:pt x="70" y="0"/>
                    </a:moveTo>
                    <a:lnTo>
                      <a:pt x="104" y="19"/>
                    </a:lnTo>
                    <a:lnTo>
                      <a:pt x="150" y="47"/>
                    </a:lnTo>
                    <a:lnTo>
                      <a:pt x="197" y="74"/>
                    </a:lnTo>
                    <a:lnTo>
                      <a:pt x="249" y="95"/>
                    </a:lnTo>
                    <a:lnTo>
                      <a:pt x="348" y="118"/>
                    </a:lnTo>
                    <a:lnTo>
                      <a:pt x="431" y="104"/>
                    </a:lnTo>
                    <a:lnTo>
                      <a:pt x="536" y="78"/>
                    </a:lnTo>
                    <a:lnTo>
                      <a:pt x="595" y="59"/>
                    </a:lnTo>
                    <a:lnTo>
                      <a:pt x="661" y="19"/>
                    </a:lnTo>
                    <a:lnTo>
                      <a:pt x="587" y="76"/>
                    </a:lnTo>
                    <a:lnTo>
                      <a:pt x="558" y="99"/>
                    </a:lnTo>
                    <a:lnTo>
                      <a:pt x="581" y="108"/>
                    </a:lnTo>
                    <a:lnTo>
                      <a:pt x="629" y="91"/>
                    </a:lnTo>
                    <a:lnTo>
                      <a:pt x="701" y="42"/>
                    </a:lnTo>
                    <a:lnTo>
                      <a:pt x="642" y="95"/>
                    </a:lnTo>
                    <a:lnTo>
                      <a:pt x="638" y="106"/>
                    </a:lnTo>
                    <a:lnTo>
                      <a:pt x="659" y="102"/>
                    </a:lnTo>
                    <a:lnTo>
                      <a:pt x="724" y="81"/>
                    </a:lnTo>
                    <a:lnTo>
                      <a:pt x="750" y="59"/>
                    </a:lnTo>
                    <a:lnTo>
                      <a:pt x="798" y="21"/>
                    </a:lnTo>
                    <a:lnTo>
                      <a:pt x="771" y="70"/>
                    </a:lnTo>
                    <a:lnTo>
                      <a:pt x="786" y="66"/>
                    </a:lnTo>
                    <a:lnTo>
                      <a:pt x="862" y="30"/>
                    </a:lnTo>
                    <a:lnTo>
                      <a:pt x="832" y="53"/>
                    </a:lnTo>
                    <a:lnTo>
                      <a:pt x="748" y="97"/>
                    </a:lnTo>
                    <a:lnTo>
                      <a:pt x="655" y="120"/>
                    </a:lnTo>
                    <a:lnTo>
                      <a:pt x="509" y="139"/>
                    </a:lnTo>
                    <a:lnTo>
                      <a:pt x="372" y="142"/>
                    </a:lnTo>
                    <a:lnTo>
                      <a:pt x="264" y="135"/>
                    </a:lnTo>
                    <a:lnTo>
                      <a:pt x="139" y="104"/>
                    </a:lnTo>
                    <a:lnTo>
                      <a:pt x="6" y="64"/>
                    </a:lnTo>
                    <a:lnTo>
                      <a:pt x="57" y="72"/>
                    </a:lnTo>
                    <a:lnTo>
                      <a:pt x="112" y="85"/>
                    </a:lnTo>
                    <a:lnTo>
                      <a:pt x="34" y="57"/>
                    </a:lnTo>
                    <a:lnTo>
                      <a:pt x="0" y="28"/>
                    </a:lnTo>
                    <a:lnTo>
                      <a:pt x="63" y="62"/>
                    </a:lnTo>
                    <a:lnTo>
                      <a:pt x="131" y="78"/>
                    </a:lnTo>
                    <a:lnTo>
                      <a:pt x="57" y="38"/>
                    </a:lnTo>
                    <a:lnTo>
                      <a:pt x="26" y="4"/>
                    </a:lnTo>
                    <a:lnTo>
                      <a:pt x="78" y="43"/>
                    </a:lnTo>
                    <a:lnTo>
                      <a:pt x="156" y="76"/>
                    </a:lnTo>
                    <a:lnTo>
                      <a:pt x="108" y="34"/>
                    </a:lnTo>
                    <a:lnTo>
                      <a:pt x="70" y="0"/>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04000" y="3822480"/>
                <a:ext cx="190440" cy="157320"/>
              </a:xfrm>
              <a:custGeom>
                <a:avLst/>
                <a:gdLst/>
                <a:ahLst/>
                <a:rect l="l" t="t" r="r" b="b"/>
                <a:pathLst>
                  <a:path w="242" h="198">
                    <a:moveTo>
                      <a:pt x="0" y="198"/>
                    </a:moveTo>
                    <a:lnTo>
                      <a:pt x="33" y="169"/>
                    </a:lnTo>
                    <a:lnTo>
                      <a:pt x="63" y="150"/>
                    </a:lnTo>
                    <a:lnTo>
                      <a:pt x="135" y="116"/>
                    </a:lnTo>
                    <a:lnTo>
                      <a:pt x="192" y="65"/>
                    </a:lnTo>
                    <a:lnTo>
                      <a:pt x="242" y="0"/>
                    </a:lnTo>
                    <a:lnTo>
                      <a:pt x="200" y="70"/>
                    </a:lnTo>
                    <a:lnTo>
                      <a:pt x="147" y="122"/>
                    </a:lnTo>
                    <a:lnTo>
                      <a:pt x="105" y="154"/>
                    </a:lnTo>
                    <a:lnTo>
                      <a:pt x="86" y="169"/>
                    </a:lnTo>
                    <a:lnTo>
                      <a:pt x="0" y="198"/>
                    </a:lnTo>
                    <a:lnTo>
                      <a:pt x="0"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5647680" y="4275720"/>
              <a:ext cx="654120" cy="973080"/>
              <a:chOff x="5647680" y="4275720"/>
              <a:chExt cx="654120" cy="973080"/>
            </a:xfrm>
          </p:grpSpPr>
          <p:sp>
            <p:nvSpPr>
              <p:cNvPr id="374" name=""/>
              <p:cNvSpPr/>
              <p:nvPr/>
            </p:nvSpPr>
            <p:spPr>
              <a:xfrm flipH="1">
                <a:off x="5647320" y="4275720"/>
                <a:ext cx="654120" cy="973080"/>
              </a:xfrm>
              <a:custGeom>
                <a:avLst/>
                <a:gdLst/>
                <a:ahLst/>
                <a:rect l="l" t="t" r="r" b="b"/>
                <a:pathLst>
                  <a:path w="2832" h="4218">
                    <a:moveTo>
                      <a:pt x="1534" y="0"/>
                    </a:moveTo>
                    <a:lnTo>
                      <a:pt x="1617" y="4"/>
                    </a:lnTo>
                    <a:lnTo>
                      <a:pt x="1701" y="15"/>
                    </a:lnTo>
                    <a:lnTo>
                      <a:pt x="1783" y="32"/>
                    </a:lnTo>
                    <a:lnTo>
                      <a:pt x="1864" y="55"/>
                    </a:lnTo>
                    <a:lnTo>
                      <a:pt x="1942" y="82"/>
                    </a:lnTo>
                    <a:lnTo>
                      <a:pt x="2022" y="116"/>
                    </a:lnTo>
                    <a:lnTo>
                      <a:pt x="2096" y="154"/>
                    </a:lnTo>
                    <a:lnTo>
                      <a:pt x="2172" y="198"/>
                    </a:lnTo>
                    <a:lnTo>
                      <a:pt x="2245" y="245"/>
                    </a:lnTo>
                    <a:lnTo>
                      <a:pt x="2315" y="297"/>
                    </a:lnTo>
                    <a:lnTo>
                      <a:pt x="2383" y="350"/>
                    </a:lnTo>
                    <a:lnTo>
                      <a:pt x="2450" y="409"/>
                    </a:lnTo>
                    <a:lnTo>
                      <a:pt x="2513" y="470"/>
                    </a:lnTo>
                    <a:lnTo>
                      <a:pt x="2573" y="536"/>
                    </a:lnTo>
                    <a:lnTo>
                      <a:pt x="2634" y="603"/>
                    </a:lnTo>
                    <a:lnTo>
                      <a:pt x="2691" y="673"/>
                    </a:lnTo>
                    <a:lnTo>
                      <a:pt x="2724" y="732"/>
                    </a:lnTo>
                    <a:lnTo>
                      <a:pt x="2752" y="791"/>
                    </a:lnTo>
                    <a:lnTo>
                      <a:pt x="2777" y="850"/>
                    </a:lnTo>
                    <a:lnTo>
                      <a:pt x="2796" y="911"/>
                    </a:lnTo>
                    <a:lnTo>
                      <a:pt x="2811" y="971"/>
                    </a:lnTo>
                    <a:lnTo>
                      <a:pt x="2822" y="1034"/>
                    </a:lnTo>
                    <a:lnTo>
                      <a:pt x="2828" y="1095"/>
                    </a:lnTo>
                    <a:lnTo>
                      <a:pt x="2832" y="1158"/>
                    </a:lnTo>
                    <a:lnTo>
                      <a:pt x="2830" y="1218"/>
                    </a:lnTo>
                    <a:lnTo>
                      <a:pt x="2826" y="1281"/>
                    </a:lnTo>
                    <a:lnTo>
                      <a:pt x="2819" y="1344"/>
                    </a:lnTo>
                    <a:lnTo>
                      <a:pt x="2809" y="1409"/>
                    </a:lnTo>
                    <a:lnTo>
                      <a:pt x="2794" y="1471"/>
                    </a:lnTo>
                    <a:lnTo>
                      <a:pt x="2779" y="1534"/>
                    </a:lnTo>
                    <a:lnTo>
                      <a:pt x="2758" y="1597"/>
                    </a:lnTo>
                    <a:lnTo>
                      <a:pt x="2737" y="1661"/>
                    </a:lnTo>
                    <a:lnTo>
                      <a:pt x="2722" y="1739"/>
                    </a:lnTo>
                    <a:lnTo>
                      <a:pt x="2710" y="1819"/>
                    </a:lnTo>
                    <a:lnTo>
                      <a:pt x="2701" y="1899"/>
                    </a:lnTo>
                    <a:lnTo>
                      <a:pt x="2697" y="1979"/>
                    </a:lnTo>
                    <a:lnTo>
                      <a:pt x="2691" y="2059"/>
                    </a:lnTo>
                    <a:lnTo>
                      <a:pt x="2691" y="2140"/>
                    </a:lnTo>
                    <a:lnTo>
                      <a:pt x="2689" y="2222"/>
                    </a:lnTo>
                    <a:lnTo>
                      <a:pt x="2691" y="2304"/>
                    </a:lnTo>
                    <a:lnTo>
                      <a:pt x="2691" y="2384"/>
                    </a:lnTo>
                    <a:lnTo>
                      <a:pt x="2691" y="2465"/>
                    </a:lnTo>
                    <a:lnTo>
                      <a:pt x="2691" y="2547"/>
                    </a:lnTo>
                    <a:lnTo>
                      <a:pt x="2691" y="2631"/>
                    </a:lnTo>
                    <a:lnTo>
                      <a:pt x="2691" y="2713"/>
                    </a:lnTo>
                    <a:lnTo>
                      <a:pt x="2688" y="2794"/>
                    </a:lnTo>
                    <a:lnTo>
                      <a:pt x="2684" y="2878"/>
                    </a:lnTo>
                    <a:lnTo>
                      <a:pt x="2676" y="2960"/>
                    </a:lnTo>
                    <a:lnTo>
                      <a:pt x="2680" y="3003"/>
                    </a:lnTo>
                    <a:lnTo>
                      <a:pt x="2686" y="3047"/>
                    </a:lnTo>
                    <a:lnTo>
                      <a:pt x="2693" y="3091"/>
                    </a:lnTo>
                    <a:lnTo>
                      <a:pt x="2701" y="3135"/>
                    </a:lnTo>
                    <a:lnTo>
                      <a:pt x="2710" y="3178"/>
                    </a:lnTo>
                    <a:lnTo>
                      <a:pt x="2720" y="3222"/>
                    </a:lnTo>
                    <a:lnTo>
                      <a:pt x="2727" y="3266"/>
                    </a:lnTo>
                    <a:lnTo>
                      <a:pt x="2737" y="3309"/>
                    </a:lnTo>
                    <a:lnTo>
                      <a:pt x="2745" y="3353"/>
                    </a:lnTo>
                    <a:lnTo>
                      <a:pt x="2754" y="3397"/>
                    </a:lnTo>
                    <a:lnTo>
                      <a:pt x="2760" y="3441"/>
                    </a:lnTo>
                    <a:lnTo>
                      <a:pt x="2767" y="3484"/>
                    </a:lnTo>
                    <a:lnTo>
                      <a:pt x="2771" y="3526"/>
                    </a:lnTo>
                    <a:lnTo>
                      <a:pt x="2775" y="3570"/>
                    </a:lnTo>
                    <a:lnTo>
                      <a:pt x="2777" y="3614"/>
                    </a:lnTo>
                    <a:lnTo>
                      <a:pt x="2777" y="3657"/>
                    </a:lnTo>
                    <a:lnTo>
                      <a:pt x="2760" y="3691"/>
                    </a:lnTo>
                    <a:lnTo>
                      <a:pt x="2746" y="3726"/>
                    </a:lnTo>
                    <a:lnTo>
                      <a:pt x="2735" y="3762"/>
                    </a:lnTo>
                    <a:lnTo>
                      <a:pt x="2724" y="3800"/>
                    </a:lnTo>
                    <a:lnTo>
                      <a:pt x="2710" y="3836"/>
                    </a:lnTo>
                    <a:lnTo>
                      <a:pt x="2699" y="3872"/>
                    </a:lnTo>
                    <a:lnTo>
                      <a:pt x="2688" y="3908"/>
                    </a:lnTo>
                    <a:lnTo>
                      <a:pt x="2674" y="3944"/>
                    </a:lnTo>
                    <a:lnTo>
                      <a:pt x="2657" y="3977"/>
                    </a:lnTo>
                    <a:lnTo>
                      <a:pt x="2640" y="4007"/>
                    </a:lnTo>
                    <a:lnTo>
                      <a:pt x="2619" y="4036"/>
                    </a:lnTo>
                    <a:lnTo>
                      <a:pt x="2596" y="4062"/>
                    </a:lnTo>
                    <a:lnTo>
                      <a:pt x="2568" y="4081"/>
                    </a:lnTo>
                    <a:lnTo>
                      <a:pt x="2537" y="4100"/>
                    </a:lnTo>
                    <a:lnTo>
                      <a:pt x="2501" y="4113"/>
                    </a:lnTo>
                    <a:lnTo>
                      <a:pt x="2459" y="4123"/>
                    </a:lnTo>
                    <a:lnTo>
                      <a:pt x="2416" y="4140"/>
                    </a:lnTo>
                    <a:lnTo>
                      <a:pt x="2374" y="4155"/>
                    </a:lnTo>
                    <a:lnTo>
                      <a:pt x="2328" y="4170"/>
                    </a:lnTo>
                    <a:lnTo>
                      <a:pt x="2283" y="4186"/>
                    </a:lnTo>
                    <a:lnTo>
                      <a:pt x="2235" y="4195"/>
                    </a:lnTo>
                    <a:lnTo>
                      <a:pt x="2188" y="4205"/>
                    </a:lnTo>
                    <a:lnTo>
                      <a:pt x="2140" y="4212"/>
                    </a:lnTo>
                    <a:lnTo>
                      <a:pt x="2092" y="4218"/>
                    </a:lnTo>
                    <a:lnTo>
                      <a:pt x="2047" y="4218"/>
                    </a:lnTo>
                    <a:lnTo>
                      <a:pt x="1999" y="4214"/>
                    </a:lnTo>
                    <a:lnTo>
                      <a:pt x="1954" y="4208"/>
                    </a:lnTo>
                    <a:lnTo>
                      <a:pt x="1910" y="4197"/>
                    </a:lnTo>
                    <a:lnTo>
                      <a:pt x="1866" y="4180"/>
                    </a:lnTo>
                    <a:lnTo>
                      <a:pt x="1824" y="4159"/>
                    </a:lnTo>
                    <a:lnTo>
                      <a:pt x="1785" y="4131"/>
                    </a:lnTo>
                    <a:lnTo>
                      <a:pt x="1748" y="4098"/>
                    </a:lnTo>
                    <a:lnTo>
                      <a:pt x="1695" y="4043"/>
                    </a:lnTo>
                    <a:lnTo>
                      <a:pt x="1644" y="3990"/>
                    </a:lnTo>
                    <a:lnTo>
                      <a:pt x="1591" y="3935"/>
                    </a:lnTo>
                    <a:lnTo>
                      <a:pt x="1539" y="3882"/>
                    </a:lnTo>
                    <a:lnTo>
                      <a:pt x="1484" y="3826"/>
                    </a:lnTo>
                    <a:lnTo>
                      <a:pt x="1431" y="3771"/>
                    </a:lnTo>
                    <a:lnTo>
                      <a:pt x="1374" y="3720"/>
                    </a:lnTo>
                    <a:lnTo>
                      <a:pt x="1319" y="3669"/>
                    </a:lnTo>
                    <a:lnTo>
                      <a:pt x="1260" y="3619"/>
                    </a:lnTo>
                    <a:lnTo>
                      <a:pt x="1203" y="3572"/>
                    </a:lnTo>
                    <a:lnTo>
                      <a:pt x="1142" y="3526"/>
                    </a:lnTo>
                    <a:lnTo>
                      <a:pt x="1079" y="3484"/>
                    </a:lnTo>
                    <a:lnTo>
                      <a:pt x="1017" y="3446"/>
                    </a:lnTo>
                    <a:lnTo>
                      <a:pt x="952" y="3410"/>
                    </a:lnTo>
                    <a:lnTo>
                      <a:pt x="883" y="3382"/>
                    </a:lnTo>
                    <a:lnTo>
                      <a:pt x="815" y="3355"/>
                    </a:lnTo>
                    <a:lnTo>
                      <a:pt x="707" y="3296"/>
                    </a:lnTo>
                    <a:lnTo>
                      <a:pt x="608" y="3230"/>
                    </a:lnTo>
                    <a:lnTo>
                      <a:pt x="515" y="3155"/>
                    </a:lnTo>
                    <a:lnTo>
                      <a:pt x="433" y="3077"/>
                    </a:lnTo>
                    <a:lnTo>
                      <a:pt x="355" y="2990"/>
                    </a:lnTo>
                    <a:lnTo>
                      <a:pt x="287" y="2901"/>
                    </a:lnTo>
                    <a:lnTo>
                      <a:pt x="226" y="2804"/>
                    </a:lnTo>
                    <a:lnTo>
                      <a:pt x="172" y="2705"/>
                    </a:lnTo>
                    <a:lnTo>
                      <a:pt x="125" y="2600"/>
                    </a:lnTo>
                    <a:lnTo>
                      <a:pt x="85" y="2494"/>
                    </a:lnTo>
                    <a:lnTo>
                      <a:pt x="53" y="2386"/>
                    </a:lnTo>
                    <a:lnTo>
                      <a:pt x="30" y="2275"/>
                    </a:lnTo>
                    <a:lnTo>
                      <a:pt x="11" y="2161"/>
                    </a:lnTo>
                    <a:lnTo>
                      <a:pt x="3" y="2047"/>
                    </a:lnTo>
                    <a:lnTo>
                      <a:pt x="0" y="1933"/>
                    </a:lnTo>
                    <a:lnTo>
                      <a:pt x="5" y="1821"/>
                    </a:lnTo>
                    <a:lnTo>
                      <a:pt x="9" y="1718"/>
                    </a:lnTo>
                    <a:lnTo>
                      <a:pt x="15" y="1616"/>
                    </a:lnTo>
                    <a:lnTo>
                      <a:pt x="24" y="1513"/>
                    </a:lnTo>
                    <a:lnTo>
                      <a:pt x="39" y="1412"/>
                    </a:lnTo>
                    <a:lnTo>
                      <a:pt x="57" y="1310"/>
                    </a:lnTo>
                    <a:lnTo>
                      <a:pt x="77" y="1209"/>
                    </a:lnTo>
                    <a:lnTo>
                      <a:pt x="104" y="1110"/>
                    </a:lnTo>
                    <a:lnTo>
                      <a:pt x="133" y="1013"/>
                    </a:lnTo>
                    <a:lnTo>
                      <a:pt x="167" y="916"/>
                    </a:lnTo>
                    <a:lnTo>
                      <a:pt x="207" y="821"/>
                    </a:lnTo>
                    <a:lnTo>
                      <a:pt x="250" y="730"/>
                    </a:lnTo>
                    <a:lnTo>
                      <a:pt x="302" y="641"/>
                    </a:lnTo>
                    <a:lnTo>
                      <a:pt x="357" y="553"/>
                    </a:lnTo>
                    <a:lnTo>
                      <a:pt x="418" y="470"/>
                    </a:lnTo>
                    <a:lnTo>
                      <a:pt x="486" y="390"/>
                    </a:lnTo>
                    <a:lnTo>
                      <a:pt x="562" y="314"/>
                    </a:lnTo>
                    <a:lnTo>
                      <a:pt x="596" y="287"/>
                    </a:lnTo>
                    <a:lnTo>
                      <a:pt x="634" y="264"/>
                    </a:lnTo>
                    <a:lnTo>
                      <a:pt x="672" y="241"/>
                    </a:lnTo>
                    <a:lnTo>
                      <a:pt x="710" y="221"/>
                    </a:lnTo>
                    <a:lnTo>
                      <a:pt x="747" y="198"/>
                    </a:lnTo>
                    <a:lnTo>
                      <a:pt x="787" y="179"/>
                    </a:lnTo>
                    <a:lnTo>
                      <a:pt x="826" y="158"/>
                    </a:lnTo>
                    <a:lnTo>
                      <a:pt x="866" y="141"/>
                    </a:lnTo>
                    <a:lnTo>
                      <a:pt x="906" y="122"/>
                    </a:lnTo>
                    <a:lnTo>
                      <a:pt x="946" y="106"/>
                    </a:lnTo>
                    <a:lnTo>
                      <a:pt x="988" y="91"/>
                    </a:lnTo>
                    <a:lnTo>
                      <a:pt x="1030" y="76"/>
                    </a:lnTo>
                    <a:lnTo>
                      <a:pt x="1070" y="63"/>
                    </a:lnTo>
                    <a:lnTo>
                      <a:pt x="1113" y="51"/>
                    </a:lnTo>
                    <a:lnTo>
                      <a:pt x="1155" y="38"/>
                    </a:lnTo>
                    <a:lnTo>
                      <a:pt x="1199" y="29"/>
                    </a:lnTo>
                    <a:lnTo>
                      <a:pt x="1218" y="27"/>
                    </a:lnTo>
                    <a:lnTo>
                      <a:pt x="1241" y="27"/>
                    </a:lnTo>
                    <a:lnTo>
                      <a:pt x="1262" y="25"/>
                    </a:lnTo>
                    <a:lnTo>
                      <a:pt x="1283" y="25"/>
                    </a:lnTo>
                    <a:lnTo>
                      <a:pt x="1304" y="23"/>
                    </a:lnTo>
                    <a:lnTo>
                      <a:pt x="1324" y="21"/>
                    </a:lnTo>
                    <a:lnTo>
                      <a:pt x="1345" y="21"/>
                    </a:lnTo>
                    <a:lnTo>
                      <a:pt x="1368" y="19"/>
                    </a:lnTo>
                    <a:lnTo>
                      <a:pt x="1389" y="17"/>
                    </a:lnTo>
                    <a:lnTo>
                      <a:pt x="1410" y="15"/>
                    </a:lnTo>
                    <a:lnTo>
                      <a:pt x="1431" y="13"/>
                    </a:lnTo>
                    <a:lnTo>
                      <a:pt x="1452" y="11"/>
                    </a:lnTo>
                    <a:lnTo>
                      <a:pt x="1471" y="10"/>
                    </a:lnTo>
                    <a:lnTo>
                      <a:pt x="1492" y="6"/>
                    </a:lnTo>
                    <a:lnTo>
                      <a:pt x="1513" y="4"/>
                    </a:lnTo>
                    <a:lnTo>
                      <a:pt x="1534" y="0"/>
                    </a:lnTo>
                    <a:lnTo>
                      <a:pt x="1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5678640" y="4289040"/>
                <a:ext cx="598320" cy="915480"/>
              </a:xfrm>
              <a:custGeom>
                <a:avLst/>
                <a:gdLst/>
                <a:ahLst/>
                <a:rect l="l" t="t" r="r" b="b"/>
                <a:pathLst>
                  <a:path w="2589" h="3967">
                    <a:moveTo>
                      <a:pt x="1293" y="6"/>
                    </a:moveTo>
                    <a:lnTo>
                      <a:pt x="1370" y="0"/>
                    </a:lnTo>
                    <a:lnTo>
                      <a:pt x="1447" y="0"/>
                    </a:lnTo>
                    <a:lnTo>
                      <a:pt x="1521" y="8"/>
                    </a:lnTo>
                    <a:lnTo>
                      <a:pt x="1593" y="21"/>
                    </a:lnTo>
                    <a:lnTo>
                      <a:pt x="1665" y="38"/>
                    </a:lnTo>
                    <a:lnTo>
                      <a:pt x="1735" y="61"/>
                    </a:lnTo>
                    <a:lnTo>
                      <a:pt x="1804" y="89"/>
                    </a:lnTo>
                    <a:lnTo>
                      <a:pt x="1872" y="123"/>
                    </a:lnTo>
                    <a:lnTo>
                      <a:pt x="1939" y="162"/>
                    </a:lnTo>
                    <a:lnTo>
                      <a:pt x="2004" y="201"/>
                    </a:lnTo>
                    <a:lnTo>
                      <a:pt x="2066" y="245"/>
                    </a:lnTo>
                    <a:lnTo>
                      <a:pt x="2129" y="295"/>
                    </a:lnTo>
                    <a:lnTo>
                      <a:pt x="2190" y="348"/>
                    </a:lnTo>
                    <a:lnTo>
                      <a:pt x="2251" y="401"/>
                    </a:lnTo>
                    <a:lnTo>
                      <a:pt x="2310" y="458"/>
                    </a:lnTo>
                    <a:lnTo>
                      <a:pt x="2370" y="519"/>
                    </a:lnTo>
                    <a:lnTo>
                      <a:pt x="2389" y="540"/>
                    </a:lnTo>
                    <a:lnTo>
                      <a:pt x="2410" y="563"/>
                    </a:lnTo>
                    <a:lnTo>
                      <a:pt x="2431" y="585"/>
                    </a:lnTo>
                    <a:lnTo>
                      <a:pt x="2450" y="608"/>
                    </a:lnTo>
                    <a:lnTo>
                      <a:pt x="2469" y="633"/>
                    </a:lnTo>
                    <a:lnTo>
                      <a:pt x="2488" y="656"/>
                    </a:lnTo>
                    <a:lnTo>
                      <a:pt x="2505" y="680"/>
                    </a:lnTo>
                    <a:lnTo>
                      <a:pt x="2524" y="707"/>
                    </a:lnTo>
                    <a:lnTo>
                      <a:pt x="2538" y="730"/>
                    </a:lnTo>
                    <a:lnTo>
                      <a:pt x="2551" y="755"/>
                    </a:lnTo>
                    <a:lnTo>
                      <a:pt x="2562" y="781"/>
                    </a:lnTo>
                    <a:lnTo>
                      <a:pt x="2574" y="808"/>
                    </a:lnTo>
                    <a:lnTo>
                      <a:pt x="2580" y="834"/>
                    </a:lnTo>
                    <a:lnTo>
                      <a:pt x="2585" y="859"/>
                    </a:lnTo>
                    <a:lnTo>
                      <a:pt x="2589" y="888"/>
                    </a:lnTo>
                    <a:lnTo>
                      <a:pt x="2589" y="916"/>
                    </a:lnTo>
                    <a:lnTo>
                      <a:pt x="2580" y="905"/>
                    </a:lnTo>
                    <a:lnTo>
                      <a:pt x="2570" y="893"/>
                    </a:lnTo>
                    <a:lnTo>
                      <a:pt x="2562" y="880"/>
                    </a:lnTo>
                    <a:lnTo>
                      <a:pt x="2555" y="869"/>
                    </a:lnTo>
                    <a:lnTo>
                      <a:pt x="2547" y="855"/>
                    </a:lnTo>
                    <a:lnTo>
                      <a:pt x="2540" y="842"/>
                    </a:lnTo>
                    <a:lnTo>
                      <a:pt x="2534" y="829"/>
                    </a:lnTo>
                    <a:lnTo>
                      <a:pt x="2528" y="815"/>
                    </a:lnTo>
                    <a:lnTo>
                      <a:pt x="2521" y="802"/>
                    </a:lnTo>
                    <a:lnTo>
                      <a:pt x="2515" y="787"/>
                    </a:lnTo>
                    <a:lnTo>
                      <a:pt x="2507" y="774"/>
                    </a:lnTo>
                    <a:lnTo>
                      <a:pt x="2502" y="760"/>
                    </a:lnTo>
                    <a:lnTo>
                      <a:pt x="2494" y="747"/>
                    </a:lnTo>
                    <a:lnTo>
                      <a:pt x="2488" y="734"/>
                    </a:lnTo>
                    <a:lnTo>
                      <a:pt x="2481" y="722"/>
                    </a:lnTo>
                    <a:lnTo>
                      <a:pt x="2473" y="711"/>
                    </a:lnTo>
                    <a:lnTo>
                      <a:pt x="2465" y="701"/>
                    </a:lnTo>
                    <a:lnTo>
                      <a:pt x="2460" y="694"/>
                    </a:lnTo>
                    <a:lnTo>
                      <a:pt x="2452" y="686"/>
                    </a:lnTo>
                    <a:lnTo>
                      <a:pt x="2446" y="680"/>
                    </a:lnTo>
                    <a:lnTo>
                      <a:pt x="2437" y="673"/>
                    </a:lnTo>
                    <a:lnTo>
                      <a:pt x="2429" y="667"/>
                    </a:lnTo>
                    <a:lnTo>
                      <a:pt x="2422" y="661"/>
                    </a:lnTo>
                    <a:lnTo>
                      <a:pt x="2412" y="656"/>
                    </a:lnTo>
                    <a:lnTo>
                      <a:pt x="2414" y="667"/>
                    </a:lnTo>
                    <a:lnTo>
                      <a:pt x="2418" y="677"/>
                    </a:lnTo>
                    <a:lnTo>
                      <a:pt x="2420" y="682"/>
                    </a:lnTo>
                    <a:lnTo>
                      <a:pt x="2422" y="688"/>
                    </a:lnTo>
                    <a:lnTo>
                      <a:pt x="2424" y="694"/>
                    </a:lnTo>
                    <a:lnTo>
                      <a:pt x="2427" y="699"/>
                    </a:lnTo>
                    <a:lnTo>
                      <a:pt x="2429" y="705"/>
                    </a:lnTo>
                    <a:lnTo>
                      <a:pt x="2431" y="711"/>
                    </a:lnTo>
                    <a:lnTo>
                      <a:pt x="2433" y="715"/>
                    </a:lnTo>
                    <a:lnTo>
                      <a:pt x="2437" y="720"/>
                    </a:lnTo>
                    <a:lnTo>
                      <a:pt x="2439" y="726"/>
                    </a:lnTo>
                    <a:lnTo>
                      <a:pt x="2443" y="732"/>
                    </a:lnTo>
                    <a:lnTo>
                      <a:pt x="2445" y="737"/>
                    </a:lnTo>
                    <a:lnTo>
                      <a:pt x="2448" y="745"/>
                    </a:lnTo>
                    <a:lnTo>
                      <a:pt x="2458" y="768"/>
                    </a:lnTo>
                    <a:lnTo>
                      <a:pt x="2471" y="793"/>
                    </a:lnTo>
                    <a:lnTo>
                      <a:pt x="2483" y="815"/>
                    </a:lnTo>
                    <a:lnTo>
                      <a:pt x="2496" y="840"/>
                    </a:lnTo>
                    <a:lnTo>
                      <a:pt x="2507" y="863"/>
                    </a:lnTo>
                    <a:lnTo>
                      <a:pt x="2519" y="890"/>
                    </a:lnTo>
                    <a:lnTo>
                      <a:pt x="2530" y="912"/>
                    </a:lnTo>
                    <a:lnTo>
                      <a:pt x="2540" y="939"/>
                    </a:lnTo>
                    <a:lnTo>
                      <a:pt x="2545" y="962"/>
                    </a:lnTo>
                    <a:lnTo>
                      <a:pt x="2551" y="985"/>
                    </a:lnTo>
                    <a:lnTo>
                      <a:pt x="2555" y="1007"/>
                    </a:lnTo>
                    <a:lnTo>
                      <a:pt x="2559" y="1032"/>
                    </a:lnTo>
                    <a:lnTo>
                      <a:pt x="2557" y="1055"/>
                    </a:lnTo>
                    <a:lnTo>
                      <a:pt x="2555" y="1078"/>
                    </a:lnTo>
                    <a:lnTo>
                      <a:pt x="2549" y="1101"/>
                    </a:lnTo>
                    <a:lnTo>
                      <a:pt x="2540" y="1123"/>
                    </a:lnTo>
                    <a:lnTo>
                      <a:pt x="2536" y="1102"/>
                    </a:lnTo>
                    <a:lnTo>
                      <a:pt x="2530" y="1083"/>
                    </a:lnTo>
                    <a:lnTo>
                      <a:pt x="2526" y="1064"/>
                    </a:lnTo>
                    <a:lnTo>
                      <a:pt x="2522" y="1044"/>
                    </a:lnTo>
                    <a:lnTo>
                      <a:pt x="2517" y="1024"/>
                    </a:lnTo>
                    <a:lnTo>
                      <a:pt x="2509" y="1005"/>
                    </a:lnTo>
                    <a:lnTo>
                      <a:pt x="2503" y="986"/>
                    </a:lnTo>
                    <a:lnTo>
                      <a:pt x="2498" y="966"/>
                    </a:lnTo>
                    <a:lnTo>
                      <a:pt x="2490" y="947"/>
                    </a:lnTo>
                    <a:lnTo>
                      <a:pt x="2484" y="926"/>
                    </a:lnTo>
                    <a:lnTo>
                      <a:pt x="2477" y="907"/>
                    </a:lnTo>
                    <a:lnTo>
                      <a:pt x="2469" y="888"/>
                    </a:lnTo>
                    <a:lnTo>
                      <a:pt x="2460" y="869"/>
                    </a:lnTo>
                    <a:lnTo>
                      <a:pt x="2450" y="850"/>
                    </a:lnTo>
                    <a:lnTo>
                      <a:pt x="2443" y="831"/>
                    </a:lnTo>
                    <a:lnTo>
                      <a:pt x="2433" y="814"/>
                    </a:lnTo>
                    <a:lnTo>
                      <a:pt x="2429" y="806"/>
                    </a:lnTo>
                    <a:lnTo>
                      <a:pt x="2426" y="798"/>
                    </a:lnTo>
                    <a:lnTo>
                      <a:pt x="2422" y="793"/>
                    </a:lnTo>
                    <a:lnTo>
                      <a:pt x="2418" y="785"/>
                    </a:lnTo>
                    <a:lnTo>
                      <a:pt x="2414" y="779"/>
                    </a:lnTo>
                    <a:lnTo>
                      <a:pt x="2410" y="772"/>
                    </a:lnTo>
                    <a:lnTo>
                      <a:pt x="2407" y="766"/>
                    </a:lnTo>
                    <a:lnTo>
                      <a:pt x="2405" y="760"/>
                    </a:lnTo>
                    <a:lnTo>
                      <a:pt x="2399" y="753"/>
                    </a:lnTo>
                    <a:lnTo>
                      <a:pt x="2395" y="747"/>
                    </a:lnTo>
                    <a:lnTo>
                      <a:pt x="2391" y="739"/>
                    </a:lnTo>
                    <a:lnTo>
                      <a:pt x="2388" y="734"/>
                    </a:lnTo>
                    <a:lnTo>
                      <a:pt x="2382" y="728"/>
                    </a:lnTo>
                    <a:lnTo>
                      <a:pt x="2378" y="722"/>
                    </a:lnTo>
                    <a:lnTo>
                      <a:pt x="2374" y="717"/>
                    </a:lnTo>
                    <a:lnTo>
                      <a:pt x="2370" y="711"/>
                    </a:lnTo>
                    <a:lnTo>
                      <a:pt x="2370" y="718"/>
                    </a:lnTo>
                    <a:lnTo>
                      <a:pt x="2372" y="730"/>
                    </a:lnTo>
                    <a:lnTo>
                      <a:pt x="2374" y="737"/>
                    </a:lnTo>
                    <a:lnTo>
                      <a:pt x="2378" y="749"/>
                    </a:lnTo>
                    <a:lnTo>
                      <a:pt x="2380" y="758"/>
                    </a:lnTo>
                    <a:lnTo>
                      <a:pt x="2382" y="768"/>
                    </a:lnTo>
                    <a:lnTo>
                      <a:pt x="2386" y="777"/>
                    </a:lnTo>
                    <a:lnTo>
                      <a:pt x="2389" y="787"/>
                    </a:lnTo>
                    <a:lnTo>
                      <a:pt x="2391" y="796"/>
                    </a:lnTo>
                    <a:lnTo>
                      <a:pt x="2395" y="806"/>
                    </a:lnTo>
                    <a:lnTo>
                      <a:pt x="2399" y="815"/>
                    </a:lnTo>
                    <a:lnTo>
                      <a:pt x="2403" y="827"/>
                    </a:lnTo>
                    <a:lnTo>
                      <a:pt x="2407" y="836"/>
                    </a:lnTo>
                    <a:lnTo>
                      <a:pt x="2410" y="846"/>
                    </a:lnTo>
                    <a:lnTo>
                      <a:pt x="2414" y="855"/>
                    </a:lnTo>
                    <a:lnTo>
                      <a:pt x="2420" y="867"/>
                    </a:lnTo>
                    <a:lnTo>
                      <a:pt x="2426" y="880"/>
                    </a:lnTo>
                    <a:lnTo>
                      <a:pt x="2429" y="897"/>
                    </a:lnTo>
                    <a:lnTo>
                      <a:pt x="2435" y="912"/>
                    </a:lnTo>
                    <a:lnTo>
                      <a:pt x="2441" y="928"/>
                    </a:lnTo>
                    <a:lnTo>
                      <a:pt x="2445" y="943"/>
                    </a:lnTo>
                    <a:lnTo>
                      <a:pt x="2450" y="958"/>
                    </a:lnTo>
                    <a:lnTo>
                      <a:pt x="2456" y="973"/>
                    </a:lnTo>
                    <a:lnTo>
                      <a:pt x="2462" y="990"/>
                    </a:lnTo>
                    <a:lnTo>
                      <a:pt x="2465" y="1004"/>
                    </a:lnTo>
                    <a:lnTo>
                      <a:pt x="2471" y="1021"/>
                    </a:lnTo>
                    <a:lnTo>
                      <a:pt x="2475" y="1036"/>
                    </a:lnTo>
                    <a:lnTo>
                      <a:pt x="2479" y="1051"/>
                    </a:lnTo>
                    <a:lnTo>
                      <a:pt x="2481" y="1068"/>
                    </a:lnTo>
                    <a:lnTo>
                      <a:pt x="2484" y="1083"/>
                    </a:lnTo>
                    <a:lnTo>
                      <a:pt x="2484" y="1099"/>
                    </a:lnTo>
                    <a:lnTo>
                      <a:pt x="2486" y="1116"/>
                    </a:lnTo>
                    <a:lnTo>
                      <a:pt x="2473" y="1108"/>
                    </a:lnTo>
                    <a:lnTo>
                      <a:pt x="2462" y="1099"/>
                    </a:lnTo>
                    <a:lnTo>
                      <a:pt x="2450" y="1087"/>
                    </a:lnTo>
                    <a:lnTo>
                      <a:pt x="2443" y="1076"/>
                    </a:lnTo>
                    <a:lnTo>
                      <a:pt x="2435" y="1061"/>
                    </a:lnTo>
                    <a:lnTo>
                      <a:pt x="2431" y="1045"/>
                    </a:lnTo>
                    <a:lnTo>
                      <a:pt x="2426" y="1030"/>
                    </a:lnTo>
                    <a:lnTo>
                      <a:pt x="2422" y="1013"/>
                    </a:lnTo>
                    <a:lnTo>
                      <a:pt x="2416" y="996"/>
                    </a:lnTo>
                    <a:lnTo>
                      <a:pt x="2412" y="979"/>
                    </a:lnTo>
                    <a:lnTo>
                      <a:pt x="2408" y="960"/>
                    </a:lnTo>
                    <a:lnTo>
                      <a:pt x="2405" y="947"/>
                    </a:lnTo>
                    <a:lnTo>
                      <a:pt x="2399" y="931"/>
                    </a:lnTo>
                    <a:lnTo>
                      <a:pt x="2393" y="916"/>
                    </a:lnTo>
                    <a:lnTo>
                      <a:pt x="2388" y="905"/>
                    </a:lnTo>
                    <a:lnTo>
                      <a:pt x="2380" y="895"/>
                    </a:lnTo>
                    <a:lnTo>
                      <a:pt x="2372" y="920"/>
                    </a:lnTo>
                    <a:lnTo>
                      <a:pt x="2363" y="947"/>
                    </a:lnTo>
                    <a:lnTo>
                      <a:pt x="2353" y="971"/>
                    </a:lnTo>
                    <a:lnTo>
                      <a:pt x="2342" y="998"/>
                    </a:lnTo>
                    <a:lnTo>
                      <a:pt x="2330" y="1024"/>
                    </a:lnTo>
                    <a:lnTo>
                      <a:pt x="2317" y="1053"/>
                    </a:lnTo>
                    <a:lnTo>
                      <a:pt x="2304" y="1080"/>
                    </a:lnTo>
                    <a:lnTo>
                      <a:pt x="2292" y="1110"/>
                    </a:lnTo>
                    <a:lnTo>
                      <a:pt x="2279" y="1137"/>
                    </a:lnTo>
                    <a:lnTo>
                      <a:pt x="2266" y="1165"/>
                    </a:lnTo>
                    <a:lnTo>
                      <a:pt x="2254" y="1194"/>
                    </a:lnTo>
                    <a:lnTo>
                      <a:pt x="2245" y="1222"/>
                    </a:lnTo>
                    <a:lnTo>
                      <a:pt x="2234" y="1251"/>
                    </a:lnTo>
                    <a:lnTo>
                      <a:pt x="2226" y="1279"/>
                    </a:lnTo>
                    <a:lnTo>
                      <a:pt x="2218" y="1310"/>
                    </a:lnTo>
                    <a:lnTo>
                      <a:pt x="2213" y="1340"/>
                    </a:lnTo>
                    <a:lnTo>
                      <a:pt x="2216" y="1340"/>
                    </a:lnTo>
                    <a:lnTo>
                      <a:pt x="2228" y="1321"/>
                    </a:lnTo>
                    <a:lnTo>
                      <a:pt x="2237" y="1304"/>
                    </a:lnTo>
                    <a:lnTo>
                      <a:pt x="2247" y="1287"/>
                    </a:lnTo>
                    <a:lnTo>
                      <a:pt x="2256" y="1274"/>
                    </a:lnTo>
                    <a:lnTo>
                      <a:pt x="2266" y="1258"/>
                    </a:lnTo>
                    <a:lnTo>
                      <a:pt x="2275" y="1241"/>
                    </a:lnTo>
                    <a:lnTo>
                      <a:pt x="2285" y="1228"/>
                    </a:lnTo>
                    <a:lnTo>
                      <a:pt x="2294" y="1213"/>
                    </a:lnTo>
                    <a:lnTo>
                      <a:pt x="2304" y="1197"/>
                    </a:lnTo>
                    <a:lnTo>
                      <a:pt x="2313" y="1182"/>
                    </a:lnTo>
                    <a:lnTo>
                      <a:pt x="2323" y="1167"/>
                    </a:lnTo>
                    <a:lnTo>
                      <a:pt x="2334" y="1154"/>
                    </a:lnTo>
                    <a:lnTo>
                      <a:pt x="2344" y="1137"/>
                    </a:lnTo>
                    <a:lnTo>
                      <a:pt x="2353" y="1121"/>
                    </a:lnTo>
                    <a:lnTo>
                      <a:pt x="2367" y="1106"/>
                    </a:lnTo>
                    <a:lnTo>
                      <a:pt x="2378" y="1091"/>
                    </a:lnTo>
                    <a:lnTo>
                      <a:pt x="2376" y="1106"/>
                    </a:lnTo>
                    <a:lnTo>
                      <a:pt x="2372" y="1123"/>
                    </a:lnTo>
                    <a:lnTo>
                      <a:pt x="2368" y="1139"/>
                    </a:lnTo>
                    <a:lnTo>
                      <a:pt x="2363" y="1156"/>
                    </a:lnTo>
                    <a:lnTo>
                      <a:pt x="2355" y="1171"/>
                    </a:lnTo>
                    <a:lnTo>
                      <a:pt x="2348" y="1186"/>
                    </a:lnTo>
                    <a:lnTo>
                      <a:pt x="2338" y="1203"/>
                    </a:lnTo>
                    <a:lnTo>
                      <a:pt x="2330" y="1218"/>
                    </a:lnTo>
                    <a:lnTo>
                      <a:pt x="2319" y="1234"/>
                    </a:lnTo>
                    <a:lnTo>
                      <a:pt x="2310" y="1251"/>
                    </a:lnTo>
                    <a:lnTo>
                      <a:pt x="2300" y="1266"/>
                    </a:lnTo>
                    <a:lnTo>
                      <a:pt x="2291" y="1283"/>
                    </a:lnTo>
                    <a:lnTo>
                      <a:pt x="2281" y="1298"/>
                    </a:lnTo>
                    <a:lnTo>
                      <a:pt x="2273" y="1315"/>
                    </a:lnTo>
                    <a:lnTo>
                      <a:pt x="2266" y="1331"/>
                    </a:lnTo>
                    <a:lnTo>
                      <a:pt x="2260" y="1348"/>
                    </a:lnTo>
                    <a:lnTo>
                      <a:pt x="2253" y="1351"/>
                    </a:lnTo>
                    <a:lnTo>
                      <a:pt x="2245" y="1357"/>
                    </a:lnTo>
                    <a:lnTo>
                      <a:pt x="2239" y="1363"/>
                    </a:lnTo>
                    <a:lnTo>
                      <a:pt x="2234" y="1370"/>
                    </a:lnTo>
                    <a:lnTo>
                      <a:pt x="2228" y="1378"/>
                    </a:lnTo>
                    <a:lnTo>
                      <a:pt x="2222" y="1386"/>
                    </a:lnTo>
                    <a:lnTo>
                      <a:pt x="2216" y="1395"/>
                    </a:lnTo>
                    <a:lnTo>
                      <a:pt x="2213" y="1403"/>
                    </a:lnTo>
                    <a:lnTo>
                      <a:pt x="2207" y="1410"/>
                    </a:lnTo>
                    <a:lnTo>
                      <a:pt x="2203" y="1418"/>
                    </a:lnTo>
                    <a:lnTo>
                      <a:pt x="2199" y="1427"/>
                    </a:lnTo>
                    <a:lnTo>
                      <a:pt x="2197" y="1435"/>
                    </a:lnTo>
                    <a:lnTo>
                      <a:pt x="2194" y="1443"/>
                    </a:lnTo>
                    <a:lnTo>
                      <a:pt x="2194" y="1448"/>
                    </a:lnTo>
                    <a:lnTo>
                      <a:pt x="2192" y="1454"/>
                    </a:lnTo>
                    <a:lnTo>
                      <a:pt x="2192" y="1460"/>
                    </a:lnTo>
                    <a:lnTo>
                      <a:pt x="2192" y="1467"/>
                    </a:lnTo>
                    <a:lnTo>
                      <a:pt x="2192" y="1471"/>
                    </a:lnTo>
                    <a:lnTo>
                      <a:pt x="2196" y="1473"/>
                    </a:lnTo>
                    <a:lnTo>
                      <a:pt x="2201" y="1473"/>
                    </a:lnTo>
                    <a:lnTo>
                      <a:pt x="2203" y="1469"/>
                    </a:lnTo>
                    <a:lnTo>
                      <a:pt x="2207" y="1467"/>
                    </a:lnTo>
                    <a:lnTo>
                      <a:pt x="2213" y="1462"/>
                    </a:lnTo>
                    <a:lnTo>
                      <a:pt x="2218" y="1458"/>
                    </a:lnTo>
                    <a:lnTo>
                      <a:pt x="2222" y="1452"/>
                    </a:lnTo>
                    <a:lnTo>
                      <a:pt x="2230" y="1445"/>
                    </a:lnTo>
                    <a:lnTo>
                      <a:pt x="2237" y="1437"/>
                    </a:lnTo>
                    <a:lnTo>
                      <a:pt x="2245" y="1429"/>
                    </a:lnTo>
                    <a:lnTo>
                      <a:pt x="2254" y="1418"/>
                    </a:lnTo>
                    <a:lnTo>
                      <a:pt x="2262" y="1408"/>
                    </a:lnTo>
                    <a:lnTo>
                      <a:pt x="2273" y="1399"/>
                    </a:lnTo>
                    <a:lnTo>
                      <a:pt x="2283" y="1391"/>
                    </a:lnTo>
                    <a:lnTo>
                      <a:pt x="2291" y="1382"/>
                    </a:lnTo>
                    <a:lnTo>
                      <a:pt x="2300" y="1372"/>
                    </a:lnTo>
                    <a:lnTo>
                      <a:pt x="2310" y="1365"/>
                    </a:lnTo>
                    <a:lnTo>
                      <a:pt x="2321" y="1357"/>
                    </a:lnTo>
                    <a:lnTo>
                      <a:pt x="2329" y="1348"/>
                    </a:lnTo>
                    <a:lnTo>
                      <a:pt x="2340" y="1340"/>
                    </a:lnTo>
                    <a:lnTo>
                      <a:pt x="2349" y="1331"/>
                    </a:lnTo>
                    <a:lnTo>
                      <a:pt x="2359" y="1325"/>
                    </a:lnTo>
                    <a:lnTo>
                      <a:pt x="2370" y="1315"/>
                    </a:lnTo>
                    <a:lnTo>
                      <a:pt x="2380" y="1310"/>
                    </a:lnTo>
                    <a:lnTo>
                      <a:pt x="2389" y="1302"/>
                    </a:lnTo>
                    <a:lnTo>
                      <a:pt x="2401" y="1296"/>
                    </a:lnTo>
                    <a:lnTo>
                      <a:pt x="2395" y="1319"/>
                    </a:lnTo>
                    <a:lnTo>
                      <a:pt x="2388" y="1342"/>
                    </a:lnTo>
                    <a:lnTo>
                      <a:pt x="2376" y="1361"/>
                    </a:lnTo>
                    <a:lnTo>
                      <a:pt x="2361" y="1384"/>
                    </a:lnTo>
                    <a:lnTo>
                      <a:pt x="2344" y="1403"/>
                    </a:lnTo>
                    <a:lnTo>
                      <a:pt x="2325" y="1424"/>
                    </a:lnTo>
                    <a:lnTo>
                      <a:pt x="2304" y="1443"/>
                    </a:lnTo>
                    <a:lnTo>
                      <a:pt x="2283" y="1462"/>
                    </a:lnTo>
                    <a:lnTo>
                      <a:pt x="2260" y="1481"/>
                    </a:lnTo>
                    <a:lnTo>
                      <a:pt x="2239" y="1502"/>
                    </a:lnTo>
                    <a:lnTo>
                      <a:pt x="2218" y="1521"/>
                    </a:lnTo>
                    <a:lnTo>
                      <a:pt x="2199" y="1540"/>
                    </a:lnTo>
                    <a:lnTo>
                      <a:pt x="2182" y="1561"/>
                    </a:lnTo>
                    <a:lnTo>
                      <a:pt x="2167" y="1581"/>
                    </a:lnTo>
                    <a:lnTo>
                      <a:pt x="2154" y="1600"/>
                    </a:lnTo>
                    <a:lnTo>
                      <a:pt x="2146" y="1623"/>
                    </a:lnTo>
                    <a:lnTo>
                      <a:pt x="2148" y="1627"/>
                    </a:lnTo>
                    <a:lnTo>
                      <a:pt x="2148" y="1631"/>
                    </a:lnTo>
                    <a:lnTo>
                      <a:pt x="2148" y="1637"/>
                    </a:lnTo>
                    <a:lnTo>
                      <a:pt x="2150" y="1642"/>
                    </a:lnTo>
                    <a:lnTo>
                      <a:pt x="2161" y="1637"/>
                    </a:lnTo>
                    <a:lnTo>
                      <a:pt x="2175" y="1631"/>
                    </a:lnTo>
                    <a:lnTo>
                      <a:pt x="2190" y="1623"/>
                    </a:lnTo>
                    <a:lnTo>
                      <a:pt x="2203" y="1616"/>
                    </a:lnTo>
                    <a:lnTo>
                      <a:pt x="2218" y="1606"/>
                    </a:lnTo>
                    <a:lnTo>
                      <a:pt x="2234" y="1595"/>
                    </a:lnTo>
                    <a:lnTo>
                      <a:pt x="2249" y="1583"/>
                    </a:lnTo>
                    <a:lnTo>
                      <a:pt x="2264" y="1574"/>
                    </a:lnTo>
                    <a:lnTo>
                      <a:pt x="2279" y="1561"/>
                    </a:lnTo>
                    <a:lnTo>
                      <a:pt x="2294" y="1549"/>
                    </a:lnTo>
                    <a:lnTo>
                      <a:pt x="2310" y="1538"/>
                    </a:lnTo>
                    <a:lnTo>
                      <a:pt x="2327" y="1526"/>
                    </a:lnTo>
                    <a:lnTo>
                      <a:pt x="2342" y="1515"/>
                    </a:lnTo>
                    <a:lnTo>
                      <a:pt x="2359" y="1505"/>
                    </a:lnTo>
                    <a:lnTo>
                      <a:pt x="2374" y="1496"/>
                    </a:lnTo>
                    <a:lnTo>
                      <a:pt x="2391" y="1488"/>
                    </a:lnTo>
                    <a:lnTo>
                      <a:pt x="2359" y="1526"/>
                    </a:lnTo>
                    <a:lnTo>
                      <a:pt x="2327" y="1562"/>
                    </a:lnTo>
                    <a:lnTo>
                      <a:pt x="2292" y="1593"/>
                    </a:lnTo>
                    <a:lnTo>
                      <a:pt x="2258" y="1625"/>
                    </a:lnTo>
                    <a:lnTo>
                      <a:pt x="2220" y="1652"/>
                    </a:lnTo>
                    <a:lnTo>
                      <a:pt x="2182" y="1678"/>
                    </a:lnTo>
                    <a:lnTo>
                      <a:pt x="2144" y="1705"/>
                    </a:lnTo>
                    <a:lnTo>
                      <a:pt x="2104" y="1728"/>
                    </a:lnTo>
                    <a:lnTo>
                      <a:pt x="2064" y="1751"/>
                    </a:lnTo>
                    <a:lnTo>
                      <a:pt x="2023" y="1773"/>
                    </a:lnTo>
                    <a:lnTo>
                      <a:pt x="1983" y="1794"/>
                    </a:lnTo>
                    <a:lnTo>
                      <a:pt x="1943" y="1817"/>
                    </a:lnTo>
                    <a:lnTo>
                      <a:pt x="1903" y="1840"/>
                    </a:lnTo>
                    <a:lnTo>
                      <a:pt x="1863" y="1865"/>
                    </a:lnTo>
                    <a:lnTo>
                      <a:pt x="1823" y="1889"/>
                    </a:lnTo>
                    <a:lnTo>
                      <a:pt x="1787" y="1916"/>
                    </a:lnTo>
                    <a:lnTo>
                      <a:pt x="1764" y="1925"/>
                    </a:lnTo>
                    <a:lnTo>
                      <a:pt x="1739" y="1935"/>
                    </a:lnTo>
                    <a:lnTo>
                      <a:pt x="1716" y="1946"/>
                    </a:lnTo>
                    <a:lnTo>
                      <a:pt x="1692" y="1958"/>
                    </a:lnTo>
                    <a:lnTo>
                      <a:pt x="1667" y="1969"/>
                    </a:lnTo>
                    <a:lnTo>
                      <a:pt x="1642" y="1979"/>
                    </a:lnTo>
                    <a:lnTo>
                      <a:pt x="1618" y="1988"/>
                    </a:lnTo>
                    <a:lnTo>
                      <a:pt x="1593" y="1998"/>
                    </a:lnTo>
                    <a:lnTo>
                      <a:pt x="1568" y="2005"/>
                    </a:lnTo>
                    <a:lnTo>
                      <a:pt x="1543" y="2011"/>
                    </a:lnTo>
                    <a:lnTo>
                      <a:pt x="1517" y="2015"/>
                    </a:lnTo>
                    <a:lnTo>
                      <a:pt x="1492" y="2015"/>
                    </a:lnTo>
                    <a:lnTo>
                      <a:pt x="1467" y="2013"/>
                    </a:lnTo>
                    <a:lnTo>
                      <a:pt x="1443" y="2009"/>
                    </a:lnTo>
                    <a:lnTo>
                      <a:pt x="1420" y="2002"/>
                    </a:lnTo>
                    <a:lnTo>
                      <a:pt x="1395" y="1990"/>
                    </a:lnTo>
                    <a:lnTo>
                      <a:pt x="1391" y="1992"/>
                    </a:lnTo>
                    <a:lnTo>
                      <a:pt x="1389" y="1994"/>
                    </a:lnTo>
                    <a:lnTo>
                      <a:pt x="1386" y="1967"/>
                    </a:lnTo>
                    <a:lnTo>
                      <a:pt x="1388" y="1945"/>
                    </a:lnTo>
                    <a:lnTo>
                      <a:pt x="1395" y="1927"/>
                    </a:lnTo>
                    <a:lnTo>
                      <a:pt x="1407" y="1912"/>
                    </a:lnTo>
                    <a:lnTo>
                      <a:pt x="1424" y="1901"/>
                    </a:lnTo>
                    <a:lnTo>
                      <a:pt x="1443" y="1891"/>
                    </a:lnTo>
                    <a:lnTo>
                      <a:pt x="1466" y="1884"/>
                    </a:lnTo>
                    <a:lnTo>
                      <a:pt x="1488" y="1880"/>
                    </a:lnTo>
                    <a:lnTo>
                      <a:pt x="1513" y="1874"/>
                    </a:lnTo>
                    <a:lnTo>
                      <a:pt x="1540" y="1870"/>
                    </a:lnTo>
                    <a:lnTo>
                      <a:pt x="1564" y="1867"/>
                    </a:lnTo>
                    <a:lnTo>
                      <a:pt x="1591" y="1863"/>
                    </a:lnTo>
                    <a:lnTo>
                      <a:pt x="1616" y="1857"/>
                    </a:lnTo>
                    <a:lnTo>
                      <a:pt x="1639" y="1851"/>
                    </a:lnTo>
                    <a:lnTo>
                      <a:pt x="1659" y="1842"/>
                    </a:lnTo>
                    <a:lnTo>
                      <a:pt x="1677" y="1830"/>
                    </a:lnTo>
                    <a:lnTo>
                      <a:pt x="1718" y="1813"/>
                    </a:lnTo>
                    <a:lnTo>
                      <a:pt x="1762" y="1796"/>
                    </a:lnTo>
                    <a:lnTo>
                      <a:pt x="1804" y="1775"/>
                    </a:lnTo>
                    <a:lnTo>
                      <a:pt x="1846" y="1753"/>
                    </a:lnTo>
                    <a:lnTo>
                      <a:pt x="1886" y="1726"/>
                    </a:lnTo>
                    <a:lnTo>
                      <a:pt x="1924" y="1699"/>
                    </a:lnTo>
                    <a:lnTo>
                      <a:pt x="1962" y="1669"/>
                    </a:lnTo>
                    <a:lnTo>
                      <a:pt x="1998" y="1637"/>
                    </a:lnTo>
                    <a:lnTo>
                      <a:pt x="2028" y="1602"/>
                    </a:lnTo>
                    <a:lnTo>
                      <a:pt x="2057" y="1566"/>
                    </a:lnTo>
                    <a:lnTo>
                      <a:pt x="2081" y="1528"/>
                    </a:lnTo>
                    <a:lnTo>
                      <a:pt x="2104" y="1488"/>
                    </a:lnTo>
                    <a:lnTo>
                      <a:pt x="2119" y="1445"/>
                    </a:lnTo>
                    <a:lnTo>
                      <a:pt x="2133" y="1403"/>
                    </a:lnTo>
                    <a:lnTo>
                      <a:pt x="2140" y="1357"/>
                    </a:lnTo>
                    <a:lnTo>
                      <a:pt x="2142" y="1312"/>
                    </a:lnTo>
                    <a:lnTo>
                      <a:pt x="2150" y="1251"/>
                    </a:lnTo>
                    <a:lnTo>
                      <a:pt x="2154" y="1190"/>
                    </a:lnTo>
                    <a:lnTo>
                      <a:pt x="2154" y="1131"/>
                    </a:lnTo>
                    <a:lnTo>
                      <a:pt x="2152" y="1072"/>
                    </a:lnTo>
                    <a:lnTo>
                      <a:pt x="2144" y="1013"/>
                    </a:lnTo>
                    <a:lnTo>
                      <a:pt x="2135" y="956"/>
                    </a:lnTo>
                    <a:lnTo>
                      <a:pt x="2119" y="901"/>
                    </a:lnTo>
                    <a:lnTo>
                      <a:pt x="2100" y="846"/>
                    </a:lnTo>
                    <a:lnTo>
                      <a:pt x="2076" y="793"/>
                    </a:lnTo>
                    <a:lnTo>
                      <a:pt x="2051" y="739"/>
                    </a:lnTo>
                    <a:lnTo>
                      <a:pt x="2017" y="688"/>
                    </a:lnTo>
                    <a:lnTo>
                      <a:pt x="1983" y="641"/>
                    </a:lnTo>
                    <a:lnTo>
                      <a:pt x="1943" y="595"/>
                    </a:lnTo>
                    <a:lnTo>
                      <a:pt x="1897" y="551"/>
                    </a:lnTo>
                    <a:lnTo>
                      <a:pt x="1848" y="509"/>
                    </a:lnTo>
                    <a:lnTo>
                      <a:pt x="1794" y="471"/>
                    </a:lnTo>
                    <a:lnTo>
                      <a:pt x="1728" y="441"/>
                    </a:lnTo>
                    <a:lnTo>
                      <a:pt x="1659" y="416"/>
                    </a:lnTo>
                    <a:lnTo>
                      <a:pt x="1589" y="395"/>
                    </a:lnTo>
                    <a:lnTo>
                      <a:pt x="1521" y="382"/>
                    </a:lnTo>
                    <a:lnTo>
                      <a:pt x="1450" y="371"/>
                    </a:lnTo>
                    <a:lnTo>
                      <a:pt x="1380" y="367"/>
                    </a:lnTo>
                    <a:lnTo>
                      <a:pt x="1310" y="367"/>
                    </a:lnTo>
                    <a:lnTo>
                      <a:pt x="1239" y="373"/>
                    </a:lnTo>
                    <a:lnTo>
                      <a:pt x="1169" y="380"/>
                    </a:lnTo>
                    <a:lnTo>
                      <a:pt x="1101" y="397"/>
                    </a:lnTo>
                    <a:lnTo>
                      <a:pt x="1034" y="416"/>
                    </a:lnTo>
                    <a:lnTo>
                      <a:pt x="967" y="441"/>
                    </a:lnTo>
                    <a:lnTo>
                      <a:pt x="901" y="469"/>
                    </a:lnTo>
                    <a:lnTo>
                      <a:pt x="838" y="504"/>
                    </a:lnTo>
                    <a:lnTo>
                      <a:pt x="777" y="544"/>
                    </a:lnTo>
                    <a:lnTo>
                      <a:pt x="720" y="589"/>
                    </a:lnTo>
                    <a:lnTo>
                      <a:pt x="667" y="633"/>
                    </a:lnTo>
                    <a:lnTo>
                      <a:pt x="618" y="680"/>
                    </a:lnTo>
                    <a:lnTo>
                      <a:pt x="574" y="730"/>
                    </a:lnTo>
                    <a:lnTo>
                      <a:pt x="534" y="779"/>
                    </a:lnTo>
                    <a:lnTo>
                      <a:pt x="498" y="831"/>
                    </a:lnTo>
                    <a:lnTo>
                      <a:pt x="466" y="884"/>
                    </a:lnTo>
                    <a:lnTo>
                      <a:pt x="437" y="939"/>
                    </a:lnTo>
                    <a:lnTo>
                      <a:pt x="410" y="994"/>
                    </a:lnTo>
                    <a:lnTo>
                      <a:pt x="388" y="1049"/>
                    </a:lnTo>
                    <a:lnTo>
                      <a:pt x="367" y="1108"/>
                    </a:lnTo>
                    <a:lnTo>
                      <a:pt x="348" y="1167"/>
                    </a:lnTo>
                    <a:lnTo>
                      <a:pt x="333" y="1226"/>
                    </a:lnTo>
                    <a:lnTo>
                      <a:pt x="317" y="1285"/>
                    </a:lnTo>
                    <a:lnTo>
                      <a:pt x="302" y="1348"/>
                    </a:lnTo>
                    <a:lnTo>
                      <a:pt x="289" y="1408"/>
                    </a:lnTo>
                    <a:lnTo>
                      <a:pt x="277" y="1471"/>
                    </a:lnTo>
                    <a:lnTo>
                      <a:pt x="260" y="1600"/>
                    </a:lnTo>
                    <a:lnTo>
                      <a:pt x="258" y="1730"/>
                    </a:lnTo>
                    <a:lnTo>
                      <a:pt x="272" y="1857"/>
                    </a:lnTo>
                    <a:lnTo>
                      <a:pt x="298" y="1983"/>
                    </a:lnTo>
                    <a:lnTo>
                      <a:pt x="334" y="2106"/>
                    </a:lnTo>
                    <a:lnTo>
                      <a:pt x="384" y="2224"/>
                    </a:lnTo>
                    <a:lnTo>
                      <a:pt x="445" y="2340"/>
                    </a:lnTo>
                    <a:lnTo>
                      <a:pt x="515" y="2452"/>
                    </a:lnTo>
                    <a:lnTo>
                      <a:pt x="591" y="2557"/>
                    </a:lnTo>
                    <a:lnTo>
                      <a:pt x="677" y="2657"/>
                    </a:lnTo>
                    <a:lnTo>
                      <a:pt x="770" y="2750"/>
                    </a:lnTo>
                    <a:lnTo>
                      <a:pt x="871" y="2840"/>
                    </a:lnTo>
                    <a:lnTo>
                      <a:pt x="975" y="2920"/>
                    </a:lnTo>
                    <a:lnTo>
                      <a:pt x="1085" y="2992"/>
                    </a:lnTo>
                    <a:lnTo>
                      <a:pt x="1199" y="3056"/>
                    </a:lnTo>
                    <a:lnTo>
                      <a:pt x="1317" y="3112"/>
                    </a:lnTo>
                    <a:lnTo>
                      <a:pt x="1327" y="3112"/>
                    </a:lnTo>
                    <a:lnTo>
                      <a:pt x="1334" y="3112"/>
                    </a:lnTo>
                    <a:lnTo>
                      <a:pt x="1342" y="3112"/>
                    </a:lnTo>
                    <a:lnTo>
                      <a:pt x="1350" y="3112"/>
                    </a:lnTo>
                    <a:lnTo>
                      <a:pt x="1357" y="3112"/>
                    </a:lnTo>
                    <a:lnTo>
                      <a:pt x="1367" y="3112"/>
                    </a:lnTo>
                    <a:lnTo>
                      <a:pt x="1374" y="3112"/>
                    </a:lnTo>
                    <a:lnTo>
                      <a:pt x="1382" y="3112"/>
                    </a:lnTo>
                    <a:lnTo>
                      <a:pt x="1389" y="3112"/>
                    </a:lnTo>
                    <a:lnTo>
                      <a:pt x="1397" y="3112"/>
                    </a:lnTo>
                    <a:lnTo>
                      <a:pt x="1405" y="3112"/>
                    </a:lnTo>
                    <a:lnTo>
                      <a:pt x="1414" y="3112"/>
                    </a:lnTo>
                    <a:lnTo>
                      <a:pt x="1422" y="3112"/>
                    </a:lnTo>
                    <a:lnTo>
                      <a:pt x="1429" y="3112"/>
                    </a:lnTo>
                    <a:lnTo>
                      <a:pt x="1437" y="3112"/>
                    </a:lnTo>
                    <a:lnTo>
                      <a:pt x="1447" y="3112"/>
                    </a:lnTo>
                    <a:lnTo>
                      <a:pt x="1439" y="3091"/>
                    </a:lnTo>
                    <a:lnTo>
                      <a:pt x="1431" y="3074"/>
                    </a:lnTo>
                    <a:lnTo>
                      <a:pt x="1420" y="3056"/>
                    </a:lnTo>
                    <a:lnTo>
                      <a:pt x="1408" y="3041"/>
                    </a:lnTo>
                    <a:lnTo>
                      <a:pt x="1393" y="3026"/>
                    </a:lnTo>
                    <a:lnTo>
                      <a:pt x="1378" y="3013"/>
                    </a:lnTo>
                    <a:lnTo>
                      <a:pt x="1363" y="2998"/>
                    </a:lnTo>
                    <a:lnTo>
                      <a:pt x="1348" y="2986"/>
                    </a:lnTo>
                    <a:lnTo>
                      <a:pt x="1331" y="2975"/>
                    </a:lnTo>
                    <a:lnTo>
                      <a:pt x="1313" y="2963"/>
                    </a:lnTo>
                    <a:lnTo>
                      <a:pt x="1296" y="2950"/>
                    </a:lnTo>
                    <a:lnTo>
                      <a:pt x="1283" y="2939"/>
                    </a:lnTo>
                    <a:lnTo>
                      <a:pt x="1268" y="2927"/>
                    </a:lnTo>
                    <a:lnTo>
                      <a:pt x="1255" y="2916"/>
                    </a:lnTo>
                    <a:lnTo>
                      <a:pt x="1243" y="2903"/>
                    </a:lnTo>
                    <a:lnTo>
                      <a:pt x="1236" y="2891"/>
                    </a:lnTo>
                    <a:lnTo>
                      <a:pt x="1262" y="2897"/>
                    </a:lnTo>
                    <a:lnTo>
                      <a:pt x="1289" y="2904"/>
                    </a:lnTo>
                    <a:lnTo>
                      <a:pt x="1315" y="2916"/>
                    </a:lnTo>
                    <a:lnTo>
                      <a:pt x="1342" y="2927"/>
                    </a:lnTo>
                    <a:lnTo>
                      <a:pt x="1369" y="2937"/>
                    </a:lnTo>
                    <a:lnTo>
                      <a:pt x="1395" y="2948"/>
                    </a:lnTo>
                    <a:lnTo>
                      <a:pt x="1422" y="2958"/>
                    </a:lnTo>
                    <a:lnTo>
                      <a:pt x="1447" y="2967"/>
                    </a:lnTo>
                    <a:lnTo>
                      <a:pt x="1473" y="2973"/>
                    </a:lnTo>
                    <a:lnTo>
                      <a:pt x="1498" y="2979"/>
                    </a:lnTo>
                    <a:lnTo>
                      <a:pt x="1524" y="2980"/>
                    </a:lnTo>
                    <a:lnTo>
                      <a:pt x="1551" y="2980"/>
                    </a:lnTo>
                    <a:lnTo>
                      <a:pt x="1578" y="2975"/>
                    </a:lnTo>
                    <a:lnTo>
                      <a:pt x="1602" y="2965"/>
                    </a:lnTo>
                    <a:lnTo>
                      <a:pt x="1631" y="2952"/>
                    </a:lnTo>
                    <a:lnTo>
                      <a:pt x="1659" y="2933"/>
                    </a:lnTo>
                    <a:lnTo>
                      <a:pt x="1673" y="2925"/>
                    </a:lnTo>
                    <a:lnTo>
                      <a:pt x="1688" y="2920"/>
                    </a:lnTo>
                    <a:lnTo>
                      <a:pt x="1703" y="2912"/>
                    </a:lnTo>
                    <a:lnTo>
                      <a:pt x="1720" y="2904"/>
                    </a:lnTo>
                    <a:lnTo>
                      <a:pt x="1735" y="2899"/>
                    </a:lnTo>
                    <a:lnTo>
                      <a:pt x="1753" y="2891"/>
                    </a:lnTo>
                    <a:lnTo>
                      <a:pt x="1770" y="2885"/>
                    </a:lnTo>
                    <a:lnTo>
                      <a:pt x="1787" y="2878"/>
                    </a:lnTo>
                    <a:lnTo>
                      <a:pt x="1802" y="2870"/>
                    </a:lnTo>
                    <a:lnTo>
                      <a:pt x="1817" y="2861"/>
                    </a:lnTo>
                    <a:lnTo>
                      <a:pt x="1832" y="2851"/>
                    </a:lnTo>
                    <a:lnTo>
                      <a:pt x="1848" y="2842"/>
                    </a:lnTo>
                    <a:lnTo>
                      <a:pt x="1859" y="2830"/>
                    </a:lnTo>
                    <a:lnTo>
                      <a:pt x="1872" y="2819"/>
                    </a:lnTo>
                    <a:lnTo>
                      <a:pt x="1882" y="2804"/>
                    </a:lnTo>
                    <a:lnTo>
                      <a:pt x="1893" y="2790"/>
                    </a:lnTo>
                    <a:lnTo>
                      <a:pt x="1876" y="2796"/>
                    </a:lnTo>
                    <a:lnTo>
                      <a:pt x="1859" y="2802"/>
                    </a:lnTo>
                    <a:lnTo>
                      <a:pt x="1844" y="2807"/>
                    </a:lnTo>
                    <a:lnTo>
                      <a:pt x="1827" y="2815"/>
                    </a:lnTo>
                    <a:lnTo>
                      <a:pt x="1812" y="2821"/>
                    </a:lnTo>
                    <a:lnTo>
                      <a:pt x="1796" y="2828"/>
                    </a:lnTo>
                    <a:lnTo>
                      <a:pt x="1779" y="2834"/>
                    </a:lnTo>
                    <a:lnTo>
                      <a:pt x="1764" y="2842"/>
                    </a:lnTo>
                    <a:lnTo>
                      <a:pt x="1747" y="2847"/>
                    </a:lnTo>
                    <a:lnTo>
                      <a:pt x="1732" y="2853"/>
                    </a:lnTo>
                    <a:lnTo>
                      <a:pt x="1716" y="2861"/>
                    </a:lnTo>
                    <a:lnTo>
                      <a:pt x="1703" y="2868"/>
                    </a:lnTo>
                    <a:lnTo>
                      <a:pt x="1686" y="2876"/>
                    </a:lnTo>
                    <a:lnTo>
                      <a:pt x="1671" y="2884"/>
                    </a:lnTo>
                    <a:lnTo>
                      <a:pt x="1656" y="2889"/>
                    </a:lnTo>
                    <a:lnTo>
                      <a:pt x="1640" y="2897"/>
                    </a:lnTo>
                    <a:lnTo>
                      <a:pt x="1644" y="2884"/>
                    </a:lnTo>
                    <a:lnTo>
                      <a:pt x="1652" y="2872"/>
                    </a:lnTo>
                    <a:lnTo>
                      <a:pt x="1663" y="2859"/>
                    </a:lnTo>
                    <a:lnTo>
                      <a:pt x="1675" y="2851"/>
                    </a:lnTo>
                    <a:lnTo>
                      <a:pt x="1688" y="2842"/>
                    </a:lnTo>
                    <a:lnTo>
                      <a:pt x="1703" y="2834"/>
                    </a:lnTo>
                    <a:lnTo>
                      <a:pt x="1718" y="2825"/>
                    </a:lnTo>
                    <a:lnTo>
                      <a:pt x="1735" y="2819"/>
                    </a:lnTo>
                    <a:lnTo>
                      <a:pt x="1751" y="2809"/>
                    </a:lnTo>
                    <a:lnTo>
                      <a:pt x="1764" y="2802"/>
                    </a:lnTo>
                    <a:lnTo>
                      <a:pt x="1777" y="2792"/>
                    </a:lnTo>
                    <a:lnTo>
                      <a:pt x="1791" y="2783"/>
                    </a:lnTo>
                    <a:lnTo>
                      <a:pt x="1802" y="2773"/>
                    </a:lnTo>
                    <a:lnTo>
                      <a:pt x="1810" y="2762"/>
                    </a:lnTo>
                    <a:lnTo>
                      <a:pt x="1815" y="2749"/>
                    </a:lnTo>
                    <a:lnTo>
                      <a:pt x="1819" y="2735"/>
                    </a:lnTo>
                    <a:lnTo>
                      <a:pt x="1802" y="2737"/>
                    </a:lnTo>
                    <a:lnTo>
                      <a:pt x="1785" y="2741"/>
                    </a:lnTo>
                    <a:lnTo>
                      <a:pt x="1770" y="2747"/>
                    </a:lnTo>
                    <a:lnTo>
                      <a:pt x="1756" y="2754"/>
                    </a:lnTo>
                    <a:lnTo>
                      <a:pt x="1741" y="2760"/>
                    </a:lnTo>
                    <a:lnTo>
                      <a:pt x="1726" y="2769"/>
                    </a:lnTo>
                    <a:lnTo>
                      <a:pt x="1713" y="2779"/>
                    </a:lnTo>
                    <a:lnTo>
                      <a:pt x="1699" y="2788"/>
                    </a:lnTo>
                    <a:lnTo>
                      <a:pt x="1684" y="2796"/>
                    </a:lnTo>
                    <a:lnTo>
                      <a:pt x="1671" y="2807"/>
                    </a:lnTo>
                    <a:lnTo>
                      <a:pt x="1658" y="2817"/>
                    </a:lnTo>
                    <a:lnTo>
                      <a:pt x="1642" y="2826"/>
                    </a:lnTo>
                    <a:lnTo>
                      <a:pt x="1629" y="2836"/>
                    </a:lnTo>
                    <a:lnTo>
                      <a:pt x="1614" y="2846"/>
                    </a:lnTo>
                    <a:lnTo>
                      <a:pt x="1599" y="2853"/>
                    </a:lnTo>
                    <a:lnTo>
                      <a:pt x="1583" y="2863"/>
                    </a:lnTo>
                    <a:lnTo>
                      <a:pt x="1581" y="2849"/>
                    </a:lnTo>
                    <a:lnTo>
                      <a:pt x="1583" y="2838"/>
                    </a:lnTo>
                    <a:lnTo>
                      <a:pt x="1587" y="2828"/>
                    </a:lnTo>
                    <a:lnTo>
                      <a:pt x="1595" y="2819"/>
                    </a:lnTo>
                    <a:lnTo>
                      <a:pt x="1602" y="2809"/>
                    </a:lnTo>
                    <a:lnTo>
                      <a:pt x="1612" y="2802"/>
                    </a:lnTo>
                    <a:lnTo>
                      <a:pt x="1623" y="2794"/>
                    </a:lnTo>
                    <a:lnTo>
                      <a:pt x="1637" y="2787"/>
                    </a:lnTo>
                    <a:lnTo>
                      <a:pt x="1648" y="2777"/>
                    </a:lnTo>
                    <a:lnTo>
                      <a:pt x="1661" y="2769"/>
                    </a:lnTo>
                    <a:lnTo>
                      <a:pt x="1673" y="2760"/>
                    </a:lnTo>
                    <a:lnTo>
                      <a:pt x="1686" y="2752"/>
                    </a:lnTo>
                    <a:lnTo>
                      <a:pt x="1697" y="2741"/>
                    </a:lnTo>
                    <a:lnTo>
                      <a:pt x="1709" y="2731"/>
                    </a:lnTo>
                    <a:lnTo>
                      <a:pt x="1718" y="2720"/>
                    </a:lnTo>
                    <a:lnTo>
                      <a:pt x="1726" y="2709"/>
                    </a:lnTo>
                    <a:lnTo>
                      <a:pt x="1732" y="2703"/>
                    </a:lnTo>
                    <a:lnTo>
                      <a:pt x="1737" y="2697"/>
                    </a:lnTo>
                    <a:lnTo>
                      <a:pt x="1743" y="2692"/>
                    </a:lnTo>
                    <a:lnTo>
                      <a:pt x="1749" y="2686"/>
                    </a:lnTo>
                    <a:lnTo>
                      <a:pt x="1753" y="2678"/>
                    </a:lnTo>
                    <a:lnTo>
                      <a:pt x="1756" y="2673"/>
                    </a:lnTo>
                    <a:lnTo>
                      <a:pt x="1758" y="2663"/>
                    </a:lnTo>
                    <a:lnTo>
                      <a:pt x="1758" y="2655"/>
                    </a:lnTo>
                    <a:lnTo>
                      <a:pt x="1739" y="2659"/>
                    </a:lnTo>
                    <a:lnTo>
                      <a:pt x="1724" y="2665"/>
                    </a:lnTo>
                    <a:lnTo>
                      <a:pt x="1707" y="2671"/>
                    </a:lnTo>
                    <a:lnTo>
                      <a:pt x="1692" y="2680"/>
                    </a:lnTo>
                    <a:lnTo>
                      <a:pt x="1678" y="2690"/>
                    </a:lnTo>
                    <a:lnTo>
                      <a:pt x="1663" y="2699"/>
                    </a:lnTo>
                    <a:lnTo>
                      <a:pt x="1650" y="2711"/>
                    </a:lnTo>
                    <a:lnTo>
                      <a:pt x="1637" y="2722"/>
                    </a:lnTo>
                    <a:lnTo>
                      <a:pt x="1621" y="2733"/>
                    </a:lnTo>
                    <a:lnTo>
                      <a:pt x="1606" y="2743"/>
                    </a:lnTo>
                    <a:lnTo>
                      <a:pt x="1593" y="2752"/>
                    </a:lnTo>
                    <a:lnTo>
                      <a:pt x="1578" y="2762"/>
                    </a:lnTo>
                    <a:lnTo>
                      <a:pt x="1562" y="2769"/>
                    </a:lnTo>
                    <a:lnTo>
                      <a:pt x="1545" y="2777"/>
                    </a:lnTo>
                    <a:lnTo>
                      <a:pt x="1528" y="2781"/>
                    </a:lnTo>
                    <a:lnTo>
                      <a:pt x="1511" y="2785"/>
                    </a:lnTo>
                    <a:lnTo>
                      <a:pt x="1515" y="2775"/>
                    </a:lnTo>
                    <a:lnTo>
                      <a:pt x="1521" y="2766"/>
                    </a:lnTo>
                    <a:lnTo>
                      <a:pt x="1528" y="2756"/>
                    </a:lnTo>
                    <a:lnTo>
                      <a:pt x="1536" y="2747"/>
                    </a:lnTo>
                    <a:lnTo>
                      <a:pt x="1542" y="2737"/>
                    </a:lnTo>
                    <a:lnTo>
                      <a:pt x="1551" y="2726"/>
                    </a:lnTo>
                    <a:lnTo>
                      <a:pt x="1561" y="2718"/>
                    </a:lnTo>
                    <a:lnTo>
                      <a:pt x="1570" y="2709"/>
                    </a:lnTo>
                    <a:lnTo>
                      <a:pt x="1578" y="2699"/>
                    </a:lnTo>
                    <a:lnTo>
                      <a:pt x="1587" y="2692"/>
                    </a:lnTo>
                    <a:lnTo>
                      <a:pt x="1597" y="2682"/>
                    </a:lnTo>
                    <a:lnTo>
                      <a:pt x="1610" y="2674"/>
                    </a:lnTo>
                    <a:lnTo>
                      <a:pt x="1620" y="2667"/>
                    </a:lnTo>
                    <a:lnTo>
                      <a:pt x="1629" y="2659"/>
                    </a:lnTo>
                    <a:lnTo>
                      <a:pt x="1640" y="2654"/>
                    </a:lnTo>
                    <a:lnTo>
                      <a:pt x="1652" y="2650"/>
                    </a:lnTo>
                    <a:lnTo>
                      <a:pt x="1640" y="2644"/>
                    </a:lnTo>
                    <a:lnTo>
                      <a:pt x="1631" y="2640"/>
                    </a:lnTo>
                    <a:lnTo>
                      <a:pt x="1621" y="2638"/>
                    </a:lnTo>
                    <a:lnTo>
                      <a:pt x="1612" y="2640"/>
                    </a:lnTo>
                    <a:lnTo>
                      <a:pt x="1604" y="2640"/>
                    </a:lnTo>
                    <a:lnTo>
                      <a:pt x="1599" y="2640"/>
                    </a:lnTo>
                    <a:lnTo>
                      <a:pt x="1593" y="2640"/>
                    </a:lnTo>
                    <a:lnTo>
                      <a:pt x="1589" y="2642"/>
                    </a:lnTo>
                    <a:lnTo>
                      <a:pt x="1583" y="2642"/>
                    </a:lnTo>
                    <a:lnTo>
                      <a:pt x="1578" y="2644"/>
                    </a:lnTo>
                    <a:lnTo>
                      <a:pt x="1572" y="2646"/>
                    </a:lnTo>
                    <a:lnTo>
                      <a:pt x="1566" y="2650"/>
                    </a:lnTo>
                    <a:lnTo>
                      <a:pt x="1557" y="2652"/>
                    </a:lnTo>
                    <a:lnTo>
                      <a:pt x="1547" y="2657"/>
                    </a:lnTo>
                    <a:lnTo>
                      <a:pt x="1538" y="2661"/>
                    </a:lnTo>
                    <a:lnTo>
                      <a:pt x="1528" y="2667"/>
                    </a:lnTo>
                    <a:lnTo>
                      <a:pt x="1519" y="2673"/>
                    </a:lnTo>
                    <a:lnTo>
                      <a:pt x="1509" y="2676"/>
                    </a:lnTo>
                    <a:lnTo>
                      <a:pt x="1500" y="2682"/>
                    </a:lnTo>
                    <a:lnTo>
                      <a:pt x="1490" y="2690"/>
                    </a:lnTo>
                    <a:lnTo>
                      <a:pt x="1481" y="2693"/>
                    </a:lnTo>
                    <a:lnTo>
                      <a:pt x="1471" y="2699"/>
                    </a:lnTo>
                    <a:lnTo>
                      <a:pt x="1464" y="2703"/>
                    </a:lnTo>
                    <a:lnTo>
                      <a:pt x="1454" y="2709"/>
                    </a:lnTo>
                    <a:lnTo>
                      <a:pt x="1445" y="2712"/>
                    </a:lnTo>
                    <a:lnTo>
                      <a:pt x="1437" y="2718"/>
                    </a:lnTo>
                    <a:lnTo>
                      <a:pt x="1429" y="2722"/>
                    </a:lnTo>
                    <a:lnTo>
                      <a:pt x="1422" y="2726"/>
                    </a:lnTo>
                    <a:lnTo>
                      <a:pt x="1420" y="2718"/>
                    </a:lnTo>
                    <a:lnTo>
                      <a:pt x="1422" y="2709"/>
                    </a:lnTo>
                    <a:lnTo>
                      <a:pt x="1424" y="2701"/>
                    </a:lnTo>
                    <a:lnTo>
                      <a:pt x="1428" y="2695"/>
                    </a:lnTo>
                    <a:lnTo>
                      <a:pt x="1429" y="2688"/>
                    </a:lnTo>
                    <a:lnTo>
                      <a:pt x="1435" y="2680"/>
                    </a:lnTo>
                    <a:lnTo>
                      <a:pt x="1441" y="2674"/>
                    </a:lnTo>
                    <a:lnTo>
                      <a:pt x="1447" y="2669"/>
                    </a:lnTo>
                    <a:lnTo>
                      <a:pt x="1452" y="2661"/>
                    </a:lnTo>
                    <a:lnTo>
                      <a:pt x="1458" y="2655"/>
                    </a:lnTo>
                    <a:lnTo>
                      <a:pt x="1464" y="2648"/>
                    </a:lnTo>
                    <a:lnTo>
                      <a:pt x="1469" y="2642"/>
                    </a:lnTo>
                    <a:lnTo>
                      <a:pt x="1473" y="2635"/>
                    </a:lnTo>
                    <a:lnTo>
                      <a:pt x="1479" y="2627"/>
                    </a:lnTo>
                    <a:lnTo>
                      <a:pt x="1481" y="2619"/>
                    </a:lnTo>
                    <a:lnTo>
                      <a:pt x="1485" y="2614"/>
                    </a:lnTo>
                    <a:lnTo>
                      <a:pt x="1469" y="2608"/>
                    </a:lnTo>
                    <a:lnTo>
                      <a:pt x="1452" y="2608"/>
                    </a:lnTo>
                    <a:lnTo>
                      <a:pt x="1437" y="2612"/>
                    </a:lnTo>
                    <a:lnTo>
                      <a:pt x="1420" y="2617"/>
                    </a:lnTo>
                    <a:lnTo>
                      <a:pt x="1403" y="2623"/>
                    </a:lnTo>
                    <a:lnTo>
                      <a:pt x="1386" y="2633"/>
                    </a:lnTo>
                    <a:lnTo>
                      <a:pt x="1369" y="2642"/>
                    </a:lnTo>
                    <a:lnTo>
                      <a:pt x="1351" y="2652"/>
                    </a:lnTo>
                    <a:lnTo>
                      <a:pt x="1334" y="2659"/>
                    </a:lnTo>
                    <a:lnTo>
                      <a:pt x="1317" y="2665"/>
                    </a:lnTo>
                    <a:lnTo>
                      <a:pt x="1302" y="2671"/>
                    </a:lnTo>
                    <a:lnTo>
                      <a:pt x="1289" y="2674"/>
                    </a:lnTo>
                    <a:lnTo>
                      <a:pt x="1274" y="2673"/>
                    </a:lnTo>
                    <a:lnTo>
                      <a:pt x="1260" y="2669"/>
                    </a:lnTo>
                    <a:lnTo>
                      <a:pt x="1247" y="2659"/>
                    </a:lnTo>
                    <a:lnTo>
                      <a:pt x="1236" y="2646"/>
                    </a:lnTo>
                    <a:lnTo>
                      <a:pt x="1239" y="2631"/>
                    </a:lnTo>
                    <a:lnTo>
                      <a:pt x="1237" y="2619"/>
                    </a:lnTo>
                    <a:lnTo>
                      <a:pt x="1234" y="2610"/>
                    </a:lnTo>
                    <a:lnTo>
                      <a:pt x="1226" y="2602"/>
                    </a:lnTo>
                    <a:lnTo>
                      <a:pt x="1215" y="2596"/>
                    </a:lnTo>
                    <a:lnTo>
                      <a:pt x="1203" y="2591"/>
                    </a:lnTo>
                    <a:lnTo>
                      <a:pt x="1188" y="2587"/>
                    </a:lnTo>
                    <a:lnTo>
                      <a:pt x="1173" y="2585"/>
                    </a:lnTo>
                    <a:lnTo>
                      <a:pt x="1156" y="2583"/>
                    </a:lnTo>
                    <a:lnTo>
                      <a:pt x="1139" y="2581"/>
                    </a:lnTo>
                    <a:lnTo>
                      <a:pt x="1121" y="2577"/>
                    </a:lnTo>
                    <a:lnTo>
                      <a:pt x="1104" y="2576"/>
                    </a:lnTo>
                    <a:lnTo>
                      <a:pt x="1087" y="2572"/>
                    </a:lnTo>
                    <a:lnTo>
                      <a:pt x="1074" y="2570"/>
                    </a:lnTo>
                    <a:lnTo>
                      <a:pt x="1061" y="2564"/>
                    </a:lnTo>
                    <a:lnTo>
                      <a:pt x="1051" y="2560"/>
                    </a:lnTo>
                    <a:lnTo>
                      <a:pt x="1044" y="2558"/>
                    </a:lnTo>
                    <a:lnTo>
                      <a:pt x="1036" y="2558"/>
                    </a:lnTo>
                    <a:lnTo>
                      <a:pt x="1026" y="2558"/>
                    </a:lnTo>
                    <a:lnTo>
                      <a:pt x="1019" y="2558"/>
                    </a:lnTo>
                    <a:lnTo>
                      <a:pt x="1009" y="2558"/>
                    </a:lnTo>
                    <a:lnTo>
                      <a:pt x="1002" y="2558"/>
                    </a:lnTo>
                    <a:lnTo>
                      <a:pt x="992" y="2557"/>
                    </a:lnTo>
                    <a:lnTo>
                      <a:pt x="985" y="2557"/>
                    </a:lnTo>
                    <a:lnTo>
                      <a:pt x="973" y="2555"/>
                    </a:lnTo>
                    <a:lnTo>
                      <a:pt x="966" y="2555"/>
                    </a:lnTo>
                    <a:lnTo>
                      <a:pt x="956" y="2553"/>
                    </a:lnTo>
                    <a:lnTo>
                      <a:pt x="950" y="2553"/>
                    </a:lnTo>
                    <a:lnTo>
                      <a:pt x="943" y="2551"/>
                    </a:lnTo>
                    <a:lnTo>
                      <a:pt x="937" y="2551"/>
                    </a:lnTo>
                    <a:lnTo>
                      <a:pt x="929" y="2549"/>
                    </a:lnTo>
                    <a:lnTo>
                      <a:pt x="928" y="2549"/>
                    </a:lnTo>
                    <a:lnTo>
                      <a:pt x="922" y="2547"/>
                    </a:lnTo>
                    <a:lnTo>
                      <a:pt x="920" y="2545"/>
                    </a:lnTo>
                    <a:lnTo>
                      <a:pt x="920" y="2543"/>
                    </a:lnTo>
                    <a:lnTo>
                      <a:pt x="926" y="2541"/>
                    </a:lnTo>
                    <a:lnTo>
                      <a:pt x="928" y="2539"/>
                    </a:lnTo>
                    <a:lnTo>
                      <a:pt x="931" y="2538"/>
                    </a:lnTo>
                    <a:lnTo>
                      <a:pt x="937" y="2536"/>
                    </a:lnTo>
                    <a:lnTo>
                      <a:pt x="945" y="2536"/>
                    </a:lnTo>
                    <a:lnTo>
                      <a:pt x="950" y="2534"/>
                    </a:lnTo>
                    <a:lnTo>
                      <a:pt x="960" y="2534"/>
                    </a:lnTo>
                    <a:lnTo>
                      <a:pt x="969" y="2532"/>
                    </a:lnTo>
                    <a:lnTo>
                      <a:pt x="981" y="2532"/>
                    </a:lnTo>
                    <a:lnTo>
                      <a:pt x="988" y="2528"/>
                    </a:lnTo>
                    <a:lnTo>
                      <a:pt x="996" y="2524"/>
                    </a:lnTo>
                    <a:lnTo>
                      <a:pt x="1002" y="2522"/>
                    </a:lnTo>
                    <a:lnTo>
                      <a:pt x="1009" y="2520"/>
                    </a:lnTo>
                    <a:lnTo>
                      <a:pt x="1017" y="2519"/>
                    </a:lnTo>
                    <a:lnTo>
                      <a:pt x="1024" y="2517"/>
                    </a:lnTo>
                    <a:lnTo>
                      <a:pt x="1032" y="2517"/>
                    </a:lnTo>
                    <a:lnTo>
                      <a:pt x="1042" y="2517"/>
                    </a:lnTo>
                    <a:lnTo>
                      <a:pt x="1047" y="2517"/>
                    </a:lnTo>
                    <a:lnTo>
                      <a:pt x="1055" y="2517"/>
                    </a:lnTo>
                    <a:lnTo>
                      <a:pt x="1063" y="2519"/>
                    </a:lnTo>
                    <a:lnTo>
                      <a:pt x="1070" y="2520"/>
                    </a:lnTo>
                    <a:lnTo>
                      <a:pt x="1078" y="2522"/>
                    </a:lnTo>
                    <a:lnTo>
                      <a:pt x="1085" y="2524"/>
                    </a:lnTo>
                    <a:lnTo>
                      <a:pt x="1093" y="2528"/>
                    </a:lnTo>
                    <a:lnTo>
                      <a:pt x="1101" y="2532"/>
                    </a:lnTo>
                    <a:lnTo>
                      <a:pt x="1093" y="2517"/>
                    </a:lnTo>
                    <a:lnTo>
                      <a:pt x="1085" y="2503"/>
                    </a:lnTo>
                    <a:lnTo>
                      <a:pt x="1072" y="2494"/>
                    </a:lnTo>
                    <a:lnTo>
                      <a:pt x="1059" y="2486"/>
                    </a:lnTo>
                    <a:lnTo>
                      <a:pt x="1044" y="2477"/>
                    </a:lnTo>
                    <a:lnTo>
                      <a:pt x="1026" y="2471"/>
                    </a:lnTo>
                    <a:lnTo>
                      <a:pt x="1009" y="2465"/>
                    </a:lnTo>
                    <a:lnTo>
                      <a:pt x="992" y="2462"/>
                    </a:lnTo>
                    <a:lnTo>
                      <a:pt x="971" y="2454"/>
                    </a:lnTo>
                    <a:lnTo>
                      <a:pt x="952" y="2450"/>
                    </a:lnTo>
                    <a:lnTo>
                      <a:pt x="931" y="2446"/>
                    </a:lnTo>
                    <a:lnTo>
                      <a:pt x="914" y="2443"/>
                    </a:lnTo>
                    <a:lnTo>
                      <a:pt x="893" y="2437"/>
                    </a:lnTo>
                    <a:lnTo>
                      <a:pt x="876" y="2431"/>
                    </a:lnTo>
                    <a:lnTo>
                      <a:pt x="859" y="2425"/>
                    </a:lnTo>
                    <a:lnTo>
                      <a:pt x="846" y="2418"/>
                    </a:lnTo>
                    <a:lnTo>
                      <a:pt x="838" y="2418"/>
                    </a:lnTo>
                    <a:lnTo>
                      <a:pt x="832" y="2418"/>
                    </a:lnTo>
                    <a:lnTo>
                      <a:pt x="829" y="2418"/>
                    </a:lnTo>
                    <a:lnTo>
                      <a:pt x="823" y="2418"/>
                    </a:lnTo>
                    <a:lnTo>
                      <a:pt x="817" y="2418"/>
                    </a:lnTo>
                    <a:lnTo>
                      <a:pt x="812" y="2418"/>
                    </a:lnTo>
                    <a:lnTo>
                      <a:pt x="808" y="2418"/>
                    </a:lnTo>
                    <a:lnTo>
                      <a:pt x="802" y="2418"/>
                    </a:lnTo>
                    <a:lnTo>
                      <a:pt x="791" y="2418"/>
                    </a:lnTo>
                    <a:lnTo>
                      <a:pt x="781" y="2418"/>
                    </a:lnTo>
                    <a:lnTo>
                      <a:pt x="772" y="2418"/>
                    </a:lnTo>
                    <a:lnTo>
                      <a:pt x="764" y="2418"/>
                    </a:lnTo>
                    <a:lnTo>
                      <a:pt x="774" y="2405"/>
                    </a:lnTo>
                    <a:lnTo>
                      <a:pt x="785" y="2395"/>
                    </a:lnTo>
                    <a:lnTo>
                      <a:pt x="798" y="2387"/>
                    </a:lnTo>
                    <a:lnTo>
                      <a:pt x="812" y="2382"/>
                    </a:lnTo>
                    <a:lnTo>
                      <a:pt x="825" y="2378"/>
                    </a:lnTo>
                    <a:lnTo>
                      <a:pt x="838" y="2378"/>
                    </a:lnTo>
                    <a:lnTo>
                      <a:pt x="853" y="2376"/>
                    </a:lnTo>
                    <a:lnTo>
                      <a:pt x="867" y="2380"/>
                    </a:lnTo>
                    <a:lnTo>
                      <a:pt x="882" y="2382"/>
                    </a:lnTo>
                    <a:lnTo>
                      <a:pt x="897" y="2384"/>
                    </a:lnTo>
                    <a:lnTo>
                      <a:pt x="910" y="2387"/>
                    </a:lnTo>
                    <a:lnTo>
                      <a:pt x="926" y="2393"/>
                    </a:lnTo>
                    <a:lnTo>
                      <a:pt x="941" y="2397"/>
                    </a:lnTo>
                    <a:lnTo>
                      <a:pt x="954" y="2401"/>
                    </a:lnTo>
                    <a:lnTo>
                      <a:pt x="969" y="2405"/>
                    </a:lnTo>
                    <a:lnTo>
                      <a:pt x="985" y="2410"/>
                    </a:lnTo>
                    <a:lnTo>
                      <a:pt x="966" y="2387"/>
                    </a:lnTo>
                    <a:lnTo>
                      <a:pt x="948" y="2370"/>
                    </a:lnTo>
                    <a:lnTo>
                      <a:pt x="926" y="2353"/>
                    </a:lnTo>
                    <a:lnTo>
                      <a:pt x="907" y="2340"/>
                    </a:lnTo>
                    <a:lnTo>
                      <a:pt x="882" y="2327"/>
                    </a:lnTo>
                    <a:lnTo>
                      <a:pt x="861" y="2315"/>
                    </a:lnTo>
                    <a:lnTo>
                      <a:pt x="836" y="2306"/>
                    </a:lnTo>
                    <a:lnTo>
                      <a:pt x="813" y="2298"/>
                    </a:lnTo>
                    <a:lnTo>
                      <a:pt x="789" y="2289"/>
                    </a:lnTo>
                    <a:lnTo>
                      <a:pt x="766" y="2281"/>
                    </a:lnTo>
                    <a:lnTo>
                      <a:pt x="741" y="2271"/>
                    </a:lnTo>
                    <a:lnTo>
                      <a:pt x="718" y="2266"/>
                    </a:lnTo>
                    <a:lnTo>
                      <a:pt x="698" y="2256"/>
                    </a:lnTo>
                    <a:lnTo>
                      <a:pt x="677" y="2247"/>
                    </a:lnTo>
                    <a:lnTo>
                      <a:pt x="656" y="2237"/>
                    </a:lnTo>
                    <a:lnTo>
                      <a:pt x="639" y="2226"/>
                    </a:lnTo>
                    <a:lnTo>
                      <a:pt x="644" y="2222"/>
                    </a:lnTo>
                    <a:lnTo>
                      <a:pt x="652" y="2222"/>
                    </a:lnTo>
                    <a:lnTo>
                      <a:pt x="660" y="2222"/>
                    </a:lnTo>
                    <a:lnTo>
                      <a:pt x="667" y="2222"/>
                    </a:lnTo>
                    <a:lnTo>
                      <a:pt x="673" y="2222"/>
                    </a:lnTo>
                    <a:lnTo>
                      <a:pt x="680" y="2224"/>
                    </a:lnTo>
                    <a:lnTo>
                      <a:pt x="688" y="2226"/>
                    </a:lnTo>
                    <a:lnTo>
                      <a:pt x="696" y="2228"/>
                    </a:lnTo>
                    <a:lnTo>
                      <a:pt x="703" y="2230"/>
                    </a:lnTo>
                    <a:lnTo>
                      <a:pt x="711" y="2230"/>
                    </a:lnTo>
                    <a:lnTo>
                      <a:pt x="718" y="2232"/>
                    </a:lnTo>
                    <a:lnTo>
                      <a:pt x="726" y="2232"/>
                    </a:lnTo>
                    <a:lnTo>
                      <a:pt x="732" y="2232"/>
                    </a:lnTo>
                    <a:lnTo>
                      <a:pt x="741" y="2232"/>
                    </a:lnTo>
                    <a:lnTo>
                      <a:pt x="747" y="2230"/>
                    </a:lnTo>
                    <a:lnTo>
                      <a:pt x="756" y="2228"/>
                    </a:lnTo>
                    <a:lnTo>
                      <a:pt x="753" y="2213"/>
                    </a:lnTo>
                    <a:lnTo>
                      <a:pt x="747" y="2201"/>
                    </a:lnTo>
                    <a:lnTo>
                      <a:pt x="739" y="2188"/>
                    </a:lnTo>
                    <a:lnTo>
                      <a:pt x="732" y="2180"/>
                    </a:lnTo>
                    <a:lnTo>
                      <a:pt x="720" y="2171"/>
                    </a:lnTo>
                    <a:lnTo>
                      <a:pt x="709" y="2165"/>
                    </a:lnTo>
                    <a:lnTo>
                      <a:pt x="698" y="2157"/>
                    </a:lnTo>
                    <a:lnTo>
                      <a:pt x="684" y="2152"/>
                    </a:lnTo>
                    <a:lnTo>
                      <a:pt x="671" y="2146"/>
                    </a:lnTo>
                    <a:lnTo>
                      <a:pt x="658" y="2140"/>
                    </a:lnTo>
                    <a:lnTo>
                      <a:pt x="644" y="2135"/>
                    </a:lnTo>
                    <a:lnTo>
                      <a:pt x="633" y="2129"/>
                    </a:lnTo>
                    <a:lnTo>
                      <a:pt x="620" y="2123"/>
                    </a:lnTo>
                    <a:lnTo>
                      <a:pt x="610" y="2117"/>
                    </a:lnTo>
                    <a:lnTo>
                      <a:pt x="601" y="2112"/>
                    </a:lnTo>
                    <a:lnTo>
                      <a:pt x="593" y="2104"/>
                    </a:lnTo>
                    <a:lnTo>
                      <a:pt x="587" y="2100"/>
                    </a:lnTo>
                    <a:lnTo>
                      <a:pt x="585" y="2095"/>
                    </a:lnTo>
                    <a:lnTo>
                      <a:pt x="582" y="2089"/>
                    </a:lnTo>
                    <a:lnTo>
                      <a:pt x="580" y="2083"/>
                    </a:lnTo>
                    <a:lnTo>
                      <a:pt x="578" y="2076"/>
                    </a:lnTo>
                    <a:lnTo>
                      <a:pt x="578" y="2070"/>
                    </a:lnTo>
                    <a:lnTo>
                      <a:pt x="578" y="2062"/>
                    </a:lnTo>
                    <a:lnTo>
                      <a:pt x="580" y="2055"/>
                    </a:lnTo>
                    <a:lnTo>
                      <a:pt x="585" y="2055"/>
                    </a:lnTo>
                    <a:lnTo>
                      <a:pt x="591" y="2057"/>
                    </a:lnTo>
                    <a:lnTo>
                      <a:pt x="597" y="2059"/>
                    </a:lnTo>
                    <a:lnTo>
                      <a:pt x="604" y="2060"/>
                    </a:lnTo>
                    <a:lnTo>
                      <a:pt x="610" y="2062"/>
                    </a:lnTo>
                    <a:lnTo>
                      <a:pt x="616" y="2064"/>
                    </a:lnTo>
                    <a:lnTo>
                      <a:pt x="621" y="2066"/>
                    </a:lnTo>
                    <a:lnTo>
                      <a:pt x="627" y="2070"/>
                    </a:lnTo>
                    <a:lnTo>
                      <a:pt x="633" y="2072"/>
                    </a:lnTo>
                    <a:lnTo>
                      <a:pt x="639" y="2074"/>
                    </a:lnTo>
                    <a:lnTo>
                      <a:pt x="644" y="2076"/>
                    </a:lnTo>
                    <a:lnTo>
                      <a:pt x="650" y="2078"/>
                    </a:lnTo>
                    <a:lnTo>
                      <a:pt x="656" y="2079"/>
                    </a:lnTo>
                    <a:lnTo>
                      <a:pt x="661" y="2081"/>
                    </a:lnTo>
                    <a:lnTo>
                      <a:pt x="667" y="2083"/>
                    </a:lnTo>
                    <a:lnTo>
                      <a:pt x="675" y="2087"/>
                    </a:lnTo>
                    <a:lnTo>
                      <a:pt x="667" y="2074"/>
                    </a:lnTo>
                    <a:lnTo>
                      <a:pt x="660" y="2062"/>
                    </a:lnTo>
                    <a:lnTo>
                      <a:pt x="652" y="2051"/>
                    </a:lnTo>
                    <a:lnTo>
                      <a:pt x="642" y="2041"/>
                    </a:lnTo>
                    <a:lnTo>
                      <a:pt x="633" y="2032"/>
                    </a:lnTo>
                    <a:lnTo>
                      <a:pt x="621" y="2024"/>
                    </a:lnTo>
                    <a:lnTo>
                      <a:pt x="610" y="2017"/>
                    </a:lnTo>
                    <a:lnTo>
                      <a:pt x="599" y="2011"/>
                    </a:lnTo>
                    <a:lnTo>
                      <a:pt x="587" y="2002"/>
                    </a:lnTo>
                    <a:lnTo>
                      <a:pt x="574" y="1996"/>
                    </a:lnTo>
                    <a:lnTo>
                      <a:pt x="563" y="1988"/>
                    </a:lnTo>
                    <a:lnTo>
                      <a:pt x="549" y="1983"/>
                    </a:lnTo>
                    <a:lnTo>
                      <a:pt x="538" y="1973"/>
                    </a:lnTo>
                    <a:lnTo>
                      <a:pt x="526" y="1965"/>
                    </a:lnTo>
                    <a:lnTo>
                      <a:pt x="515" y="1956"/>
                    </a:lnTo>
                    <a:lnTo>
                      <a:pt x="504" y="1948"/>
                    </a:lnTo>
                    <a:lnTo>
                      <a:pt x="511" y="1943"/>
                    </a:lnTo>
                    <a:lnTo>
                      <a:pt x="517" y="1941"/>
                    </a:lnTo>
                    <a:lnTo>
                      <a:pt x="525" y="1941"/>
                    </a:lnTo>
                    <a:lnTo>
                      <a:pt x="532" y="1943"/>
                    </a:lnTo>
                    <a:lnTo>
                      <a:pt x="538" y="1945"/>
                    </a:lnTo>
                    <a:lnTo>
                      <a:pt x="545" y="1950"/>
                    </a:lnTo>
                    <a:lnTo>
                      <a:pt x="553" y="1954"/>
                    </a:lnTo>
                    <a:lnTo>
                      <a:pt x="561" y="1960"/>
                    </a:lnTo>
                    <a:lnTo>
                      <a:pt x="568" y="1964"/>
                    </a:lnTo>
                    <a:lnTo>
                      <a:pt x="576" y="1969"/>
                    </a:lnTo>
                    <a:lnTo>
                      <a:pt x="583" y="1971"/>
                    </a:lnTo>
                    <a:lnTo>
                      <a:pt x="591" y="1975"/>
                    </a:lnTo>
                    <a:lnTo>
                      <a:pt x="597" y="1975"/>
                    </a:lnTo>
                    <a:lnTo>
                      <a:pt x="606" y="1975"/>
                    </a:lnTo>
                    <a:lnTo>
                      <a:pt x="614" y="1973"/>
                    </a:lnTo>
                    <a:lnTo>
                      <a:pt x="621" y="1969"/>
                    </a:lnTo>
                    <a:lnTo>
                      <a:pt x="614" y="1956"/>
                    </a:lnTo>
                    <a:lnTo>
                      <a:pt x="606" y="1946"/>
                    </a:lnTo>
                    <a:lnTo>
                      <a:pt x="597" y="1935"/>
                    </a:lnTo>
                    <a:lnTo>
                      <a:pt x="587" y="1925"/>
                    </a:lnTo>
                    <a:lnTo>
                      <a:pt x="576" y="1914"/>
                    </a:lnTo>
                    <a:lnTo>
                      <a:pt x="566" y="1906"/>
                    </a:lnTo>
                    <a:lnTo>
                      <a:pt x="555" y="1897"/>
                    </a:lnTo>
                    <a:lnTo>
                      <a:pt x="544" y="1887"/>
                    </a:lnTo>
                    <a:lnTo>
                      <a:pt x="532" y="1878"/>
                    </a:lnTo>
                    <a:lnTo>
                      <a:pt x="523" y="1868"/>
                    </a:lnTo>
                    <a:lnTo>
                      <a:pt x="513" y="1859"/>
                    </a:lnTo>
                    <a:lnTo>
                      <a:pt x="504" y="1849"/>
                    </a:lnTo>
                    <a:lnTo>
                      <a:pt x="494" y="1838"/>
                    </a:lnTo>
                    <a:lnTo>
                      <a:pt x="488" y="1827"/>
                    </a:lnTo>
                    <a:lnTo>
                      <a:pt x="483" y="1813"/>
                    </a:lnTo>
                    <a:lnTo>
                      <a:pt x="479" y="1802"/>
                    </a:lnTo>
                    <a:lnTo>
                      <a:pt x="485" y="1802"/>
                    </a:lnTo>
                    <a:lnTo>
                      <a:pt x="490" y="1804"/>
                    </a:lnTo>
                    <a:lnTo>
                      <a:pt x="496" y="1806"/>
                    </a:lnTo>
                    <a:lnTo>
                      <a:pt x="502" y="1808"/>
                    </a:lnTo>
                    <a:lnTo>
                      <a:pt x="507" y="1808"/>
                    </a:lnTo>
                    <a:lnTo>
                      <a:pt x="513" y="1810"/>
                    </a:lnTo>
                    <a:lnTo>
                      <a:pt x="519" y="1811"/>
                    </a:lnTo>
                    <a:lnTo>
                      <a:pt x="525" y="1813"/>
                    </a:lnTo>
                    <a:lnTo>
                      <a:pt x="530" y="1815"/>
                    </a:lnTo>
                    <a:lnTo>
                      <a:pt x="536" y="1815"/>
                    </a:lnTo>
                    <a:lnTo>
                      <a:pt x="540" y="1817"/>
                    </a:lnTo>
                    <a:lnTo>
                      <a:pt x="545" y="1819"/>
                    </a:lnTo>
                    <a:lnTo>
                      <a:pt x="551" y="1819"/>
                    </a:lnTo>
                    <a:lnTo>
                      <a:pt x="557" y="1821"/>
                    </a:lnTo>
                    <a:lnTo>
                      <a:pt x="563" y="1821"/>
                    </a:lnTo>
                    <a:lnTo>
                      <a:pt x="568" y="1825"/>
                    </a:lnTo>
                    <a:lnTo>
                      <a:pt x="568" y="1800"/>
                    </a:lnTo>
                    <a:lnTo>
                      <a:pt x="570" y="1779"/>
                    </a:lnTo>
                    <a:lnTo>
                      <a:pt x="566" y="1758"/>
                    </a:lnTo>
                    <a:lnTo>
                      <a:pt x="564" y="1737"/>
                    </a:lnTo>
                    <a:lnTo>
                      <a:pt x="561" y="1716"/>
                    </a:lnTo>
                    <a:lnTo>
                      <a:pt x="557" y="1695"/>
                    </a:lnTo>
                    <a:lnTo>
                      <a:pt x="551" y="1675"/>
                    </a:lnTo>
                    <a:lnTo>
                      <a:pt x="547" y="1656"/>
                    </a:lnTo>
                    <a:lnTo>
                      <a:pt x="542" y="1633"/>
                    </a:lnTo>
                    <a:lnTo>
                      <a:pt x="538" y="1612"/>
                    </a:lnTo>
                    <a:lnTo>
                      <a:pt x="532" y="1591"/>
                    </a:lnTo>
                    <a:lnTo>
                      <a:pt x="530" y="1570"/>
                    </a:lnTo>
                    <a:lnTo>
                      <a:pt x="528" y="1547"/>
                    </a:lnTo>
                    <a:lnTo>
                      <a:pt x="528" y="1526"/>
                    </a:lnTo>
                    <a:lnTo>
                      <a:pt x="528" y="1504"/>
                    </a:lnTo>
                    <a:lnTo>
                      <a:pt x="532" y="1483"/>
                    </a:lnTo>
                    <a:lnTo>
                      <a:pt x="542" y="1486"/>
                    </a:lnTo>
                    <a:lnTo>
                      <a:pt x="549" y="1492"/>
                    </a:lnTo>
                    <a:lnTo>
                      <a:pt x="557" y="1500"/>
                    </a:lnTo>
                    <a:lnTo>
                      <a:pt x="563" y="1509"/>
                    </a:lnTo>
                    <a:lnTo>
                      <a:pt x="566" y="1519"/>
                    </a:lnTo>
                    <a:lnTo>
                      <a:pt x="570" y="1530"/>
                    </a:lnTo>
                    <a:lnTo>
                      <a:pt x="572" y="1540"/>
                    </a:lnTo>
                    <a:lnTo>
                      <a:pt x="576" y="1551"/>
                    </a:lnTo>
                    <a:lnTo>
                      <a:pt x="576" y="1564"/>
                    </a:lnTo>
                    <a:lnTo>
                      <a:pt x="578" y="1576"/>
                    </a:lnTo>
                    <a:lnTo>
                      <a:pt x="578" y="1587"/>
                    </a:lnTo>
                    <a:lnTo>
                      <a:pt x="580" y="1599"/>
                    </a:lnTo>
                    <a:lnTo>
                      <a:pt x="580" y="1610"/>
                    </a:lnTo>
                    <a:lnTo>
                      <a:pt x="582" y="1621"/>
                    </a:lnTo>
                    <a:lnTo>
                      <a:pt x="583" y="1631"/>
                    </a:lnTo>
                    <a:lnTo>
                      <a:pt x="585" y="1642"/>
                    </a:lnTo>
                    <a:lnTo>
                      <a:pt x="591" y="1638"/>
                    </a:lnTo>
                    <a:lnTo>
                      <a:pt x="595" y="1638"/>
                    </a:lnTo>
                    <a:lnTo>
                      <a:pt x="599" y="1638"/>
                    </a:lnTo>
                    <a:lnTo>
                      <a:pt x="602" y="1640"/>
                    </a:lnTo>
                    <a:lnTo>
                      <a:pt x="608" y="1644"/>
                    </a:lnTo>
                    <a:lnTo>
                      <a:pt x="614" y="1652"/>
                    </a:lnTo>
                    <a:lnTo>
                      <a:pt x="618" y="1659"/>
                    </a:lnTo>
                    <a:lnTo>
                      <a:pt x="623" y="1665"/>
                    </a:lnTo>
                    <a:lnTo>
                      <a:pt x="625" y="1667"/>
                    </a:lnTo>
                    <a:lnTo>
                      <a:pt x="629" y="1669"/>
                    </a:lnTo>
                    <a:lnTo>
                      <a:pt x="633" y="1669"/>
                    </a:lnTo>
                    <a:lnTo>
                      <a:pt x="639" y="1671"/>
                    </a:lnTo>
                    <a:lnTo>
                      <a:pt x="642" y="1640"/>
                    </a:lnTo>
                    <a:lnTo>
                      <a:pt x="644" y="1614"/>
                    </a:lnTo>
                    <a:lnTo>
                      <a:pt x="644" y="1583"/>
                    </a:lnTo>
                    <a:lnTo>
                      <a:pt x="644" y="1555"/>
                    </a:lnTo>
                    <a:lnTo>
                      <a:pt x="642" y="1526"/>
                    </a:lnTo>
                    <a:lnTo>
                      <a:pt x="639" y="1496"/>
                    </a:lnTo>
                    <a:lnTo>
                      <a:pt x="637" y="1467"/>
                    </a:lnTo>
                    <a:lnTo>
                      <a:pt x="633" y="1439"/>
                    </a:lnTo>
                    <a:lnTo>
                      <a:pt x="629" y="1410"/>
                    </a:lnTo>
                    <a:lnTo>
                      <a:pt x="627" y="1382"/>
                    </a:lnTo>
                    <a:lnTo>
                      <a:pt x="625" y="1355"/>
                    </a:lnTo>
                    <a:lnTo>
                      <a:pt x="625" y="1329"/>
                    </a:lnTo>
                    <a:lnTo>
                      <a:pt x="625" y="1302"/>
                    </a:lnTo>
                    <a:lnTo>
                      <a:pt x="629" y="1277"/>
                    </a:lnTo>
                    <a:lnTo>
                      <a:pt x="637" y="1254"/>
                    </a:lnTo>
                    <a:lnTo>
                      <a:pt x="646" y="1232"/>
                    </a:lnTo>
                    <a:lnTo>
                      <a:pt x="652" y="1243"/>
                    </a:lnTo>
                    <a:lnTo>
                      <a:pt x="658" y="1258"/>
                    </a:lnTo>
                    <a:lnTo>
                      <a:pt x="661" y="1270"/>
                    </a:lnTo>
                    <a:lnTo>
                      <a:pt x="667" y="1283"/>
                    </a:lnTo>
                    <a:lnTo>
                      <a:pt x="671" y="1296"/>
                    </a:lnTo>
                    <a:lnTo>
                      <a:pt x="675" y="1310"/>
                    </a:lnTo>
                    <a:lnTo>
                      <a:pt x="679" y="1325"/>
                    </a:lnTo>
                    <a:lnTo>
                      <a:pt x="682" y="1340"/>
                    </a:lnTo>
                    <a:lnTo>
                      <a:pt x="684" y="1353"/>
                    </a:lnTo>
                    <a:lnTo>
                      <a:pt x="686" y="1367"/>
                    </a:lnTo>
                    <a:lnTo>
                      <a:pt x="688" y="1382"/>
                    </a:lnTo>
                    <a:lnTo>
                      <a:pt x="690" y="1397"/>
                    </a:lnTo>
                    <a:lnTo>
                      <a:pt x="690" y="1410"/>
                    </a:lnTo>
                    <a:lnTo>
                      <a:pt x="692" y="1426"/>
                    </a:lnTo>
                    <a:lnTo>
                      <a:pt x="692" y="1441"/>
                    </a:lnTo>
                    <a:lnTo>
                      <a:pt x="692" y="1456"/>
                    </a:lnTo>
                    <a:lnTo>
                      <a:pt x="707" y="1427"/>
                    </a:lnTo>
                    <a:lnTo>
                      <a:pt x="718" y="1399"/>
                    </a:lnTo>
                    <a:lnTo>
                      <a:pt x="724" y="1367"/>
                    </a:lnTo>
                    <a:lnTo>
                      <a:pt x="730" y="1336"/>
                    </a:lnTo>
                    <a:lnTo>
                      <a:pt x="730" y="1302"/>
                    </a:lnTo>
                    <a:lnTo>
                      <a:pt x="730" y="1268"/>
                    </a:lnTo>
                    <a:lnTo>
                      <a:pt x="728" y="1234"/>
                    </a:lnTo>
                    <a:lnTo>
                      <a:pt x="726" y="1201"/>
                    </a:lnTo>
                    <a:lnTo>
                      <a:pt x="724" y="1167"/>
                    </a:lnTo>
                    <a:lnTo>
                      <a:pt x="720" y="1135"/>
                    </a:lnTo>
                    <a:lnTo>
                      <a:pt x="720" y="1101"/>
                    </a:lnTo>
                    <a:lnTo>
                      <a:pt x="722" y="1070"/>
                    </a:lnTo>
                    <a:lnTo>
                      <a:pt x="724" y="1038"/>
                    </a:lnTo>
                    <a:lnTo>
                      <a:pt x="732" y="1009"/>
                    </a:lnTo>
                    <a:lnTo>
                      <a:pt x="741" y="981"/>
                    </a:lnTo>
                    <a:lnTo>
                      <a:pt x="756" y="956"/>
                    </a:lnTo>
                    <a:lnTo>
                      <a:pt x="764" y="958"/>
                    </a:lnTo>
                    <a:lnTo>
                      <a:pt x="772" y="962"/>
                    </a:lnTo>
                    <a:lnTo>
                      <a:pt x="777" y="964"/>
                    </a:lnTo>
                    <a:lnTo>
                      <a:pt x="785" y="966"/>
                    </a:lnTo>
                    <a:lnTo>
                      <a:pt x="781" y="975"/>
                    </a:lnTo>
                    <a:lnTo>
                      <a:pt x="779" y="985"/>
                    </a:lnTo>
                    <a:lnTo>
                      <a:pt x="779" y="994"/>
                    </a:lnTo>
                    <a:lnTo>
                      <a:pt x="779" y="1004"/>
                    </a:lnTo>
                    <a:lnTo>
                      <a:pt x="779" y="1011"/>
                    </a:lnTo>
                    <a:lnTo>
                      <a:pt x="781" y="1023"/>
                    </a:lnTo>
                    <a:lnTo>
                      <a:pt x="781" y="1028"/>
                    </a:lnTo>
                    <a:lnTo>
                      <a:pt x="781" y="1032"/>
                    </a:lnTo>
                    <a:lnTo>
                      <a:pt x="781" y="1038"/>
                    </a:lnTo>
                    <a:lnTo>
                      <a:pt x="781" y="1044"/>
                    </a:lnTo>
                    <a:lnTo>
                      <a:pt x="783" y="1044"/>
                    </a:lnTo>
                    <a:lnTo>
                      <a:pt x="785" y="1044"/>
                    </a:lnTo>
                    <a:lnTo>
                      <a:pt x="796" y="1021"/>
                    </a:lnTo>
                    <a:lnTo>
                      <a:pt x="808" y="994"/>
                    </a:lnTo>
                    <a:lnTo>
                      <a:pt x="817" y="967"/>
                    </a:lnTo>
                    <a:lnTo>
                      <a:pt x="825" y="943"/>
                    </a:lnTo>
                    <a:lnTo>
                      <a:pt x="832" y="916"/>
                    </a:lnTo>
                    <a:lnTo>
                      <a:pt x="838" y="890"/>
                    </a:lnTo>
                    <a:lnTo>
                      <a:pt x="848" y="863"/>
                    </a:lnTo>
                    <a:lnTo>
                      <a:pt x="855" y="838"/>
                    </a:lnTo>
                    <a:lnTo>
                      <a:pt x="863" y="812"/>
                    </a:lnTo>
                    <a:lnTo>
                      <a:pt x="874" y="787"/>
                    </a:lnTo>
                    <a:lnTo>
                      <a:pt x="886" y="764"/>
                    </a:lnTo>
                    <a:lnTo>
                      <a:pt x="901" y="741"/>
                    </a:lnTo>
                    <a:lnTo>
                      <a:pt x="918" y="720"/>
                    </a:lnTo>
                    <a:lnTo>
                      <a:pt x="939" y="699"/>
                    </a:lnTo>
                    <a:lnTo>
                      <a:pt x="962" y="682"/>
                    </a:lnTo>
                    <a:lnTo>
                      <a:pt x="992" y="667"/>
                    </a:lnTo>
                    <a:lnTo>
                      <a:pt x="1034" y="633"/>
                    </a:lnTo>
                    <a:lnTo>
                      <a:pt x="1082" y="604"/>
                    </a:lnTo>
                    <a:lnTo>
                      <a:pt x="1131" y="580"/>
                    </a:lnTo>
                    <a:lnTo>
                      <a:pt x="1184" y="559"/>
                    </a:lnTo>
                    <a:lnTo>
                      <a:pt x="1237" y="542"/>
                    </a:lnTo>
                    <a:lnTo>
                      <a:pt x="1294" y="530"/>
                    </a:lnTo>
                    <a:lnTo>
                      <a:pt x="1350" y="523"/>
                    </a:lnTo>
                    <a:lnTo>
                      <a:pt x="1408" y="521"/>
                    </a:lnTo>
                    <a:lnTo>
                      <a:pt x="1466" y="521"/>
                    </a:lnTo>
                    <a:lnTo>
                      <a:pt x="1521" y="526"/>
                    </a:lnTo>
                    <a:lnTo>
                      <a:pt x="1576" y="538"/>
                    </a:lnTo>
                    <a:lnTo>
                      <a:pt x="1629" y="555"/>
                    </a:lnTo>
                    <a:lnTo>
                      <a:pt x="1678" y="576"/>
                    </a:lnTo>
                    <a:lnTo>
                      <a:pt x="1724" y="603"/>
                    </a:lnTo>
                    <a:lnTo>
                      <a:pt x="1768" y="635"/>
                    </a:lnTo>
                    <a:lnTo>
                      <a:pt x="1808" y="675"/>
                    </a:lnTo>
                    <a:lnTo>
                      <a:pt x="1783" y="696"/>
                    </a:lnTo>
                    <a:lnTo>
                      <a:pt x="1753" y="718"/>
                    </a:lnTo>
                    <a:lnTo>
                      <a:pt x="1720" y="741"/>
                    </a:lnTo>
                    <a:lnTo>
                      <a:pt x="1684" y="766"/>
                    </a:lnTo>
                    <a:lnTo>
                      <a:pt x="1646" y="791"/>
                    </a:lnTo>
                    <a:lnTo>
                      <a:pt x="1608" y="815"/>
                    </a:lnTo>
                    <a:lnTo>
                      <a:pt x="1570" y="842"/>
                    </a:lnTo>
                    <a:lnTo>
                      <a:pt x="1536" y="871"/>
                    </a:lnTo>
                    <a:lnTo>
                      <a:pt x="1502" y="897"/>
                    </a:lnTo>
                    <a:lnTo>
                      <a:pt x="1475" y="928"/>
                    </a:lnTo>
                    <a:lnTo>
                      <a:pt x="1450" y="958"/>
                    </a:lnTo>
                    <a:lnTo>
                      <a:pt x="1437" y="990"/>
                    </a:lnTo>
                    <a:lnTo>
                      <a:pt x="1428" y="1023"/>
                    </a:lnTo>
                    <a:lnTo>
                      <a:pt x="1429" y="1057"/>
                    </a:lnTo>
                    <a:lnTo>
                      <a:pt x="1441" y="1095"/>
                    </a:lnTo>
                    <a:lnTo>
                      <a:pt x="1464" y="1133"/>
                    </a:lnTo>
                    <a:lnTo>
                      <a:pt x="1473" y="1133"/>
                    </a:lnTo>
                    <a:lnTo>
                      <a:pt x="1483" y="1133"/>
                    </a:lnTo>
                    <a:lnTo>
                      <a:pt x="1492" y="1133"/>
                    </a:lnTo>
                    <a:lnTo>
                      <a:pt x="1502" y="1133"/>
                    </a:lnTo>
                    <a:lnTo>
                      <a:pt x="1513" y="1133"/>
                    </a:lnTo>
                    <a:lnTo>
                      <a:pt x="1523" y="1133"/>
                    </a:lnTo>
                    <a:lnTo>
                      <a:pt x="1532" y="1133"/>
                    </a:lnTo>
                    <a:lnTo>
                      <a:pt x="1542" y="1133"/>
                    </a:lnTo>
                    <a:lnTo>
                      <a:pt x="1538" y="1125"/>
                    </a:lnTo>
                    <a:lnTo>
                      <a:pt x="1536" y="1120"/>
                    </a:lnTo>
                    <a:lnTo>
                      <a:pt x="1532" y="1112"/>
                    </a:lnTo>
                    <a:lnTo>
                      <a:pt x="1530" y="1104"/>
                    </a:lnTo>
                    <a:lnTo>
                      <a:pt x="1526" y="1097"/>
                    </a:lnTo>
                    <a:lnTo>
                      <a:pt x="1523" y="1089"/>
                    </a:lnTo>
                    <a:lnTo>
                      <a:pt x="1521" y="1082"/>
                    </a:lnTo>
                    <a:lnTo>
                      <a:pt x="1519" y="1074"/>
                    </a:lnTo>
                    <a:lnTo>
                      <a:pt x="1515" y="1064"/>
                    </a:lnTo>
                    <a:lnTo>
                      <a:pt x="1513" y="1057"/>
                    </a:lnTo>
                    <a:lnTo>
                      <a:pt x="1511" y="1049"/>
                    </a:lnTo>
                    <a:lnTo>
                      <a:pt x="1509" y="1044"/>
                    </a:lnTo>
                    <a:lnTo>
                      <a:pt x="1509" y="1038"/>
                    </a:lnTo>
                    <a:lnTo>
                      <a:pt x="1509" y="1032"/>
                    </a:lnTo>
                    <a:lnTo>
                      <a:pt x="1511" y="1026"/>
                    </a:lnTo>
                    <a:lnTo>
                      <a:pt x="1513" y="1023"/>
                    </a:lnTo>
                    <a:lnTo>
                      <a:pt x="1517" y="1019"/>
                    </a:lnTo>
                    <a:lnTo>
                      <a:pt x="1526" y="1017"/>
                    </a:lnTo>
                    <a:lnTo>
                      <a:pt x="1530" y="1017"/>
                    </a:lnTo>
                    <a:lnTo>
                      <a:pt x="1538" y="1019"/>
                    </a:lnTo>
                    <a:lnTo>
                      <a:pt x="1543" y="1021"/>
                    </a:lnTo>
                    <a:lnTo>
                      <a:pt x="1551" y="1023"/>
                    </a:lnTo>
                    <a:lnTo>
                      <a:pt x="1551" y="1030"/>
                    </a:lnTo>
                    <a:lnTo>
                      <a:pt x="1551" y="1040"/>
                    </a:lnTo>
                    <a:lnTo>
                      <a:pt x="1551" y="1047"/>
                    </a:lnTo>
                    <a:lnTo>
                      <a:pt x="1553" y="1055"/>
                    </a:lnTo>
                    <a:lnTo>
                      <a:pt x="1553" y="1064"/>
                    </a:lnTo>
                    <a:lnTo>
                      <a:pt x="1555" y="1072"/>
                    </a:lnTo>
                    <a:lnTo>
                      <a:pt x="1559" y="1080"/>
                    </a:lnTo>
                    <a:lnTo>
                      <a:pt x="1562" y="1087"/>
                    </a:lnTo>
                    <a:lnTo>
                      <a:pt x="1564" y="1093"/>
                    </a:lnTo>
                    <a:lnTo>
                      <a:pt x="1566" y="1101"/>
                    </a:lnTo>
                    <a:lnTo>
                      <a:pt x="1570" y="1106"/>
                    </a:lnTo>
                    <a:lnTo>
                      <a:pt x="1576" y="1114"/>
                    </a:lnTo>
                    <a:lnTo>
                      <a:pt x="1580" y="1118"/>
                    </a:lnTo>
                    <a:lnTo>
                      <a:pt x="1585" y="1123"/>
                    </a:lnTo>
                    <a:lnTo>
                      <a:pt x="1591" y="1129"/>
                    </a:lnTo>
                    <a:lnTo>
                      <a:pt x="1599" y="1133"/>
                    </a:lnTo>
                    <a:lnTo>
                      <a:pt x="1602" y="1135"/>
                    </a:lnTo>
                    <a:lnTo>
                      <a:pt x="1610" y="1137"/>
                    </a:lnTo>
                    <a:lnTo>
                      <a:pt x="1616" y="1139"/>
                    </a:lnTo>
                    <a:lnTo>
                      <a:pt x="1621" y="1142"/>
                    </a:lnTo>
                    <a:lnTo>
                      <a:pt x="1629" y="1142"/>
                    </a:lnTo>
                    <a:lnTo>
                      <a:pt x="1637" y="1144"/>
                    </a:lnTo>
                    <a:lnTo>
                      <a:pt x="1642" y="1144"/>
                    </a:lnTo>
                    <a:lnTo>
                      <a:pt x="1652" y="1144"/>
                    </a:lnTo>
                    <a:lnTo>
                      <a:pt x="1642" y="1127"/>
                    </a:lnTo>
                    <a:lnTo>
                      <a:pt x="1635" y="1112"/>
                    </a:lnTo>
                    <a:lnTo>
                      <a:pt x="1627" y="1095"/>
                    </a:lnTo>
                    <a:lnTo>
                      <a:pt x="1621" y="1080"/>
                    </a:lnTo>
                    <a:lnTo>
                      <a:pt x="1616" y="1063"/>
                    </a:lnTo>
                    <a:lnTo>
                      <a:pt x="1614" y="1044"/>
                    </a:lnTo>
                    <a:lnTo>
                      <a:pt x="1610" y="1026"/>
                    </a:lnTo>
                    <a:lnTo>
                      <a:pt x="1610" y="1009"/>
                    </a:lnTo>
                    <a:lnTo>
                      <a:pt x="1610" y="992"/>
                    </a:lnTo>
                    <a:lnTo>
                      <a:pt x="1612" y="975"/>
                    </a:lnTo>
                    <a:lnTo>
                      <a:pt x="1614" y="958"/>
                    </a:lnTo>
                    <a:lnTo>
                      <a:pt x="1620" y="941"/>
                    </a:lnTo>
                    <a:lnTo>
                      <a:pt x="1623" y="924"/>
                    </a:lnTo>
                    <a:lnTo>
                      <a:pt x="1631" y="909"/>
                    </a:lnTo>
                    <a:lnTo>
                      <a:pt x="1640" y="891"/>
                    </a:lnTo>
                    <a:lnTo>
                      <a:pt x="1652" y="876"/>
                    </a:lnTo>
                    <a:lnTo>
                      <a:pt x="1661" y="878"/>
                    </a:lnTo>
                    <a:lnTo>
                      <a:pt x="1667" y="882"/>
                    </a:lnTo>
                    <a:lnTo>
                      <a:pt x="1671" y="888"/>
                    </a:lnTo>
                    <a:lnTo>
                      <a:pt x="1673" y="895"/>
                    </a:lnTo>
                    <a:lnTo>
                      <a:pt x="1673" y="903"/>
                    </a:lnTo>
                    <a:lnTo>
                      <a:pt x="1673" y="912"/>
                    </a:lnTo>
                    <a:lnTo>
                      <a:pt x="1671" y="920"/>
                    </a:lnTo>
                    <a:lnTo>
                      <a:pt x="1669" y="933"/>
                    </a:lnTo>
                    <a:lnTo>
                      <a:pt x="1667" y="943"/>
                    </a:lnTo>
                    <a:lnTo>
                      <a:pt x="1665" y="954"/>
                    </a:lnTo>
                    <a:lnTo>
                      <a:pt x="1665" y="966"/>
                    </a:lnTo>
                    <a:lnTo>
                      <a:pt x="1665" y="977"/>
                    </a:lnTo>
                    <a:lnTo>
                      <a:pt x="1667" y="986"/>
                    </a:lnTo>
                    <a:lnTo>
                      <a:pt x="1671" y="998"/>
                    </a:lnTo>
                    <a:lnTo>
                      <a:pt x="1678" y="1005"/>
                    </a:lnTo>
                    <a:lnTo>
                      <a:pt x="1688" y="1015"/>
                    </a:lnTo>
                    <a:lnTo>
                      <a:pt x="1686" y="1021"/>
                    </a:lnTo>
                    <a:lnTo>
                      <a:pt x="1686" y="1024"/>
                    </a:lnTo>
                    <a:lnTo>
                      <a:pt x="1686" y="1030"/>
                    </a:lnTo>
                    <a:lnTo>
                      <a:pt x="1688" y="1038"/>
                    </a:lnTo>
                    <a:lnTo>
                      <a:pt x="1694" y="1028"/>
                    </a:lnTo>
                    <a:lnTo>
                      <a:pt x="1699" y="1017"/>
                    </a:lnTo>
                    <a:lnTo>
                      <a:pt x="1703" y="1004"/>
                    </a:lnTo>
                    <a:lnTo>
                      <a:pt x="1705" y="990"/>
                    </a:lnTo>
                    <a:lnTo>
                      <a:pt x="1707" y="971"/>
                    </a:lnTo>
                    <a:lnTo>
                      <a:pt x="1707" y="956"/>
                    </a:lnTo>
                    <a:lnTo>
                      <a:pt x="1709" y="939"/>
                    </a:lnTo>
                    <a:lnTo>
                      <a:pt x="1711" y="922"/>
                    </a:lnTo>
                    <a:lnTo>
                      <a:pt x="1711" y="905"/>
                    </a:lnTo>
                    <a:lnTo>
                      <a:pt x="1715" y="890"/>
                    </a:lnTo>
                    <a:lnTo>
                      <a:pt x="1718" y="874"/>
                    </a:lnTo>
                    <a:lnTo>
                      <a:pt x="1724" y="865"/>
                    </a:lnTo>
                    <a:lnTo>
                      <a:pt x="1732" y="855"/>
                    </a:lnTo>
                    <a:lnTo>
                      <a:pt x="1743" y="850"/>
                    </a:lnTo>
                    <a:lnTo>
                      <a:pt x="1758" y="848"/>
                    </a:lnTo>
                    <a:lnTo>
                      <a:pt x="1775" y="850"/>
                    </a:lnTo>
                    <a:lnTo>
                      <a:pt x="1772" y="857"/>
                    </a:lnTo>
                    <a:lnTo>
                      <a:pt x="1768" y="867"/>
                    </a:lnTo>
                    <a:lnTo>
                      <a:pt x="1768" y="874"/>
                    </a:lnTo>
                    <a:lnTo>
                      <a:pt x="1768" y="884"/>
                    </a:lnTo>
                    <a:lnTo>
                      <a:pt x="1768" y="893"/>
                    </a:lnTo>
                    <a:lnTo>
                      <a:pt x="1770" y="903"/>
                    </a:lnTo>
                    <a:lnTo>
                      <a:pt x="1772" y="912"/>
                    </a:lnTo>
                    <a:lnTo>
                      <a:pt x="1775" y="922"/>
                    </a:lnTo>
                    <a:lnTo>
                      <a:pt x="1777" y="931"/>
                    </a:lnTo>
                    <a:lnTo>
                      <a:pt x="1783" y="939"/>
                    </a:lnTo>
                    <a:lnTo>
                      <a:pt x="1787" y="948"/>
                    </a:lnTo>
                    <a:lnTo>
                      <a:pt x="1792" y="956"/>
                    </a:lnTo>
                    <a:lnTo>
                      <a:pt x="1798" y="964"/>
                    </a:lnTo>
                    <a:lnTo>
                      <a:pt x="1804" y="973"/>
                    </a:lnTo>
                    <a:lnTo>
                      <a:pt x="1810" y="983"/>
                    </a:lnTo>
                    <a:lnTo>
                      <a:pt x="1815" y="990"/>
                    </a:lnTo>
                    <a:lnTo>
                      <a:pt x="1817" y="979"/>
                    </a:lnTo>
                    <a:lnTo>
                      <a:pt x="1817" y="966"/>
                    </a:lnTo>
                    <a:lnTo>
                      <a:pt x="1819" y="954"/>
                    </a:lnTo>
                    <a:lnTo>
                      <a:pt x="1821" y="943"/>
                    </a:lnTo>
                    <a:lnTo>
                      <a:pt x="1821" y="929"/>
                    </a:lnTo>
                    <a:lnTo>
                      <a:pt x="1823" y="918"/>
                    </a:lnTo>
                    <a:lnTo>
                      <a:pt x="1823" y="905"/>
                    </a:lnTo>
                    <a:lnTo>
                      <a:pt x="1825" y="893"/>
                    </a:lnTo>
                    <a:lnTo>
                      <a:pt x="1827" y="878"/>
                    </a:lnTo>
                    <a:lnTo>
                      <a:pt x="1829" y="867"/>
                    </a:lnTo>
                    <a:lnTo>
                      <a:pt x="1831" y="853"/>
                    </a:lnTo>
                    <a:lnTo>
                      <a:pt x="1832" y="842"/>
                    </a:lnTo>
                    <a:lnTo>
                      <a:pt x="1834" y="829"/>
                    </a:lnTo>
                    <a:lnTo>
                      <a:pt x="1838" y="817"/>
                    </a:lnTo>
                    <a:lnTo>
                      <a:pt x="1842" y="806"/>
                    </a:lnTo>
                    <a:lnTo>
                      <a:pt x="1848" y="796"/>
                    </a:lnTo>
                    <a:lnTo>
                      <a:pt x="1861" y="798"/>
                    </a:lnTo>
                    <a:lnTo>
                      <a:pt x="1870" y="804"/>
                    </a:lnTo>
                    <a:lnTo>
                      <a:pt x="1878" y="812"/>
                    </a:lnTo>
                    <a:lnTo>
                      <a:pt x="1882" y="821"/>
                    </a:lnTo>
                    <a:lnTo>
                      <a:pt x="1882" y="831"/>
                    </a:lnTo>
                    <a:lnTo>
                      <a:pt x="1882" y="844"/>
                    </a:lnTo>
                    <a:lnTo>
                      <a:pt x="1880" y="855"/>
                    </a:lnTo>
                    <a:lnTo>
                      <a:pt x="1878" y="871"/>
                    </a:lnTo>
                    <a:lnTo>
                      <a:pt x="1874" y="882"/>
                    </a:lnTo>
                    <a:lnTo>
                      <a:pt x="1872" y="897"/>
                    </a:lnTo>
                    <a:lnTo>
                      <a:pt x="1870" y="909"/>
                    </a:lnTo>
                    <a:lnTo>
                      <a:pt x="1872" y="922"/>
                    </a:lnTo>
                    <a:lnTo>
                      <a:pt x="1874" y="933"/>
                    </a:lnTo>
                    <a:lnTo>
                      <a:pt x="1880" y="945"/>
                    </a:lnTo>
                    <a:lnTo>
                      <a:pt x="1891" y="954"/>
                    </a:lnTo>
                    <a:lnTo>
                      <a:pt x="1905" y="962"/>
                    </a:lnTo>
                    <a:lnTo>
                      <a:pt x="1905" y="956"/>
                    </a:lnTo>
                    <a:lnTo>
                      <a:pt x="1907" y="950"/>
                    </a:lnTo>
                    <a:lnTo>
                      <a:pt x="1907" y="945"/>
                    </a:lnTo>
                    <a:lnTo>
                      <a:pt x="1907" y="939"/>
                    </a:lnTo>
                    <a:lnTo>
                      <a:pt x="1907" y="933"/>
                    </a:lnTo>
                    <a:lnTo>
                      <a:pt x="1907" y="926"/>
                    </a:lnTo>
                    <a:lnTo>
                      <a:pt x="1907" y="920"/>
                    </a:lnTo>
                    <a:lnTo>
                      <a:pt x="1908" y="914"/>
                    </a:lnTo>
                    <a:lnTo>
                      <a:pt x="1908" y="907"/>
                    </a:lnTo>
                    <a:lnTo>
                      <a:pt x="1908" y="901"/>
                    </a:lnTo>
                    <a:lnTo>
                      <a:pt x="1908" y="895"/>
                    </a:lnTo>
                    <a:lnTo>
                      <a:pt x="1910" y="890"/>
                    </a:lnTo>
                    <a:lnTo>
                      <a:pt x="1910" y="882"/>
                    </a:lnTo>
                    <a:lnTo>
                      <a:pt x="1912" y="876"/>
                    </a:lnTo>
                    <a:lnTo>
                      <a:pt x="1914" y="871"/>
                    </a:lnTo>
                    <a:lnTo>
                      <a:pt x="1918" y="867"/>
                    </a:lnTo>
                    <a:lnTo>
                      <a:pt x="1927" y="867"/>
                    </a:lnTo>
                    <a:lnTo>
                      <a:pt x="1937" y="869"/>
                    </a:lnTo>
                    <a:lnTo>
                      <a:pt x="1945" y="874"/>
                    </a:lnTo>
                    <a:lnTo>
                      <a:pt x="1950" y="882"/>
                    </a:lnTo>
                    <a:lnTo>
                      <a:pt x="1952" y="890"/>
                    </a:lnTo>
                    <a:lnTo>
                      <a:pt x="1956" y="899"/>
                    </a:lnTo>
                    <a:lnTo>
                      <a:pt x="1958" y="910"/>
                    </a:lnTo>
                    <a:lnTo>
                      <a:pt x="1962" y="922"/>
                    </a:lnTo>
                    <a:lnTo>
                      <a:pt x="1962" y="933"/>
                    </a:lnTo>
                    <a:lnTo>
                      <a:pt x="1964" y="943"/>
                    </a:lnTo>
                    <a:lnTo>
                      <a:pt x="1965" y="954"/>
                    </a:lnTo>
                    <a:lnTo>
                      <a:pt x="1969" y="964"/>
                    </a:lnTo>
                    <a:lnTo>
                      <a:pt x="1973" y="971"/>
                    </a:lnTo>
                    <a:lnTo>
                      <a:pt x="1979" y="981"/>
                    </a:lnTo>
                    <a:lnTo>
                      <a:pt x="1986" y="986"/>
                    </a:lnTo>
                    <a:lnTo>
                      <a:pt x="1996" y="990"/>
                    </a:lnTo>
                    <a:lnTo>
                      <a:pt x="1996" y="969"/>
                    </a:lnTo>
                    <a:lnTo>
                      <a:pt x="1998" y="954"/>
                    </a:lnTo>
                    <a:lnTo>
                      <a:pt x="2000" y="945"/>
                    </a:lnTo>
                    <a:lnTo>
                      <a:pt x="2005" y="941"/>
                    </a:lnTo>
                    <a:lnTo>
                      <a:pt x="2009" y="941"/>
                    </a:lnTo>
                    <a:lnTo>
                      <a:pt x="2017" y="945"/>
                    </a:lnTo>
                    <a:lnTo>
                      <a:pt x="2024" y="952"/>
                    </a:lnTo>
                    <a:lnTo>
                      <a:pt x="2032" y="964"/>
                    </a:lnTo>
                    <a:lnTo>
                      <a:pt x="2040" y="975"/>
                    </a:lnTo>
                    <a:lnTo>
                      <a:pt x="2045" y="990"/>
                    </a:lnTo>
                    <a:lnTo>
                      <a:pt x="2051" y="1004"/>
                    </a:lnTo>
                    <a:lnTo>
                      <a:pt x="2057" y="1021"/>
                    </a:lnTo>
                    <a:lnTo>
                      <a:pt x="2059" y="1036"/>
                    </a:lnTo>
                    <a:lnTo>
                      <a:pt x="2061" y="1049"/>
                    </a:lnTo>
                    <a:lnTo>
                      <a:pt x="2061" y="1064"/>
                    </a:lnTo>
                    <a:lnTo>
                      <a:pt x="2061" y="1076"/>
                    </a:lnTo>
                    <a:lnTo>
                      <a:pt x="2061" y="1082"/>
                    </a:lnTo>
                    <a:lnTo>
                      <a:pt x="2061" y="1089"/>
                    </a:lnTo>
                    <a:lnTo>
                      <a:pt x="2061" y="1095"/>
                    </a:lnTo>
                    <a:lnTo>
                      <a:pt x="2061" y="1101"/>
                    </a:lnTo>
                    <a:lnTo>
                      <a:pt x="2061" y="1108"/>
                    </a:lnTo>
                    <a:lnTo>
                      <a:pt x="2062" y="1114"/>
                    </a:lnTo>
                    <a:lnTo>
                      <a:pt x="2062" y="1120"/>
                    </a:lnTo>
                    <a:lnTo>
                      <a:pt x="2062" y="1125"/>
                    </a:lnTo>
                    <a:lnTo>
                      <a:pt x="2062" y="1131"/>
                    </a:lnTo>
                    <a:lnTo>
                      <a:pt x="2062" y="1137"/>
                    </a:lnTo>
                    <a:lnTo>
                      <a:pt x="2064" y="1142"/>
                    </a:lnTo>
                    <a:lnTo>
                      <a:pt x="2066" y="1148"/>
                    </a:lnTo>
                    <a:lnTo>
                      <a:pt x="2066" y="1154"/>
                    </a:lnTo>
                    <a:lnTo>
                      <a:pt x="2068" y="1159"/>
                    </a:lnTo>
                    <a:lnTo>
                      <a:pt x="2072" y="1165"/>
                    </a:lnTo>
                    <a:lnTo>
                      <a:pt x="2074" y="1173"/>
                    </a:lnTo>
                    <a:lnTo>
                      <a:pt x="2072" y="1173"/>
                    </a:lnTo>
                    <a:lnTo>
                      <a:pt x="2070" y="1177"/>
                    </a:lnTo>
                    <a:lnTo>
                      <a:pt x="2062" y="1173"/>
                    </a:lnTo>
                    <a:lnTo>
                      <a:pt x="2055" y="1171"/>
                    </a:lnTo>
                    <a:lnTo>
                      <a:pt x="2049" y="1165"/>
                    </a:lnTo>
                    <a:lnTo>
                      <a:pt x="2045" y="1161"/>
                    </a:lnTo>
                    <a:lnTo>
                      <a:pt x="2040" y="1154"/>
                    </a:lnTo>
                    <a:lnTo>
                      <a:pt x="2036" y="1146"/>
                    </a:lnTo>
                    <a:lnTo>
                      <a:pt x="2032" y="1139"/>
                    </a:lnTo>
                    <a:lnTo>
                      <a:pt x="2030" y="1131"/>
                    </a:lnTo>
                    <a:lnTo>
                      <a:pt x="2026" y="1121"/>
                    </a:lnTo>
                    <a:lnTo>
                      <a:pt x="2023" y="1112"/>
                    </a:lnTo>
                    <a:lnTo>
                      <a:pt x="2021" y="1102"/>
                    </a:lnTo>
                    <a:lnTo>
                      <a:pt x="2017" y="1093"/>
                    </a:lnTo>
                    <a:lnTo>
                      <a:pt x="2013" y="1085"/>
                    </a:lnTo>
                    <a:lnTo>
                      <a:pt x="2009" y="1076"/>
                    </a:lnTo>
                    <a:lnTo>
                      <a:pt x="2005" y="1068"/>
                    </a:lnTo>
                    <a:lnTo>
                      <a:pt x="2000" y="1063"/>
                    </a:lnTo>
                    <a:lnTo>
                      <a:pt x="1996" y="1066"/>
                    </a:lnTo>
                    <a:lnTo>
                      <a:pt x="1994" y="1072"/>
                    </a:lnTo>
                    <a:lnTo>
                      <a:pt x="1992" y="1076"/>
                    </a:lnTo>
                    <a:lnTo>
                      <a:pt x="1990" y="1083"/>
                    </a:lnTo>
                    <a:lnTo>
                      <a:pt x="1988" y="1089"/>
                    </a:lnTo>
                    <a:lnTo>
                      <a:pt x="1988" y="1095"/>
                    </a:lnTo>
                    <a:lnTo>
                      <a:pt x="1988" y="1101"/>
                    </a:lnTo>
                    <a:lnTo>
                      <a:pt x="1988" y="1110"/>
                    </a:lnTo>
                    <a:lnTo>
                      <a:pt x="1988" y="1116"/>
                    </a:lnTo>
                    <a:lnTo>
                      <a:pt x="1988" y="1123"/>
                    </a:lnTo>
                    <a:lnTo>
                      <a:pt x="1988" y="1129"/>
                    </a:lnTo>
                    <a:lnTo>
                      <a:pt x="1990" y="1137"/>
                    </a:lnTo>
                    <a:lnTo>
                      <a:pt x="1992" y="1142"/>
                    </a:lnTo>
                    <a:lnTo>
                      <a:pt x="1994" y="1150"/>
                    </a:lnTo>
                    <a:lnTo>
                      <a:pt x="1994" y="1156"/>
                    </a:lnTo>
                    <a:lnTo>
                      <a:pt x="1996" y="1161"/>
                    </a:lnTo>
                    <a:lnTo>
                      <a:pt x="1990" y="1163"/>
                    </a:lnTo>
                    <a:lnTo>
                      <a:pt x="1984" y="1165"/>
                    </a:lnTo>
                    <a:lnTo>
                      <a:pt x="1979" y="1165"/>
                    </a:lnTo>
                    <a:lnTo>
                      <a:pt x="1975" y="1167"/>
                    </a:lnTo>
                    <a:lnTo>
                      <a:pt x="1964" y="1167"/>
                    </a:lnTo>
                    <a:lnTo>
                      <a:pt x="1954" y="1173"/>
                    </a:lnTo>
                    <a:lnTo>
                      <a:pt x="1950" y="1163"/>
                    </a:lnTo>
                    <a:lnTo>
                      <a:pt x="1948" y="1154"/>
                    </a:lnTo>
                    <a:lnTo>
                      <a:pt x="1945" y="1142"/>
                    </a:lnTo>
                    <a:lnTo>
                      <a:pt x="1943" y="1135"/>
                    </a:lnTo>
                    <a:lnTo>
                      <a:pt x="1939" y="1125"/>
                    </a:lnTo>
                    <a:lnTo>
                      <a:pt x="1935" y="1116"/>
                    </a:lnTo>
                    <a:lnTo>
                      <a:pt x="1931" y="1108"/>
                    </a:lnTo>
                    <a:lnTo>
                      <a:pt x="1927" y="1099"/>
                    </a:lnTo>
                    <a:lnTo>
                      <a:pt x="1924" y="1089"/>
                    </a:lnTo>
                    <a:lnTo>
                      <a:pt x="1918" y="1080"/>
                    </a:lnTo>
                    <a:lnTo>
                      <a:pt x="1914" y="1072"/>
                    </a:lnTo>
                    <a:lnTo>
                      <a:pt x="1910" y="1063"/>
                    </a:lnTo>
                    <a:lnTo>
                      <a:pt x="1905" y="1053"/>
                    </a:lnTo>
                    <a:lnTo>
                      <a:pt x="1899" y="1045"/>
                    </a:lnTo>
                    <a:lnTo>
                      <a:pt x="1893" y="1038"/>
                    </a:lnTo>
                    <a:lnTo>
                      <a:pt x="1886" y="1030"/>
                    </a:lnTo>
                    <a:lnTo>
                      <a:pt x="1882" y="1038"/>
                    </a:lnTo>
                    <a:lnTo>
                      <a:pt x="1880" y="1047"/>
                    </a:lnTo>
                    <a:lnTo>
                      <a:pt x="1878" y="1055"/>
                    </a:lnTo>
                    <a:lnTo>
                      <a:pt x="1878" y="1064"/>
                    </a:lnTo>
                    <a:lnTo>
                      <a:pt x="1876" y="1074"/>
                    </a:lnTo>
                    <a:lnTo>
                      <a:pt x="1878" y="1082"/>
                    </a:lnTo>
                    <a:lnTo>
                      <a:pt x="1878" y="1091"/>
                    </a:lnTo>
                    <a:lnTo>
                      <a:pt x="1880" y="1099"/>
                    </a:lnTo>
                    <a:lnTo>
                      <a:pt x="1882" y="1108"/>
                    </a:lnTo>
                    <a:lnTo>
                      <a:pt x="1884" y="1118"/>
                    </a:lnTo>
                    <a:lnTo>
                      <a:pt x="1884" y="1125"/>
                    </a:lnTo>
                    <a:lnTo>
                      <a:pt x="1888" y="1135"/>
                    </a:lnTo>
                    <a:lnTo>
                      <a:pt x="1889" y="1142"/>
                    </a:lnTo>
                    <a:lnTo>
                      <a:pt x="1891" y="1154"/>
                    </a:lnTo>
                    <a:lnTo>
                      <a:pt x="1891" y="1163"/>
                    </a:lnTo>
                    <a:lnTo>
                      <a:pt x="1893" y="1173"/>
                    </a:lnTo>
                    <a:lnTo>
                      <a:pt x="1880" y="1163"/>
                    </a:lnTo>
                    <a:lnTo>
                      <a:pt x="1870" y="1156"/>
                    </a:lnTo>
                    <a:lnTo>
                      <a:pt x="1861" y="1144"/>
                    </a:lnTo>
                    <a:lnTo>
                      <a:pt x="1853" y="1135"/>
                    </a:lnTo>
                    <a:lnTo>
                      <a:pt x="1844" y="1123"/>
                    </a:lnTo>
                    <a:lnTo>
                      <a:pt x="1836" y="1114"/>
                    </a:lnTo>
                    <a:lnTo>
                      <a:pt x="1831" y="1101"/>
                    </a:lnTo>
                    <a:lnTo>
                      <a:pt x="1825" y="1091"/>
                    </a:lnTo>
                    <a:lnTo>
                      <a:pt x="1819" y="1078"/>
                    </a:lnTo>
                    <a:lnTo>
                      <a:pt x="1813" y="1066"/>
                    </a:lnTo>
                    <a:lnTo>
                      <a:pt x="1810" y="1051"/>
                    </a:lnTo>
                    <a:lnTo>
                      <a:pt x="1804" y="1040"/>
                    </a:lnTo>
                    <a:lnTo>
                      <a:pt x="1800" y="1026"/>
                    </a:lnTo>
                    <a:lnTo>
                      <a:pt x="1796" y="1013"/>
                    </a:lnTo>
                    <a:lnTo>
                      <a:pt x="1791" y="1002"/>
                    </a:lnTo>
                    <a:lnTo>
                      <a:pt x="1787" y="990"/>
                    </a:lnTo>
                    <a:lnTo>
                      <a:pt x="1781" y="1015"/>
                    </a:lnTo>
                    <a:lnTo>
                      <a:pt x="1777" y="1040"/>
                    </a:lnTo>
                    <a:lnTo>
                      <a:pt x="1775" y="1064"/>
                    </a:lnTo>
                    <a:lnTo>
                      <a:pt x="1777" y="1087"/>
                    </a:lnTo>
                    <a:lnTo>
                      <a:pt x="1781" y="1110"/>
                    </a:lnTo>
                    <a:lnTo>
                      <a:pt x="1787" y="1131"/>
                    </a:lnTo>
                    <a:lnTo>
                      <a:pt x="1796" y="1152"/>
                    </a:lnTo>
                    <a:lnTo>
                      <a:pt x="1808" y="1171"/>
                    </a:lnTo>
                    <a:lnTo>
                      <a:pt x="1819" y="1188"/>
                    </a:lnTo>
                    <a:lnTo>
                      <a:pt x="1834" y="1203"/>
                    </a:lnTo>
                    <a:lnTo>
                      <a:pt x="1851" y="1215"/>
                    </a:lnTo>
                    <a:lnTo>
                      <a:pt x="1870" y="1224"/>
                    </a:lnTo>
                    <a:lnTo>
                      <a:pt x="1893" y="1232"/>
                    </a:lnTo>
                    <a:lnTo>
                      <a:pt x="1916" y="1235"/>
                    </a:lnTo>
                    <a:lnTo>
                      <a:pt x="1943" y="1235"/>
                    </a:lnTo>
                    <a:lnTo>
                      <a:pt x="1971" y="1232"/>
                    </a:lnTo>
                    <a:lnTo>
                      <a:pt x="1979" y="1237"/>
                    </a:lnTo>
                    <a:lnTo>
                      <a:pt x="1988" y="1243"/>
                    </a:lnTo>
                    <a:lnTo>
                      <a:pt x="2000" y="1249"/>
                    </a:lnTo>
                    <a:lnTo>
                      <a:pt x="2009" y="1256"/>
                    </a:lnTo>
                    <a:lnTo>
                      <a:pt x="2017" y="1262"/>
                    </a:lnTo>
                    <a:lnTo>
                      <a:pt x="2023" y="1272"/>
                    </a:lnTo>
                    <a:lnTo>
                      <a:pt x="2023" y="1275"/>
                    </a:lnTo>
                    <a:lnTo>
                      <a:pt x="2024" y="1281"/>
                    </a:lnTo>
                    <a:lnTo>
                      <a:pt x="2024" y="1287"/>
                    </a:lnTo>
                    <a:lnTo>
                      <a:pt x="2024" y="1294"/>
                    </a:lnTo>
                    <a:lnTo>
                      <a:pt x="1973" y="1294"/>
                    </a:lnTo>
                    <a:lnTo>
                      <a:pt x="1920" y="1291"/>
                    </a:lnTo>
                    <a:lnTo>
                      <a:pt x="1869" y="1285"/>
                    </a:lnTo>
                    <a:lnTo>
                      <a:pt x="1815" y="1279"/>
                    </a:lnTo>
                    <a:lnTo>
                      <a:pt x="1762" y="1272"/>
                    </a:lnTo>
                    <a:lnTo>
                      <a:pt x="1711" y="1264"/>
                    </a:lnTo>
                    <a:lnTo>
                      <a:pt x="1658" y="1254"/>
                    </a:lnTo>
                    <a:lnTo>
                      <a:pt x="1604" y="1247"/>
                    </a:lnTo>
                    <a:lnTo>
                      <a:pt x="1549" y="1239"/>
                    </a:lnTo>
                    <a:lnTo>
                      <a:pt x="1496" y="1235"/>
                    </a:lnTo>
                    <a:lnTo>
                      <a:pt x="1443" y="1232"/>
                    </a:lnTo>
                    <a:lnTo>
                      <a:pt x="1389" y="1234"/>
                    </a:lnTo>
                    <a:lnTo>
                      <a:pt x="1336" y="1237"/>
                    </a:lnTo>
                    <a:lnTo>
                      <a:pt x="1283" y="1249"/>
                    </a:lnTo>
                    <a:lnTo>
                      <a:pt x="1230" y="1262"/>
                    </a:lnTo>
                    <a:lnTo>
                      <a:pt x="1175" y="1283"/>
                    </a:lnTo>
                    <a:lnTo>
                      <a:pt x="1085" y="1331"/>
                    </a:lnTo>
                    <a:lnTo>
                      <a:pt x="1009" y="1393"/>
                    </a:lnTo>
                    <a:lnTo>
                      <a:pt x="945" y="1464"/>
                    </a:lnTo>
                    <a:lnTo>
                      <a:pt x="893" y="1542"/>
                    </a:lnTo>
                    <a:lnTo>
                      <a:pt x="853" y="1627"/>
                    </a:lnTo>
                    <a:lnTo>
                      <a:pt x="829" y="1716"/>
                    </a:lnTo>
                    <a:lnTo>
                      <a:pt x="813" y="1810"/>
                    </a:lnTo>
                    <a:lnTo>
                      <a:pt x="813" y="1905"/>
                    </a:lnTo>
                    <a:lnTo>
                      <a:pt x="823" y="1996"/>
                    </a:lnTo>
                    <a:lnTo>
                      <a:pt x="846" y="2087"/>
                    </a:lnTo>
                    <a:lnTo>
                      <a:pt x="880" y="2175"/>
                    </a:lnTo>
                    <a:lnTo>
                      <a:pt x="928" y="2256"/>
                    </a:lnTo>
                    <a:lnTo>
                      <a:pt x="986" y="2330"/>
                    </a:lnTo>
                    <a:lnTo>
                      <a:pt x="1057" y="2397"/>
                    </a:lnTo>
                    <a:lnTo>
                      <a:pt x="1139" y="2450"/>
                    </a:lnTo>
                    <a:lnTo>
                      <a:pt x="1234" y="2492"/>
                    </a:lnTo>
                    <a:lnTo>
                      <a:pt x="1270" y="2517"/>
                    </a:lnTo>
                    <a:lnTo>
                      <a:pt x="1312" y="2532"/>
                    </a:lnTo>
                    <a:lnTo>
                      <a:pt x="1353" y="2541"/>
                    </a:lnTo>
                    <a:lnTo>
                      <a:pt x="1397" y="2547"/>
                    </a:lnTo>
                    <a:lnTo>
                      <a:pt x="1441" y="2547"/>
                    </a:lnTo>
                    <a:lnTo>
                      <a:pt x="1485" y="2543"/>
                    </a:lnTo>
                    <a:lnTo>
                      <a:pt x="1530" y="2539"/>
                    </a:lnTo>
                    <a:lnTo>
                      <a:pt x="1576" y="2536"/>
                    </a:lnTo>
                    <a:lnTo>
                      <a:pt x="1621" y="2530"/>
                    </a:lnTo>
                    <a:lnTo>
                      <a:pt x="1667" y="2526"/>
                    </a:lnTo>
                    <a:lnTo>
                      <a:pt x="1711" y="2524"/>
                    </a:lnTo>
                    <a:lnTo>
                      <a:pt x="1756" y="2528"/>
                    </a:lnTo>
                    <a:lnTo>
                      <a:pt x="1798" y="2534"/>
                    </a:lnTo>
                    <a:lnTo>
                      <a:pt x="1840" y="2547"/>
                    </a:lnTo>
                    <a:lnTo>
                      <a:pt x="1882" y="2568"/>
                    </a:lnTo>
                    <a:lnTo>
                      <a:pt x="1922" y="2596"/>
                    </a:lnTo>
                    <a:lnTo>
                      <a:pt x="1939" y="2600"/>
                    </a:lnTo>
                    <a:lnTo>
                      <a:pt x="1956" y="2606"/>
                    </a:lnTo>
                    <a:lnTo>
                      <a:pt x="1971" y="2614"/>
                    </a:lnTo>
                    <a:lnTo>
                      <a:pt x="1986" y="2623"/>
                    </a:lnTo>
                    <a:lnTo>
                      <a:pt x="2004" y="2633"/>
                    </a:lnTo>
                    <a:lnTo>
                      <a:pt x="2019" y="2646"/>
                    </a:lnTo>
                    <a:lnTo>
                      <a:pt x="2034" y="2657"/>
                    </a:lnTo>
                    <a:lnTo>
                      <a:pt x="2051" y="2669"/>
                    </a:lnTo>
                    <a:lnTo>
                      <a:pt x="2064" y="2680"/>
                    </a:lnTo>
                    <a:lnTo>
                      <a:pt x="2080" y="2692"/>
                    </a:lnTo>
                    <a:lnTo>
                      <a:pt x="2097" y="2703"/>
                    </a:lnTo>
                    <a:lnTo>
                      <a:pt x="2112" y="2714"/>
                    </a:lnTo>
                    <a:lnTo>
                      <a:pt x="2125" y="2724"/>
                    </a:lnTo>
                    <a:lnTo>
                      <a:pt x="2142" y="2733"/>
                    </a:lnTo>
                    <a:lnTo>
                      <a:pt x="2157" y="2741"/>
                    </a:lnTo>
                    <a:lnTo>
                      <a:pt x="2175" y="2749"/>
                    </a:lnTo>
                    <a:lnTo>
                      <a:pt x="2182" y="2743"/>
                    </a:lnTo>
                    <a:lnTo>
                      <a:pt x="2190" y="2739"/>
                    </a:lnTo>
                    <a:lnTo>
                      <a:pt x="2197" y="2731"/>
                    </a:lnTo>
                    <a:lnTo>
                      <a:pt x="2205" y="2726"/>
                    </a:lnTo>
                    <a:lnTo>
                      <a:pt x="2213" y="2718"/>
                    </a:lnTo>
                    <a:lnTo>
                      <a:pt x="2220" y="2714"/>
                    </a:lnTo>
                    <a:lnTo>
                      <a:pt x="2230" y="2711"/>
                    </a:lnTo>
                    <a:lnTo>
                      <a:pt x="2239" y="2709"/>
                    </a:lnTo>
                    <a:lnTo>
                      <a:pt x="2216" y="2693"/>
                    </a:lnTo>
                    <a:lnTo>
                      <a:pt x="2196" y="2678"/>
                    </a:lnTo>
                    <a:lnTo>
                      <a:pt x="2175" y="2661"/>
                    </a:lnTo>
                    <a:lnTo>
                      <a:pt x="2154" y="2646"/>
                    </a:lnTo>
                    <a:lnTo>
                      <a:pt x="2131" y="2625"/>
                    </a:lnTo>
                    <a:lnTo>
                      <a:pt x="2110" y="2606"/>
                    </a:lnTo>
                    <a:lnTo>
                      <a:pt x="2091" y="2585"/>
                    </a:lnTo>
                    <a:lnTo>
                      <a:pt x="2072" y="2562"/>
                    </a:lnTo>
                    <a:lnTo>
                      <a:pt x="2053" y="2538"/>
                    </a:lnTo>
                    <a:lnTo>
                      <a:pt x="2040" y="2513"/>
                    </a:lnTo>
                    <a:lnTo>
                      <a:pt x="2024" y="2486"/>
                    </a:lnTo>
                    <a:lnTo>
                      <a:pt x="2015" y="2460"/>
                    </a:lnTo>
                    <a:lnTo>
                      <a:pt x="2007" y="2431"/>
                    </a:lnTo>
                    <a:lnTo>
                      <a:pt x="2004" y="2401"/>
                    </a:lnTo>
                    <a:lnTo>
                      <a:pt x="2004" y="2370"/>
                    </a:lnTo>
                    <a:lnTo>
                      <a:pt x="2007" y="2340"/>
                    </a:lnTo>
                    <a:lnTo>
                      <a:pt x="2000" y="2302"/>
                    </a:lnTo>
                    <a:lnTo>
                      <a:pt x="1996" y="2264"/>
                    </a:lnTo>
                    <a:lnTo>
                      <a:pt x="1992" y="2228"/>
                    </a:lnTo>
                    <a:lnTo>
                      <a:pt x="1988" y="2192"/>
                    </a:lnTo>
                    <a:lnTo>
                      <a:pt x="1988" y="2155"/>
                    </a:lnTo>
                    <a:lnTo>
                      <a:pt x="1988" y="2121"/>
                    </a:lnTo>
                    <a:lnTo>
                      <a:pt x="1994" y="2085"/>
                    </a:lnTo>
                    <a:lnTo>
                      <a:pt x="2000" y="2053"/>
                    </a:lnTo>
                    <a:lnTo>
                      <a:pt x="2009" y="2019"/>
                    </a:lnTo>
                    <a:lnTo>
                      <a:pt x="2021" y="1988"/>
                    </a:lnTo>
                    <a:lnTo>
                      <a:pt x="2034" y="1956"/>
                    </a:lnTo>
                    <a:lnTo>
                      <a:pt x="2055" y="1929"/>
                    </a:lnTo>
                    <a:lnTo>
                      <a:pt x="2078" y="1901"/>
                    </a:lnTo>
                    <a:lnTo>
                      <a:pt x="2106" y="1874"/>
                    </a:lnTo>
                    <a:lnTo>
                      <a:pt x="2137" y="1851"/>
                    </a:lnTo>
                    <a:lnTo>
                      <a:pt x="2175" y="1830"/>
                    </a:lnTo>
                    <a:lnTo>
                      <a:pt x="2190" y="1821"/>
                    </a:lnTo>
                    <a:lnTo>
                      <a:pt x="2205" y="1815"/>
                    </a:lnTo>
                    <a:lnTo>
                      <a:pt x="2218" y="1808"/>
                    </a:lnTo>
                    <a:lnTo>
                      <a:pt x="2235" y="1802"/>
                    </a:lnTo>
                    <a:lnTo>
                      <a:pt x="2249" y="1796"/>
                    </a:lnTo>
                    <a:lnTo>
                      <a:pt x="2264" y="1791"/>
                    </a:lnTo>
                    <a:lnTo>
                      <a:pt x="2279" y="1785"/>
                    </a:lnTo>
                    <a:lnTo>
                      <a:pt x="2294" y="1777"/>
                    </a:lnTo>
                    <a:lnTo>
                      <a:pt x="2310" y="1772"/>
                    </a:lnTo>
                    <a:lnTo>
                      <a:pt x="2325" y="1766"/>
                    </a:lnTo>
                    <a:lnTo>
                      <a:pt x="2338" y="1760"/>
                    </a:lnTo>
                    <a:lnTo>
                      <a:pt x="2353" y="1754"/>
                    </a:lnTo>
                    <a:lnTo>
                      <a:pt x="2368" y="1747"/>
                    </a:lnTo>
                    <a:lnTo>
                      <a:pt x="2382" y="1739"/>
                    </a:lnTo>
                    <a:lnTo>
                      <a:pt x="2397" y="1732"/>
                    </a:lnTo>
                    <a:lnTo>
                      <a:pt x="2412" y="1724"/>
                    </a:lnTo>
                    <a:lnTo>
                      <a:pt x="2408" y="1732"/>
                    </a:lnTo>
                    <a:lnTo>
                      <a:pt x="2405" y="1741"/>
                    </a:lnTo>
                    <a:lnTo>
                      <a:pt x="2399" y="1747"/>
                    </a:lnTo>
                    <a:lnTo>
                      <a:pt x="2393" y="1754"/>
                    </a:lnTo>
                    <a:lnTo>
                      <a:pt x="2388" y="1762"/>
                    </a:lnTo>
                    <a:lnTo>
                      <a:pt x="2380" y="1768"/>
                    </a:lnTo>
                    <a:lnTo>
                      <a:pt x="2372" y="1773"/>
                    </a:lnTo>
                    <a:lnTo>
                      <a:pt x="2365" y="1781"/>
                    </a:lnTo>
                    <a:lnTo>
                      <a:pt x="2355" y="1787"/>
                    </a:lnTo>
                    <a:lnTo>
                      <a:pt x="2348" y="1792"/>
                    </a:lnTo>
                    <a:lnTo>
                      <a:pt x="2338" y="1798"/>
                    </a:lnTo>
                    <a:lnTo>
                      <a:pt x="2330" y="1806"/>
                    </a:lnTo>
                    <a:lnTo>
                      <a:pt x="2323" y="1811"/>
                    </a:lnTo>
                    <a:lnTo>
                      <a:pt x="2315" y="1819"/>
                    </a:lnTo>
                    <a:lnTo>
                      <a:pt x="2308" y="1827"/>
                    </a:lnTo>
                    <a:lnTo>
                      <a:pt x="2302" y="1834"/>
                    </a:lnTo>
                    <a:lnTo>
                      <a:pt x="2308" y="1844"/>
                    </a:lnTo>
                    <a:lnTo>
                      <a:pt x="2315" y="1851"/>
                    </a:lnTo>
                    <a:lnTo>
                      <a:pt x="2321" y="1861"/>
                    </a:lnTo>
                    <a:lnTo>
                      <a:pt x="2329" y="1868"/>
                    </a:lnTo>
                    <a:lnTo>
                      <a:pt x="2332" y="1876"/>
                    </a:lnTo>
                    <a:lnTo>
                      <a:pt x="2338" y="1884"/>
                    </a:lnTo>
                    <a:lnTo>
                      <a:pt x="2344" y="1889"/>
                    </a:lnTo>
                    <a:lnTo>
                      <a:pt x="2351" y="1895"/>
                    </a:lnTo>
                    <a:lnTo>
                      <a:pt x="2357" y="1899"/>
                    </a:lnTo>
                    <a:lnTo>
                      <a:pt x="2363" y="1901"/>
                    </a:lnTo>
                    <a:lnTo>
                      <a:pt x="2370" y="1901"/>
                    </a:lnTo>
                    <a:lnTo>
                      <a:pt x="2378" y="1901"/>
                    </a:lnTo>
                    <a:lnTo>
                      <a:pt x="2386" y="1899"/>
                    </a:lnTo>
                    <a:lnTo>
                      <a:pt x="2395" y="1895"/>
                    </a:lnTo>
                    <a:lnTo>
                      <a:pt x="2405" y="1887"/>
                    </a:lnTo>
                    <a:lnTo>
                      <a:pt x="2416" y="1880"/>
                    </a:lnTo>
                    <a:lnTo>
                      <a:pt x="2407" y="1889"/>
                    </a:lnTo>
                    <a:lnTo>
                      <a:pt x="2399" y="1901"/>
                    </a:lnTo>
                    <a:lnTo>
                      <a:pt x="2393" y="1910"/>
                    </a:lnTo>
                    <a:lnTo>
                      <a:pt x="2388" y="1922"/>
                    </a:lnTo>
                    <a:lnTo>
                      <a:pt x="2382" y="1931"/>
                    </a:lnTo>
                    <a:lnTo>
                      <a:pt x="2378" y="1943"/>
                    </a:lnTo>
                    <a:lnTo>
                      <a:pt x="2374" y="1952"/>
                    </a:lnTo>
                    <a:lnTo>
                      <a:pt x="2374" y="1962"/>
                    </a:lnTo>
                    <a:lnTo>
                      <a:pt x="2372" y="1969"/>
                    </a:lnTo>
                    <a:lnTo>
                      <a:pt x="2372" y="1977"/>
                    </a:lnTo>
                    <a:lnTo>
                      <a:pt x="2374" y="1983"/>
                    </a:lnTo>
                    <a:lnTo>
                      <a:pt x="2380" y="1990"/>
                    </a:lnTo>
                    <a:lnTo>
                      <a:pt x="2384" y="1994"/>
                    </a:lnTo>
                    <a:lnTo>
                      <a:pt x="2393" y="1998"/>
                    </a:lnTo>
                    <a:lnTo>
                      <a:pt x="2403" y="2000"/>
                    </a:lnTo>
                    <a:lnTo>
                      <a:pt x="2416" y="2002"/>
                    </a:lnTo>
                    <a:lnTo>
                      <a:pt x="2410" y="2017"/>
                    </a:lnTo>
                    <a:lnTo>
                      <a:pt x="2407" y="2032"/>
                    </a:lnTo>
                    <a:lnTo>
                      <a:pt x="2403" y="2047"/>
                    </a:lnTo>
                    <a:lnTo>
                      <a:pt x="2403" y="2064"/>
                    </a:lnTo>
                    <a:lnTo>
                      <a:pt x="2403" y="2079"/>
                    </a:lnTo>
                    <a:lnTo>
                      <a:pt x="2403" y="2097"/>
                    </a:lnTo>
                    <a:lnTo>
                      <a:pt x="2403" y="2110"/>
                    </a:lnTo>
                    <a:lnTo>
                      <a:pt x="2407" y="2125"/>
                    </a:lnTo>
                    <a:lnTo>
                      <a:pt x="2408" y="2138"/>
                    </a:lnTo>
                    <a:lnTo>
                      <a:pt x="2410" y="2152"/>
                    </a:lnTo>
                    <a:lnTo>
                      <a:pt x="2414" y="2165"/>
                    </a:lnTo>
                    <a:lnTo>
                      <a:pt x="2418" y="2176"/>
                    </a:lnTo>
                    <a:lnTo>
                      <a:pt x="2424" y="2188"/>
                    </a:lnTo>
                    <a:lnTo>
                      <a:pt x="2427" y="2199"/>
                    </a:lnTo>
                    <a:lnTo>
                      <a:pt x="2431" y="2209"/>
                    </a:lnTo>
                    <a:lnTo>
                      <a:pt x="2437" y="2218"/>
                    </a:lnTo>
                    <a:lnTo>
                      <a:pt x="2431" y="2226"/>
                    </a:lnTo>
                    <a:lnTo>
                      <a:pt x="2426" y="2239"/>
                    </a:lnTo>
                    <a:lnTo>
                      <a:pt x="2422" y="2254"/>
                    </a:lnTo>
                    <a:lnTo>
                      <a:pt x="2416" y="2271"/>
                    </a:lnTo>
                    <a:lnTo>
                      <a:pt x="2412" y="2290"/>
                    </a:lnTo>
                    <a:lnTo>
                      <a:pt x="2410" y="2309"/>
                    </a:lnTo>
                    <a:lnTo>
                      <a:pt x="2407" y="2330"/>
                    </a:lnTo>
                    <a:lnTo>
                      <a:pt x="2403" y="2347"/>
                    </a:lnTo>
                    <a:lnTo>
                      <a:pt x="2399" y="2363"/>
                    </a:lnTo>
                    <a:lnTo>
                      <a:pt x="2395" y="2378"/>
                    </a:lnTo>
                    <a:lnTo>
                      <a:pt x="2389" y="2387"/>
                    </a:lnTo>
                    <a:lnTo>
                      <a:pt x="2386" y="2395"/>
                    </a:lnTo>
                    <a:lnTo>
                      <a:pt x="2380" y="2395"/>
                    </a:lnTo>
                    <a:lnTo>
                      <a:pt x="2374" y="2391"/>
                    </a:lnTo>
                    <a:lnTo>
                      <a:pt x="2367" y="2382"/>
                    </a:lnTo>
                    <a:lnTo>
                      <a:pt x="2359" y="2365"/>
                    </a:lnTo>
                    <a:lnTo>
                      <a:pt x="2348" y="2370"/>
                    </a:lnTo>
                    <a:lnTo>
                      <a:pt x="2338" y="2374"/>
                    </a:lnTo>
                    <a:lnTo>
                      <a:pt x="2329" y="2380"/>
                    </a:lnTo>
                    <a:lnTo>
                      <a:pt x="2319" y="2385"/>
                    </a:lnTo>
                    <a:lnTo>
                      <a:pt x="2308" y="2391"/>
                    </a:lnTo>
                    <a:lnTo>
                      <a:pt x="2298" y="2397"/>
                    </a:lnTo>
                    <a:lnTo>
                      <a:pt x="2289" y="2403"/>
                    </a:lnTo>
                    <a:lnTo>
                      <a:pt x="2281" y="2410"/>
                    </a:lnTo>
                    <a:lnTo>
                      <a:pt x="2275" y="2416"/>
                    </a:lnTo>
                    <a:lnTo>
                      <a:pt x="2270" y="2422"/>
                    </a:lnTo>
                    <a:lnTo>
                      <a:pt x="2266" y="2427"/>
                    </a:lnTo>
                    <a:lnTo>
                      <a:pt x="2262" y="2433"/>
                    </a:lnTo>
                    <a:lnTo>
                      <a:pt x="2258" y="2439"/>
                    </a:lnTo>
                    <a:lnTo>
                      <a:pt x="2256" y="2444"/>
                    </a:lnTo>
                    <a:lnTo>
                      <a:pt x="2256" y="2452"/>
                    </a:lnTo>
                    <a:lnTo>
                      <a:pt x="2256" y="2462"/>
                    </a:lnTo>
                    <a:lnTo>
                      <a:pt x="2262" y="2458"/>
                    </a:lnTo>
                    <a:lnTo>
                      <a:pt x="2272" y="2454"/>
                    </a:lnTo>
                    <a:lnTo>
                      <a:pt x="2279" y="2452"/>
                    </a:lnTo>
                    <a:lnTo>
                      <a:pt x="2287" y="2450"/>
                    </a:lnTo>
                    <a:lnTo>
                      <a:pt x="2294" y="2446"/>
                    </a:lnTo>
                    <a:lnTo>
                      <a:pt x="2302" y="2444"/>
                    </a:lnTo>
                    <a:lnTo>
                      <a:pt x="2310" y="2441"/>
                    </a:lnTo>
                    <a:lnTo>
                      <a:pt x="2319" y="2439"/>
                    </a:lnTo>
                    <a:lnTo>
                      <a:pt x="2325" y="2437"/>
                    </a:lnTo>
                    <a:lnTo>
                      <a:pt x="2332" y="2433"/>
                    </a:lnTo>
                    <a:lnTo>
                      <a:pt x="2340" y="2431"/>
                    </a:lnTo>
                    <a:lnTo>
                      <a:pt x="2348" y="2429"/>
                    </a:lnTo>
                    <a:lnTo>
                      <a:pt x="2355" y="2427"/>
                    </a:lnTo>
                    <a:lnTo>
                      <a:pt x="2363" y="2427"/>
                    </a:lnTo>
                    <a:lnTo>
                      <a:pt x="2372" y="2425"/>
                    </a:lnTo>
                    <a:lnTo>
                      <a:pt x="2380" y="2425"/>
                    </a:lnTo>
                    <a:lnTo>
                      <a:pt x="2380" y="2437"/>
                    </a:lnTo>
                    <a:lnTo>
                      <a:pt x="2376" y="2448"/>
                    </a:lnTo>
                    <a:lnTo>
                      <a:pt x="2367" y="2460"/>
                    </a:lnTo>
                    <a:lnTo>
                      <a:pt x="2353" y="2469"/>
                    </a:lnTo>
                    <a:lnTo>
                      <a:pt x="2340" y="2477"/>
                    </a:lnTo>
                    <a:lnTo>
                      <a:pt x="2323" y="2484"/>
                    </a:lnTo>
                    <a:lnTo>
                      <a:pt x="2306" y="2490"/>
                    </a:lnTo>
                    <a:lnTo>
                      <a:pt x="2289" y="2498"/>
                    </a:lnTo>
                    <a:lnTo>
                      <a:pt x="2270" y="2503"/>
                    </a:lnTo>
                    <a:lnTo>
                      <a:pt x="2254" y="2511"/>
                    </a:lnTo>
                    <a:lnTo>
                      <a:pt x="2241" y="2517"/>
                    </a:lnTo>
                    <a:lnTo>
                      <a:pt x="2234" y="2526"/>
                    </a:lnTo>
                    <a:lnTo>
                      <a:pt x="2226" y="2534"/>
                    </a:lnTo>
                    <a:lnTo>
                      <a:pt x="2226" y="2543"/>
                    </a:lnTo>
                    <a:lnTo>
                      <a:pt x="2230" y="2555"/>
                    </a:lnTo>
                    <a:lnTo>
                      <a:pt x="2241" y="2566"/>
                    </a:lnTo>
                    <a:lnTo>
                      <a:pt x="2249" y="2564"/>
                    </a:lnTo>
                    <a:lnTo>
                      <a:pt x="2254" y="2562"/>
                    </a:lnTo>
                    <a:lnTo>
                      <a:pt x="2262" y="2560"/>
                    </a:lnTo>
                    <a:lnTo>
                      <a:pt x="2270" y="2558"/>
                    </a:lnTo>
                    <a:lnTo>
                      <a:pt x="2277" y="2557"/>
                    </a:lnTo>
                    <a:lnTo>
                      <a:pt x="2285" y="2555"/>
                    </a:lnTo>
                    <a:lnTo>
                      <a:pt x="2291" y="2551"/>
                    </a:lnTo>
                    <a:lnTo>
                      <a:pt x="2298" y="2549"/>
                    </a:lnTo>
                    <a:lnTo>
                      <a:pt x="2304" y="2545"/>
                    </a:lnTo>
                    <a:lnTo>
                      <a:pt x="2311" y="2543"/>
                    </a:lnTo>
                    <a:lnTo>
                      <a:pt x="2319" y="2539"/>
                    </a:lnTo>
                    <a:lnTo>
                      <a:pt x="2327" y="2538"/>
                    </a:lnTo>
                    <a:lnTo>
                      <a:pt x="2332" y="2536"/>
                    </a:lnTo>
                    <a:lnTo>
                      <a:pt x="2340" y="2534"/>
                    </a:lnTo>
                    <a:lnTo>
                      <a:pt x="2348" y="2532"/>
                    </a:lnTo>
                    <a:lnTo>
                      <a:pt x="2355" y="2532"/>
                    </a:lnTo>
                    <a:lnTo>
                      <a:pt x="2355" y="2536"/>
                    </a:lnTo>
                    <a:lnTo>
                      <a:pt x="2355" y="2541"/>
                    </a:lnTo>
                    <a:lnTo>
                      <a:pt x="2353" y="2547"/>
                    </a:lnTo>
                    <a:lnTo>
                      <a:pt x="2353" y="2553"/>
                    </a:lnTo>
                    <a:lnTo>
                      <a:pt x="2349" y="2560"/>
                    </a:lnTo>
                    <a:lnTo>
                      <a:pt x="2346" y="2566"/>
                    </a:lnTo>
                    <a:lnTo>
                      <a:pt x="2340" y="2572"/>
                    </a:lnTo>
                    <a:lnTo>
                      <a:pt x="2334" y="2577"/>
                    </a:lnTo>
                    <a:lnTo>
                      <a:pt x="2327" y="2581"/>
                    </a:lnTo>
                    <a:lnTo>
                      <a:pt x="2321" y="2585"/>
                    </a:lnTo>
                    <a:lnTo>
                      <a:pt x="2313" y="2585"/>
                    </a:lnTo>
                    <a:lnTo>
                      <a:pt x="2308" y="2587"/>
                    </a:lnTo>
                    <a:lnTo>
                      <a:pt x="2302" y="2587"/>
                    </a:lnTo>
                    <a:lnTo>
                      <a:pt x="2296" y="2589"/>
                    </a:lnTo>
                    <a:lnTo>
                      <a:pt x="2291" y="2589"/>
                    </a:lnTo>
                    <a:lnTo>
                      <a:pt x="2285" y="2589"/>
                    </a:lnTo>
                    <a:lnTo>
                      <a:pt x="2279" y="2589"/>
                    </a:lnTo>
                    <a:lnTo>
                      <a:pt x="2273" y="2589"/>
                    </a:lnTo>
                    <a:lnTo>
                      <a:pt x="2268" y="2589"/>
                    </a:lnTo>
                    <a:lnTo>
                      <a:pt x="2262" y="2589"/>
                    </a:lnTo>
                    <a:lnTo>
                      <a:pt x="2256" y="2589"/>
                    </a:lnTo>
                    <a:lnTo>
                      <a:pt x="2251" y="2589"/>
                    </a:lnTo>
                    <a:lnTo>
                      <a:pt x="2239" y="2587"/>
                    </a:lnTo>
                    <a:lnTo>
                      <a:pt x="2232" y="2587"/>
                    </a:lnTo>
                    <a:lnTo>
                      <a:pt x="2234" y="2606"/>
                    </a:lnTo>
                    <a:lnTo>
                      <a:pt x="2239" y="2619"/>
                    </a:lnTo>
                    <a:lnTo>
                      <a:pt x="2245" y="2631"/>
                    </a:lnTo>
                    <a:lnTo>
                      <a:pt x="2254" y="2640"/>
                    </a:lnTo>
                    <a:lnTo>
                      <a:pt x="2264" y="2644"/>
                    </a:lnTo>
                    <a:lnTo>
                      <a:pt x="2275" y="2648"/>
                    </a:lnTo>
                    <a:lnTo>
                      <a:pt x="2287" y="2648"/>
                    </a:lnTo>
                    <a:lnTo>
                      <a:pt x="2300" y="2648"/>
                    </a:lnTo>
                    <a:lnTo>
                      <a:pt x="2313" y="2644"/>
                    </a:lnTo>
                    <a:lnTo>
                      <a:pt x="2327" y="2642"/>
                    </a:lnTo>
                    <a:lnTo>
                      <a:pt x="2342" y="2636"/>
                    </a:lnTo>
                    <a:lnTo>
                      <a:pt x="2355" y="2633"/>
                    </a:lnTo>
                    <a:lnTo>
                      <a:pt x="2370" y="2629"/>
                    </a:lnTo>
                    <a:lnTo>
                      <a:pt x="2384" y="2625"/>
                    </a:lnTo>
                    <a:lnTo>
                      <a:pt x="2395" y="2621"/>
                    </a:lnTo>
                    <a:lnTo>
                      <a:pt x="2408" y="2619"/>
                    </a:lnTo>
                    <a:lnTo>
                      <a:pt x="2399" y="2652"/>
                    </a:lnTo>
                    <a:lnTo>
                      <a:pt x="2386" y="2680"/>
                    </a:lnTo>
                    <a:lnTo>
                      <a:pt x="2367" y="2709"/>
                    </a:lnTo>
                    <a:lnTo>
                      <a:pt x="2346" y="2737"/>
                    </a:lnTo>
                    <a:lnTo>
                      <a:pt x="2323" y="2762"/>
                    </a:lnTo>
                    <a:lnTo>
                      <a:pt x="2296" y="2787"/>
                    </a:lnTo>
                    <a:lnTo>
                      <a:pt x="2268" y="2809"/>
                    </a:lnTo>
                    <a:lnTo>
                      <a:pt x="2239" y="2832"/>
                    </a:lnTo>
                    <a:lnTo>
                      <a:pt x="2207" y="2849"/>
                    </a:lnTo>
                    <a:lnTo>
                      <a:pt x="2175" y="2868"/>
                    </a:lnTo>
                    <a:lnTo>
                      <a:pt x="2142" y="2884"/>
                    </a:lnTo>
                    <a:lnTo>
                      <a:pt x="2108" y="2899"/>
                    </a:lnTo>
                    <a:lnTo>
                      <a:pt x="2074" y="2910"/>
                    </a:lnTo>
                    <a:lnTo>
                      <a:pt x="2042" y="2922"/>
                    </a:lnTo>
                    <a:lnTo>
                      <a:pt x="2009" y="2929"/>
                    </a:lnTo>
                    <a:lnTo>
                      <a:pt x="1979" y="2937"/>
                    </a:lnTo>
                    <a:lnTo>
                      <a:pt x="1967" y="2942"/>
                    </a:lnTo>
                    <a:lnTo>
                      <a:pt x="1956" y="2948"/>
                    </a:lnTo>
                    <a:lnTo>
                      <a:pt x="1945" y="2954"/>
                    </a:lnTo>
                    <a:lnTo>
                      <a:pt x="1931" y="2960"/>
                    </a:lnTo>
                    <a:lnTo>
                      <a:pt x="1920" y="2965"/>
                    </a:lnTo>
                    <a:lnTo>
                      <a:pt x="1908" y="2969"/>
                    </a:lnTo>
                    <a:lnTo>
                      <a:pt x="1897" y="2975"/>
                    </a:lnTo>
                    <a:lnTo>
                      <a:pt x="1886" y="2980"/>
                    </a:lnTo>
                    <a:lnTo>
                      <a:pt x="1874" y="2984"/>
                    </a:lnTo>
                    <a:lnTo>
                      <a:pt x="1863" y="2988"/>
                    </a:lnTo>
                    <a:lnTo>
                      <a:pt x="1851" y="2994"/>
                    </a:lnTo>
                    <a:lnTo>
                      <a:pt x="1840" y="2999"/>
                    </a:lnTo>
                    <a:lnTo>
                      <a:pt x="1829" y="3005"/>
                    </a:lnTo>
                    <a:lnTo>
                      <a:pt x="1817" y="3009"/>
                    </a:lnTo>
                    <a:lnTo>
                      <a:pt x="1806" y="3015"/>
                    </a:lnTo>
                    <a:lnTo>
                      <a:pt x="1794" y="3022"/>
                    </a:lnTo>
                    <a:lnTo>
                      <a:pt x="1794" y="3026"/>
                    </a:lnTo>
                    <a:lnTo>
                      <a:pt x="1829" y="3022"/>
                    </a:lnTo>
                    <a:lnTo>
                      <a:pt x="1865" y="3017"/>
                    </a:lnTo>
                    <a:lnTo>
                      <a:pt x="1901" y="3011"/>
                    </a:lnTo>
                    <a:lnTo>
                      <a:pt x="1937" y="3007"/>
                    </a:lnTo>
                    <a:lnTo>
                      <a:pt x="1971" y="2999"/>
                    </a:lnTo>
                    <a:lnTo>
                      <a:pt x="2005" y="2992"/>
                    </a:lnTo>
                    <a:lnTo>
                      <a:pt x="2042" y="2982"/>
                    </a:lnTo>
                    <a:lnTo>
                      <a:pt x="2076" y="2973"/>
                    </a:lnTo>
                    <a:lnTo>
                      <a:pt x="2110" y="2961"/>
                    </a:lnTo>
                    <a:lnTo>
                      <a:pt x="2144" y="2948"/>
                    </a:lnTo>
                    <a:lnTo>
                      <a:pt x="2176" y="2937"/>
                    </a:lnTo>
                    <a:lnTo>
                      <a:pt x="2211" y="2923"/>
                    </a:lnTo>
                    <a:lnTo>
                      <a:pt x="2243" y="2906"/>
                    </a:lnTo>
                    <a:lnTo>
                      <a:pt x="2275" y="2889"/>
                    </a:lnTo>
                    <a:lnTo>
                      <a:pt x="2306" y="2872"/>
                    </a:lnTo>
                    <a:lnTo>
                      <a:pt x="2338" y="2855"/>
                    </a:lnTo>
                    <a:lnTo>
                      <a:pt x="2329" y="2868"/>
                    </a:lnTo>
                    <a:lnTo>
                      <a:pt x="2321" y="2882"/>
                    </a:lnTo>
                    <a:lnTo>
                      <a:pt x="2310" y="2893"/>
                    </a:lnTo>
                    <a:lnTo>
                      <a:pt x="2300" y="2904"/>
                    </a:lnTo>
                    <a:lnTo>
                      <a:pt x="2291" y="2914"/>
                    </a:lnTo>
                    <a:lnTo>
                      <a:pt x="2281" y="2925"/>
                    </a:lnTo>
                    <a:lnTo>
                      <a:pt x="2270" y="2935"/>
                    </a:lnTo>
                    <a:lnTo>
                      <a:pt x="2258" y="2944"/>
                    </a:lnTo>
                    <a:lnTo>
                      <a:pt x="2247" y="2952"/>
                    </a:lnTo>
                    <a:lnTo>
                      <a:pt x="2235" y="2960"/>
                    </a:lnTo>
                    <a:lnTo>
                      <a:pt x="2222" y="2967"/>
                    </a:lnTo>
                    <a:lnTo>
                      <a:pt x="2211" y="2975"/>
                    </a:lnTo>
                    <a:lnTo>
                      <a:pt x="2197" y="2980"/>
                    </a:lnTo>
                    <a:lnTo>
                      <a:pt x="2186" y="2986"/>
                    </a:lnTo>
                    <a:lnTo>
                      <a:pt x="2173" y="2992"/>
                    </a:lnTo>
                    <a:lnTo>
                      <a:pt x="2159" y="2998"/>
                    </a:lnTo>
                    <a:lnTo>
                      <a:pt x="2138" y="3003"/>
                    </a:lnTo>
                    <a:lnTo>
                      <a:pt x="2118" y="3009"/>
                    </a:lnTo>
                    <a:lnTo>
                      <a:pt x="2097" y="3015"/>
                    </a:lnTo>
                    <a:lnTo>
                      <a:pt x="2074" y="3018"/>
                    </a:lnTo>
                    <a:lnTo>
                      <a:pt x="2053" y="3022"/>
                    </a:lnTo>
                    <a:lnTo>
                      <a:pt x="2030" y="3028"/>
                    </a:lnTo>
                    <a:lnTo>
                      <a:pt x="2009" y="3032"/>
                    </a:lnTo>
                    <a:lnTo>
                      <a:pt x="1988" y="3037"/>
                    </a:lnTo>
                    <a:lnTo>
                      <a:pt x="1967" y="3041"/>
                    </a:lnTo>
                    <a:lnTo>
                      <a:pt x="1946" y="3047"/>
                    </a:lnTo>
                    <a:lnTo>
                      <a:pt x="1926" y="3051"/>
                    </a:lnTo>
                    <a:lnTo>
                      <a:pt x="1907" y="3056"/>
                    </a:lnTo>
                    <a:lnTo>
                      <a:pt x="1886" y="3062"/>
                    </a:lnTo>
                    <a:lnTo>
                      <a:pt x="1869" y="3070"/>
                    </a:lnTo>
                    <a:lnTo>
                      <a:pt x="1850" y="3077"/>
                    </a:lnTo>
                    <a:lnTo>
                      <a:pt x="1832" y="3085"/>
                    </a:lnTo>
                    <a:lnTo>
                      <a:pt x="1869" y="3100"/>
                    </a:lnTo>
                    <a:lnTo>
                      <a:pt x="1903" y="3112"/>
                    </a:lnTo>
                    <a:lnTo>
                      <a:pt x="1939" y="3117"/>
                    </a:lnTo>
                    <a:lnTo>
                      <a:pt x="1975" y="3123"/>
                    </a:lnTo>
                    <a:lnTo>
                      <a:pt x="2011" y="3123"/>
                    </a:lnTo>
                    <a:lnTo>
                      <a:pt x="2047" y="3123"/>
                    </a:lnTo>
                    <a:lnTo>
                      <a:pt x="2081" y="3119"/>
                    </a:lnTo>
                    <a:lnTo>
                      <a:pt x="2119" y="3114"/>
                    </a:lnTo>
                    <a:lnTo>
                      <a:pt x="2154" y="3106"/>
                    </a:lnTo>
                    <a:lnTo>
                      <a:pt x="2190" y="3098"/>
                    </a:lnTo>
                    <a:lnTo>
                      <a:pt x="2226" y="3091"/>
                    </a:lnTo>
                    <a:lnTo>
                      <a:pt x="2260" y="3081"/>
                    </a:lnTo>
                    <a:lnTo>
                      <a:pt x="2294" y="3074"/>
                    </a:lnTo>
                    <a:lnTo>
                      <a:pt x="2330" y="3066"/>
                    </a:lnTo>
                    <a:lnTo>
                      <a:pt x="2363" y="3058"/>
                    </a:lnTo>
                    <a:lnTo>
                      <a:pt x="2399" y="3055"/>
                    </a:lnTo>
                    <a:lnTo>
                      <a:pt x="2420" y="3081"/>
                    </a:lnTo>
                    <a:lnTo>
                      <a:pt x="2441" y="3112"/>
                    </a:lnTo>
                    <a:lnTo>
                      <a:pt x="2458" y="3142"/>
                    </a:lnTo>
                    <a:lnTo>
                      <a:pt x="2477" y="3174"/>
                    </a:lnTo>
                    <a:lnTo>
                      <a:pt x="2490" y="3205"/>
                    </a:lnTo>
                    <a:lnTo>
                      <a:pt x="2503" y="3237"/>
                    </a:lnTo>
                    <a:lnTo>
                      <a:pt x="2517" y="3269"/>
                    </a:lnTo>
                    <a:lnTo>
                      <a:pt x="2528" y="3304"/>
                    </a:lnTo>
                    <a:lnTo>
                      <a:pt x="2536" y="3338"/>
                    </a:lnTo>
                    <a:lnTo>
                      <a:pt x="2545" y="3372"/>
                    </a:lnTo>
                    <a:lnTo>
                      <a:pt x="2551" y="3404"/>
                    </a:lnTo>
                    <a:lnTo>
                      <a:pt x="2559" y="3439"/>
                    </a:lnTo>
                    <a:lnTo>
                      <a:pt x="2564" y="3473"/>
                    </a:lnTo>
                    <a:lnTo>
                      <a:pt x="2568" y="3509"/>
                    </a:lnTo>
                    <a:lnTo>
                      <a:pt x="2572" y="3541"/>
                    </a:lnTo>
                    <a:lnTo>
                      <a:pt x="2576" y="3577"/>
                    </a:lnTo>
                    <a:lnTo>
                      <a:pt x="2570" y="3612"/>
                    </a:lnTo>
                    <a:lnTo>
                      <a:pt x="2564" y="3648"/>
                    </a:lnTo>
                    <a:lnTo>
                      <a:pt x="2555" y="3682"/>
                    </a:lnTo>
                    <a:lnTo>
                      <a:pt x="2545" y="3716"/>
                    </a:lnTo>
                    <a:lnTo>
                      <a:pt x="2530" y="3747"/>
                    </a:lnTo>
                    <a:lnTo>
                      <a:pt x="2517" y="3779"/>
                    </a:lnTo>
                    <a:lnTo>
                      <a:pt x="2498" y="3807"/>
                    </a:lnTo>
                    <a:lnTo>
                      <a:pt x="2481" y="3836"/>
                    </a:lnTo>
                    <a:lnTo>
                      <a:pt x="2456" y="3861"/>
                    </a:lnTo>
                    <a:lnTo>
                      <a:pt x="2433" y="3881"/>
                    </a:lnTo>
                    <a:lnTo>
                      <a:pt x="2407" y="3900"/>
                    </a:lnTo>
                    <a:lnTo>
                      <a:pt x="2378" y="3919"/>
                    </a:lnTo>
                    <a:lnTo>
                      <a:pt x="2346" y="3931"/>
                    </a:lnTo>
                    <a:lnTo>
                      <a:pt x="2311" y="3942"/>
                    </a:lnTo>
                    <a:lnTo>
                      <a:pt x="2277" y="3948"/>
                    </a:lnTo>
                    <a:lnTo>
                      <a:pt x="2239" y="3952"/>
                    </a:lnTo>
                    <a:lnTo>
                      <a:pt x="2209" y="3956"/>
                    </a:lnTo>
                    <a:lnTo>
                      <a:pt x="2182" y="3961"/>
                    </a:lnTo>
                    <a:lnTo>
                      <a:pt x="2152" y="3965"/>
                    </a:lnTo>
                    <a:lnTo>
                      <a:pt x="2121" y="3967"/>
                    </a:lnTo>
                    <a:lnTo>
                      <a:pt x="2089" y="3967"/>
                    </a:lnTo>
                    <a:lnTo>
                      <a:pt x="2059" y="3967"/>
                    </a:lnTo>
                    <a:lnTo>
                      <a:pt x="2026" y="3963"/>
                    </a:lnTo>
                    <a:lnTo>
                      <a:pt x="1998" y="3961"/>
                    </a:lnTo>
                    <a:lnTo>
                      <a:pt x="1965" y="3954"/>
                    </a:lnTo>
                    <a:lnTo>
                      <a:pt x="1937" y="3944"/>
                    </a:lnTo>
                    <a:lnTo>
                      <a:pt x="1908" y="3933"/>
                    </a:lnTo>
                    <a:lnTo>
                      <a:pt x="1884" y="3921"/>
                    </a:lnTo>
                    <a:lnTo>
                      <a:pt x="1857" y="3904"/>
                    </a:lnTo>
                    <a:lnTo>
                      <a:pt x="1834" y="3885"/>
                    </a:lnTo>
                    <a:lnTo>
                      <a:pt x="1815" y="3864"/>
                    </a:lnTo>
                    <a:lnTo>
                      <a:pt x="1798" y="3840"/>
                    </a:lnTo>
                    <a:lnTo>
                      <a:pt x="1806" y="3838"/>
                    </a:lnTo>
                    <a:lnTo>
                      <a:pt x="1815" y="3836"/>
                    </a:lnTo>
                    <a:lnTo>
                      <a:pt x="1823" y="3834"/>
                    </a:lnTo>
                    <a:lnTo>
                      <a:pt x="1832" y="3832"/>
                    </a:lnTo>
                    <a:lnTo>
                      <a:pt x="1840" y="3830"/>
                    </a:lnTo>
                    <a:lnTo>
                      <a:pt x="1851" y="3830"/>
                    </a:lnTo>
                    <a:lnTo>
                      <a:pt x="1861" y="3828"/>
                    </a:lnTo>
                    <a:lnTo>
                      <a:pt x="1870" y="3828"/>
                    </a:lnTo>
                    <a:lnTo>
                      <a:pt x="1878" y="3826"/>
                    </a:lnTo>
                    <a:lnTo>
                      <a:pt x="1889" y="3824"/>
                    </a:lnTo>
                    <a:lnTo>
                      <a:pt x="1899" y="3823"/>
                    </a:lnTo>
                    <a:lnTo>
                      <a:pt x="1908" y="3823"/>
                    </a:lnTo>
                    <a:lnTo>
                      <a:pt x="1918" y="3821"/>
                    </a:lnTo>
                    <a:lnTo>
                      <a:pt x="1927" y="3819"/>
                    </a:lnTo>
                    <a:lnTo>
                      <a:pt x="1937" y="3817"/>
                    </a:lnTo>
                    <a:lnTo>
                      <a:pt x="1946" y="3817"/>
                    </a:lnTo>
                    <a:lnTo>
                      <a:pt x="1933" y="3807"/>
                    </a:lnTo>
                    <a:lnTo>
                      <a:pt x="1922" y="3802"/>
                    </a:lnTo>
                    <a:lnTo>
                      <a:pt x="1908" y="3794"/>
                    </a:lnTo>
                    <a:lnTo>
                      <a:pt x="1895" y="3790"/>
                    </a:lnTo>
                    <a:lnTo>
                      <a:pt x="1882" y="3785"/>
                    </a:lnTo>
                    <a:lnTo>
                      <a:pt x="1869" y="3779"/>
                    </a:lnTo>
                    <a:lnTo>
                      <a:pt x="1855" y="3775"/>
                    </a:lnTo>
                    <a:lnTo>
                      <a:pt x="1840" y="3773"/>
                    </a:lnTo>
                    <a:lnTo>
                      <a:pt x="1827" y="3769"/>
                    </a:lnTo>
                    <a:lnTo>
                      <a:pt x="1812" y="3766"/>
                    </a:lnTo>
                    <a:lnTo>
                      <a:pt x="1798" y="3764"/>
                    </a:lnTo>
                    <a:lnTo>
                      <a:pt x="1783" y="3764"/>
                    </a:lnTo>
                    <a:lnTo>
                      <a:pt x="1768" y="3762"/>
                    </a:lnTo>
                    <a:lnTo>
                      <a:pt x="1753" y="3762"/>
                    </a:lnTo>
                    <a:lnTo>
                      <a:pt x="1737" y="3762"/>
                    </a:lnTo>
                    <a:lnTo>
                      <a:pt x="1722" y="3764"/>
                    </a:lnTo>
                    <a:lnTo>
                      <a:pt x="1728" y="3754"/>
                    </a:lnTo>
                    <a:lnTo>
                      <a:pt x="1734" y="3747"/>
                    </a:lnTo>
                    <a:lnTo>
                      <a:pt x="1739" y="3739"/>
                    </a:lnTo>
                    <a:lnTo>
                      <a:pt x="1747" y="3733"/>
                    </a:lnTo>
                    <a:lnTo>
                      <a:pt x="1754" y="3727"/>
                    </a:lnTo>
                    <a:lnTo>
                      <a:pt x="1764" y="3724"/>
                    </a:lnTo>
                    <a:lnTo>
                      <a:pt x="1772" y="3720"/>
                    </a:lnTo>
                    <a:lnTo>
                      <a:pt x="1781" y="3716"/>
                    </a:lnTo>
                    <a:lnTo>
                      <a:pt x="1789" y="3712"/>
                    </a:lnTo>
                    <a:lnTo>
                      <a:pt x="1798" y="3710"/>
                    </a:lnTo>
                    <a:lnTo>
                      <a:pt x="1808" y="3708"/>
                    </a:lnTo>
                    <a:lnTo>
                      <a:pt x="1817" y="3708"/>
                    </a:lnTo>
                    <a:lnTo>
                      <a:pt x="1827" y="3707"/>
                    </a:lnTo>
                    <a:lnTo>
                      <a:pt x="1838" y="3707"/>
                    </a:lnTo>
                    <a:lnTo>
                      <a:pt x="1848" y="3708"/>
                    </a:lnTo>
                    <a:lnTo>
                      <a:pt x="1859" y="3708"/>
                    </a:lnTo>
                    <a:lnTo>
                      <a:pt x="1848" y="3697"/>
                    </a:lnTo>
                    <a:lnTo>
                      <a:pt x="1834" y="3689"/>
                    </a:lnTo>
                    <a:lnTo>
                      <a:pt x="1823" y="3684"/>
                    </a:lnTo>
                    <a:lnTo>
                      <a:pt x="1810" y="3678"/>
                    </a:lnTo>
                    <a:lnTo>
                      <a:pt x="1796" y="3674"/>
                    </a:lnTo>
                    <a:lnTo>
                      <a:pt x="1781" y="3672"/>
                    </a:lnTo>
                    <a:lnTo>
                      <a:pt x="1768" y="3670"/>
                    </a:lnTo>
                    <a:lnTo>
                      <a:pt x="1753" y="3670"/>
                    </a:lnTo>
                    <a:lnTo>
                      <a:pt x="1735" y="3669"/>
                    </a:lnTo>
                    <a:lnTo>
                      <a:pt x="1722" y="3669"/>
                    </a:lnTo>
                    <a:lnTo>
                      <a:pt x="1705" y="3669"/>
                    </a:lnTo>
                    <a:lnTo>
                      <a:pt x="1690" y="3669"/>
                    </a:lnTo>
                    <a:lnTo>
                      <a:pt x="1677" y="3669"/>
                    </a:lnTo>
                    <a:lnTo>
                      <a:pt x="1661" y="3667"/>
                    </a:lnTo>
                    <a:lnTo>
                      <a:pt x="1646" y="3665"/>
                    </a:lnTo>
                    <a:lnTo>
                      <a:pt x="1635" y="3663"/>
                    </a:lnTo>
                    <a:lnTo>
                      <a:pt x="1644" y="3655"/>
                    </a:lnTo>
                    <a:lnTo>
                      <a:pt x="1654" y="3650"/>
                    </a:lnTo>
                    <a:lnTo>
                      <a:pt x="1667" y="3644"/>
                    </a:lnTo>
                    <a:lnTo>
                      <a:pt x="1678" y="3640"/>
                    </a:lnTo>
                    <a:lnTo>
                      <a:pt x="1690" y="3634"/>
                    </a:lnTo>
                    <a:lnTo>
                      <a:pt x="1701" y="3629"/>
                    </a:lnTo>
                    <a:lnTo>
                      <a:pt x="1713" y="3623"/>
                    </a:lnTo>
                    <a:lnTo>
                      <a:pt x="1726" y="3621"/>
                    </a:lnTo>
                    <a:lnTo>
                      <a:pt x="1737" y="3615"/>
                    </a:lnTo>
                    <a:lnTo>
                      <a:pt x="1751" y="3613"/>
                    </a:lnTo>
                    <a:lnTo>
                      <a:pt x="1762" y="3610"/>
                    </a:lnTo>
                    <a:lnTo>
                      <a:pt x="1775" y="3608"/>
                    </a:lnTo>
                    <a:lnTo>
                      <a:pt x="1789" y="3604"/>
                    </a:lnTo>
                    <a:lnTo>
                      <a:pt x="1802" y="3604"/>
                    </a:lnTo>
                    <a:lnTo>
                      <a:pt x="1815" y="3602"/>
                    </a:lnTo>
                    <a:lnTo>
                      <a:pt x="1829" y="3602"/>
                    </a:lnTo>
                    <a:lnTo>
                      <a:pt x="1813" y="3591"/>
                    </a:lnTo>
                    <a:lnTo>
                      <a:pt x="1798" y="3581"/>
                    </a:lnTo>
                    <a:lnTo>
                      <a:pt x="1781" y="3574"/>
                    </a:lnTo>
                    <a:lnTo>
                      <a:pt x="1766" y="3568"/>
                    </a:lnTo>
                    <a:lnTo>
                      <a:pt x="1749" y="3562"/>
                    </a:lnTo>
                    <a:lnTo>
                      <a:pt x="1732" y="3558"/>
                    </a:lnTo>
                    <a:lnTo>
                      <a:pt x="1715" y="3555"/>
                    </a:lnTo>
                    <a:lnTo>
                      <a:pt x="1697" y="3551"/>
                    </a:lnTo>
                    <a:lnTo>
                      <a:pt x="1678" y="3547"/>
                    </a:lnTo>
                    <a:lnTo>
                      <a:pt x="1661" y="3541"/>
                    </a:lnTo>
                    <a:lnTo>
                      <a:pt x="1644" y="3537"/>
                    </a:lnTo>
                    <a:lnTo>
                      <a:pt x="1627" y="3532"/>
                    </a:lnTo>
                    <a:lnTo>
                      <a:pt x="1610" y="3524"/>
                    </a:lnTo>
                    <a:lnTo>
                      <a:pt x="1595" y="3516"/>
                    </a:lnTo>
                    <a:lnTo>
                      <a:pt x="1580" y="3507"/>
                    </a:lnTo>
                    <a:lnTo>
                      <a:pt x="1566" y="3496"/>
                    </a:lnTo>
                    <a:lnTo>
                      <a:pt x="1574" y="3490"/>
                    </a:lnTo>
                    <a:lnTo>
                      <a:pt x="1581" y="3488"/>
                    </a:lnTo>
                    <a:lnTo>
                      <a:pt x="1589" y="3484"/>
                    </a:lnTo>
                    <a:lnTo>
                      <a:pt x="1599" y="3482"/>
                    </a:lnTo>
                    <a:lnTo>
                      <a:pt x="1606" y="3478"/>
                    </a:lnTo>
                    <a:lnTo>
                      <a:pt x="1616" y="3477"/>
                    </a:lnTo>
                    <a:lnTo>
                      <a:pt x="1625" y="3475"/>
                    </a:lnTo>
                    <a:lnTo>
                      <a:pt x="1635" y="3475"/>
                    </a:lnTo>
                    <a:lnTo>
                      <a:pt x="1642" y="3473"/>
                    </a:lnTo>
                    <a:lnTo>
                      <a:pt x="1652" y="3471"/>
                    </a:lnTo>
                    <a:lnTo>
                      <a:pt x="1661" y="3469"/>
                    </a:lnTo>
                    <a:lnTo>
                      <a:pt x="1669" y="3469"/>
                    </a:lnTo>
                    <a:lnTo>
                      <a:pt x="1678" y="3469"/>
                    </a:lnTo>
                    <a:lnTo>
                      <a:pt x="1686" y="3467"/>
                    </a:lnTo>
                    <a:lnTo>
                      <a:pt x="1696" y="3467"/>
                    </a:lnTo>
                    <a:lnTo>
                      <a:pt x="1705" y="3467"/>
                    </a:lnTo>
                    <a:lnTo>
                      <a:pt x="1694" y="3456"/>
                    </a:lnTo>
                    <a:lnTo>
                      <a:pt x="1682" y="3448"/>
                    </a:lnTo>
                    <a:lnTo>
                      <a:pt x="1669" y="3440"/>
                    </a:lnTo>
                    <a:lnTo>
                      <a:pt x="1656" y="3439"/>
                    </a:lnTo>
                    <a:lnTo>
                      <a:pt x="1640" y="3437"/>
                    </a:lnTo>
                    <a:lnTo>
                      <a:pt x="1625" y="3437"/>
                    </a:lnTo>
                    <a:lnTo>
                      <a:pt x="1610" y="3437"/>
                    </a:lnTo>
                    <a:lnTo>
                      <a:pt x="1595" y="3439"/>
                    </a:lnTo>
                    <a:lnTo>
                      <a:pt x="1578" y="3439"/>
                    </a:lnTo>
                    <a:lnTo>
                      <a:pt x="1562" y="3440"/>
                    </a:lnTo>
                    <a:lnTo>
                      <a:pt x="1545" y="3440"/>
                    </a:lnTo>
                    <a:lnTo>
                      <a:pt x="1530" y="3442"/>
                    </a:lnTo>
                    <a:lnTo>
                      <a:pt x="1515" y="3440"/>
                    </a:lnTo>
                    <a:lnTo>
                      <a:pt x="1500" y="3439"/>
                    </a:lnTo>
                    <a:lnTo>
                      <a:pt x="1486" y="3433"/>
                    </a:lnTo>
                    <a:lnTo>
                      <a:pt x="1475" y="3427"/>
                    </a:lnTo>
                    <a:lnTo>
                      <a:pt x="1481" y="3416"/>
                    </a:lnTo>
                    <a:lnTo>
                      <a:pt x="1490" y="3408"/>
                    </a:lnTo>
                    <a:lnTo>
                      <a:pt x="1500" y="3399"/>
                    </a:lnTo>
                    <a:lnTo>
                      <a:pt x="1511" y="3395"/>
                    </a:lnTo>
                    <a:lnTo>
                      <a:pt x="1521" y="3389"/>
                    </a:lnTo>
                    <a:lnTo>
                      <a:pt x="1532" y="3387"/>
                    </a:lnTo>
                    <a:lnTo>
                      <a:pt x="1543" y="3385"/>
                    </a:lnTo>
                    <a:lnTo>
                      <a:pt x="1557" y="3383"/>
                    </a:lnTo>
                    <a:lnTo>
                      <a:pt x="1568" y="3380"/>
                    </a:lnTo>
                    <a:lnTo>
                      <a:pt x="1580" y="3378"/>
                    </a:lnTo>
                    <a:lnTo>
                      <a:pt x="1589" y="3374"/>
                    </a:lnTo>
                    <a:lnTo>
                      <a:pt x="1600" y="3370"/>
                    </a:lnTo>
                    <a:lnTo>
                      <a:pt x="1610" y="3363"/>
                    </a:lnTo>
                    <a:lnTo>
                      <a:pt x="1620" y="3355"/>
                    </a:lnTo>
                    <a:lnTo>
                      <a:pt x="1627" y="3345"/>
                    </a:lnTo>
                    <a:lnTo>
                      <a:pt x="1635" y="3336"/>
                    </a:lnTo>
                    <a:lnTo>
                      <a:pt x="1612" y="3332"/>
                    </a:lnTo>
                    <a:lnTo>
                      <a:pt x="1589" y="3332"/>
                    </a:lnTo>
                    <a:lnTo>
                      <a:pt x="1568" y="3332"/>
                    </a:lnTo>
                    <a:lnTo>
                      <a:pt x="1545" y="3336"/>
                    </a:lnTo>
                    <a:lnTo>
                      <a:pt x="1524" y="3338"/>
                    </a:lnTo>
                    <a:lnTo>
                      <a:pt x="1502" y="3340"/>
                    </a:lnTo>
                    <a:lnTo>
                      <a:pt x="1481" y="3344"/>
                    </a:lnTo>
                    <a:lnTo>
                      <a:pt x="1460" y="3347"/>
                    </a:lnTo>
                    <a:lnTo>
                      <a:pt x="1437" y="3349"/>
                    </a:lnTo>
                    <a:lnTo>
                      <a:pt x="1414" y="3351"/>
                    </a:lnTo>
                    <a:lnTo>
                      <a:pt x="1391" y="3353"/>
                    </a:lnTo>
                    <a:lnTo>
                      <a:pt x="1370" y="3355"/>
                    </a:lnTo>
                    <a:lnTo>
                      <a:pt x="1346" y="3355"/>
                    </a:lnTo>
                    <a:lnTo>
                      <a:pt x="1325" y="3355"/>
                    </a:lnTo>
                    <a:lnTo>
                      <a:pt x="1300" y="3355"/>
                    </a:lnTo>
                    <a:lnTo>
                      <a:pt x="1279" y="3353"/>
                    </a:lnTo>
                    <a:lnTo>
                      <a:pt x="1287" y="3342"/>
                    </a:lnTo>
                    <a:lnTo>
                      <a:pt x="1296" y="3332"/>
                    </a:lnTo>
                    <a:lnTo>
                      <a:pt x="1308" y="3323"/>
                    </a:lnTo>
                    <a:lnTo>
                      <a:pt x="1321" y="3317"/>
                    </a:lnTo>
                    <a:lnTo>
                      <a:pt x="1334" y="3307"/>
                    </a:lnTo>
                    <a:lnTo>
                      <a:pt x="1350" y="3304"/>
                    </a:lnTo>
                    <a:lnTo>
                      <a:pt x="1363" y="3298"/>
                    </a:lnTo>
                    <a:lnTo>
                      <a:pt x="1380" y="3294"/>
                    </a:lnTo>
                    <a:lnTo>
                      <a:pt x="1395" y="3290"/>
                    </a:lnTo>
                    <a:lnTo>
                      <a:pt x="1412" y="3286"/>
                    </a:lnTo>
                    <a:lnTo>
                      <a:pt x="1429" y="3285"/>
                    </a:lnTo>
                    <a:lnTo>
                      <a:pt x="1447" y="3281"/>
                    </a:lnTo>
                    <a:lnTo>
                      <a:pt x="1462" y="3279"/>
                    </a:lnTo>
                    <a:lnTo>
                      <a:pt x="1479" y="3275"/>
                    </a:lnTo>
                    <a:lnTo>
                      <a:pt x="1494" y="3273"/>
                    </a:lnTo>
                    <a:lnTo>
                      <a:pt x="1511" y="3271"/>
                    </a:lnTo>
                    <a:lnTo>
                      <a:pt x="1498" y="3260"/>
                    </a:lnTo>
                    <a:lnTo>
                      <a:pt x="1486" y="3252"/>
                    </a:lnTo>
                    <a:lnTo>
                      <a:pt x="1471" y="3245"/>
                    </a:lnTo>
                    <a:lnTo>
                      <a:pt x="1458" y="3241"/>
                    </a:lnTo>
                    <a:lnTo>
                      <a:pt x="1443" y="3237"/>
                    </a:lnTo>
                    <a:lnTo>
                      <a:pt x="1426" y="3237"/>
                    </a:lnTo>
                    <a:lnTo>
                      <a:pt x="1408" y="3235"/>
                    </a:lnTo>
                    <a:lnTo>
                      <a:pt x="1391" y="3237"/>
                    </a:lnTo>
                    <a:lnTo>
                      <a:pt x="1374" y="3237"/>
                    </a:lnTo>
                    <a:lnTo>
                      <a:pt x="1355" y="3237"/>
                    </a:lnTo>
                    <a:lnTo>
                      <a:pt x="1336" y="3237"/>
                    </a:lnTo>
                    <a:lnTo>
                      <a:pt x="1319" y="3237"/>
                    </a:lnTo>
                    <a:lnTo>
                      <a:pt x="1300" y="3237"/>
                    </a:lnTo>
                    <a:lnTo>
                      <a:pt x="1283" y="3235"/>
                    </a:lnTo>
                    <a:lnTo>
                      <a:pt x="1266" y="3231"/>
                    </a:lnTo>
                    <a:lnTo>
                      <a:pt x="1251" y="3229"/>
                    </a:lnTo>
                    <a:lnTo>
                      <a:pt x="1251" y="3222"/>
                    </a:lnTo>
                    <a:lnTo>
                      <a:pt x="1251" y="3216"/>
                    </a:lnTo>
                    <a:lnTo>
                      <a:pt x="1253" y="3210"/>
                    </a:lnTo>
                    <a:lnTo>
                      <a:pt x="1256" y="3207"/>
                    </a:lnTo>
                    <a:lnTo>
                      <a:pt x="1262" y="3201"/>
                    </a:lnTo>
                    <a:lnTo>
                      <a:pt x="1272" y="3197"/>
                    </a:lnTo>
                    <a:lnTo>
                      <a:pt x="1275" y="3195"/>
                    </a:lnTo>
                    <a:lnTo>
                      <a:pt x="1281" y="3193"/>
                    </a:lnTo>
                    <a:lnTo>
                      <a:pt x="1287" y="3193"/>
                    </a:lnTo>
                    <a:lnTo>
                      <a:pt x="1293" y="3193"/>
                    </a:lnTo>
                    <a:lnTo>
                      <a:pt x="1298" y="3193"/>
                    </a:lnTo>
                    <a:lnTo>
                      <a:pt x="1304" y="3193"/>
                    </a:lnTo>
                    <a:lnTo>
                      <a:pt x="1310" y="3193"/>
                    </a:lnTo>
                    <a:lnTo>
                      <a:pt x="1315" y="3193"/>
                    </a:lnTo>
                    <a:lnTo>
                      <a:pt x="1325" y="3190"/>
                    </a:lnTo>
                    <a:lnTo>
                      <a:pt x="1332" y="3188"/>
                    </a:lnTo>
                    <a:lnTo>
                      <a:pt x="1338" y="3182"/>
                    </a:lnTo>
                    <a:lnTo>
                      <a:pt x="1342" y="3174"/>
                    </a:lnTo>
                    <a:lnTo>
                      <a:pt x="1317" y="3169"/>
                    </a:lnTo>
                    <a:lnTo>
                      <a:pt x="1294" y="3165"/>
                    </a:lnTo>
                    <a:lnTo>
                      <a:pt x="1270" y="3157"/>
                    </a:lnTo>
                    <a:lnTo>
                      <a:pt x="1249" y="3150"/>
                    </a:lnTo>
                    <a:lnTo>
                      <a:pt x="1226" y="3138"/>
                    </a:lnTo>
                    <a:lnTo>
                      <a:pt x="1205" y="3127"/>
                    </a:lnTo>
                    <a:lnTo>
                      <a:pt x="1184" y="3115"/>
                    </a:lnTo>
                    <a:lnTo>
                      <a:pt x="1163" y="3106"/>
                    </a:lnTo>
                    <a:lnTo>
                      <a:pt x="1142" y="3093"/>
                    </a:lnTo>
                    <a:lnTo>
                      <a:pt x="1120" y="3079"/>
                    </a:lnTo>
                    <a:lnTo>
                      <a:pt x="1099" y="3066"/>
                    </a:lnTo>
                    <a:lnTo>
                      <a:pt x="1080" y="3055"/>
                    </a:lnTo>
                    <a:lnTo>
                      <a:pt x="1057" y="3041"/>
                    </a:lnTo>
                    <a:lnTo>
                      <a:pt x="1038" y="3032"/>
                    </a:lnTo>
                    <a:lnTo>
                      <a:pt x="1015" y="3020"/>
                    </a:lnTo>
                    <a:lnTo>
                      <a:pt x="994" y="3011"/>
                    </a:lnTo>
                    <a:lnTo>
                      <a:pt x="990" y="3018"/>
                    </a:lnTo>
                    <a:lnTo>
                      <a:pt x="988" y="3026"/>
                    </a:lnTo>
                    <a:lnTo>
                      <a:pt x="988" y="3034"/>
                    </a:lnTo>
                    <a:lnTo>
                      <a:pt x="988" y="3041"/>
                    </a:lnTo>
                    <a:lnTo>
                      <a:pt x="988" y="3051"/>
                    </a:lnTo>
                    <a:lnTo>
                      <a:pt x="992" y="3060"/>
                    </a:lnTo>
                    <a:lnTo>
                      <a:pt x="994" y="3068"/>
                    </a:lnTo>
                    <a:lnTo>
                      <a:pt x="998" y="3077"/>
                    </a:lnTo>
                    <a:lnTo>
                      <a:pt x="1000" y="3085"/>
                    </a:lnTo>
                    <a:lnTo>
                      <a:pt x="1004" y="3095"/>
                    </a:lnTo>
                    <a:lnTo>
                      <a:pt x="1005" y="3102"/>
                    </a:lnTo>
                    <a:lnTo>
                      <a:pt x="1009" y="3110"/>
                    </a:lnTo>
                    <a:lnTo>
                      <a:pt x="1009" y="3115"/>
                    </a:lnTo>
                    <a:lnTo>
                      <a:pt x="1011" y="3123"/>
                    </a:lnTo>
                    <a:lnTo>
                      <a:pt x="1011" y="3129"/>
                    </a:lnTo>
                    <a:lnTo>
                      <a:pt x="1013" y="3136"/>
                    </a:lnTo>
                    <a:lnTo>
                      <a:pt x="1009" y="3144"/>
                    </a:lnTo>
                    <a:lnTo>
                      <a:pt x="1004" y="3150"/>
                    </a:lnTo>
                    <a:lnTo>
                      <a:pt x="998" y="3152"/>
                    </a:lnTo>
                    <a:lnTo>
                      <a:pt x="992" y="3153"/>
                    </a:lnTo>
                    <a:lnTo>
                      <a:pt x="985" y="3155"/>
                    </a:lnTo>
                    <a:lnTo>
                      <a:pt x="977" y="3157"/>
                    </a:lnTo>
                    <a:lnTo>
                      <a:pt x="971" y="3142"/>
                    </a:lnTo>
                    <a:lnTo>
                      <a:pt x="967" y="3125"/>
                    </a:lnTo>
                    <a:lnTo>
                      <a:pt x="964" y="3110"/>
                    </a:lnTo>
                    <a:lnTo>
                      <a:pt x="962" y="3095"/>
                    </a:lnTo>
                    <a:lnTo>
                      <a:pt x="958" y="3077"/>
                    </a:lnTo>
                    <a:lnTo>
                      <a:pt x="956" y="3062"/>
                    </a:lnTo>
                    <a:lnTo>
                      <a:pt x="954" y="3045"/>
                    </a:lnTo>
                    <a:lnTo>
                      <a:pt x="952" y="3030"/>
                    </a:lnTo>
                    <a:lnTo>
                      <a:pt x="947" y="3015"/>
                    </a:lnTo>
                    <a:lnTo>
                      <a:pt x="943" y="2998"/>
                    </a:lnTo>
                    <a:lnTo>
                      <a:pt x="937" y="2984"/>
                    </a:lnTo>
                    <a:lnTo>
                      <a:pt x="929" y="2971"/>
                    </a:lnTo>
                    <a:lnTo>
                      <a:pt x="922" y="2956"/>
                    </a:lnTo>
                    <a:lnTo>
                      <a:pt x="912" y="2944"/>
                    </a:lnTo>
                    <a:lnTo>
                      <a:pt x="899" y="2933"/>
                    </a:lnTo>
                    <a:lnTo>
                      <a:pt x="884" y="2923"/>
                    </a:lnTo>
                    <a:lnTo>
                      <a:pt x="880" y="2929"/>
                    </a:lnTo>
                    <a:lnTo>
                      <a:pt x="876" y="2937"/>
                    </a:lnTo>
                    <a:lnTo>
                      <a:pt x="874" y="2944"/>
                    </a:lnTo>
                    <a:lnTo>
                      <a:pt x="874" y="2952"/>
                    </a:lnTo>
                    <a:lnTo>
                      <a:pt x="872" y="2961"/>
                    </a:lnTo>
                    <a:lnTo>
                      <a:pt x="874" y="2971"/>
                    </a:lnTo>
                    <a:lnTo>
                      <a:pt x="874" y="2980"/>
                    </a:lnTo>
                    <a:lnTo>
                      <a:pt x="876" y="2990"/>
                    </a:lnTo>
                    <a:lnTo>
                      <a:pt x="878" y="2999"/>
                    </a:lnTo>
                    <a:lnTo>
                      <a:pt x="880" y="3009"/>
                    </a:lnTo>
                    <a:lnTo>
                      <a:pt x="882" y="3018"/>
                    </a:lnTo>
                    <a:lnTo>
                      <a:pt x="886" y="3028"/>
                    </a:lnTo>
                    <a:lnTo>
                      <a:pt x="888" y="3037"/>
                    </a:lnTo>
                    <a:lnTo>
                      <a:pt x="891" y="3047"/>
                    </a:lnTo>
                    <a:lnTo>
                      <a:pt x="893" y="3056"/>
                    </a:lnTo>
                    <a:lnTo>
                      <a:pt x="895" y="3064"/>
                    </a:lnTo>
                    <a:lnTo>
                      <a:pt x="895" y="3072"/>
                    </a:lnTo>
                    <a:lnTo>
                      <a:pt x="895" y="3081"/>
                    </a:lnTo>
                    <a:lnTo>
                      <a:pt x="895" y="3089"/>
                    </a:lnTo>
                    <a:lnTo>
                      <a:pt x="893" y="3095"/>
                    </a:lnTo>
                    <a:lnTo>
                      <a:pt x="888" y="3098"/>
                    </a:lnTo>
                    <a:lnTo>
                      <a:pt x="884" y="3102"/>
                    </a:lnTo>
                    <a:lnTo>
                      <a:pt x="878" y="3104"/>
                    </a:lnTo>
                    <a:lnTo>
                      <a:pt x="871" y="3104"/>
                    </a:lnTo>
                    <a:lnTo>
                      <a:pt x="861" y="3087"/>
                    </a:lnTo>
                    <a:lnTo>
                      <a:pt x="855" y="3070"/>
                    </a:lnTo>
                    <a:lnTo>
                      <a:pt x="850" y="3053"/>
                    </a:lnTo>
                    <a:lnTo>
                      <a:pt x="846" y="3036"/>
                    </a:lnTo>
                    <a:lnTo>
                      <a:pt x="842" y="3017"/>
                    </a:lnTo>
                    <a:lnTo>
                      <a:pt x="838" y="2998"/>
                    </a:lnTo>
                    <a:lnTo>
                      <a:pt x="834" y="2979"/>
                    </a:lnTo>
                    <a:lnTo>
                      <a:pt x="832" y="2961"/>
                    </a:lnTo>
                    <a:lnTo>
                      <a:pt x="827" y="2942"/>
                    </a:lnTo>
                    <a:lnTo>
                      <a:pt x="823" y="2923"/>
                    </a:lnTo>
                    <a:lnTo>
                      <a:pt x="815" y="2906"/>
                    </a:lnTo>
                    <a:lnTo>
                      <a:pt x="810" y="2891"/>
                    </a:lnTo>
                    <a:lnTo>
                      <a:pt x="798" y="2874"/>
                    </a:lnTo>
                    <a:lnTo>
                      <a:pt x="787" y="2861"/>
                    </a:lnTo>
                    <a:lnTo>
                      <a:pt x="774" y="2847"/>
                    </a:lnTo>
                    <a:lnTo>
                      <a:pt x="756" y="2838"/>
                    </a:lnTo>
                    <a:lnTo>
                      <a:pt x="753" y="2846"/>
                    </a:lnTo>
                    <a:lnTo>
                      <a:pt x="753" y="2853"/>
                    </a:lnTo>
                    <a:lnTo>
                      <a:pt x="751" y="2863"/>
                    </a:lnTo>
                    <a:lnTo>
                      <a:pt x="753" y="2874"/>
                    </a:lnTo>
                    <a:lnTo>
                      <a:pt x="753" y="2885"/>
                    </a:lnTo>
                    <a:lnTo>
                      <a:pt x="755" y="2895"/>
                    </a:lnTo>
                    <a:lnTo>
                      <a:pt x="756" y="2906"/>
                    </a:lnTo>
                    <a:lnTo>
                      <a:pt x="758" y="2918"/>
                    </a:lnTo>
                    <a:lnTo>
                      <a:pt x="758" y="2927"/>
                    </a:lnTo>
                    <a:lnTo>
                      <a:pt x="758" y="2939"/>
                    </a:lnTo>
                    <a:lnTo>
                      <a:pt x="758" y="2948"/>
                    </a:lnTo>
                    <a:lnTo>
                      <a:pt x="756" y="2958"/>
                    </a:lnTo>
                    <a:lnTo>
                      <a:pt x="753" y="2965"/>
                    </a:lnTo>
                    <a:lnTo>
                      <a:pt x="749" y="2975"/>
                    </a:lnTo>
                    <a:lnTo>
                      <a:pt x="741" y="2980"/>
                    </a:lnTo>
                    <a:lnTo>
                      <a:pt x="736" y="2986"/>
                    </a:lnTo>
                    <a:lnTo>
                      <a:pt x="730" y="2969"/>
                    </a:lnTo>
                    <a:lnTo>
                      <a:pt x="728" y="2952"/>
                    </a:lnTo>
                    <a:lnTo>
                      <a:pt x="726" y="2935"/>
                    </a:lnTo>
                    <a:lnTo>
                      <a:pt x="724" y="2918"/>
                    </a:lnTo>
                    <a:lnTo>
                      <a:pt x="720" y="2901"/>
                    </a:lnTo>
                    <a:lnTo>
                      <a:pt x="718" y="2884"/>
                    </a:lnTo>
                    <a:lnTo>
                      <a:pt x="715" y="2865"/>
                    </a:lnTo>
                    <a:lnTo>
                      <a:pt x="713" y="2849"/>
                    </a:lnTo>
                    <a:lnTo>
                      <a:pt x="707" y="2832"/>
                    </a:lnTo>
                    <a:lnTo>
                      <a:pt x="701" y="2815"/>
                    </a:lnTo>
                    <a:lnTo>
                      <a:pt x="696" y="2800"/>
                    </a:lnTo>
                    <a:lnTo>
                      <a:pt x="688" y="2785"/>
                    </a:lnTo>
                    <a:lnTo>
                      <a:pt x="679" y="2769"/>
                    </a:lnTo>
                    <a:lnTo>
                      <a:pt x="667" y="2756"/>
                    </a:lnTo>
                    <a:lnTo>
                      <a:pt x="654" y="2743"/>
                    </a:lnTo>
                    <a:lnTo>
                      <a:pt x="639" y="2731"/>
                    </a:lnTo>
                    <a:lnTo>
                      <a:pt x="637" y="2739"/>
                    </a:lnTo>
                    <a:lnTo>
                      <a:pt x="635" y="2749"/>
                    </a:lnTo>
                    <a:lnTo>
                      <a:pt x="635" y="2756"/>
                    </a:lnTo>
                    <a:lnTo>
                      <a:pt x="635" y="2766"/>
                    </a:lnTo>
                    <a:lnTo>
                      <a:pt x="635" y="2775"/>
                    </a:lnTo>
                    <a:lnTo>
                      <a:pt x="637" y="2785"/>
                    </a:lnTo>
                    <a:lnTo>
                      <a:pt x="637" y="2792"/>
                    </a:lnTo>
                    <a:lnTo>
                      <a:pt x="639" y="2802"/>
                    </a:lnTo>
                    <a:lnTo>
                      <a:pt x="640" y="2811"/>
                    </a:lnTo>
                    <a:lnTo>
                      <a:pt x="642" y="2821"/>
                    </a:lnTo>
                    <a:lnTo>
                      <a:pt x="644" y="2828"/>
                    </a:lnTo>
                    <a:lnTo>
                      <a:pt x="648" y="2838"/>
                    </a:lnTo>
                    <a:lnTo>
                      <a:pt x="650" y="2846"/>
                    </a:lnTo>
                    <a:lnTo>
                      <a:pt x="652" y="2855"/>
                    </a:lnTo>
                    <a:lnTo>
                      <a:pt x="654" y="2863"/>
                    </a:lnTo>
                    <a:lnTo>
                      <a:pt x="658" y="2874"/>
                    </a:lnTo>
                    <a:lnTo>
                      <a:pt x="648" y="2876"/>
                    </a:lnTo>
                    <a:lnTo>
                      <a:pt x="640" y="2878"/>
                    </a:lnTo>
                    <a:lnTo>
                      <a:pt x="635" y="2878"/>
                    </a:lnTo>
                    <a:lnTo>
                      <a:pt x="629" y="2878"/>
                    </a:lnTo>
                    <a:lnTo>
                      <a:pt x="620" y="2874"/>
                    </a:lnTo>
                    <a:lnTo>
                      <a:pt x="614" y="2865"/>
                    </a:lnTo>
                    <a:lnTo>
                      <a:pt x="608" y="2857"/>
                    </a:lnTo>
                    <a:lnTo>
                      <a:pt x="606" y="2847"/>
                    </a:lnTo>
                    <a:lnTo>
                      <a:pt x="602" y="2834"/>
                    </a:lnTo>
                    <a:lnTo>
                      <a:pt x="601" y="2823"/>
                    </a:lnTo>
                    <a:lnTo>
                      <a:pt x="597" y="2807"/>
                    </a:lnTo>
                    <a:lnTo>
                      <a:pt x="595" y="2794"/>
                    </a:lnTo>
                    <a:lnTo>
                      <a:pt x="593" y="2779"/>
                    </a:lnTo>
                    <a:lnTo>
                      <a:pt x="593" y="2764"/>
                    </a:lnTo>
                    <a:lnTo>
                      <a:pt x="591" y="2749"/>
                    </a:lnTo>
                    <a:lnTo>
                      <a:pt x="589" y="2733"/>
                    </a:lnTo>
                    <a:lnTo>
                      <a:pt x="587" y="2718"/>
                    </a:lnTo>
                    <a:lnTo>
                      <a:pt x="585" y="2705"/>
                    </a:lnTo>
                    <a:lnTo>
                      <a:pt x="583" y="2692"/>
                    </a:lnTo>
                    <a:lnTo>
                      <a:pt x="582" y="2680"/>
                    </a:lnTo>
                    <a:lnTo>
                      <a:pt x="578" y="2671"/>
                    </a:lnTo>
                    <a:lnTo>
                      <a:pt x="576" y="2663"/>
                    </a:lnTo>
                    <a:lnTo>
                      <a:pt x="566" y="2655"/>
                    </a:lnTo>
                    <a:lnTo>
                      <a:pt x="561" y="2650"/>
                    </a:lnTo>
                    <a:lnTo>
                      <a:pt x="551" y="2642"/>
                    </a:lnTo>
                    <a:lnTo>
                      <a:pt x="545" y="2633"/>
                    </a:lnTo>
                    <a:lnTo>
                      <a:pt x="538" y="2625"/>
                    </a:lnTo>
                    <a:lnTo>
                      <a:pt x="530" y="2619"/>
                    </a:lnTo>
                    <a:lnTo>
                      <a:pt x="523" y="2616"/>
                    </a:lnTo>
                    <a:lnTo>
                      <a:pt x="515" y="2614"/>
                    </a:lnTo>
                    <a:lnTo>
                      <a:pt x="513" y="2621"/>
                    </a:lnTo>
                    <a:lnTo>
                      <a:pt x="513" y="2629"/>
                    </a:lnTo>
                    <a:lnTo>
                      <a:pt x="511" y="2636"/>
                    </a:lnTo>
                    <a:lnTo>
                      <a:pt x="509" y="2646"/>
                    </a:lnTo>
                    <a:lnTo>
                      <a:pt x="507" y="2654"/>
                    </a:lnTo>
                    <a:lnTo>
                      <a:pt x="506" y="2661"/>
                    </a:lnTo>
                    <a:lnTo>
                      <a:pt x="504" y="2669"/>
                    </a:lnTo>
                    <a:lnTo>
                      <a:pt x="502" y="2676"/>
                    </a:lnTo>
                    <a:lnTo>
                      <a:pt x="500" y="2686"/>
                    </a:lnTo>
                    <a:lnTo>
                      <a:pt x="500" y="2693"/>
                    </a:lnTo>
                    <a:lnTo>
                      <a:pt x="498" y="2701"/>
                    </a:lnTo>
                    <a:lnTo>
                      <a:pt x="496" y="2711"/>
                    </a:lnTo>
                    <a:lnTo>
                      <a:pt x="496" y="2718"/>
                    </a:lnTo>
                    <a:lnTo>
                      <a:pt x="496" y="2728"/>
                    </a:lnTo>
                    <a:lnTo>
                      <a:pt x="496" y="2737"/>
                    </a:lnTo>
                    <a:lnTo>
                      <a:pt x="496" y="2745"/>
                    </a:lnTo>
                    <a:lnTo>
                      <a:pt x="487" y="2731"/>
                    </a:lnTo>
                    <a:lnTo>
                      <a:pt x="481" y="2716"/>
                    </a:lnTo>
                    <a:lnTo>
                      <a:pt x="477" y="2699"/>
                    </a:lnTo>
                    <a:lnTo>
                      <a:pt x="475" y="2680"/>
                    </a:lnTo>
                    <a:lnTo>
                      <a:pt x="473" y="2659"/>
                    </a:lnTo>
                    <a:lnTo>
                      <a:pt x="473" y="2640"/>
                    </a:lnTo>
                    <a:lnTo>
                      <a:pt x="473" y="2617"/>
                    </a:lnTo>
                    <a:lnTo>
                      <a:pt x="473" y="2598"/>
                    </a:lnTo>
                    <a:lnTo>
                      <a:pt x="471" y="2576"/>
                    </a:lnTo>
                    <a:lnTo>
                      <a:pt x="471" y="2557"/>
                    </a:lnTo>
                    <a:lnTo>
                      <a:pt x="468" y="2536"/>
                    </a:lnTo>
                    <a:lnTo>
                      <a:pt x="464" y="2520"/>
                    </a:lnTo>
                    <a:lnTo>
                      <a:pt x="456" y="2503"/>
                    </a:lnTo>
                    <a:lnTo>
                      <a:pt x="447" y="2490"/>
                    </a:lnTo>
                    <a:lnTo>
                      <a:pt x="435" y="2479"/>
                    </a:lnTo>
                    <a:lnTo>
                      <a:pt x="420" y="2471"/>
                    </a:lnTo>
                    <a:lnTo>
                      <a:pt x="418" y="2479"/>
                    </a:lnTo>
                    <a:lnTo>
                      <a:pt x="418" y="2486"/>
                    </a:lnTo>
                    <a:lnTo>
                      <a:pt x="416" y="2492"/>
                    </a:lnTo>
                    <a:lnTo>
                      <a:pt x="416" y="2500"/>
                    </a:lnTo>
                    <a:lnTo>
                      <a:pt x="414" y="2507"/>
                    </a:lnTo>
                    <a:lnTo>
                      <a:pt x="410" y="2515"/>
                    </a:lnTo>
                    <a:lnTo>
                      <a:pt x="409" y="2522"/>
                    </a:lnTo>
                    <a:lnTo>
                      <a:pt x="409" y="2530"/>
                    </a:lnTo>
                    <a:lnTo>
                      <a:pt x="405" y="2536"/>
                    </a:lnTo>
                    <a:lnTo>
                      <a:pt x="403" y="2543"/>
                    </a:lnTo>
                    <a:lnTo>
                      <a:pt x="401" y="2551"/>
                    </a:lnTo>
                    <a:lnTo>
                      <a:pt x="399" y="2558"/>
                    </a:lnTo>
                    <a:lnTo>
                      <a:pt x="395" y="2566"/>
                    </a:lnTo>
                    <a:lnTo>
                      <a:pt x="393" y="2574"/>
                    </a:lnTo>
                    <a:lnTo>
                      <a:pt x="391" y="2579"/>
                    </a:lnTo>
                    <a:lnTo>
                      <a:pt x="390" y="2587"/>
                    </a:lnTo>
                    <a:lnTo>
                      <a:pt x="384" y="2574"/>
                    </a:lnTo>
                    <a:lnTo>
                      <a:pt x="380" y="2560"/>
                    </a:lnTo>
                    <a:lnTo>
                      <a:pt x="376" y="2545"/>
                    </a:lnTo>
                    <a:lnTo>
                      <a:pt x="376" y="2532"/>
                    </a:lnTo>
                    <a:lnTo>
                      <a:pt x="374" y="2517"/>
                    </a:lnTo>
                    <a:lnTo>
                      <a:pt x="374" y="2500"/>
                    </a:lnTo>
                    <a:lnTo>
                      <a:pt x="374" y="2484"/>
                    </a:lnTo>
                    <a:lnTo>
                      <a:pt x="374" y="2469"/>
                    </a:lnTo>
                    <a:lnTo>
                      <a:pt x="374" y="2452"/>
                    </a:lnTo>
                    <a:lnTo>
                      <a:pt x="374" y="2437"/>
                    </a:lnTo>
                    <a:lnTo>
                      <a:pt x="372" y="2420"/>
                    </a:lnTo>
                    <a:lnTo>
                      <a:pt x="372" y="2405"/>
                    </a:lnTo>
                    <a:lnTo>
                      <a:pt x="371" y="2389"/>
                    </a:lnTo>
                    <a:lnTo>
                      <a:pt x="369" y="2374"/>
                    </a:lnTo>
                    <a:lnTo>
                      <a:pt x="365" y="2359"/>
                    </a:lnTo>
                    <a:lnTo>
                      <a:pt x="361" y="2346"/>
                    </a:lnTo>
                    <a:lnTo>
                      <a:pt x="353" y="2351"/>
                    </a:lnTo>
                    <a:lnTo>
                      <a:pt x="350" y="2357"/>
                    </a:lnTo>
                    <a:lnTo>
                      <a:pt x="344" y="2365"/>
                    </a:lnTo>
                    <a:lnTo>
                      <a:pt x="340" y="2374"/>
                    </a:lnTo>
                    <a:lnTo>
                      <a:pt x="336" y="2382"/>
                    </a:lnTo>
                    <a:lnTo>
                      <a:pt x="333" y="2391"/>
                    </a:lnTo>
                    <a:lnTo>
                      <a:pt x="331" y="2401"/>
                    </a:lnTo>
                    <a:lnTo>
                      <a:pt x="331" y="2414"/>
                    </a:lnTo>
                    <a:lnTo>
                      <a:pt x="327" y="2424"/>
                    </a:lnTo>
                    <a:lnTo>
                      <a:pt x="325" y="2435"/>
                    </a:lnTo>
                    <a:lnTo>
                      <a:pt x="323" y="2446"/>
                    </a:lnTo>
                    <a:lnTo>
                      <a:pt x="321" y="2458"/>
                    </a:lnTo>
                    <a:lnTo>
                      <a:pt x="319" y="2469"/>
                    </a:lnTo>
                    <a:lnTo>
                      <a:pt x="315" y="2479"/>
                    </a:lnTo>
                    <a:lnTo>
                      <a:pt x="312" y="2488"/>
                    </a:lnTo>
                    <a:lnTo>
                      <a:pt x="308" y="2500"/>
                    </a:lnTo>
                    <a:lnTo>
                      <a:pt x="293" y="2486"/>
                    </a:lnTo>
                    <a:lnTo>
                      <a:pt x="283" y="2473"/>
                    </a:lnTo>
                    <a:lnTo>
                      <a:pt x="277" y="2460"/>
                    </a:lnTo>
                    <a:lnTo>
                      <a:pt x="276" y="2443"/>
                    </a:lnTo>
                    <a:lnTo>
                      <a:pt x="277" y="2424"/>
                    </a:lnTo>
                    <a:lnTo>
                      <a:pt x="281" y="2406"/>
                    </a:lnTo>
                    <a:lnTo>
                      <a:pt x="285" y="2387"/>
                    </a:lnTo>
                    <a:lnTo>
                      <a:pt x="293" y="2368"/>
                    </a:lnTo>
                    <a:lnTo>
                      <a:pt x="298" y="2347"/>
                    </a:lnTo>
                    <a:lnTo>
                      <a:pt x="304" y="2328"/>
                    </a:lnTo>
                    <a:lnTo>
                      <a:pt x="308" y="2308"/>
                    </a:lnTo>
                    <a:lnTo>
                      <a:pt x="312" y="2289"/>
                    </a:lnTo>
                    <a:lnTo>
                      <a:pt x="312" y="2268"/>
                    </a:lnTo>
                    <a:lnTo>
                      <a:pt x="310" y="2249"/>
                    </a:lnTo>
                    <a:lnTo>
                      <a:pt x="302" y="2232"/>
                    </a:lnTo>
                    <a:lnTo>
                      <a:pt x="291" y="2214"/>
                    </a:lnTo>
                    <a:lnTo>
                      <a:pt x="283" y="2222"/>
                    </a:lnTo>
                    <a:lnTo>
                      <a:pt x="277" y="2230"/>
                    </a:lnTo>
                    <a:lnTo>
                      <a:pt x="274" y="2239"/>
                    </a:lnTo>
                    <a:lnTo>
                      <a:pt x="270" y="2249"/>
                    </a:lnTo>
                    <a:lnTo>
                      <a:pt x="266" y="2256"/>
                    </a:lnTo>
                    <a:lnTo>
                      <a:pt x="264" y="2268"/>
                    </a:lnTo>
                    <a:lnTo>
                      <a:pt x="260" y="2277"/>
                    </a:lnTo>
                    <a:lnTo>
                      <a:pt x="260" y="2289"/>
                    </a:lnTo>
                    <a:lnTo>
                      <a:pt x="256" y="2298"/>
                    </a:lnTo>
                    <a:lnTo>
                      <a:pt x="255" y="2308"/>
                    </a:lnTo>
                    <a:lnTo>
                      <a:pt x="251" y="2317"/>
                    </a:lnTo>
                    <a:lnTo>
                      <a:pt x="249" y="2328"/>
                    </a:lnTo>
                    <a:lnTo>
                      <a:pt x="243" y="2338"/>
                    </a:lnTo>
                    <a:lnTo>
                      <a:pt x="237" y="2347"/>
                    </a:lnTo>
                    <a:lnTo>
                      <a:pt x="232" y="2355"/>
                    </a:lnTo>
                    <a:lnTo>
                      <a:pt x="224" y="2365"/>
                    </a:lnTo>
                    <a:lnTo>
                      <a:pt x="215" y="2347"/>
                    </a:lnTo>
                    <a:lnTo>
                      <a:pt x="213" y="2330"/>
                    </a:lnTo>
                    <a:lnTo>
                      <a:pt x="213" y="2311"/>
                    </a:lnTo>
                    <a:lnTo>
                      <a:pt x="217" y="2294"/>
                    </a:lnTo>
                    <a:lnTo>
                      <a:pt x="222" y="2275"/>
                    </a:lnTo>
                    <a:lnTo>
                      <a:pt x="228" y="2256"/>
                    </a:lnTo>
                    <a:lnTo>
                      <a:pt x="236" y="2237"/>
                    </a:lnTo>
                    <a:lnTo>
                      <a:pt x="243" y="2220"/>
                    </a:lnTo>
                    <a:lnTo>
                      <a:pt x="249" y="2201"/>
                    </a:lnTo>
                    <a:lnTo>
                      <a:pt x="255" y="2182"/>
                    </a:lnTo>
                    <a:lnTo>
                      <a:pt x="258" y="2165"/>
                    </a:lnTo>
                    <a:lnTo>
                      <a:pt x="260" y="2152"/>
                    </a:lnTo>
                    <a:lnTo>
                      <a:pt x="258" y="2135"/>
                    </a:lnTo>
                    <a:lnTo>
                      <a:pt x="253" y="2123"/>
                    </a:lnTo>
                    <a:lnTo>
                      <a:pt x="241" y="2110"/>
                    </a:lnTo>
                    <a:lnTo>
                      <a:pt x="228" y="2100"/>
                    </a:lnTo>
                    <a:lnTo>
                      <a:pt x="224" y="2110"/>
                    </a:lnTo>
                    <a:lnTo>
                      <a:pt x="220" y="2117"/>
                    </a:lnTo>
                    <a:lnTo>
                      <a:pt x="217" y="2127"/>
                    </a:lnTo>
                    <a:lnTo>
                      <a:pt x="213" y="2136"/>
                    </a:lnTo>
                    <a:lnTo>
                      <a:pt x="207" y="2146"/>
                    </a:lnTo>
                    <a:lnTo>
                      <a:pt x="203" y="2155"/>
                    </a:lnTo>
                    <a:lnTo>
                      <a:pt x="198" y="2163"/>
                    </a:lnTo>
                    <a:lnTo>
                      <a:pt x="194" y="2173"/>
                    </a:lnTo>
                    <a:lnTo>
                      <a:pt x="190" y="2182"/>
                    </a:lnTo>
                    <a:lnTo>
                      <a:pt x="186" y="2190"/>
                    </a:lnTo>
                    <a:lnTo>
                      <a:pt x="182" y="2199"/>
                    </a:lnTo>
                    <a:lnTo>
                      <a:pt x="180" y="2209"/>
                    </a:lnTo>
                    <a:lnTo>
                      <a:pt x="179" y="2218"/>
                    </a:lnTo>
                    <a:lnTo>
                      <a:pt x="180" y="2228"/>
                    </a:lnTo>
                    <a:lnTo>
                      <a:pt x="180" y="2237"/>
                    </a:lnTo>
                    <a:lnTo>
                      <a:pt x="184" y="2247"/>
                    </a:lnTo>
                    <a:lnTo>
                      <a:pt x="171" y="2230"/>
                    </a:lnTo>
                    <a:lnTo>
                      <a:pt x="163" y="2214"/>
                    </a:lnTo>
                    <a:lnTo>
                      <a:pt x="160" y="2199"/>
                    </a:lnTo>
                    <a:lnTo>
                      <a:pt x="161" y="2182"/>
                    </a:lnTo>
                    <a:lnTo>
                      <a:pt x="163" y="2165"/>
                    </a:lnTo>
                    <a:lnTo>
                      <a:pt x="169" y="2148"/>
                    </a:lnTo>
                    <a:lnTo>
                      <a:pt x="179" y="2129"/>
                    </a:lnTo>
                    <a:lnTo>
                      <a:pt x="186" y="2112"/>
                    </a:lnTo>
                    <a:lnTo>
                      <a:pt x="194" y="2091"/>
                    </a:lnTo>
                    <a:lnTo>
                      <a:pt x="203" y="2074"/>
                    </a:lnTo>
                    <a:lnTo>
                      <a:pt x="211" y="2055"/>
                    </a:lnTo>
                    <a:lnTo>
                      <a:pt x="218" y="2036"/>
                    </a:lnTo>
                    <a:lnTo>
                      <a:pt x="222" y="2017"/>
                    </a:lnTo>
                    <a:lnTo>
                      <a:pt x="224" y="1996"/>
                    </a:lnTo>
                    <a:lnTo>
                      <a:pt x="222" y="1977"/>
                    </a:lnTo>
                    <a:lnTo>
                      <a:pt x="217" y="1958"/>
                    </a:lnTo>
                    <a:lnTo>
                      <a:pt x="217" y="1948"/>
                    </a:lnTo>
                    <a:lnTo>
                      <a:pt x="215" y="1941"/>
                    </a:lnTo>
                    <a:lnTo>
                      <a:pt x="211" y="1929"/>
                    </a:lnTo>
                    <a:lnTo>
                      <a:pt x="213" y="1920"/>
                    </a:lnTo>
                    <a:lnTo>
                      <a:pt x="201" y="1931"/>
                    </a:lnTo>
                    <a:lnTo>
                      <a:pt x="192" y="1945"/>
                    </a:lnTo>
                    <a:lnTo>
                      <a:pt x="182" y="1956"/>
                    </a:lnTo>
                    <a:lnTo>
                      <a:pt x="175" y="1971"/>
                    </a:lnTo>
                    <a:lnTo>
                      <a:pt x="165" y="1984"/>
                    </a:lnTo>
                    <a:lnTo>
                      <a:pt x="158" y="1998"/>
                    </a:lnTo>
                    <a:lnTo>
                      <a:pt x="150" y="2013"/>
                    </a:lnTo>
                    <a:lnTo>
                      <a:pt x="144" y="2026"/>
                    </a:lnTo>
                    <a:lnTo>
                      <a:pt x="137" y="2040"/>
                    </a:lnTo>
                    <a:lnTo>
                      <a:pt x="129" y="2055"/>
                    </a:lnTo>
                    <a:lnTo>
                      <a:pt x="122" y="2070"/>
                    </a:lnTo>
                    <a:lnTo>
                      <a:pt x="116" y="2083"/>
                    </a:lnTo>
                    <a:lnTo>
                      <a:pt x="106" y="2098"/>
                    </a:lnTo>
                    <a:lnTo>
                      <a:pt x="99" y="2112"/>
                    </a:lnTo>
                    <a:lnTo>
                      <a:pt x="91" y="2125"/>
                    </a:lnTo>
                    <a:lnTo>
                      <a:pt x="82" y="2140"/>
                    </a:lnTo>
                    <a:lnTo>
                      <a:pt x="76" y="2123"/>
                    </a:lnTo>
                    <a:lnTo>
                      <a:pt x="76" y="2106"/>
                    </a:lnTo>
                    <a:lnTo>
                      <a:pt x="76" y="2087"/>
                    </a:lnTo>
                    <a:lnTo>
                      <a:pt x="82" y="2068"/>
                    </a:lnTo>
                    <a:lnTo>
                      <a:pt x="85" y="2049"/>
                    </a:lnTo>
                    <a:lnTo>
                      <a:pt x="91" y="2030"/>
                    </a:lnTo>
                    <a:lnTo>
                      <a:pt x="97" y="2011"/>
                    </a:lnTo>
                    <a:lnTo>
                      <a:pt x="103" y="1992"/>
                    </a:lnTo>
                    <a:lnTo>
                      <a:pt x="106" y="1971"/>
                    </a:lnTo>
                    <a:lnTo>
                      <a:pt x="108" y="1954"/>
                    </a:lnTo>
                    <a:lnTo>
                      <a:pt x="110" y="1937"/>
                    </a:lnTo>
                    <a:lnTo>
                      <a:pt x="110" y="1922"/>
                    </a:lnTo>
                    <a:lnTo>
                      <a:pt x="104" y="1905"/>
                    </a:lnTo>
                    <a:lnTo>
                      <a:pt x="99" y="1893"/>
                    </a:lnTo>
                    <a:lnTo>
                      <a:pt x="85" y="1882"/>
                    </a:lnTo>
                    <a:lnTo>
                      <a:pt x="70" y="1872"/>
                    </a:lnTo>
                    <a:lnTo>
                      <a:pt x="66" y="1882"/>
                    </a:lnTo>
                    <a:lnTo>
                      <a:pt x="61" y="1891"/>
                    </a:lnTo>
                    <a:lnTo>
                      <a:pt x="57" y="1899"/>
                    </a:lnTo>
                    <a:lnTo>
                      <a:pt x="51" y="1906"/>
                    </a:lnTo>
                    <a:lnTo>
                      <a:pt x="45" y="1912"/>
                    </a:lnTo>
                    <a:lnTo>
                      <a:pt x="40" y="1922"/>
                    </a:lnTo>
                    <a:lnTo>
                      <a:pt x="34" y="1929"/>
                    </a:lnTo>
                    <a:lnTo>
                      <a:pt x="28" y="1937"/>
                    </a:lnTo>
                    <a:lnTo>
                      <a:pt x="25" y="1924"/>
                    </a:lnTo>
                    <a:lnTo>
                      <a:pt x="26" y="1910"/>
                    </a:lnTo>
                    <a:lnTo>
                      <a:pt x="28" y="1895"/>
                    </a:lnTo>
                    <a:lnTo>
                      <a:pt x="34" y="1884"/>
                    </a:lnTo>
                    <a:lnTo>
                      <a:pt x="40" y="1868"/>
                    </a:lnTo>
                    <a:lnTo>
                      <a:pt x="45" y="1855"/>
                    </a:lnTo>
                    <a:lnTo>
                      <a:pt x="51" y="1842"/>
                    </a:lnTo>
                    <a:lnTo>
                      <a:pt x="59" y="1829"/>
                    </a:lnTo>
                    <a:lnTo>
                      <a:pt x="63" y="1813"/>
                    </a:lnTo>
                    <a:lnTo>
                      <a:pt x="68" y="1798"/>
                    </a:lnTo>
                    <a:lnTo>
                      <a:pt x="72" y="1785"/>
                    </a:lnTo>
                    <a:lnTo>
                      <a:pt x="74" y="1770"/>
                    </a:lnTo>
                    <a:lnTo>
                      <a:pt x="74" y="1756"/>
                    </a:lnTo>
                    <a:lnTo>
                      <a:pt x="72" y="1741"/>
                    </a:lnTo>
                    <a:lnTo>
                      <a:pt x="66" y="1726"/>
                    </a:lnTo>
                    <a:lnTo>
                      <a:pt x="61" y="1713"/>
                    </a:lnTo>
                    <a:lnTo>
                      <a:pt x="51" y="1713"/>
                    </a:lnTo>
                    <a:lnTo>
                      <a:pt x="45" y="1715"/>
                    </a:lnTo>
                    <a:lnTo>
                      <a:pt x="40" y="1718"/>
                    </a:lnTo>
                    <a:lnTo>
                      <a:pt x="36" y="1722"/>
                    </a:lnTo>
                    <a:lnTo>
                      <a:pt x="32" y="1728"/>
                    </a:lnTo>
                    <a:lnTo>
                      <a:pt x="28" y="1734"/>
                    </a:lnTo>
                    <a:lnTo>
                      <a:pt x="26" y="1739"/>
                    </a:lnTo>
                    <a:lnTo>
                      <a:pt x="25" y="1745"/>
                    </a:lnTo>
                    <a:lnTo>
                      <a:pt x="21" y="1751"/>
                    </a:lnTo>
                    <a:lnTo>
                      <a:pt x="19" y="1756"/>
                    </a:lnTo>
                    <a:lnTo>
                      <a:pt x="17" y="1762"/>
                    </a:lnTo>
                    <a:lnTo>
                      <a:pt x="15" y="1768"/>
                    </a:lnTo>
                    <a:lnTo>
                      <a:pt x="7" y="1773"/>
                    </a:lnTo>
                    <a:lnTo>
                      <a:pt x="0" y="1777"/>
                    </a:lnTo>
                    <a:lnTo>
                      <a:pt x="4" y="1749"/>
                    </a:lnTo>
                    <a:lnTo>
                      <a:pt x="11" y="1724"/>
                    </a:lnTo>
                    <a:lnTo>
                      <a:pt x="19" y="1699"/>
                    </a:lnTo>
                    <a:lnTo>
                      <a:pt x="30" y="1678"/>
                    </a:lnTo>
                    <a:lnTo>
                      <a:pt x="42" y="1657"/>
                    </a:lnTo>
                    <a:lnTo>
                      <a:pt x="55" y="1638"/>
                    </a:lnTo>
                    <a:lnTo>
                      <a:pt x="68" y="1621"/>
                    </a:lnTo>
                    <a:lnTo>
                      <a:pt x="84" y="1602"/>
                    </a:lnTo>
                    <a:lnTo>
                      <a:pt x="97" y="1585"/>
                    </a:lnTo>
                    <a:lnTo>
                      <a:pt x="112" y="1568"/>
                    </a:lnTo>
                    <a:lnTo>
                      <a:pt x="125" y="1549"/>
                    </a:lnTo>
                    <a:lnTo>
                      <a:pt x="141" y="1530"/>
                    </a:lnTo>
                    <a:lnTo>
                      <a:pt x="152" y="1507"/>
                    </a:lnTo>
                    <a:lnTo>
                      <a:pt x="163" y="1486"/>
                    </a:lnTo>
                    <a:lnTo>
                      <a:pt x="175" y="1464"/>
                    </a:lnTo>
                    <a:lnTo>
                      <a:pt x="184" y="1439"/>
                    </a:lnTo>
                    <a:lnTo>
                      <a:pt x="173" y="1446"/>
                    </a:lnTo>
                    <a:lnTo>
                      <a:pt x="160" y="1454"/>
                    </a:lnTo>
                    <a:lnTo>
                      <a:pt x="146" y="1460"/>
                    </a:lnTo>
                    <a:lnTo>
                      <a:pt x="135" y="1469"/>
                    </a:lnTo>
                    <a:lnTo>
                      <a:pt x="120" y="1477"/>
                    </a:lnTo>
                    <a:lnTo>
                      <a:pt x="106" y="1486"/>
                    </a:lnTo>
                    <a:lnTo>
                      <a:pt x="93" y="1494"/>
                    </a:lnTo>
                    <a:lnTo>
                      <a:pt x="82" y="1504"/>
                    </a:lnTo>
                    <a:lnTo>
                      <a:pt x="68" y="1513"/>
                    </a:lnTo>
                    <a:lnTo>
                      <a:pt x="57" y="1523"/>
                    </a:lnTo>
                    <a:lnTo>
                      <a:pt x="45" y="1532"/>
                    </a:lnTo>
                    <a:lnTo>
                      <a:pt x="36" y="1543"/>
                    </a:lnTo>
                    <a:lnTo>
                      <a:pt x="25" y="1553"/>
                    </a:lnTo>
                    <a:lnTo>
                      <a:pt x="17" y="1564"/>
                    </a:lnTo>
                    <a:lnTo>
                      <a:pt x="11" y="1576"/>
                    </a:lnTo>
                    <a:lnTo>
                      <a:pt x="7" y="1589"/>
                    </a:lnTo>
                    <a:lnTo>
                      <a:pt x="4" y="1566"/>
                    </a:lnTo>
                    <a:lnTo>
                      <a:pt x="7" y="1545"/>
                    </a:lnTo>
                    <a:lnTo>
                      <a:pt x="15" y="1526"/>
                    </a:lnTo>
                    <a:lnTo>
                      <a:pt x="25" y="1509"/>
                    </a:lnTo>
                    <a:lnTo>
                      <a:pt x="38" y="1492"/>
                    </a:lnTo>
                    <a:lnTo>
                      <a:pt x="53" y="1477"/>
                    </a:lnTo>
                    <a:lnTo>
                      <a:pt x="70" y="1462"/>
                    </a:lnTo>
                    <a:lnTo>
                      <a:pt x="91" y="1446"/>
                    </a:lnTo>
                    <a:lnTo>
                      <a:pt x="108" y="1431"/>
                    </a:lnTo>
                    <a:lnTo>
                      <a:pt x="127" y="1416"/>
                    </a:lnTo>
                    <a:lnTo>
                      <a:pt x="144" y="1401"/>
                    </a:lnTo>
                    <a:lnTo>
                      <a:pt x="161" y="1386"/>
                    </a:lnTo>
                    <a:lnTo>
                      <a:pt x="177" y="1367"/>
                    </a:lnTo>
                    <a:lnTo>
                      <a:pt x="190" y="1350"/>
                    </a:lnTo>
                    <a:lnTo>
                      <a:pt x="199" y="1331"/>
                    </a:lnTo>
                    <a:lnTo>
                      <a:pt x="205" y="1312"/>
                    </a:lnTo>
                    <a:lnTo>
                      <a:pt x="211" y="1304"/>
                    </a:lnTo>
                    <a:lnTo>
                      <a:pt x="215" y="1296"/>
                    </a:lnTo>
                    <a:lnTo>
                      <a:pt x="217" y="1287"/>
                    </a:lnTo>
                    <a:lnTo>
                      <a:pt x="220" y="1279"/>
                    </a:lnTo>
                    <a:lnTo>
                      <a:pt x="207" y="1279"/>
                    </a:lnTo>
                    <a:lnTo>
                      <a:pt x="196" y="1283"/>
                    </a:lnTo>
                    <a:lnTo>
                      <a:pt x="184" y="1287"/>
                    </a:lnTo>
                    <a:lnTo>
                      <a:pt x="175" y="1293"/>
                    </a:lnTo>
                    <a:lnTo>
                      <a:pt x="161" y="1298"/>
                    </a:lnTo>
                    <a:lnTo>
                      <a:pt x="152" y="1304"/>
                    </a:lnTo>
                    <a:lnTo>
                      <a:pt x="142" y="1310"/>
                    </a:lnTo>
                    <a:lnTo>
                      <a:pt x="133" y="1317"/>
                    </a:lnTo>
                    <a:lnTo>
                      <a:pt x="123" y="1323"/>
                    </a:lnTo>
                    <a:lnTo>
                      <a:pt x="114" y="1331"/>
                    </a:lnTo>
                    <a:lnTo>
                      <a:pt x="104" y="1338"/>
                    </a:lnTo>
                    <a:lnTo>
                      <a:pt x="95" y="1346"/>
                    </a:lnTo>
                    <a:lnTo>
                      <a:pt x="85" y="1353"/>
                    </a:lnTo>
                    <a:lnTo>
                      <a:pt x="74" y="1361"/>
                    </a:lnTo>
                    <a:lnTo>
                      <a:pt x="64" y="1367"/>
                    </a:lnTo>
                    <a:lnTo>
                      <a:pt x="57" y="1374"/>
                    </a:lnTo>
                    <a:lnTo>
                      <a:pt x="57" y="1359"/>
                    </a:lnTo>
                    <a:lnTo>
                      <a:pt x="61" y="1344"/>
                    </a:lnTo>
                    <a:lnTo>
                      <a:pt x="66" y="1329"/>
                    </a:lnTo>
                    <a:lnTo>
                      <a:pt x="76" y="1317"/>
                    </a:lnTo>
                    <a:lnTo>
                      <a:pt x="87" y="1306"/>
                    </a:lnTo>
                    <a:lnTo>
                      <a:pt x="99" y="1296"/>
                    </a:lnTo>
                    <a:lnTo>
                      <a:pt x="112" y="1285"/>
                    </a:lnTo>
                    <a:lnTo>
                      <a:pt x="127" y="1275"/>
                    </a:lnTo>
                    <a:lnTo>
                      <a:pt x="141" y="1266"/>
                    </a:lnTo>
                    <a:lnTo>
                      <a:pt x="156" y="1256"/>
                    </a:lnTo>
                    <a:lnTo>
                      <a:pt x="169" y="1247"/>
                    </a:lnTo>
                    <a:lnTo>
                      <a:pt x="182" y="1237"/>
                    </a:lnTo>
                    <a:lnTo>
                      <a:pt x="194" y="1226"/>
                    </a:lnTo>
                    <a:lnTo>
                      <a:pt x="203" y="1215"/>
                    </a:lnTo>
                    <a:lnTo>
                      <a:pt x="213" y="1203"/>
                    </a:lnTo>
                    <a:lnTo>
                      <a:pt x="220" y="1190"/>
                    </a:lnTo>
                    <a:lnTo>
                      <a:pt x="213" y="1190"/>
                    </a:lnTo>
                    <a:lnTo>
                      <a:pt x="209" y="1190"/>
                    </a:lnTo>
                    <a:lnTo>
                      <a:pt x="203" y="1190"/>
                    </a:lnTo>
                    <a:lnTo>
                      <a:pt x="198" y="1194"/>
                    </a:lnTo>
                    <a:lnTo>
                      <a:pt x="194" y="1180"/>
                    </a:lnTo>
                    <a:lnTo>
                      <a:pt x="188" y="1173"/>
                    </a:lnTo>
                    <a:lnTo>
                      <a:pt x="182" y="1167"/>
                    </a:lnTo>
                    <a:lnTo>
                      <a:pt x="175" y="1167"/>
                    </a:lnTo>
                    <a:lnTo>
                      <a:pt x="163" y="1165"/>
                    </a:lnTo>
                    <a:lnTo>
                      <a:pt x="154" y="1169"/>
                    </a:lnTo>
                    <a:lnTo>
                      <a:pt x="142" y="1173"/>
                    </a:lnTo>
                    <a:lnTo>
                      <a:pt x="133" y="1178"/>
                    </a:lnTo>
                    <a:lnTo>
                      <a:pt x="120" y="1184"/>
                    </a:lnTo>
                    <a:lnTo>
                      <a:pt x="108" y="1190"/>
                    </a:lnTo>
                    <a:lnTo>
                      <a:pt x="97" y="1197"/>
                    </a:lnTo>
                    <a:lnTo>
                      <a:pt x="85" y="1207"/>
                    </a:lnTo>
                    <a:lnTo>
                      <a:pt x="72" y="1213"/>
                    </a:lnTo>
                    <a:lnTo>
                      <a:pt x="63" y="1220"/>
                    </a:lnTo>
                    <a:lnTo>
                      <a:pt x="53" y="1226"/>
                    </a:lnTo>
                    <a:lnTo>
                      <a:pt x="45" y="1232"/>
                    </a:lnTo>
                    <a:lnTo>
                      <a:pt x="45" y="1226"/>
                    </a:lnTo>
                    <a:lnTo>
                      <a:pt x="47" y="1220"/>
                    </a:lnTo>
                    <a:lnTo>
                      <a:pt x="47" y="1216"/>
                    </a:lnTo>
                    <a:lnTo>
                      <a:pt x="51" y="1211"/>
                    </a:lnTo>
                    <a:lnTo>
                      <a:pt x="51" y="1205"/>
                    </a:lnTo>
                    <a:lnTo>
                      <a:pt x="55" y="1199"/>
                    </a:lnTo>
                    <a:lnTo>
                      <a:pt x="57" y="1194"/>
                    </a:lnTo>
                    <a:lnTo>
                      <a:pt x="61" y="1190"/>
                    </a:lnTo>
                    <a:lnTo>
                      <a:pt x="66" y="1178"/>
                    </a:lnTo>
                    <a:lnTo>
                      <a:pt x="74" y="1169"/>
                    </a:lnTo>
                    <a:lnTo>
                      <a:pt x="84" y="1159"/>
                    </a:lnTo>
                    <a:lnTo>
                      <a:pt x="93" y="1152"/>
                    </a:lnTo>
                    <a:lnTo>
                      <a:pt x="99" y="1144"/>
                    </a:lnTo>
                    <a:lnTo>
                      <a:pt x="106" y="1137"/>
                    </a:lnTo>
                    <a:lnTo>
                      <a:pt x="114" y="1131"/>
                    </a:lnTo>
                    <a:lnTo>
                      <a:pt x="123" y="1125"/>
                    </a:lnTo>
                    <a:lnTo>
                      <a:pt x="133" y="1120"/>
                    </a:lnTo>
                    <a:lnTo>
                      <a:pt x="141" y="1114"/>
                    </a:lnTo>
                    <a:lnTo>
                      <a:pt x="150" y="1108"/>
                    </a:lnTo>
                    <a:lnTo>
                      <a:pt x="160" y="1102"/>
                    </a:lnTo>
                    <a:lnTo>
                      <a:pt x="167" y="1097"/>
                    </a:lnTo>
                    <a:lnTo>
                      <a:pt x="177" y="1093"/>
                    </a:lnTo>
                    <a:lnTo>
                      <a:pt x="186" y="1089"/>
                    </a:lnTo>
                    <a:lnTo>
                      <a:pt x="194" y="1085"/>
                    </a:lnTo>
                    <a:lnTo>
                      <a:pt x="201" y="1082"/>
                    </a:lnTo>
                    <a:lnTo>
                      <a:pt x="211" y="1078"/>
                    </a:lnTo>
                    <a:lnTo>
                      <a:pt x="218" y="1076"/>
                    </a:lnTo>
                    <a:lnTo>
                      <a:pt x="228" y="1074"/>
                    </a:lnTo>
                    <a:lnTo>
                      <a:pt x="228" y="1068"/>
                    </a:lnTo>
                    <a:lnTo>
                      <a:pt x="228" y="1063"/>
                    </a:lnTo>
                    <a:lnTo>
                      <a:pt x="230" y="1057"/>
                    </a:lnTo>
                    <a:lnTo>
                      <a:pt x="232" y="1051"/>
                    </a:lnTo>
                    <a:lnTo>
                      <a:pt x="234" y="1042"/>
                    </a:lnTo>
                    <a:lnTo>
                      <a:pt x="237" y="1032"/>
                    </a:lnTo>
                    <a:lnTo>
                      <a:pt x="241" y="1021"/>
                    </a:lnTo>
                    <a:lnTo>
                      <a:pt x="247" y="1011"/>
                    </a:lnTo>
                    <a:lnTo>
                      <a:pt x="251" y="1000"/>
                    </a:lnTo>
                    <a:lnTo>
                      <a:pt x="255" y="990"/>
                    </a:lnTo>
                    <a:lnTo>
                      <a:pt x="241" y="996"/>
                    </a:lnTo>
                    <a:lnTo>
                      <a:pt x="228" y="1002"/>
                    </a:lnTo>
                    <a:lnTo>
                      <a:pt x="215" y="1007"/>
                    </a:lnTo>
                    <a:lnTo>
                      <a:pt x="203" y="1015"/>
                    </a:lnTo>
                    <a:lnTo>
                      <a:pt x="192" y="1023"/>
                    </a:lnTo>
                    <a:lnTo>
                      <a:pt x="180" y="1030"/>
                    </a:lnTo>
                    <a:lnTo>
                      <a:pt x="169" y="1036"/>
                    </a:lnTo>
                    <a:lnTo>
                      <a:pt x="158" y="1044"/>
                    </a:lnTo>
                    <a:lnTo>
                      <a:pt x="144" y="1051"/>
                    </a:lnTo>
                    <a:lnTo>
                      <a:pt x="133" y="1057"/>
                    </a:lnTo>
                    <a:lnTo>
                      <a:pt x="120" y="1064"/>
                    </a:lnTo>
                    <a:lnTo>
                      <a:pt x="108" y="1072"/>
                    </a:lnTo>
                    <a:lnTo>
                      <a:pt x="95" y="1078"/>
                    </a:lnTo>
                    <a:lnTo>
                      <a:pt x="84" y="1085"/>
                    </a:lnTo>
                    <a:lnTo>
                      <a:pt x="68" y="1091"/>
                    </a:lnTo>
                    <a:lnTo>
                      <a:pt x="57" y="1097"/>
                    </a:lnTo>
                    <a:lnTo>
                      <a:pt x="68" y="1076"/>
                    </a:lnTo>
                    <a:lnTo>
                      <a:pt x="85" y="1059"/>
                    </a:lnTo>
                    <a:lnTo>
                      <a:pt x="103" y="1044"/>
                    </a:lnTo>
                    <a:lnTo>
                      <a:pt x="123" y="1030"/>
                    </a:lnTo>
                    <a:lnTo>
                      <a:pt x="144" y="1019"/>
                    </a:lnTo>
                    <a:lnTo>
                      <a:pt x="165" y="1007"/>
                    </a:lnTo>
                    <a:lnTo>
                      <a:pt x="188" y="998"/>
                    </a:lnTo>
                    <a:lnTo>
                      <a:pt x="211" y="988"/>
                    </a:lnTo>
                    <a:lnTo>
                      <a:pt x="232" y="979"/>
                    </a:lnTo>
                    <a:lnTo>
                      <a:pt x="251" y="967"/>
                    </a:lnTo>
                    <a:lnTo>
                      <a:pt x="270" y="954"/>
                    </a:lnTo>
                    <a:lnTo>
                      <a:pt x="287" y="943"/>
                    </a:lnTo>
                    <a:lnTo>
                      <a:pt x="302" y="926"/>
                    </a:lnTo>
                    <a:lnTo>
                      <a:pt x="314" y="909"/>
                    </a:lnTo>
                    <a:lnTo>
                      <a:pt x="321" y="888"/>
                    </a:lnTo>
                    <a:lnTo>
                      <a:pt x="327" y="863"/>
                    </a:lnTo>
                    <a:lnTo>
                      <a:pt x="314" y="861"/>
                    </a:lnTo>
                    <a:lnTo>
                      <a:pt x="302" y="861"/>
                    </a:lnTo>
                    <a:lnTo>
                      <a:pt x="293" y="863"/>
                    </a:lnTo>
                    <a:lnTo>
                      <a:pt x="281" y="867"/>
                    </a:lnTo>
                    <a:lnTo>
                      <a:pt x="270" y="869"/>
                    </a:lnTo>
                    <a:lnTo>
                      <a:pt x="258" y="874"/>
                    </a:lnTo>
                    <a:lnTo>
                      <a:pt x="249" y="880"/>
                    </a:lnTo>
                    <a:lnTo>
                      <a:pt x="239" y="886"/>
                    </a:lnTo>
                    <a:lnTo>
                      <a:pt x="228" y="891"/>
                    </a:lnTo>
                    <a:lnTo>
                      <a:pt x="217" y="895"/>
                    </a:lnTo>
                    <a:lnTo>
                      <a:pt x="205" y="901"/>
                    </a:lnTo>
                    <a:lnTo>
                      <a:pt x="194" y="907"/>
                    </a:lnTo>
                    <a:lnTo>
                      <a:pt x="182" y="910"/>
                    </a:lnTo>
                    <a:lnTo>
                      <a:pt x="171" y="914"/>
                    </a:lnTo>
                    <a:lnTo>
                      <a:pt x="160" y="916"/>
                    </a:lnTo>
                    <a:lnTo>
                      <a:pt x="148" y="920"/>
                    </a:lnTo>
                    <a:lnTo>
                      <a:pt x="148" y="914"/>
                    </a:lnTo>
                    <a:lnTo>
                      <a:pt x="150" y="910"/>
                    </a:lnTo>
                    <a:lnTo>
                      <a:pt x="150" y="907"/>
                    </a:lnTo>
                    <a:lnTo>
                      <a:pt x="154" y="903"/>
                    </a:lnTo>
                    <a:lnTo>
                      <a:pt x="160" y="897"/>
                    </a:lnTo>
                    <a:lnTo>
                      <a:pt x="165" y="893"/>
                    </a:lnTo>
                    <a:lnTo>
                      <a:pt x="173" y="888"/>
                    </a:lnTo>
                    <a:lnTo>
                      <a:pt x="179" y="882"/>
                    </a:lnTo>
                    <a:lnTo>
                      <a:pt x="182" y="874"/>
                    </a:lnTo>
                    <a:lnTo>
                      <a:pt x="184" y="867"/>
                    </a:lnTo>
                    <a:lnTo>
                      <a:pt x="194" y="865"/>
                    </a:lnTo>
                    <a:lnTo>
                      <a:pt x="205" y="863"/>
                    </a:lnTo>
                    <a:lnTo>
                      <a:pt x="215" y="861"/>
                    </a:lnTo>
                    <a:lnTo>
                      <a:pt x="226" y="859"/>
                    </a:lnTo>
                    <a:lnTo>
                      <a:pt x="236" y="853"/>
                    </a:lnTo>
                    <a:lnTo>
                      <a:pt x="247" y="850"/>
                    </a:lnTo>
                    <a:lnTo>
                      <a:pt x="256" y="846"/>
                    </a:lnTo>
                    <a:lnTo>
                      <a:pt x="268" y="842"/>
                    </a:lnTo>
                    <a:lnTo>
                      <a:pt x="276" y="838"/>
                    </a:lnTo>
                    <a:lnTo>
                      <a:pt x="287" y="834"/>
                    </a:lnTo>
                    <a:lnTo>
                      <a:pt x="296" y="829"/>
                    </a:lnTo>
                    <a:lnTo>
                      <a:pt x="308" y="827"/>
                    </a:lnTo>
                    <a:lnTo>
                      <a:pt x="319" y="823"/>
                    </a:lnTo>
                    <a:lnTo>
                      <a:pt x="331" y="823"/>
                    </a:lnTo>
                    <a:lnTo>
                      <a:pt x="342" y="821"/>
                    </a:lnTo>
                    <a:lnTo>
                      <a:pt x="355" y="823"/>
                    </a:lnTo>
                    <a:lnTo>
                      <a:pt x="355" y="814"/>
                    </a:lnTo>
                    <a:lnTo>
                      <a:pt x="357" y="806"/>
                    </a:lnTo>
                    <a:lnTo>
                      <a:pt x="361" y="798"/>
                    </a:lnTo>
                    <a:lnTo>
                      <a:pt x="369" y="793"/>
                    </a:lnTo>
                    <a:lnTo>
                      <a:pt x="374" y="785"/>
                    </a:lnTo>
                    <a:lnTo>
                      <a:pt x="380" y="779"/>
                    </a:lnTo>
                    <a:lnTo>
                      <a:pt x="384" y="772"/>
                    </a:lnTo>
                    <a:lnTo>
                      <a:pt x="390" y="766"/>
                    </a:lnTo>
                    <a:lnTo>
                      <a:pt x="378" y="768"/>
                    </a:lnTo>
                    <a:lnTo>
                      <a:pt x="365" y="770"/>
                    </a:lnTo>
                    <a:lnTo>
                      <a:pt x="352" y="772"/>
                    </a:lnTo>
                    <a:lnTo>
                      <a:pt x="340" y="774"/>
                    </a:lnTo>
                    <a:lnTo>
                      <a:pt x="327" y="775"/>
                    </a:lnTo>
                    <a:lnTo>
                      <a:pt x="314" y="777"/>
                    </a:lnTo>
                    <a:lnTo>
                      <a:pt x="300" y="779"/>
                    </a:lnTo>
                    <a:lnTo>
                      <a:pt x="287" y="783"/>
                    </a:lnTo>
                    <a:lnTo>
                      <a:pt x="274" y="785"/>
                    </a:lnTo>
                    <a:lnTo>
                      <a:pt x="260" y="787"/>
                    </a:lnTo>
                    <a:lnTo>
                      <a:pt x="247" y="791"/>
                    </a:lnTo>
                    <a:lnTo>
                      <a:pt x="236" y="794"/>
                    </a:lnTo>
                    <a:lnTo>
                      <a:pt x="222" y="796"/>
                    </a:lnTo>
                    <a:lnTo>
                      <a:pt x="209" y="802"/>
                    </a:lnTo>
                    <a:lnTo>
                      <a:pt x="198" y="806"/>
                    </a:lnTo>
                    <a:lnTo>
                      <a:pt x="188" y="814"/>
                    </a:lnTo>
                    <a:lnTo>
                      <a:pt x="196" y="798"/>
                    </a:lnTo>
                    <a:lnTo>
                      <a:pt x="205" y="787"/>
                    </a:lnTo>
                    <a:lnTo>
                      <a:pt x="215" y="777"/>
                    </a:lnTo>
                    <a:lnTo>
                      <a:pt x="230" y="772"/>
                    </a:lnTo>
                    <a:lnTo>
                      <a:pt x="243" y="764"/>
                    </a:lnTo>
                    <a:lnTo>
                      <a:pt x="258" y="760"/>
                    </a:lnTo>
                    <a:lnTo>
                      <a:pt x="274" y="756"/>
                    </a:lnTo>
                    <a:lnTo>
                      <a:pt x="291" y="755"/>
                    </a:lnTo>
                    <a:lnTo>
                      <a:pt x="306" y="751"/>
                    </a:lnTo>
                    <a:lnTo>
                      <a:pt x="323" y="747"/>
                    </a:lnTo>
                    <a:lnTo>
                      <a:pt x="340" y="743"/>
                    </a:lnTo>
                    <a:lnTo>
                      <a:pt x="355" y="739"/>
                    </a:lnTo>
                    <a:lnTo>
                      <a:pt x="372" y="732"/>
                    </a:lnTo>
                    <a:lnTo>
                      <a:pt x="388" y="726"/>
                    </a:lnTo>
                    <a:lnTo>
                      <a:pt x="401" y="717"/>
                    </a:lnTo>
                    <a:lnTo>
                      <a:pt x="416" y="707"/>
                    </a:lnTo>
                    <a:lnTo>
                      <a:pt x="409" y="699"/>
                    </a:lnTo>
                    <a:lnTo>
                      <a:pt x="407" y="692"/>
                    </a:lnTo>
                    <a:lnTo>
                      <a:pt x="407" y="684"/>
                    </a:lnTo>
                    <a:lnTo>
                      <a:pt x="410" y="679"/>
                    </a:lnTo>
                    <a:lnTo>
                      <a:pt x="403" y="677"/>
                    </a:lnTo>
                    <a:lnTo>
                      <a:pt x="393" y="677"/>
                    </a:lnTo>
                    <a:lnTo>
                      <a:pt x="386" y="677"/>
                    </a:lnTo>
                    <a:lnTo>
                      <a:pt x="376" y="679"/>
                    </a:lnTo>
                    <a:lnTo>
                      <a:pt x="369" y="679"/>
                    </a:lnTo>
                    <a:lnTo>
                      <a:pt x="359" y="680"/>
                    </a:lnTo>
                    <a:lnTo>
                      <a:pt x="352" y="684"/>
                    </a:lnTo>
                    <a:lnTo>
                      <a:pt x="344" y="686"/>
                    </a:lnTo>
                    <a:lnTo>
                      <a:pt x="334" y="688"/>
                    </a:lnTo>
                    <a:lnTo>
                      <a:pt x="327" y="690"/>
                    </a:lnTo>
                    <a:lnTo>
                      <a:pt x="317" y="692"/>
                    </a:lnTo>
                    <a:lnTo>
                      <a:pt x="308" y="696"/>
                    </a:lnTo>
                    <a:lnTo>
                      <a:pt x="298" y="696"/>
                    </a:lnTo>
                    <a:lnTo>
                      <a:pt x="291" y="698"/>
                    </a:lnTo>
                    <a:lnTo>
                      <a:pt x="281" y="698"/>
                    </a:lnTo>
                    <a:lnTo>
                      <a:pt x="274" y="699"/>
                    </a:lnTo>
                    <a:lnTo>
                      <a:pt x="283" y="680"/>
                    </a:lnTo>
                    <a:lnTo>
                      <a:pt x="296" y="669"/>
                    </a:lnTo>
                    <a:lnTo>
                      <a:pt x="312" y="658"/>
                    </a:lnTo>
                    <a:lnTo>
                      <a:pt x="329" y="650"/>
                    </a:lnTo>
                    <a:lnTo>
                      <a:pt x="346" y="644"/>
                    </a:lnTo>
                    <a:lnTo>
                      <a:pt x="367" y="641"/>
                    </a:lnTo>
                    <a:lnTo>
                      <a:pt x="388" y="637"/>
                    </a:lnTo>
                    <a:lnTo>
                      <a:pt x="407" y="635"/>
                    </a:lnTo>
                    <a:lnTo>
                      <a:pt x="426" y="631"/>
                    </a:lnTo>
                    <a:lnTo>
                      <a:pt x="445" y="627"/>
                    </a:lnTo>
                    <a:lnTo>
                      <a:pt x="464" y="622"/>
                    </a:lnTo>
                    <a:lnTo>
                      <a:pt x="481" y="612"/>
                    </a:lnTo>
                    <a:lnTo>
                      <a:pt x="494" y="603"/>
                    </a:lnTo>
                    <a:lnTo>
                      <a:pt x="506" y="589"/>
                    </a:lnTo>
                    <a:lnTo>
                      <a:pt x="515" y="570"/>
                    </a:lnTo>
                    <a:lnTo>
                      <a:pt x="523" y="549"/>
                    </a:lnTo>
                    <a:lnTo>
                      <a:pt x="513" y="549"/>
                    </a:lnTo>
                    <a:lnTo>
                      <a:pt x="502" y="549"/>
                    </a:lnTo>
                    <a:lnTo>
                      <a:pt x="494" y="549"/>
                    </a:lnTo>
                    <a:lnTo>
                      <a:pt x="487" y="551"/>
                    </a:lnTo>
                    <a:lnTo>
                      <a:pt x="477" y="551"/>
                    </a:lnTo>
                    <a:lnTo>
                      <a:pt x="469" y="553"/>
                    </a:lnTo>
                    <a:lnTo>
                      <a:pt x="462" y="555"/>
                    </a:lnTo>
                    <a:lnTo>
                      <a:pt x="452" y="557"/>
                    </a:lnTo>
                    <a:lnTo>
                      <a:pt x="445" y="557"/>
                    </a:lnTo>
                    <a:lnTo>
                      <a:pt x="437" y="559"/>
                    </a:lnTo>
                    <a:lnTo>
                      <a:pt x="429" y="561"/>
                    </a:lnTo>
                    <a:lnTo>
                      <a:pt x="422" y="563"/>
                    </a:lnTo>
                    <a:lnTo>
                      <a:pt x="412" y="563"/>
                    </a:lnTo>
                    <a:lnTo>
                      <a:pt x="405" y="564"/>
                    </a:lnTo>
                    <a:lnTo>
                      <a:pt x="397" y="564"/>
                    </a:lnTo>
                    <a:lnTo>
                      <a:pt x="390" y="566"/>
                    </a:lnTo>
                    <a:lnTo>
                      <a:pt x="422" y="544"/>
                    </a:lnTo>
                    <a:lnTo>
                      <a:pt x="452" y="521"/>
                    </a:lnTo>
                    <a:lnTo>
                      <a:pt x="483" y="494"/>
                    </a:lnTo>
                    <a:lnTo>
                      <a:pt x="515" y="469"/>
                    </a:lnTo>
                    <a:lnTo>
                      <a:pt x="547" y="445"/>
                    </a:lnTo>
                    <a:lnTo>
                      <a:pt x="580" y="420"/>
                    </a:lnTo>
                    <a:lnTo>
                      <a:pt x="612" y="395"/>
                    </a:lnTo>
                    <a:lnTo>
                      <a:pt x="644" y="371"/>
                    </a:lnTo>
                    <a:lnTo>
                      <a:pt x="677" y="346"/>
                    </a:lnTo>
                    <a:lnTo>
                      <a:pt x="709" y="321"/>
                    </a:lnTo>
                    <a:lnTo>
                      <a:pt x="741" y="296"/>
                    </a:lnTo>
                    <a:lnTo>
                      <a:pt x="775" y="276"/>
                    </a:lnTo>
                    <a:lnTo>
                      <a:pt x="810" y="253"/>
                    </a:lnTo>
                    <a:lnTo>
                      <a:pt x="844" y="234"/>
                    </a:lnTo>
                    <a:lnTo>
                      <a:pt x="878" y="215"/>
                    </a:lnTo>
                    <a:lnTo>
                      <a:pt x="912" y="198"/>
                    </a:lnTo>
                    <a:lnTo>
                      <a:pt x="886" y="198"/>
                    </a:lnTo>
                    <a:lnTo>
                      <a:pt x="863" y="201"/>
                    </a:lnTo>
                    <a:lnTo>
                      <a:pt x="836" y="207"/>
                    </a:lnTo>
                    <a:lnTo>
                      <a:pt x="813" y="215"/>
                    </a:lnTo>
                    <a:lnTo>
                      <a:pt x="789" y="222"/>
                    </a:lnTo>
                    <a:lnTo>
                      <a:pt x="766" y="232"/>
                    </a:lnTo>
                    <a:lnTo>
                      <a:pt x="743" y="243"/>
                    </a:lnTo>
                    <a:lnTo>
                      <a:pt x="720" y="257"/>
                    </a:lnTo>
                    <a:lnTo>
                      <a:pt x="698" y="268"/>
                    </a:lnTo>
                    <a:lnTo>
                      <a:pt x="673" y="281"/>
                    </a:lnTo>
                    <a:lnTo>
                      <a:pt x="650" y="293"/>
                    </a:lnTo>
                    <a:lnTo>
                      <a:pt x="627" y="306"/>
                    </a:lnTo>
                    <a:lnTo>
                      <a:pt x="602" y="317"/>
                    </a:lnTo>
                    <a:lnTo>
                      <a:pt x="580" y="331"/>
                    </a:lnTo>
                    <a:lnTo>
                      <a:pt x="557" y="340"/>
                    </a:lnTo>
                    <a:lnTo>
                      <a:pt x="532" y="352"/>
                    </a:lnTo>
                    <a:lnTo>
                      <a:pt x="549" y="327"/>
                    </a:lnTo>
                    <a:lnTo>
                      <a:pt x="568" y="308"/>
                    </a:lnTo>
                    <a:lnTo>
                      <a:pt x="587" y="289"/>
                    </a:lnTo>
                    <a:lnTo>
                      <a:pt x="610" y="274"/>
                    </a:lnTo>
                    <a:lnTo>
                      <a:pt x="631" y="258"/>
                    </a:lnTo>
                    <a:lnTo>
                      <a:pt x="656" y="245"/>
                    </a:lnTo>
                    <a:lnTo>
                      <a:pt x="679" y="234"/>
                    </a:lnTo>
                    <a:lnTo>
                      <a:pt x="703" y="222"/>
                    </a:lnTo>
                    <a:lnTo>
                      <a:pt x="728" y="211"/>
                    </a:lnTo>
                    <a:lnTo>
                      <a:pt x="753" y="200"/>
                    </a:lnTo>
                    <a:lnTo>
                      <a:pt x="777" y="190"/>
                    </a:lnTo>
                    <a:lnTo>
                      <a:pt x="804" y="181"/>
                    </a:lnTo>
                    <a:lnTo>
                      <a:pt x="829" y="169"/>
                    </a:lnTo>
                    <a:lnTo>
                      <a:pt x="853" y="160"/>
                    </a:lnTo>
                    <a:lnTo>
                      <a:pt x="878" y="148"/>
                    </a:lnTo>
                    <a:lnTo>
                      <a:pt x="903" y="137"/>
                    </a:lnTo>
                    <a:lnTo>
                      <a:pt x="890" y="131"/>
                    </a:lnTo>
                    <a:lnTo>
                      <a:pt x="876" y="129"/>
                    </a:lnTo>
                    <a:lnTo>
                      <a:pt x="863" y="129"/>
                    </a:lnTo>
                    <a:lnTo>
                      <a:pt x="850" y="131"/>
                    </a:lnTo>
                    <a:lnTo>
                      <a:pt x="832" y="133"/>
                    </a:lnTo>
                    <a:lnTo>
                      <a:pt x="817" y="137"/>
                    </a:lnTo>
                    <a:lnTo>
                      <a:pt x="800" y="141"/>
                    </a:lnTo>
                    <a:lnTo>
                      <a:pt x="783" y="148"/>
                    </a:lnTo>
                    <a:lnTo>
                      <a:pt x="766" y="154"/>
                    </a:lnTo>
                    <a:lnTo>
                      <a:pt x="747" y="162"/>
                    </a:lnTo>
                    <a:lnTo>
                      <a:pt x="730" y="167"/>
                    </a:lnTo>
                    <a:lnTo>
                      <a:pt x="713" y="175"/>
                    </a:lnTo>
                    <a:lnTo>
                      <a:pt x="696" y="181"/>
                    </a:lnTo>
                    <a:lnTo>
                      <a:pt x="680" y="188"/>
                    </a:lnTo>
                    <a:lnTo>
                      <a:pt x="665" y="194"/>
                    </a:lnTo>
                    <a:lnTo>
                      <a:pt x="650" y="201"/>
                    </a:lnTo>
                    <a:lnTo>
                      <a:pt x="667" y="181"/>
                    </a:lnTo>
                    <a:lnTo>
                      <a:pt x="688" y="163"/>
                    </a:lnTo>
                    <a:lnTo>
                      <a:pt x="711" y="146"/>
                    </a:lnTo>
                    <a:lnTo>
                      <a:pt x="736" y="133"/>
                    </a:lnTo>
                    <a:lnTo>
                      <a:pt x="762" y="120"/>
                    </a:lnTo>
                    <a:lnTo>
                      <a:pt x="789" y="106"/>
                    </a:lnTo>
                    <a:lnTo>
                      <a:pt x="817" y="95"/>
                    </a:lnTo>
                    <a:lnTo>
                      <a:pt x="846" y="87"/>
                    </a:lnTo>
                    <a:lnTo>
                      <a:pt x="874" y="78"/>
                    </a:lnTo>
                    <a:lnTo>
                      <a:pt x="905" y="68"/>
                    </a:lnTo>
                    <a:lnTo>
                      <a:pt x="933" y="61"/>
                    </a:lnTo>
                    <a:lnTo>
                      <a:pt x="964" y="53"/>
                    </a:lnTo>
                    <a:lnTo>
                      <a:pt x="994" y="46"/>
                    </a:lnTo>
                    <a:lnTo>
                      <a:pt x="1023" y="38"/>
                    </a:lnTo>
                    <a:lnTo>
                      <a:pt x="1051" y="30"/>
                    </a:lnTo>
                    <a:lnTo>
                      <a:pt x="1080" y="23"/>
                    </a:lnTo>
                    <a:lnTo>
                      <a:pt x="1091" y="19"/>
                    </a:lnTo>
                    <a:lnTo>
                      <a:pt x="1104" y="17"/>
                    </a:lnTo>
                    <a:lnTo>
                      <a:pt x="1118" y="15"/>
                    </a:lnTo>
                    <a:lnTo>
                      <a:pt x="1131" y="15"/>
                    </a:lnTo>
                    <a:lnTo>
                      <a:pt x="1144" y="13"/>
                    </a:lnTo>
                    <a:lnTo>
                      <a:pt x="1158" y="13"/>
                    </a:lnTo>
                    <a:lnTo>
                      <a:pt x="1171" y="13"/>
                    </a:lnTo>
                    <a:lnTo>
                      <a:pt x="1186" y="15"/>
                    </a:lnTo>
                    <a:lnTo>
                      <a:pt x="1199" y="13"/>
                    </a:lnTo>
                    <a:lnTo>
                      <a:pt x="1213" y="13"/>
                    </a:lnTo>
                    <a:lnTo>
                      <a:pt x="1226" y="13"/>
                    </a:lnTo>
                    <a:lnTo>
                      <a:pt x="1239" y="13"/>
                    </a:lnTo>
                    <a:lnTo>
                      <a:pt x="1253" y="11"/>
                    </a:lnTo>
                    <a:lnTo>
                      <a:pt x="1266" y="11"/>
                    </a:lnTo>
                    <a:lnTo>
                      <a:pt x="1279" y="8"/>
                    </a:lnTo>
                    <a:lnTo>
                      <a:pt x="1293" y="6"/>
                    </a:lnTo>
                    <a:lnTo>
                      <a:pt x="1293" y="6"/>
                    </a:lnTo>
                    <a:close/>
                  </a:path>
                </a:pathLst>
              </a:custGeom>
              <a:solidFill>
                <a:srgbClr val="ff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5911560" y="4337640"/>
                <a:ext cx="169920" cy="48240"/>
              </a:xfrm>
              <a:custGeom>
                <a:avLst/>
                <a:gdLst/>
                <a:ahLst/>
                <a:rect l="l" t="t" r="r" b="b"/>
                <a:pathLst>
                  <a:path w="735" h="209">
                    <a:moveTo>
                      <a:pt x="437" y="0"/>
                    </a:moveTo>
                    <a:lnTo>
                      <a:pt x="456" y="0"/>
                    </a:lnTo>
                    <a:lnTo>
                      <a:pt x="477" y="2"/>
                    </a:lnTo>
                    <a:lnTo>
                      <a:pt x="498" y="6"/>
                    </a:lnTo>
                    <a:lnTo>
                      <a:pt x="517" y="10"/>
                    </a:lnTo>
                    <a:lnTo>
                      <a:pt x="536" y="11"/>
                    </a:lnTo>
                    <a:lnTo>
                      <a:pt x="555" y="17"/>
                    </a:lnTo>
                    <a:lnTo>
                      <a:pt x="576" y="23"/>
                    </a:lnTo>
                    <a:lnTo>
                      <a:pt x="595" y="29"/>
                    </a:lnTo>
                    <a:lnTo>
                      <a:pt x="612" y="34"/>
                    </a:lnTo>
                    <a:lnTo>
                      <a:pt x="631" y="42"/>
                    </a:lnTo>
                    <a:lnTo>
                      <a:pt x="648" y="51"/>
                    </a:lnTo>
                    <a:lnTo>
                      <a:pt x="667" y="59"/>
                    </a:lnTo>
                    <a:lnTo>
                      <a:pt x="682" y="68"/>
                    </a:lnTo>
                    <a:lnTo>
                      <a:pt x="699" y="78"/>
                    </a:lnTo>
                    <a:lnTo>
                      <a:pt x="718" y="89"/>
                    </a:lnTo>
                    <a:lnTo>
                      <a:pt x="735" y="103"/>
                    </a:lnTo>
                    <a:lnTo>
                      <a:pt x="703" y="93"/>
                    </a:lnTo>
                    <a:lnTo>
                      <a:pt x="673" y="87"/>
                    </a:lnTo>
                    <a:lnTo>
                      <a:pt x="640" y="82"/>
                    </a:lnTo>
                    <a:lnTo>
                      <a:pt x="610" y="80"/>
                    </a:lnTo>
                    <a:lnTo>
                      <a:pt x="580" y="78"/>
                    </a:lnTo>
                    <a:lnTo>
                      <a:pt x="549" y="78"/>
                    </a:lnTo>
                    <a:lnTo>
                      <a:pt x="519" y="80"/>
                    </a:lnTo>
                    <a:lnTo>
                      <a:pt x="490" y="84"/>
                    </a:lnTo>
                    <a:lnTo>
                      <a:pt x="460" y="86"/>
                    </a:lnTo>
                    <a:lnTo>
                      <a:pt x="429" y="91"/>
                    </a:lnTo>
                    <a:lnTo>
                      <a:pt x="399" y="97"/>
                    </a:lnTo>
                    <a:lnTo>
                      <a:pt x="370" y="103"/>
                    </a:lnTo>
                    <a:lnTo>
                      <a:pt x="340" y="108"/>
                    </a:lnTo>
                    <a:lnTo>
                      <a:pt x="310" y="116"/>
                    </a:lnTo>
                    <a:lnTo>
                      <a:pt x="281" y="125"/>
                    </a:lnTo>
                    <a:lnTo>
                      <a:pt x="251" y="135"/>
                    </a:lnTo>
                    <a:lnTo>
                      <a:pt x="236" y="139"/>
                    </a:lnTo>
                    <a:lnTo>
                      <a:pt x="218" y="143"/>
                    </a:lnTo>
                    <a:lnTo>
                      <a:pt x="203" y="148"/>
                    </a:lnTo>
                    <a:lnTo>
                      <a:pt x="188" y="152"/>
                    </a:lnTo>
                    <a:lnTo>
                      <a:pt x="171" y="158"/>
                    </a:lnTo>
                    <a:lnTo>
                      <a:pt x="156" y="162"/>
                    </a:lnTo>
                    <a:lnTo>
                      <a:pt x="139" y="167"/>
                    </a:lnTo>
                    <a:lnTo>
                      <a:pt x="123" y="173"/>
                    </a:lnTo>
                    <a:lnTo>
                      <a:pt x="108" y="177"/>
                    </a:lnTo>
                    <a:lnTo>
                      <a:pt x="93" y="183"/>
                    </a:lnTo>
                    <a:lnTo>
                      <a:pt x="76" y="186"/>
                    </a:lnTo>
                    <a:lnTo>
                      <a:pt x="61" y="192"/>
                    </a:lnTo>
                    <a:lnTo>
                      <a:pt x="45" y="196"/>
                    </a:lnTo>
                    <a:lnTo>
                      <a:pt x="28" y="200"/>
                    </a:lnTo>
                    <a:lnTo>
                      <a:pt x="13" y="203"/>
                    </a:lnTo>
                    <a:lnTo>
                      <a:pt x="0" y="209"/>
                    </a:lnTo>
                    <a:lnTo>
                      <a:pt x="11" y="194"/>
                    </a:lnTo>
                    <a:lnTo>
                      <a:pt x="26" y="181"/>
                    </a:lnTo>
                    <a:lnTo>
                      <a:pt x="42" y="165"/>
                    </a:lnTo>
                    <a:lnTo>
                      <a:pt x="61" y="154"/>
                    </a:lnTo>
                    <a:lnTo>
                      <a:pt x="78" y="141"/>
                    </a:lnTo>
                    <a:lnTo>
                      <a:pt x="99" y="127"/>
                    </a:lnTo>
                    <a:lnTo>
                      <a:pt x="118" y="116"/>
                    </a:lnTo>
                    <a:lnTo>
                      <a:pt x="140" y="106"/>
                    </a:lnTo>
                    <a:lnTo>
                      <a:pt x="159" y="95"/>
                    </a:lnTo>
                    <a:lnTo>
                      <a:pt x="180" y="84"/>
                    </a:lnTo>
                    <a:lnTo>
                      <a:pt x="203" y="72"/>
                    </a:lnTo>
                    <a:lnTo>
                      <a:pt x="226" y="65"/>
                    </a:lnTo>
                    <a:lnTo>
                      <a:pt x="247" y="55"/>
                    </a:lnTo>
                    <a:lnTo>
                      <a:pt x="268" y="48"/>
                    </a:lnTo>
                    <a:lnTo>
                      <a:pt x="291" y="40"/>
                    </a:lnTo>
                    <a:lnTo>
                      <a:pt x="312" y="34"/>
                    </a:lnTo>
                    <a:lnTo>
                      <a:pt x="319" y="30"/>
                    </a:lnTo>
                    <a:lnTo>
                      <a:pt x="327" y="27"/>
                    </a:lnTo>
                    <a:lnTo>
                      <a:pt x="334" y="25"/>
                    </a:lnTo>
                    <a:lnTo>
                      <a:pt x="342" y="21"/>
                    </a:lnTo>
                    <a:lnTo>
                      <a:pt x="348" y="19"/>
                    </a:lnTo>
                    <a:lnTo>
                      <a:pt x="357" y="17"/>
                    </a:lnTo>
                    <a:lnTo>
                      <a:pt x="363" y="15"/>
                    </a:lnTo>
                    <a:lnTo>
                      <a:pt x="372" y="13"/>
                    </a:lnTo>
                    <a:lnTo>
                      <a:pt x="380" y="11"/>
                    </a:lnTo>
                    <a:lnTo>
                      <a:pt x="388" y="10"/>
                    </a:lnTo>
                    <a:lnTo>
                      <a:pt x="395" y="8"/>
                    </a:lnTo>
                    <a:lnTo>
                      <a:pt x="405" y="8"/>
                    </a:lnTo>
                    <a:lnTo>
                      <a:pt x="412" y="6"/>
                    </a:lnTo>
                    <a:lnTo>
                      <a:pt x="420" y="4"/>
                    </a:lnTo>
                    <a:lnTo>
                      <a:pt x="428" y="2"/>
                    </a:lnTo>
                    <a:lnTo>
                      <a:pt x="437" y="0"/>
                    </a:lnTo>
                    <a:lnTo>
                      <a:pt x="43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77" name=""/>
              <p:cNvSpPr/>
              <p:nvPr/>
            </p:nvSpPr>
            <p:spPr>
              <a:xfrm flipH="1">
                <a:off x="6224760" y="4364280"/>
                <a:ext cx="27720" cy="37080"/>
              </a:xfrm>
              <a:custGeom>
                <a:avLst/>
                <a:gdLst/>
                <a:ahLst/>
                <a:rect l="l" t="t" r="r" b="b"/>
                <a:pathLst>
                  <a:path w="120" h="162">
                    <a:moveTo>
                      <a:pt x="120" y="0"/>
                    </a:moveTo>
                    <a:lnTo>
                      <a:pt x="116" y="6"/>
                    </a:lnTo>
                    <a:lnTo>
                      <a:pt x="111" y="11"/>
                    </a:lnTo>
                    <a:lnTo>
                      <a:pt x="107" y="19"/>
                    </a:lnTo>
                    <a:lnTo>
                      <a:pt x="103" y="25"/>
                    </a:lnTo>
                    <a:lnTo>
                      <a:pt x="99" y="30"/>
                    </a:lnTo>
                    <a:lnTo>
                      <a:pt x="95" y="36"/>
                    </a:lnTo>
                    <a:lnTo>
                      <a:pt x="90" y="44"/>
                    </a:lnTo>
                    <a:lnTo>
                      <a:pt x="86" y="49"/>
                    </a:lnTo>
                    <a:lnTo>
                      <a:pt x="80" y="55"/>
                    </a:lnTo>
                    <a:lnTo>
                      <a:pt x="76" y="63"/>
                    </a:lnTo>
                    <a:lnTo>
                      <a:pt x="71" y="70"/>
                    </a:lnTo>
                    <a:lnTo>
                      <a:pt x="67" y="76"/>
                    </a:lnTo>
                    <a:lnTo>
                      <a:pt x="61" y="82"/>
                    </a:lnTo>
                    <a:lnTo>
                      <a:pt x="57" y="89"/>
                    </a:lnTo>
                    <a:lnTo>
                      <a:pt x="52" y="95"/>
                    </a:lnTo>
                    <a:lnTo>
                      <a:pt x="48" y="103"/>
                    </a:lnTo>
                    <a:lnTo>
                      <a:pt x="44" y="110"/>
                    </a:lnTo>
                    <a:lnTo>
                      <a:pt x="40" y="118"/>
                    </a:lnTo>
                    <a:lnTo>
                      <a:pt x="37" y="125"/>
                    </a:lnTo>
                    <a:lnTo>
                      <a:pt x="33" y="133"/>
                    </a:lnTo>
                    <a:lnTo>
                      <a:pt x="27" y="139"/>
                    </a:lnTo>
                    <a:lnTo>
                      <a:pt x="23" y="146"/>
                    </a:lnTo>
                    <a:lnTo>
                      <a:pt x="18" y="154"/>
                    </a:lnTo>
                    <a:lnTo>
                      <a:pt x="12" y="162"/>
                    </a:lnTo>
                    <a:lnTo>
                      <a:pt x="8" y="156"/>
                    </a:lnTo>
                    <a:lnTo>
                      <a:pt x="6" y="150"/>
                    </a:lnTo>
                    <a:lnTo>
                      <a:pt x="4" y="143"/>
                    </a:lnTo>
                    <a:lnTo>
                      <a:pt x="2" y="139"/>
                    </a:lnTo>
                    <a:lnTo>
                      <a:pt x="0" y="133"/>
                    </a:lnTo>
                    <a:lnTo>
                      <a:pt x="0" y="127"/>
                    </a:lnTo>
                    <a:lnTo>
                      <a:pt x="0" y="122"/>
                    </a:lnTo>
                    <a:lnTo>
                      <a:pt x="0" y="116"/>
                    </a:lnTo>
                    <a:lnTo>
                      <a:pt x="0" y="110"/>
                    </a:lnTo>
                    <a:lnTo>
                      <a:pt x="2" y="105"/>
                    </a:lnTo>
                    <a:lnTo>
                      <a:pt x="2" y="99"/>
                    </a:lnTo>
                    <a:lnTo>
                      <a:pt x="6" y="95"/>
                    </a:lnTo>
                    <a:lnTo>
                      <a:pt x="10" y="84"/>
                    </a:lnTo>
                    <a:lnTo>
                      <a:pt x="16" y="76"/>
                    </a:lnTo>
                    <a:lnTo>
                      <a:pt x="21" y="68"/>
                    </a:lnTo>
                    <a:lnTo>
                      <a:pt x="27" y="61"/>
                    </a:lnTo>
                    <a:lnTo>
                      <a:pt x="33" y="55"/>
                    </a:lnTo>
                    <a:lnTo>
                      <a:pt x="38" y="49"/>
                    </a:lnTo>
                    <a:lnTo>
                      <a:pt x="44" y="44"/>
                    </a:lnTo>
                    <a:lnTo>
                      <a:pt x="50" y="38"/>
                    </a:lnTo>
                    <a:lnTo>
                      <a:pt x="57" y="32"/>
                    </a:lnTo>
                    <a:lnTo>
                      <a:pt x="65" y="28"/>
                    </a:lnTo>
                    <a:lnTo>
                      <a:pt x="71" y="23"/>
                    </a:lnTo>
                    <a:lnTo>
                      <a:pt x="78" y="19"/>
                    </a:lnTo>
                    <a:lnTo>
                      <a:pt x="84" y="13"/>
                    </a:lnTo>
                    <a:lnTo>
                      <a:pt x="92" y="11"/>
                    </a:lnTo>
                    <a:lnTo>
                      <a:pt x="99" y="8"/>
                    </a:lnTo>
                    <a:lnTo>
                      <a:pt x="105" y="4"/>
                    </a:lnTo>
                    <a:lnTo>
                      <a:pt x="113" y="2"/>
                    </a:lnTo>
                    <a:lnTo>
                      <a:pt x="120" y="0"/>
                    </a:lnTo>
                    <a:lnTo>
                      <a:pt x="12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8" name=""/>
              <p:cNvSpPr/>
              <p:nvPr/>
            </p:nvSpPr>
            <p:spPr>
              <a:xfrm flipH="1">
                <a:off x="6233040" y="4391640"/>
                <a:ext cx="16920" cy="18720"/>
              </a:xfrm>
              <a:custGeom>
                <a:avLst/>
                <a:gdLst/>
                <a:ahLst/>
                <a:rect l="l" t="t" r="r" b="b"/>
                <a:pathLst>
                  <a:path w="74" h="82">
                    <a:moveTo>
                      <a:pt x="74" y="0"/>
                    </a:moveTo>
                    <a:lnTo>
                      <a:pt x="72" y="6"/>
                    </a:lnTo>
                    <a:lnTo>
                      <a:pt x="70" y="9"/>
                    </a:lnTo>
                    <a:lnTo>
                      <a:pt x="66" y="15"/>
                    </a:lnTo>
                    <a:lnTo>
                      <a:pt x="65" y="21"/>
                    </a:lnTo>
                    <a:lnTo>
                      <a:pt x="59" y="26"/>
                    </a:lnTo>
                    <a:lnTo>
                      <a:pt x="53" y="34"/>
                    </a:lnTo>
                    <a:lnTo>
                      <a:pt x="47" y="40"/>
                    </a:lnTo>
                    <a:lnTo>
                      <a:pt x="42" y="47"/>
                    </a:lnTo>
                    <a:lnTo>
                      <a:pt x="36" y="49"/>
                    </a:lnTo>
                    <a:lnTo>
                      <a:pt x="30" y="55"/>
                    </a:lnTo>
                    <a:lnTo>
                      <a:pt x="25" y="59"/>
                    </a:lnTo>
                    <a:lnTo>
                      <a:pt x="21" y="64"/>
                    </a:lnTo>
                    <a:lnTo>
                      <a:pt x="11" y="72"/>
                    </a:lnTo>
                    <a:lnTo>
                      <a:pt x="2" y="82"/>
                    </a:lnTo>
                    <a:lnTo>
                      <a:pt x="2" y="82"/>
                    </a:lnTo>
                    <a:lnTo>
                      <a:pt x="0" y="82"/>
                    </a:lnTo>
                    <a:lnTo>
                      <a:pt x="4" y="76"/>
                    </a:lnTo>
                    <a:lnTo>
                      <a:pt x="8" y="70"/>
                    </a:lnTo>
                    <a:lnTo>
                      <a:pt x="13" y="64"/>
                    </a:lnTo>
                    <a:lnTo>
                      <a:pt x="19" y="59"/>
                    </a:lnTo>
                    <a:lnTo>
                      <a:pt x="23" y="51"/>
                    </a:lnTo>
                    <a:lnTo>
                      <a:pt x="27" y="45"/>
                    </a:lnTo>
                    <a:lnTo>
                      <a:pt x="30" y="38"/>
                    </a:lnTo>
                    <a:lnTo>
                      <a:pt x="34" y="32"/>
                    </a:lnTo>
                    <a:lnTo>
                      <a:pt x="38" y="26"/>
                    </a:lnTo>
                    <a:lnTo>
                      <a:pt x="42" y="21"/>
                    </a:lnTo>
                    <a:lnTo>
                      <a:pt x="46" y="17"/>
                    </a:lnTo>
                    <a:lnTo>
                      <a:pt x="51" y="13"/>
                    </a:lnTo>
                    <a:lnTo>
                      <a:pt x="55" y="9"/>
                    </a:lnTo>
                    <a:lnTo>
                      <a:pt x="61" y="6"/>
                    </a:lnTo>
                    <a:lnTo>
                      <a:pt x="66" y="2"/>
                    </a:lnTo>
                    <a:lnTo>
                      <a:pt x="74" y="0"/>
                    </a:lnTo>
                    <a:lnTo>
                      <a:pt x="7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9" name=""/>
              <p:cNvSpPr/>
              <p:nvPr/>
            </p:nvSpPr>
            <p:spPr>
              <a:xfrm flipH="1">
                <a:off x="5824800" y="4396680"/>
                <a:ext cx="11520" cy="12240"/>
              </a:xfrm>
              <a:custGeom>
                <a:avLst/>
                <a:gdLst/>
                <a:ahLst/>
                <a:rect l="l" t="t" r="r" b="b"/>
                <a:pathLst>
                  <a:path w="49" h="53">
                    <a:moveTo>
                      <a:pt x="1" y="2"/>
                    </a:moveTo>
                    <a:lnTo>
                      <a:pt x="7" y="0"/>
                    </a:lnTo>
                    <a:lnTo>
                      <a:pt x="13" y="0"/>
                    </a:lnTo>
                    <a:lnTo>
                      <a:pt x="19" y="0"/>
                    </a:lnTo>
                    <a:lnTo>
                      <a:pt x="24" y="2"/>
                    </a:lnTo>
                    <a:lnTo>
                      <a:pt x="34" y="3"/>
                    </a:lnTo>
                    <a:lnTo>
                      <a:pt x="41" y="11"/>
                    </a:lnTo>
                    <a:lnTo>
                      <a:pt x="45" y="17"/>
                    </a:lnTo>
                    <a:lnTo>
                      <a:pt x="49" y="26"/>
                    </a:lnTo>
                    <a:lnTo>
                      <a:pt x="49" y="32"/>
                    </a:lnTo>
                    <a:lnTo>
                      <a:pt x="49" y="38"/>
                    </a:lnTo>
                    <a:lnTo>
                      <a:pt x="49" y="43"/>
                    </a:lnTo>
                    <a:lnTo>
                      <a:pt x="47" y="53"/>
                    </a:lnTo>
                    <a:lnTo>
                      <a:pt x="39" y="45"/>
                    </a:lnTo>
                    <a:lnTo>
                      <a:pt x="32" y="40"/>
                    </a:lnTo>
                    <a:lnTo>
                      <a:pt x="22" y="34"/>
                    </a:lnTo>
                    <a:lnTo>
                      <a:pt x="15" y="30"/>
                    </a:lnTo>
                    <a:lnTo>
                      <a:pt x="7" y="22"/>
                    </a:lnTo>
                    <a:lnTo>
                      <a:pt x="1" y="17"/>
                    </a:lnTo>
                    <a:lnTo>
                      <a:pt x="0" y="11"/>
                    </a:lnTo>
                    <a:lnTo>
                      <a:pt x="1" y="2"/>
                    </a:lnTo>
                    <a:lnTo>
                      <a:pt x="1" y="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0" name=""/>
              <p:cNvSpPr/>
              <p:nvPr/>
            </p:nvSpPr>
            <p:spPr>
              <a:xfrm flipH="1">
                <a:off x="5799240" y="4405320"/>
                <a:ext cx="15480" cy="30240"/>
              </a:xfrm>
              <a:custGeom>
                <a:avLst/>
                <a:gdLst/>
                <a:ahLst/>
                <a:rect l="l" t="t" r="r" b="b"/>
                <a:pathLst>
                  <a:path w="68" h="131">
                    <a:moveTo>
                      <a:pt x="13" y="0"/>
                    </a:moveTo>
                    <a:lnTo>
                      <a:pt x="21" y="2"/>
                    </a:lnTo>
                    <a:lnTo>
                      <a:pt x="30" y="5"/>
                    </a:lnTo>
                    <a:lnTo>
                      <a:pt x="38" y="9"/>
                    </a:lnTo>
                    <a:lnTo>
                      <a:pt x="45" y="15"/>
                    </a:lnTo>
                    <a:lnTo>
                      <a:pt x="49" y="21"/>
                    </a:lnTo>
                    <a:lnTo>
                      <a:pt x="55" y="26"/>
                    </a:lnTo>
                    <a:lnTo>
                      <a:pt x="59" y="34"/>
                    </a:lnTo>
                    <a:lnTo>
                      <a:pt x="63" y="41"/>
                    </a:lnTo>
                    <a:lnTo>
                      <a:pt x="64" y="51"/>
                    </a:lnTo>
                    <a:lnTo>
                      <a:pt x="66" y="60"/>
                    </a:lnTo>
                    <a:lnTo>
                      <a:pt x="66" y="68"/>
                    </a:lnTo>
                    <a:lnTo>
                      <a:pt x="68" y="74"/>
                    </a:lnTo>
                    <a:lnTo>
                      <a:pt x="68" y="80"/>
                    </a:lnTo>
                    <a:lnTo>
                      <a:pt x="68" y="85"/>
                    </a:lnTo>
                    <a:lnTo>
                      <a:pt x="68" y="91"/>
                    </a:lnTo>
                    <a:lnTo>
                      <a:pt x="66" y="97"/>
                    </a:lnTo>
                    <a:lnTo>
                      <a:pt x="66" y="102"/>
                    </a:lnTo>
                    <a:lnTo>
                      <a:pt x="66" y="108"/>
                    </a:lnTo>
                    <a:lnTo>
                      <a:pt x="64" y="114"/>
                    </a:lnTo>
                    <a:lnTo>
                      <a:pt x="64" y="119"/>
                    </a:lnTo>
                    <a:lnTo>
                      <a:pt x="63" y="125"/>
                    </a:lnTo>
                    <a:lnTo>
                      <a:pt x="63" y="131"/>
                    </a:lnTo>
                    <a:lnTo>
                      <a:pt x="55" y="125"/>
                    </a:lnTo>
                    <a:lnTo>
                      <a:pt x="47" y="118"/>
                    </a:lnTo>
                    <a:lnTo>
                      <a:pt x="40" y="110"/>
                    </a:lnTo>
                    <a:lnTo>
                      <a:pt x="32" y="102"/>
                    </a:lnTo>
                    <a:lnTo>
                      <a:pt x="25" y="93"/>
                    </a:lnTo>
                    <a:lnTo>
                      <a:pt x="19" y="85"/>
                    </a:lnTo>
                    <a:lnTo>
                      <a:pt x="13" y="76"/>
                    </a:lnTo>
                    <a:lnTo>
                      <a:pt x="9" y="68"/>
                    </a:lnTo>
                    <a:lnTo>
                      <a:pt x="4" y="59"/>
                    </a:lnTo>
                    <a:lnTo>
                      <a:pt x="2" y="49"/>
                    </a:lnTo>
                    <a:lnTo>
                      <a:pt x="0" y="41"/>
                    </a:lnTo>
                    <a:lnTo>
                      <a:pt x="2" y="34"/>
                    </a:lnTo>
                    <a:lnTo>
                      <a:pt x="2" y="24"/>
                    </a:lnTo>
                    <a:lnTo>
                      <a:pt x="4" y="17"/>
                    </a:lnTo>
                    <a:lnTo>
                      <a:pt x="7" y="7"/>
                    </a:lnTo>
                    <a:lnTo>
                      <a:pt x="13" y="0"/>
                    </a:lnTo>
                    <a:lnTo>
                      <a:pt x="1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
              <p:cNvSpPr/>
              <p:nvPr/>
            </p:nvSpPr>
            <p:spPr>
              <a:xfrm flipH="1">
                <a:off x="5779800" y="4417920"/>
                <a:ext cx="14760" cy="34560"/>
              </a:xfrm>
              <a:custGeom>
                <a:avLst/>
                <a:gdLst/>
                <a:ahLst/>
                <a:rect l="l" t="t" r="r" b="b"/>
                <a:pathLst>
                  <a:path w="65" h="150">
                    <a:moveTo>
                      <a:pt x="25" y="0"/>
                    </a:moveTo>
                    <a:lnTo>
                      <a:pt x="31" y="2"/>
                    </a:lnTo>
                    <a:lnTo>
                      <a:pt x="38" y="6"/>
                    </a:lnTo>
                    <a:lnTo>
                      <a:pt x="42" y="9"/>
                    </a:lnTo>
                    <a:lnTo>
                      <a:pt x="48" y="17"/>
                    </a:lnTo>
                    <a:lnTo>
                      <a:pt x="52" y="21"/>
                    </a:lnTo>
                    <a:lnTo>
                      <a:pt x="55" y="27"/>
                    </a:lnTo>
                    <a:lnTo>
                      <a:pt x="59" y="34"/>
                    </a:lnTo>
                    <a:lnTo>
                      <a:pt x="61" y="42"/>
                    </a:lnTo>
                    <a:lnTo>
                      <a:pt x="63" y="47"/>
                    </a:lnTo>
                    <a:lnTo>
                      <a:pt x="63" y="55"/>
                    </a:lnTo>
                    <a:lnTo>
                      <a:pt x="63" y="63"/>
                    </a:lnTo>
                    <a:lnTo>
                      <a:pt x="65" y="72"/>
                    </a:lnTo>
                    <a:lnTo>
                      <a:pt x="63" y="80"/>
                    </a:lnTo>
                    <a:lnTo>
                      <a:pt x="63" y="87"/>
                    </a:lnTo>
                    <a:lnTo>
                      <a:pt x="61" y="95"/>
                    </a:lnTo>
                    <a:lnTo>
                      <a:pt x="61" y="104"/>
                    </a:lnTo>
                    <a:lnTo>
                      <a:pt x="57" y="110"/>
                    </a:lnTo>
                    <a:lnTo>
                      <a:pt x="55" y="116"/>
                    </a:lnTo>
                    <a:lnTo>
                      <a:pt x="53" y="122"/>
                    </a:lnTo>
                    <a:lnTo>
                      <a:pt x="52" y="127"/>
                    </a:lnTo>
                    <a:lnTo>
                      <a:pt x="48" y="131"/>
                    </a:lnTo>
                    <a:lnTo>
                      <a:pt x="44" y="137"/>
                    </a:lnTo>
                    <a:lnTo>
                      <a:pt x="42" y="142"/>
                    </a:lnTo>
                    <a:lnTo>
                      <a:pt x="38" y="150"/>
                    </a:lnTo>
                    <a:lnTo>
                      <a:pt x="36" y="142"/>
                    </a:lnTo>
                    <a:lnTo>
                      <a:pt x="36" y="137"/>
                    </a:lnTo>
                    <a:lnTo>
                      <a:pt x="38" y="129"/>
                    </a:lnTo>
                    <a:lnTo>
                      <a:pt x="38" y="123"/>
                    </a:lnTo>
                    <a:lnTo>
                      <a:pt x="33" y="125"/>
                    </a:lnTo>
                    <a:lnTo>
                      <a:pt x="29" y="125"/>
                    </a:lnTo>
                    <a:lnTo>
                      <a:pt x="23" y="125"/>
                    </a:lnTo>
                    <a:lnTo>
                      <a:pt x="21" y="127"/>
                    </a:lnTo>
                    <a:lnTo>
                      <a:pt x="14" y="127"/>
                    </a:lnTo>
                    <a:lnTo>
                      <a:pt x="10" y="127"/>
                    </a:lnTo>
                    <a:lnTo>
                      <a:pt x="2" y="122"/>
                    </a:lnTo>
                    <a:lnTo>
                      <a:pt x="0" y="114"/>
                    </a:lnTo>
                    <a:lnTo>
                      <a:pt x="0" y="108"/>
                    </a:lnTo>
                    <a:lnTo>
                      <a:pt x="2" y="103"/>
                    </a:lnTo>
                    <a:lnTo>
                      <a:pt x="4" y="95"/>
                    </a:lnTo>
                    <a:lnTo>
                      <a:pt x="6" y="89"/>
                    </a:lnTo>
                    <a:lnTo>
                      <a:pt x="8" y="80"/>
                    </a:lnTo>
                    <a:lnTo>
                      <a:pt x="12" y="72"/>
                    </a:lnTo>
                    <a:lnTo>
                      <a:pt x="14" y="65"/>
                    </a:lnTo>
                    <a:lnTo>
                      <a:pt x="17" y="57"/>
                    </a:lnTo>
                    <a:lnTo>
                      <a:pt x="19" y="47"/>
                    </a:lnTo>
                    <a:lnTo>
                      <a:pt x="23" y="40"/>
                    </a:lnTo>
                    <a:lnTo>
                      <a:pt x="25" y="32"/>
                    </a:lnTo>
                    <a:lnTo>
                      <a:pt x="27" y="25"/>
                    </a:lnTo>
                    <a:lnTo>
                      <a:pt x="27" y="17"/>
                    </a:lnTo>
                    <a:lnTo>
                      <a:pt x="27" y="9"/>
                    </a:lnTo>
                    <a:lnTo>
                      <a:pt x="27" y="4"/>
                    </a:lnTo>
                    <a:lnTo>
                      <a:pt x="25" y="0"/>
                    </a:lnTo>
                    <a:lnTo>
                      <a:pt x="25"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flipH="1">
                <a:off x="6125760" y="4420080"/>
                <a:ext cx="28080" cy="16560"/>
              </a:xfrm>
              <a:custGeom>
                <a:avLst/>
                <a:gdLst/>
                <a:ahLst/>
                <a:rect l="l" t="t" r="r" b="b"/>
                <a:pathLst>
                  <a:path w="122" h="73">
                    <a:moveTo>
                      <a:pt x="118" y="0"/>
                    </a:moveTo>
                    <a:lnTo>
                      <a:pt x="122" y="10"/>
                    </a:lnTo>
                    <a:lnTo>
                      <a:pt x="120" y="18"/>
                    </a:lnTo>
                    <a:lnTo>
                      <a:pt x="112" y="27"/>
                    </a:lnTo>
                    <a:lnTo>
                      <a:pt x="105" y="37"/>
                    </a:lnTo>
                    <a:lnTo>
                      <a:pt x="97" y="40"/>
                    </a:lnTo>
                    <a:lnTo>
                      <a:pt x="91" y="46"/>
                    </a:lnTo>
                    <a:lnTo>
                      <a:pt x="84" y="50"/>
                    </a:lnTo>
                    <a:lnTo>
                      <a:pt x="78" y="56"/>
                    </a:lnTo>
                    <a:lnTo>
                      <a:pt x="70" y="59"/>
                    </a:lnTo>
                    <a:lnTo>
                      <a:pt x="61" y="63"/>
                    </a:lnTo>
                    <a:lnTo>
                      <a:pt x="53" y="65"/>
                    </a:lnTo>
                    <a:lnTo>
                      <a:pt x="48" y="69"/>
                    </a:lnTo>
                    <a:lnTo>
                      <a:pt x="42" y="69"/>
                    </a:lnTo>
                    <a:lnTo>
                      <a:pt x="36" y="69"/>
                    </a:lnTo>
                    <a:lnTo>
                      <a:pt x="31" y="71"/>
                    </a:lnTo>
                    <a:lnTo>
                      <a:pt x="25" y="71"/>
                    </a:lnTo>
                    <a:lnTo>
                      <a:pt x="17" y="71"/>
                    </a:lnTo>
                    <a:lnTo>
                      <a:pt x="12" y="73"/>
                    </a:lnTo>
                    <a:lnTo>
                      <a:pt x="6" y="73"/>
                    </a:lnTo>
                    <a:lnTo>
                      <a:pt x="0" y="73"/>
                    </a:lnTo>
                    <a:lnTo>
                      <a:pt x="2" y="65"/>
                    </a:lnTo>
                    <a:lnTo>
                      <a:pt x="6" y="59"/>
                    </a:lnTo>
                    <a:lnTo>
                      <a:pt x="10" y="56"/>
                    </a:lnTo>
                    <a:lnTo>
                      <a:pt x="13" y="50"/>
                    </a:lnTo>
                    <a:lnTo>
                      <a:pt x="17" y="44"/>
                    </a:lnTo>
                    <a:lnTo>
                      <a:pt x="25" y="40"/>
                    </a:lnTo>
                    <a:lnTo>
                      <a:pt x="29" y="37"/>
                    </a:lnTo>
                    <a:lnTo>
                      <a:pt x="36" y="33"/>
                    </a:lnTo>
                    <a:lnTo>
                      <a:pt x="46" y="27"/>
                    </a:lnTo>
                    <a:lnTo>
                      <a:pt x="55" y="23"/>
                    </a:lnTo>
                    <a:lnTo>
                      <a:pt x="59" y="21"/>
                    </a:lnTo>
                    <a:lnTo>
                      <a:pt x="65" y="19"/>
                    </a:lnTo>
                    <a:lnTo>
                      <a:pt x="70" y="18"/>
                    </a:lnTo>
                    <a:lnTo>
                      <a:pt x="76" y="18"/>
                    </a:lnTo>
                    <a:lnTo>
                      <a:pt x="82" y="16"/>
                    </a:lnTo>
                    <a:lnTo>
                      <a:pt x="88" y="14"/>
                    </a:lnTo>
                    <a:lnTo>
                      <a:pt x="91" y="12"/>
                    </a:lnTo>
                    <a:lnTo>
                      <a:pt x="97" y="10"/>
                    </a:lnTo>
                    <a:lnTo>
                      <a:pt x="107" y="6"/>
                    </a:lnTo>
                    <a:lnTo>
                      <a:pt x="118" y="0"/>
                    </a:lnTo>
                    <a:lnTo>
                      <a:pt x="118"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83" name=""/>
              <p:cNvSpPr/>
              <p:nvPr/>
            </p:nvSpPr>
            <p:spPr>
              <a:xfrm flipH="1">
                <a:off x="6026400" y="4442400"/>
                <a:ext cx="10080" cy="15480"/>
              </a:xfrm>
              <a:custGeom>
                <a:avLst/>
                <a:gdLst/>
                <a:ahLst/>
                <a:rect l="l" t="t" r="r" b="b"/>
                <a:pathLst>
                  <a:path w="43" h="69">
                    <a:moveTo>
                      <a:pt x="28" y="0"/>
                    </a:moveTo>
                    <a:lnTo>
                      <a:pt x="34" y="2"/>
                    </a:lnTo>
                    <a:lnTo>
                      <a:pt x="40" y="6"/>
                    </a:lnTo>
                    <a:lnTo>
                      <a:pt x="42" y="10"/>
                    </a:lnTo>
                    <a:lnTo>
                      <a:pt x="43" y="16"/>
                    </a:lnTo>
                    <a:lnTo>
                      <a:pt x="42" y="21"/>
                    </a:lnTo>
                    <a:lnTo>
                      <a:pt x="42" y="29"/>
                    </a:lnTo>
                    <a:lnTo>
                      <a:pt x="38" y="35"/>
                    </a:lnTo>
                    <a:lnTo>
                      <a:pt x="36" y="44"/>
                    </a:lnTo>
                    <a:lnTo>
                      <a:pt x="28" y="50"/>
                    </a:lnTo>
                    <a:lnTo>
                      <a:pt x="23" y="57"/>
                    </a:lnTo>
                    <a:lnTo>
                      <a:pt x="17" y="63"/>
                    </a:lnTo>
                    <a:lnTo>
                      <a:pt x="11" y="69"/>
                    </a:lnTo>
                    <a:lnTo>
                      <a:pt x="9" y="63"/>
                    </a:lnTo>
                    <a:lnTo>
                      <a:pt x="5" y="57"/>
                    </a:lnTo>
                    <a:lnTo>
                      <a:pt x="4" y="54"/>
                    </a:lnTo>
                    <a:lnTo>
                      <a:pt x="4" y="50"/>
                    </a:lnTo>
                    <a:lnTo>
                      <a:pt x="2" y="40"/>
                    </a:lnTo>
                    <a:lnTo>
                      <a:pt x="2" y="33"/>
                    </a:lnTo>
                    <a:lnTo>
                      <a:pt x="0" y="27"/>
                    </a:lnTo>
                    <a:lnTo>
                      <a:pt x="0" y="21"/>
                    </a:lnTo>
                    <a:lnTo>
                      <a:pt x="0" y="17"/>
                    </a:lnTo>
                    <a:lnTo>
                      <a:pt x="4" y="14"/>
                    </a:lnTo>
                    <a:lnTo>
                      <a:pt x="5" y="10"/>
                    </a:lnTo>
                    <a:lnTo>
                      <a:pt x="11" y="6"/>
                    </a:lnTo>
                    <a:lnTo>
                      <a:pt x="15" y="4"/>
                    </a:lnTo>
                    <a:lnTo>
                      <a:pt x="19" y="4"/>
                    </a:lnTo>
                    <a:lnTo>
                      <a:pt x="23" y="2"/>
                    </a:lnTo>
                    <a:lnTo>
                      <a:pt x="28" y="0"/>
                    </a:lnTo>
                    <a:lnTo>
                      <a:pt x="2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4" name=""/>
              <p:cNvSpPr/>
              <p:nvPr/>
            </p:nvSpPr>
            <p:spPr>
              <a:xfrm flipH="1">
                <a:off x="5754600" y="4442400"/>
                <a:ext cx="24480" cy="90360"/>
              </a:xfrm>
              <a:custGeom>
                <a:avLst/>
                <a:gdLst/>
                <a:ahLst/>
                <a:rect l="l" t="t" r="r" b="b"/>
                <a:pathLst>
                  <a:path w="106" h="392">
                    <a:moveTo>
                      <a:pt x="21" y="0"/>
                    </a:moveTo>
                    <a:lnTo>
                      <a:pt x="26" y="6"/>
                    </a:lnTo>
                    <a:lnTo>
                      <a:pt x="30" y="14"/>
                    </a:lnTo>
                    <a:lnTo>
                      <a:pt x="36" y="19"/>
                    </a:lnTo>
                    <a:lnTo>
                      <a:pt x="42" y="29"/>
                    </a:lnTo>
                    <a:lnTo>
                      <a:pt x="45" y="35"/>
                    </a:lnTo>
                    <a:lnTo>
                      <a:pt x="51" y="44"/>
                    </a:lnTo>
                    <a:lnTo>
                      <a:pt x="55" y="52"/>
                    </a:lnTo>
                    <a:lnTo>
                      <a:pt x="61" y="59"/>
                    </a:lnTo>
                    <a:lnTo>
                      <a:pt x="64" y="67"/>
                    </a:lnTo>
                    <a:lnTo>
                      <a:pt x="70" y="74"/>
                    </a:lnTo>
                    <a:lnTo>
                      <a:pt x="74" y="84"/>
                    </a:lnTo>
                    <a:lnTo>
                      <a:pt x="80" y="92"/>
                    </a:lnTo>
                    <a:lnTo>
                      <a:pt x="83" y="99"/>
                    </a:lnTo>
                    <a:lnTo>
                      <a:pt x="87" y="109"/>
                    </a:lnTo>
                    <a:lnTo>
                      <a:pt x="91" y="116"/>
                    </a:lnTo>
                    <a:lnTo>
                      <a:pt x="95" y="124"/>
                    </a:lnTo>
                    <a:lnTo>
                      <a:pt x="97" y="133"/>
                    </a:lnTo>
                    <a:lnTo>
                      <a:pt x="100" y="145"/>
                    </a:lnTo>
                    <a:lnTo>
                      <a:pt x="102" y="154"/>
                    </a:lnTo>
                    <a:lnTo>
                      <a:pt x="104" y="164"/>
                    </a:lnTo>
                    <a:lnTo>
                      <a:pt x="104" y="175"/>
                    </a:lnTo>
                    <a:lnTo>
                      <a:pt x="106" y="185"/>
                    </a:lnTo>
                    <a:lnTo>
                      <a:pt x="106" y="196"/>
                    </a:lnTo>
                    <a:lnTo>
                      <a:pt x="106" y="206"/>
                    </a:lnTo>
                    <a:lnTo>
                      <a:pt x="104" y="215"/>
                    </a:lnTo>
                    <a:lnTo>
                      <a:pt x="102" y="227"/>
                    </a:lnTo>
                    <a:lnTo>
                      <a:pt x="99" y="236"/>
                    </a:lnTo>
                    <a:lnTo>
                      <a:pt x="97" y="247"/>
                    </a:lnTo>
                    <a:lnTo>
                      <a:pt x="91" y="257"/>
                    </a:lnTo>
                    <a:lnTo>
                      <a:pt x="87" y="268"/>
                    </a:lnTo>
                    <a:lnTo>
                      <a:pt x="81" y="278"/>
                    </a:lnTo>
                    <a:lnTo>
                      <a:pt x="78" y="289"/>
                    </a:lnTo>
                    <a:lnTo>
                      <a:pt x="76" y="295"/>
                    </a:lnTo>
                    <a:lnTo>
                      <a:pt x="74" y="301"/>
                    </a:lnTo>
                    <a:lnTo>
                      <a:pt x="72" y="306"/>
                    </a:lnTo>
                    <a:lnTo>
                      <a:pt x="72" y="314"/>
                    </a:lnTo>
                    <a:lnTo>
                      <a:pt x="70" y="320"/>
                    </a:lnTo>
                    <a:lnTo>
                      <a:pt x="68" y="325"/>
                    </a:lnTo>
                    <a:lnTo>
                      <a:pt x="68" y="333"/>
                    </a:lnTo>
                    <a:lnTo>
                      <a:pt x="68" y="341"/>
                    </a:lnTo>
                    <a:lnTo>
                      <a:pt x="66" y="346"/>
                    </a:lnTo>
                    <a:lnTo>
                      <a:pt x="64" y="352"/>
                    </a:lnTo>
                    <a:lnTo>
                      <a:pt x="64" y="360"/>
                    </a:lnTo>
                    <a:lnTo>
                      <a:pt x="62" y="365"/>
                    </a:lnTo>
                    <a:lnTo>
                      <a:pt x="61" y="371"/>
                    </a:lnTo>
                    <a:lnTo>
                      <a:pt x="61" y="379"/>
                    </a:lnTo>
                    <a:lnTo>
                      <a:pt x="59" y="384"/>
                    </a:lnTo>
                    <a:lnTo>
                      <a:pt x="59" y="392"/>
                    </a:lnTo>
                    <a:lnTo>
                      <a:pt x="47" y="377"/>
                    </a:lnTo>
                    <a:lnTo>
                      <a:pt x="40" y="361"/>
                    </a:lnTo>
                    <a:lnTo>
                      <a:pt x="34" y="342"/>
                    </a:lnTo>
                    <a:lnTo>
                      <a:pt x="32" y="327"/>
                    </a:lnTo>
                    <a:lnTo>
                      <a:pt x="32" y="306"/>
                    </a:lnTo>
                    <a:lnTo>
                      <a:pt x="34" y="289"/>
                    </a:lnTo>
                    <a:lnTo>
                      <a:pt x="38" y="268"/>
                    </a:lnTo>
                    <a:lnTo>
                      <a:pt x="42" y="249"/>
                    </a:lnTo>
                    <a:lnTo>
                      <a:pt x="45" y="228"/>
                    </a:lnTo>
                    <a:lnTo>
                      <a:pt x="51" y="208"/>
                    </a:lnTo>
                    <a:lnTo>
                      <a:pt x="55" y="187"/>
                    </a:lnTo>
                    <a:lnTo>
                      <a:pt x="59" y="168"/>
                    </a:lnTo>
                    <a:lnTo>
                      <a:pt x="61" y="149"/>
                    </a:lnTo>
                    <a:lnTo>
                      <a:pt x="62" y="131"/>
                    </a:lnTo>
                    <a:lnTo>
                      <a:pt x="62" y="112"/>
                    </a:lnTo>
                    <a:lnTo>
                      <a:pt x="59" y="97"/>
                    </a:lnTo>
                    <a:lnTo>
                      <a:pt x="53" y="97"/>
                    </a:lnTo>
                    <a:lnTo>
                      <a:pt x="47" y="99"/>
                    </a:lnTo>
                    <a:lnTo>
                      <a:pt x="43" y="101"/>
                    </a:lnTo>
                    <a:lnTo>
                      <a:pt x="40" y="105"/>
                    </a:lnTo>
                    <a:lnTo>
                      <a:pt x="36" y="109"/>
                    </a:lnTo>
                    <a:lnTo>
                      <a:pt x="34" y="114"/>
                    </a:lnTo>
                    <a:lnTo>
                      <a:pt x="30" y="120"/>
                    </a:lnTo>
                    <a:lnTo>
                      <a:pt x="30" y="128"/>
                    </a:lnTo>
                    <a:lnTo>
                      <a:pt x="26" y="133"/>
                    </a:lnTo>
                    <a:lnTo>
                      <a:pt x="26" y="139"/>
                    </a:lnTo>
                    <a:lnTo>
                      <a:pt x="24" y="145"/>
                    </a:lnTo>
                    <a:lnTo>
                      <a:pt x="24" y="152"/>
                    </a:lnTo>
                    <a:lnTo>
                      <a:pt x="22" y="158"/>
                    </a:lnTo>
                    <a:lnTo>
                      <a:pt x="22" y="166"/>
                    </a:lnTo>
                    <a:lnTo>
                      <a:pt x="22" y="171"/>
                    </a:lnTo>
                    <a:lnTo>
                      <a:pt x="22" y="179"/>
                    </a:lnTo>
                    <a:lnTo>
                      <a:pt x="17" y="173"/>
                    </a:lnTo>
                    <a:lnTo>
                      <a:pt x="13" y="168"/>
                    </a:lnTo>
                    <a:lnTo>
                      <a:pt x="9" y="162"/>
                    </a:lnTo>
                    <a:lnTo>
                      <a:pt x="7" y="158"/>
                    </a:lnTo>
                    <a:lnTo>
                      <a:pt x="3" y="151"/>
                    </a:lnTo>
                    <a:lnTo>
                      <a:pt x="3" y="145"/>
                    </a:lnTo>
                    <a:lnTo>
                      <a:pt x="2" y="139"/>
                    </a:lnTo>
                    <a:lnTo>
                      <a:pt x="2" y="133"/>
                    </a:lnTo>
                    <a:lnTo>
                      <a:pt x="0" y="124"/>
                    </a:lnTo>
                    <a:lnTo>
                      <a:pt x="0" y="114"/>
                    </a:lnTo>
                    <a:lnTo>
                      <a:pt x="0" y="107"/>
                    </a:lnTo>
                    <a:lnTo>
                      <a:pt x="0" y="99"/>
                    </a:lnTo>
                    <a:lnTo>
                      <a:pt x="0" y="90"/>
                    </a:lnTo>
                    <a:lnTo>
                      <a:pt x="2" y="80"/>
                    </a:lnTo>
                    <a:lnTo>
                      <a:pt x="2" y="73"/>
                    </a:lnTo>
                    <a:lnTo>
                      <a:pt x="3" y="63"/>
                    </a:lnTo>
                    <a:lnTo>
                      <a:pt x="5" y="55"/>
                    </a:lnTo>
                    <a:lnTo>
                      <a:pt x="7" y="46"/>
                    </a:lnTo>
                    <a:lnTo>
                      <a:pt x="9" y="36"/>
                    </a:lnTo>
                    <a:lnTo>
                      <a:pt x="11" y="29"/>
                    </a:lnTo>
                    <a:lnTo>
                      <a:pt x="13" y="21"/>
                    </a:lnTo>
                    <a:lnTo>
                      <a:pt x="15" y="14"/>
                    </a:lnTo>
                    <a:lnTo>
                      <a:pt x="17" y="6"/>
                    </a:lnTo>
                    <a:lnTo>
                      <a:pt x="21" y="0"/>
                    </a:lnTo>
                    <a:lnTo>
                      <a:pt x="2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 name=""/>
              <p:cNvSpPr/>
              <p:nvPr/>
            </p:nvSpPr>
            <p:spPr>
              <a:xfrm flipH="1">
                <a:off x="6152760" y="4446360"/>
                <a:ext cx="17280" cy="16200"/>
              </a:xfrm>
              <a:custGeom>
                <a:avLst/>
                <a:gdLst/>
                <a:ahLst/>
                <a:rect l="l" t="t" r="r" b="b"/>
                <a:pathLst>
                  <a:path w="76" h="73">
                    <a:moveTo>
                      <a:pt x="66" y="0"/>
                    </a:moveTo>
                    <a:lnTo>
                      <a:pt x="74" y="4"/>
                    </a:lnTo>
                    <a:lnTo>
                      <a:pt x="76" y="12"/>
                    </a:lnTo>
                    <a:lnTo>
                      <a:pt x="74" y="21"/>
                    </a:lnTo>
                    <a:lnTo>
                      <a:pt x="70" y="31"/>
                    </a:lnTo>
                    <a:lnTo>
                      <a:pt x="64" y="37"/>
                    </a:lnTo>
                    <a:lnTo>
                      <a:pt x="57" y="42"/>
                    </a:lnTo>
                    <a:lnTo>
                      <a:pt x="47" y="50"/>
                    </a:lnTo>
                    <a:lnTo>
                      <a:pt x="40" y="56"/>
                    </a:lnTo>
                    <a:lnTo>
                      <a:pt x="30" y="61"/>
                    </a:lnTo>
                    <a:lnTo>
                      <a:pt x="23" y="67"/>
                    </a:lnTo>
                    <a:lnTo>
                      <a:pt x="15" y="71"/>
                    </a:lnTo>
                    <a:lnTo>
                      <a:pt x="11" y="73"/>
                    </a:lnTo>
                    <a:lnTo>
                      <a:pt x="4" y="73"/>
                    </a:lnTo>
                    <a:lnTo>
                      <a:pt x="0" y="73"/>
                    </a:lnTo>
                    <a:lnTo>
                      <a:pt x="0" y="67"/>
                    </a:lnTo>
                    <a:lnTo>
                      <a:pt x="7" y="57"/>
                    </a:lnTo>
                    <a:lnTo>
                      <a:pt x="9" y="52"/>
                    </a:lnTo>
                    <a:lnTo>
                      <a:pt x="17" y="46"/>
                    </a:lnTo>
                    <a:lnTo>
                      <a:pt x="23" y="38"/>
                    </a:lnTo>
                    <a:lnTo>
                      <a:pt x="32" y="31"/>
                    </a:lnTo>
                    <a:lnTo>
                      <a:pt x="32" y="23"/>
                    </a:lnTo>
                    <a:lnTo>
                      <a:pt x="34" y="18"/>
                    </a:lnTo>
                    <a:lnTo>
                      <a:pt x="38" y="16"/>
                    </a:lnTo>
                    <a:lnTo>
                      <a:pt x="44" y="14"/>
                    </a:lnTo>
                    <a:lnTo>
                      <a:pt x="51" y="10"/>
                    </a:lnTo>
                    <a:lnTo>
                      <a:pt x="57" y="8"/>
                    </a:lnTo>
                    <a:lnTo>
                      <a:pt x="61" y="4"/>
                    </a:lnTo>
                    <a:lnTo>
                      <a:pt x="66" y="0"/>
                    </a:lnTo>
                    <a:lnTo>
                      <a:pt x="6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6" name=""/>
              <p:cNvSpPr/>
              <p:nvPr/>
            </p:nvSpPr>
            <p:spPr>
              <a:xfrm flipH="1">
                <a:off x="5882400" y="4450680"/>
                <a:ext cx="21960" cy="15120"/>
              </a:xfrm>
              <a:custGeom>
                <a:avLst/>
                <a:gdLst/>
                <a:ahLst/>
                <a:rect l="l" t="t" r="r" b="b"/>
                <a:pathLst>
                  <a:path w="97" h="67">
                    <a:moveTo>
                      <a:pt x="63" y="0"/>
                    </a:moveTo>
                    <a:lnTo>
                      <a:pt x="68" y="0"/>
                    </a:lnTo>
                    <a:lnTo>
                      <a:pt x="74" y="0"/>
                    </a:lnTo>
                    <a:lnTo>
                      <a:pt x="80" y="0"/>
                    </a:lnTo>
                    <a:lnTo>
                      <a:pt x="84" y="0"/>
                    </a:lnTo>
                    <a:lnTo>
                      <a:pt x="91" y="0"/>
                    </a:lnTo>
                    <a:lnTo>
                      <a:pt x="95" y="4"/>
                    </a:lnTo>
                    <a:lnTo>
                      <a:pt x="97" y="10"/>
                    </a:lnTo>
                    <a:lnTo>
                      <a:pt x="91" y="18"/>
                    </a:lnTo>
                    <a:lnTo>
                      <a:pt x="86" y="19"/>
                    </a:lnTo>
                    <a:lnTo>
                      <a:pt x="80" y="23"/>
                    </a:lnTo>
                    <a:lnTo>
                      <a:pt x="74" y="25"/>
                    </a:lnTo>
                    <a:lnTo>
                      <a:pt x="70" y="29"/>
                    </a:lnTo>
                    <a:lnTo>
                      <a:pt x="63" y="33"/>
                    </a:lnTo>
                    <a:lnTo>
                      <a:pt x="57" y="37"/>
                    </a:lnTo>
                    <a:lnTo>
                      <a:pt x="49" y="40"/>
                    </a:lnTo>
                    <a:lnTo>
                      <a:pt x="44" y="44"/>
                    </a:lnTo>
                    <a:lnTo>
                      <a:pt x="36" y="48"/>
                    </a:lnTo>
                    <a:lnTo>
                      <a:pt x="30" y="50"/>
                    </a:lnTo>
                    <a:lnTo>
                      <a:pt x="25" y="54"/>
                    </a:lnTo>
                    <a:lnTo>
                      <a:pt x="19" y="57"/>
                    </a:lnTo>
                    <a:lnTo>
                      <a:pt x="10" y="61"/>
                    </a:lnTo>
                    <a:lnTo>
                      <a:pt x="4" y="67"/>
                    </a:lnTo>
                    <a:lnTo>
                      <a:pt x="0" y="65"/>
                    </a:lnTo>
                    <a:lnTo>
                      <a:pt x="6" y="56"/>
                    </a:lnTo>
                    <a:lnTo>
                      <a:pt x="13" y="48"/>
                    </a:lnTo>
                    <a:lnTo>
                      <a:pt x="21" y="40"/>
                    </a:lnTo>
                    <a:lnTo>
                      <a:pt x="29" y="33"/>
                    </a:lnTo>
                    <a:lnTo>
                      <a:pt x="36" y="23"/>
                    </a:lnTo>
                    <a:lnTo>
                      <a:pt x="46" y="16"/>
                    </a:lnTo>
                    <a:lnTo>
                      <a:pt x="55" y="8"/>
                    </a:lnTo>
                    <a:lnTo>
                      <a:pt x="63" y="0"/>
                    </a:lnTo>
                    <a:lnTo>
                      <a:pt x="6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7" name=""/>
              <p:cNvSpPr/>
              <p:nvPr/>
            </p:nvSpPr>
            <p:spPr>
              <a:xfrm flipH="1">
                <a:off x="6053760" y="4462920"/>
                <a:ext cx="13680" cy="25200"/>
              </a:xfrm>
              <a:custGeom>
                <a:avLst/>
                <a:gdLst/>
                <a:ahLst/>
                <a:rect l="l" t="t" r="r" b="b"/>
                <a:pathLst>
                  <a:path w="59" h="110">
                    <a:moveTo>
                      <a:pt x="45" y="0"/>
                    </a:moveTo>
                    <a:lnTo>
                      <a:pt x="49" y="5"/>
                    </a:lnTo>
                    <a:lnTo>
                      <a:pt x="55" y="11"/>
                    </a:lnTo>
                    <a:lnTo>
                      <a:pt x="57" y="17"/>
                    </a:lnTo>
                    <a:lnTo>
                      <a:pt x="59" y="22"/>
                    </a:lnTo>
                    <a:lnTo>
                      <a:pt x="59" y="28"/>
                    </a:lnTo>
                    <a:lnTo>
                      <a:pt x="57" y="38"/>
                    </a:lnTo>
                    <a:lnTo>
                      <a:pt x="55" y="45"/>
                    </a:lnTo>
                    <a:lnTo>
                      <a:pt x="53" y="53"/>
                    </a:lnTo>
                    <a:lnTo>
                      <a:pt x="45" y="61"/>
                    </a:lnTo>
                    <a:lnTo>
                      <a:pt x="40" y="68"/>
                    </a:lnTo>
                    <a:lnTo>
                      <a:pt x="34" y="76"/>
                    </a:lnTo>
                    <a:lnTo>
                      <a:pt x="28" y="85"/>
                    </a:lnTo>
                    <a:lnTo>
                      <a:pt x="21" y="93"/>
                    </a:lnTo>
                    <a:lnTo>
                      <a:pt x="13" y="99"/>
                    </a:lnTo>
                    <a:lnTo>
                      <a:pt x="5" y="104"/>
                    </a:lnTo>
                    <a:lnTo>
                      <a:pt x="0" y="110"/>
                    </a:lnTo>
                    <a:lnTo>
                      <a:pt x="0" y="106"/>
                    </a:lnTo>
                    <a:lnTo>
                      <a:pt x="0" y="99"/>
                    </a:lnTo>
                    <a:lnTo>
                      <a:pt x="0" y="93"/>
                    </a:lnTo>
                    <a:lnTo>
                      <a:pt x="0" y="87"/>
                    </a:lnTo>
                    <a:lnTo>
                      <a:pt x="0" y="81"/>
                    </a:lnTo>
                    <a:lnTo>
                      <a:pt x="0" y="74"/>
                    </a:lnTo>
                    <a:lnTo>
                      <a:pt x="2" y="68"/>
                    </a:lnTo>
                    <a:lnTo>
                      <a:pt x="3" y="62"/>
                    </a:lnTo>
                    <a:lnTo>
                      <a:pt x="5" y="57"/>
                    </a:lnTo>
                    <a:lnTo>
                      <a:pt x="7" y="47"/>
                    </a:lnTo>
                    <a:lnTo>
                      <a:pt x="11" y="40"/>
                    </a:lnTo>
                    <a:lnTo>
                      <a:pt x="15" y="32"/>
                    </a:lnTo>
                    <a:lnTo>
                      <a:pt x="21" y="24"/>
                    </a:lnTo>
                    <a:lnTo>
                      <a:pt x="24" y="17"/>
                    </a:lnTo>
                    <a:lnTo>
                      <a:pt x="32" y="11"/>
                    </a:lnTo>
                    <a:lnTo>
                      <a:pt x="38" y="5"/>
                    </a:lnTo>
                    <a:lnTo>
                      <a:pt x="45" y="0"/>
                    </a:lnTo>
                    <a:lnTo>
                      <a:pt x="4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 name=""/>
              <p:cNvSpPr/>
              <p:nvPr/>
            </p:nvSpPr>
            <p:spPr>
              <a:xfrm flipH="1">
                <a:off x="6028920" y="4473360"/>
                <a:ext cx="7560" cy="15120"/>
              </a:xfrm>
              <a:custGeom>
                <a:avLst/>
                <a:gdLst/>
                <a:ahLst/>
                <a:rect l="l" t="t" r="r" b="b"/>
                <a:pathLst>
                  <a:path w="34" h="67">
                    <a:moveTo>
                      <a:pt x="25" y="0"/>
                    </a:moveTo>
                    <a:lnTo>
                      <a:pt x="30" y="4"/>
                    </a:lnTo>
                    <a:lnTo>
                      <a:pt x="34" y="12"/>
                    </a:lnTo>
                    <a:lnTo>
                      <a:pt x="34" y="16"/>
                    </a:lnTo>
                    <a:lnTo>
                      <a:pt x="34" y="19"/>
                    </a:lnTo>
                    <a:lnTo>
                      <a:pt x="32" y="25"/>
                    </a:lnTo>
                    <a:lnTo>
                      <a:pt x="30" y="31"/>
                    </a:lnTo>
                    <a:lnTo>
                      <a:pt x="25" y="42"/>
                    </a:lnTo>
                    <a:lnTo>
                      <a:pt x="17" y="52"/>
                    </a:lnTo>
                    <a:lnTo>
                      <a:pt x="9" y="59"/>
                    </a:lnTo>
                    <a:lnTo>
                      <a:pt x="4" y="67"/>
                    </a:lnTo>
                    <a:lnTo>
                      <a:pt x="0" y="59"/>
                    </a:lnTo>
                    <a:lnTo>
                      <a:pt x="0" y="52"/>
                    </a:lnTo>
                    <a:lnTo>
                      <a:pt x="0" y="42"/>
                    </a:lnTo>
                    <a:lnTo>
                      <a:pt x="4" y="35"/>
                    </a:lnTo>
                    <a:lnTo>
                      <a:pt x="6" y="23"/>
                    </a:lnTo>
                    <a:lnTo>
                      <a:pt x="11" y="16"/>
                    </a:lnTo>
                    <a:lnTo>
                      <a:pt x="17" y="8"/>
                    </a:lnTo>
                    <a:lnTo>
                      <a:pt x="25" y="0"/>
                    </a:lnTo>
                    <a:lnTo>
                      <a:pt x="25"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9" name=""/>
              <p:cNvSpPr/>
              <p:nvPr/>
            </p:nvSpPr>
            <p:spPr>
              <a:xfrm flipH="1">
                <a:off x="6051600" y="4485240"/>
                <a:ext cx="152640" cy="437400"/>
              </a:xfrm>
              <a:custGeom>
                <a:avLst/>
                <a:gdLst/>
                <a:ahLst/>
                <a:rect l="l" t="t" r="r" b="b"/>
                <a:pathLst>
                  <a:path w="663" h="1895">
                    <a:moveTo>
                      <a:pt x="365" y="0"/>
                    </a:moveTo>
                    <a:lnTo>
                      <a:pt x="344" y="34"/>
                    </a:lnTo>
                    <a:lnTo>
                      <a:pt x="325" y="68"/>
                    </a:lnTo>
                    <a:lnTo>
                      <a:pt x="304" y="104"/>
                    </a:lnTo>
                    <a:lnTo>
                      <a:pt x="285" y="140"/>
                    </a:lnTo>
                    <a:lnTo>
                      <a:pt x="264" y="176"/>
                    </a:lnTo>
                    <a:lnTo>
                      <a:pt x="245" y="214"/>
                    </a:lnTo>
                    <a:lnTo>
                      <a:pt x="224" y="251"/>
                    </a:lnTo>
                    <a:lnTo>
                      <a:pt x="205" y="289"/>
                    </a:lnTo>
                    <a:lnTo>
                      <a:pt x="186" y="325"/>
                    </a:lnTo>
                    <a:lnTo>
                      <a:pt x="169" y="363"/>
                    </a:lnTo>
                    <a:lnTo>
                      <a:pt x="152" y="401"/>
                    </a:lnTo>
                    <a:lnTo>
                      <a:pt x="136" y="441"/>
                    </a:lnTo>
                    <a:lnTo>
                      <a:pt x="123" y="479"/>
                    </a:lnTo>
                    <a:lnTo>
                      <a:pt x="112" y="519"/>
                    </a:lnTo>
                    <a:lnTo>
                      <a:pt x="102" y="558"/>
                    </a:lnTo>
                    <a:lnTo>
                      <a:pt x="95" y="600"/>
                    </a:lnTo>
                    <a:lnTo>
                      <a:pt x="70" y="693"/>
                    </a:lnTo>
                    <a:lnTo>
                      <a:pt x="57" y="787"/>
                    </a:lnTo>
                    <a:lnTo>
                      <a:pt x="55" y="876"/>
                    </a:lnTo>
                    <a:lnTo>
                      <a:pt x="64" y="967"/>
                    </a:lnTo>
                    <a:lnTo>
                      <a:pt x="79" y="1053"/>
                    </a:lnTo>
                    <a:lnTo>
                      <a:pt x="106" y="1138"/>
                    </a:lnTo>
                    <a:lnTo>
                      <a:pt x="138" y="1222"/>
                    </a:lnTo>
                    <a:lnTo>
                      <a:pt x="180" y="1305"/>
                    </a:lnTo>
                    <a:lnTo>
                      <a:pt x="226" y="1383"/>
                    </a:lnTo>
                    <a:lnTo>
                      <a:pt x="277" y="1461"/>
                    </a:lnTo>
                    <a:lnTo>
                      <a:pt x="334" y="1535"/>
                    </a:lnTo>
                    <a:lnTo>
                      <a:pt x="395" y="1612"/>
                    </a:lnTo>
                    <a:lnTo>
                      <a:pt x="458" y="1682"/>
                    </a:lnTo>
                    <a:lnTo>
                      <a:pt x="522" y="1752"/>
                    </a:lnTo>
                    <a:lnTo>
                      <a:pt x="591" y="1819"/>
                    </a:lnTo>
                    <a:lnTo>
                      <a:pt x="659" y="1885"/>
                    </a:lnTo>
                    <a:lnTo>
                      <a:pt x="659" y="1887"/>
                    </a:lnTo>
                    <a:lnTo>
                      <a:pt x="661" y="1891"/>
                    </a:lnTo>
                    <a:lnTo>
                      <a:pt x="661" y="1893"/>
                    </a:lnTo>
                    <a:lnTo>
                      <a:pt x="663" y="1895"/>
                    </a:lnTo>
                    <a:lnTo>
                      <a:pt x="621" y="1878"/>
                    </a:lnTo>
                    <a:lnTo>
                      <a:pt x="581" y="1857"/>
                    </a:lnTo>
                    <a:lnTo>
                      <a:pt x="541" y="1836"/>
                    </a:lnTo>
                    <a:lnTo>
                      <a:pt x="503" y="1811"/>
                    </a:lnTo>
                    <a:lnTo>
                      <a:pt x="465" y="1785"/>
                    </a:lnTo>
                    <a:lnTo>
                      <a:pt x="431" y="1758"/>
                    </a:lnTo>
                    <a:lnTo>
                      <a:pt x="397" y="1727"/>
                    </a:lnTo>
                    <a:lnTo>
                      <a:pt x="365" y="1695"/>
                    </a:lnTo>
                    <a:lnTo>
                      <a:pt x="330" y="1663"/>
                    </a:lnTo>
                    <a:lnTo>
                      <a:pt x="302" y="1627"/>
                    </a:lnTo>
                    <a:lnTo>
                      <a:pt x="271" y="1591"/>
                    </a:lnTo>
                    <a:lnTo>
                      <a:pt x="247" y="1555"/>
                    </a:lnTo>
                    <a:lnTo>
                      <a:pt x="220" y="1518"/>
                    </a:lnTo>
                    <a:lnTo>
                      <a:pt x="197" y="1480"/>
                    </a:lnTo>
                    <a:lnTo>
                      <a:pt x="176" y="1442"/>
                    </a:lnTo>
                    <a:lnTo>
                      <a:pt x="159" y="1404"/>
                    </a:lnTo>
                    <a:lnTo>
                      <a:pt x="138" y="1355"/>
                    </a:lnTo>
                    <a:lnTo>
                      <a:pt x="119" y="1307"/>
                    </a:lnTo>
                    <a:lnTo>
                      <a:pt x="100" y="1260"/>
                    </a:lnTo>
                    <a:lnTo>
                      <a:pt x="81" y="1210"/>
                    </a:lnTo>
                    <a:lnTo>
                      <a:pt x="64" y="1161"/>
                    </a:lnTo>
                    <a:lnTo>
                      <a:pt x="49" y="1112"/>
                    </a:lnTo>
                    <a:lnTo>
                      <a:pt x="34" y="1062"/>
                    </a:lnTo>
                    <a:lnTo>
                      <a:pt x="22" y="1013"/>
                    </a:lnTo>
                    <a:lnTo>
                      <a:pt x="13" y="961"/>
                    </a:lnTo>
                    <a:lnTo>
                      <a:pt x="5" y="912"/>
                    </a:lnTo>
                    <a:lnTo>
                      <a:pt x="0" y="861"/>
                    </a:lnTo>
                    <a:lnTo>
                      <a:pt x="0" y="811"/>
                    </a:lnTo>
                    <a:lnTo>
                      <a:pt x="0" y="760"/>
                    </a:lnTo>
                    <a:lnTo>
                      <a:pt x="7" y="709"/>
                    </a:lnTo>
                    <a:lnTo>
                      <a:pt x="17" y="657"/>
                    </a:lnTo>
                    <a:lnTo>
                      <a:pt x="30" y="606"/>
                    </a:lnTo>
                    <a:lnTo>
                      <a:pt x="41" y="564"/>
                    </a:lnTo>
                    <a:lnTo>
                      <a:pt x="53" y="524"/>
                    </a:lnTo>
                    <a:lnTo>
                      <a:pt x="64" y="484"/>
                    </a:lnTo>
                    <a:lnTo>
                      <a:pt x="77" y="443"/>
                    </a:lnTo>
                    <a:lnTo>
                      <a:pt x="91" y="401"/>
                    </a:lnTo>
                    <a:lnTo>
                      <a:pt x="106" y="361"/>
                    </a:lnTo>
                    <a:lnTo>
                      <a:pt x="123" y="321"/>
                    </a:lnTo>
                    <a:lnTo>
                      <a:pt x="140" y="281"/>
                    </a:lnTo>
                    <a:lnTo>
                      <a:pt x="159" y="241"/>
                    </a:lnTo>
                    <a:lnTo>
                      <a:pt x="182" y="203"/>
                    </a:lnTo>
                    <a:lnTo>
                      <a:pt x="205" y="165"/>
                    </a:lnTo>
                    <a:lnTo>
                      <a:pt x="231" y="131"/>
                    </a:lnTo>
                    <a:lnTo>
                      <a:pt x="260" y="95"/>
                    </a:lnTo>
                    <a:lnTo>
                      <a:pt x="292" y="60"/>
                    </a:lnTo>
                    <a:lnTo>
                      <a:pt x="326" y="28"/>
                    </a:lnTo>
                    <a:lnTo>
                      <a:pt x="365" y="0"/>
                    </a:lnTo>
                    <a:lnTo>
                      <a:pt x="365" y="0"/>
                    </a:lnTo>
                    <a:close/>
                  </a:path>
                </a:pathLst>
              </a:custGeom>
              <a:solidFill>
                <a:srgbClr val="ffcc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6058080" y="4501440"/>
                <a:ext cx="9360" cy="24840"/>
              </a:xfrm>
              <a:custGeom>
                <a:avLst/>
                <a:gdLst/>
                <a:ahLst/>
                <a:rect l="l" t="t" r="r" b="b"/>
                <a:pathLst>
                  <a:path w="41" h="106">
                    <a:moveTo>
                      <a:pt x="38" y="0"/>
                    </a:moveTo>
                    <a:lnTo>
                      <a:pt x="40" y="6"/>
                    </a:lnTo>
                    <a:lnTo>
                      <a:pt x="41" y="15"/>
                    </a:lnTo>
                    <a:lnTo>
                      <a:pt x="41" y="21"/>
                    </a:lnTo>
                    <a:lnTo>
                      <a:pt x="41" y="28"/>
                    </a:lnTo>
                    <a:lnTo>
                      <a:pt x="40" y="36"/>
                    </a:lnTo>
                    <a:lnTo>
                      <a:pt x="38" y="42"/>
                    </a:lnTo>
                    <a:lnTo>
                      <a:pt x="34" y="49"/>
                    </a:lnTo>
                    <a:lnTo>
                      <a:pt x="32" y="57"/>
                    </a:lnTo>
                    <a:lnTo>
                      <a:pt x="26" y="63"/>
                    </a:lnTo>
                    <a:lnTo>
                      <a:pt x="22" y="68"/>
                    </a:lnTo>
                    <a:lnTo>
                      <a:pt x="19" y="74"/>
                    </a:lnTo>
                    <a:lnTo>
                      <a:pt x="15" y="80"/>
                    </a:lnTo>
                    <a:lnTo>
                      <a:pt x="11" y="85"/>
                    </a:lnTo>
                    <a:lnTo>
                      <a:pt x="9" y="93"/>
                    </a:lnTo>
                    <a:lnTo>
                      <a:pt x="7" y="99"/>
                    </a:lnTo>
                    <a:lnTo>
                      <a:pt x="5" y="106"/>
                    </a:lnTo>
                    <a:lnTo>
                      <a:pt x="2" y="106"/>
                    </a:lnTo>
                    <a:lnTo>
                      <a:pt x="0" y="106"/>
                    </a:lnTo>
                    <a:lnTo>
                      <a:pt x="0" y="99"/>
                    </a:lnTo>
                    <a:lnTo>
                      <a:pt x="0" y="91"/>
                    </a:lnTo>
                    <a:lnTo>
                      <a:pt x="2" y="84"/>
                    </a:lnTo>
                    <a:lnTo>
                      <a:pt x="2" y="76"/>
                    </a:lnTo>
                    <a:lnTo>
                      <a:pt x="2" y="68"/>
                    </a:lnTo>
                    <a:lnTo>
                      <a:pt x="3" y="61"/>
                    </a:lnTo>
                    <a:lnTo>
                      <a:pt x="3" y="51"/>
                    </a:lnTo>
                    <a:lnTo>
                      <a:pt x="5" y="46"/>
                    </a:lnTo>
                    <a:lnTo>
                      <a:pt x="7" y="38"/>
                    </a:lnTo>
                    <a:lnTo>
                      <a:pt x="9" y="32"/>
                    </a:lnTo>
                    <a:lnTo>
                      <a:pt x="11" y="27"/>
                    </a:lnTo>
                    <a:lnTo>
                      <a:pt x="15" y="21"/>
                    </a:lnTo>
                    <a:lnTo>
                      <a:pt x="17" y="15"/>
                    </a:lnTo>
                    <a:lnTo>
                      <a:pt x="22" y="9"/>
                    </a:lnTo>
                    <a:lnTo>
                      <a:pt x="30" y="4"/>
                    </a:lnTo>
                    <a:lnTo>
                      <a:pt x="38" y="0"/>
                    </a:lnTo>
                    <a:lnTo>
                      <a:pt x="38"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1" name=""/>
              <p:cNvSpPr/>
              <p:nvPr/>
            </p:nvSpPr>
            <p:spPr>
              <a:xfrm flipH="1">
                <a:off x="6033960" y="4505400"/>
                <a:ext cx="8640" cy="15480"/>
              </a:xfrm>
              <a:custGeom>
                <a:avLst/>
                <a:gdLst/>
                <a:ahLst/>
                <a:rect l="l" t="t" r="r" b="b"/>
                <a:pathLst>
                  <a:path w="38" h="68">
                    <a:moveTo>
                      <a:pt x="29" y="0"/>
                    </a:moveTo>
                    <a:lnTo>
                      <a:pt x="32" y="6"/>
                    </a:lnTo>
                    <a:lnTo>
                      <a:pt x="36" y="11"/>
                    </a:lnTo>
                    <a:lnTo>
                      <a:pt x="36" y="15"/>
                    </a:lnTo>
                    <a:lnTo>
                      <a:pt x="38" y="21"/>
                    </a:lnTo>
                    <a:lnTo>
                      <a:pt x="36" y="27"/>
                    </a:lnTo>
                    <a:lnTo>
                      <a:pt x="34" y="32"/>
                    </a:lnTo>
                    <a:lnTo>
                      <a:pt x="31" y="38"/>
                    </a:lnTo>
                    <a:lnTo>
                      <a:pt x="29" y="44"/>
                    </a:lnTo>
                    <a:lnTo>
                      <a:pt x="21" y="49"/>
                    </a:lnTo>
                    <a:lnTo>
                      <a:pt x="15" y="57"/>
                    </a:lnTo>
                    <a:lnTo>
                      <a:pt x="8" y="63"/>
                    </a:lnTo>
                    <a:lnTo>
                      <a:pt x="0" y="68"/>
                    </a:lnTo>
                    <a:lnTo>
                      <a:pt x="0" y="59"/>
                    </a:lnTo>
                    <a:lnTo>
                      <a:pt x="2" y="53"/>
                    </a:lnTo>
                    <a:lnTo>
                      <a:pt x="4" y="46"/>
                    </a:lnTo>
                    <a:lnTo>
                      <a:pt x="6" y="40"/>
                    </a:lnTo>
                    <a:lnTo>
                      <a:pt x="8" y="34"/>
                    </a:lnTo>
                    <a:lnTo>
                      <a:pt x="10" y="29"/>
                    </a:lnTo>
                    <a:lnTo>
                      <a:pt x="11" y="23"/>
                    </a:lnTo>
                    <a:lnTo>
                      <a:pt x="13" y="19"/>
                    </a:lnTo>
                    <a:lnTo>
                      <a:pt x="21" y="8"/>
                    </a:lnTo>
                    <a:lnTo>
                      <a:pt x="29" y="0"/>
                    </a:lnTo>
                    <a:lnTo>
                      <a:pt x="2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2" name=""/>
              <p:cNvSpPr/>
              <p:nvPr/>
            </p:nvSpPr>
            <p:spPr>
              <a:xfrm flipH="1">
                <a:off x="5949000" y="4524840"/>
                <a:ext cx="16920" cy="29880"/>
              </a:xfrm>
              <a:custGeom>
                <a:avLst/>
                <a:gdLst/>
                <a:ahLst/>
                <a:rect l="l" t="t" r="r" b="b"/>
                <a:pathLst>
                  <a:path w="74" h="131">
                    <a:moveTo>
                      <a:pt x="38" y="0"/>
                    </a:moveTo>
                    <a:lnTo>
                      <a:pt x="38" y="5"/>
                    </a:lnTo>
                    <a:lnTo>
                      <a:pt x="38" y="11"/>
                    </a:lnTo>
                    <a:lnTo>
                      <a:pt x="38" y="17"/>
                    </a:lnTo>
                    <a:lnTo>
                      <a:pt x="38" y="23"/>
                    </a:lnTo>
                    <a:lnTo>
                      <a:pt x="38" y="28"/>
                    </a:lnTo>
                    <a:lnTo>
                      <a:pt x="40" y="34"/>
                    </a:lnTo>
                    <a:lnTo>
                      <a:pt x="40" y="40"/>
                    </a:lnTo>
                    <a:lnTo>
                      <a:pt x="44" y="47"/>
                    </a:lnTo>
                    <a:lnTo>
                      <a:pt x="44" y="51"/>
                    </a:lnTo>
                    <a:lnTo>
                      <a:pt x="45" y="57"/>
                    </a:lnTo>
                    <a:lnTo>
                      <a:pt x="49" y="62"/>
                    </a:lnTo>
                    <a:lnTo>
                      <a:pt x="51" y="68"/>
                    </a:lnTo>
                    <a:lnTo>
                      <a:pt x="53" y="74"/>
                    </a:lnTo>
                    <a:lnTo>
                      <a:pt x="57" y="80"/>
                    </a:lnTo>
                    <a:lnTo>
                      <a:pt x="59" y="85"/>
                    </a:lnTo>
                    <a:lnTo>
                      <a:pt x="63" y="91"/>
                    </a:lnTo>
                    <a:lnTo>
                      <a:pt x="64" y="99"/>
                    </a:lnTo>
                    <a:lnTo>
                      <a:pt x="66" y="106"/>
                    </a:lnTo>
                    <a:lnTo>
                      <a:pt x="70" y="112"/>
                    </a:lnTo>
                    <a:lnTo>
                      <a:pt x="74" y="119"/>
                    </a:lnTo>
                    <a:lnTo>
                      <a:pt x="64" y="121"/>
                    </a:lnTo>
                    <a:lnTo>
                      <a:pt x="57" y="125"/>
                    </a:lnTo>
                    <a:lnTo>
                      <a:pt x="49" y="127"/>
                    </a:lnTo>
                    <a:lnTo>
                      <a:pt x="44" y="129"/>
                    </a:lnTo>
                    <a:lnTo>
                      <a:pt x="36" y="129"/>
                    </a:lnTo>
                    <a:lnTo>
                      <a:pt x="30" y="131"/>
                    </a:lnTo>
                    <a:lnTo>
                      <a:pt x="26" y="131"/>
                    </a:lnTo>
                    <a:lnTo>
                      <a:pt x="23" y="131"/>
                    </a:lnTo>
                    <a:lnTo>
                      <a:pt x="13" y="125"/>
                    </a:lnTo>
                    <a:lnTo>
                      <a:pt x="7" y="121"/>
                    </a:lnTo>
                    <a:lnTo>
                      <a:pt x="4" y="116"/>
                    </a:lnTo>
                    <a:lnTo>
                      <a:pt x="2" y="108"/>
                    </a:lnTo>
                    <a:lnTo>
                      <a:pt x="0" y="102"/>
                    </a:lnTo>
                    <a:lnTo>
                      <a:pt x="0" y="95"/>
                    </a:lnTo>
                    <a:lnTo>
                      <a:pt x="0" y="89"/>
                    </a:lnTo>
                    <a:lnTo>
                      <a:pt x="0" y="81"/>
                    </a:lnTo>
                    <a:lnTo>
                      <a:pt x="2" y="74"/>
                    </a:lnTo>
                    <a:lnTo>
                      <a:pt x="4" y="66"/>
                    </a:lnTo>
                    <a:lnTo>
                      <a:pt x="6" y="61"/>
                    </a:lnTo>
                    <a:lnTo>
                      <a:pt x="7" y="53"/>
                    </a:lnTo>
                    <a:lnTo>
                      <a:pt x="9" y="45"/>
                    </a:lnTo>
                    <a:lnTo>
                      <a:pt x="13" y="38"/>
                    </a:lnTo>
                    <a:lnTo>
                      <a:pt x="17" y="30"/>
                    </a:lnTo>
                    <a:lnTo>
                      <a:pt x="21" y="24"/>
                    </a:lnTo>
                    <a:lnTo>
                      <a:pt x="25" y="17"/>
                    </a:lnTo>
                    <a:lnTo>
                      <a:pt x="28" y="11"/>
                    </a:lnTo>
                    <a:lnTo>
                      <a:pt x="32" y="5"/>
                    </a:lnTo>
                    <a:lnTo>
                      <a:pt x="38" y="0"/>
                    </a:lnTo>
                    <a:lnTo>
                      <a:pt x="3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3" name=""/>
              <p:cNvSpPr/>
              <p:nvPr/>
            </p:nvSpPr>
            <p:spPr>
              <a:xfrm flipH="1">
                <a:off x="5864040" y="4529880"/>
                <a:ext cx="27000" cy="33480"/>
              </a:xfrm>
              <a:custGeom>
                <a:avLst/>
                <a:gdLst/>
                <a:ahLst/>
                <a:rect l="l" t="t" r="r" b="b"/>
                <a:pathLst>
                  <a:path w="118" h="146">
                    <a:moveTo>
                      <a:pt x="4" y="0"/>
                    </a:moveTo>
                    <a:lnTo>
                      <a:pt x="8" y="5"/>
                    </a:lnTo>
                    <a:lnTo>
                      <a:pt x="11" y="11"/>
                    </a:lnTo>
                    <a:lnTo>
                      <a:pt x="15" y="19"/>
                    </a:lnTo>
                    <a:lnTo>
                      <a:pt x="19" y="24"/>
                    </a:lnTo>
                    <a:lnTo>
                      <a:pt x="25" y="30"/>
                    </a:lnTo>
                    <a:lnTo>
                      <a:pt x="30" y="36"/>
                    </a:lnTo>
                    <a:lnTo>
                      <a:pt x="36" y="41"/>
                    </a:lnTo>
                    <a:lnTo>
                      <a:pt x="42" y="47"/>
                    </a:lnTo>
                    <a:lnTo>
                      <a:pt x="47" y="53"/>
                    </a:lnTo>
                    <a:lnTo>
                      <a:pt x="53" y="58"/>
                    </a:lnTo>
                    <a:lnTo>
                      <a:pt x="59" y="64"/>
                    </a:lnTo>
                    <a:lnTo>
                      <a:pt x="65" y="70"/>
                    </a:lnTo>
                    <a:lnTo>
                      <a:pt x="68" y="76"/>
                    </a:lnTo>
                    <a:lnTo>
                      <a:pt x="74" y="83"/>
                    </a:lnTo>
                    <a:lnTo>
                      <a:pt x="80" y="89"/>
                    </a:lnTo>
                    <a:lnTo>
                      <a:pt x="85" y="96"/>
                    </a:lnTo>
                    <a:lnTo>
                      <a:pt x="91" y="100"/>
                    </a:lnTo>
                    <a:lnTo>
                      <a:pt x="95" y="108"/>
                    </a:lnTo>
                    <a:lnTo>
                      <a:pt x="99" y="114"/>
                    </a:lnTo>
                    <a:lnTo>
                      <a:pt x="104" y="119"/>
                    </a:lnTo>
                    <a:lnTo>
                      <a:pt x="106" y="125"/>
                    </a:lnTo>
                    <a:lnTo>
                      <a:pt x="110" y="133"/>
                    </a:lnTo>
                    <a:lnTo>
                      <a:pt x="114" y="138"/>
                    </a:lnTo>
                    <a:lnTo>
                      <a:pt x="118" y="146"/>
                    </a:lnTo>
                    <a:lnTo>
                      <a:pt x="110" y="144"/>
                    </a:lnTo>
                    <a:lnTo>
                      <a:pt x="104" y="144"/>
                    </a:lnTo>
                    <a:lnTo>
                      <a:pt x="97" y="144"/>
                    </a:lnTo>
                    <a:lnTo>
                      <a:pt x="91" y="142"/>
                    </a:lnTo>
                    <a:lnTo>
                      <a:pt x="85" y="140"/>
                    </a:lnTo>
                    <a:lnTo>
                      <a:pt x="78" y="138"/>
                    </a:lnTo>
                    <a:lnTo>
                      <a:pt x="72" y="136"/>
                    </a:lnTo>
                    <a:lnTo>
                      <a:pt x="68" y="136"/>
                    </a:lnTo>
                    <a:lnTo>
                      <a:pt x="63" y="133"/>
                    </a:lnTo>
                    <a:lnTo>
                      <a:pt x="57" y="131"/>
                    </a:lnTo>
                    <a:lnTo>
                      <a:pt x="51" y="127"/>
                    </a:lnTo>
                    <a:lnTo>
                      <a:pt x="47" y="125"/>
                    </a:lnTo>
                    <a:lnTo>
                      <a:pt x="40" y="117"/>
                    </a:lnTo>
                    <a:lnTo>
                      <a:pt x="32" y="112"/>
                    </a:lnTo>
                    <a:lnTo>
                      <a:pt x="27" y="106"/>
                    </a:lnTo>
                    <a:lnTo>
                      <a:pt x="21" y="98"/>
                    </a:lnTo>
                    <a:lnTo>
                      <a:pt x="17" y="93"/>
                    </a:lnTo>
                    <a:lnTo>
                      <a:pt x="13" y="89"/>
                    </a:lnTo>
                    <a:lnTo>
                      <a:pt x="9" y="81"/>
                    </a:lnTo>
                    <a:lnTo>
                      <a:pt x="8" y="76"/>
                    </a:lnTo>
                    <a:lnTo>
                      <a:pt x="4" y="68"/>
                    </a:lnTo>
                    <a:lnTo>
                      <a:pt x="4" y="62"/>
                    </a:lnTo>
                    <a:lnTo>
                      <a:pt x="0" y="53"/>
                    </a:lnTo>
                    <a:lnTo>
                      <a:pt x="0" y="45"/>
                    </a:lnTo>
                    <a:lnTo>
                      <a:pt x="0" y="38"/>
                    </a:lnTo>
                    <a:lnTo>
                      <a:pt x="0" y="32"/>
                    </a:lnTo>
                    <a:lnTo>
                      <a:pt x="0" y="24"/>
                    </a:lnTo>
                    <a:lnTo>
                      <a:pt x="0" y="15"/>
                    </a:lnTo>
                    <a:lnTo>
                      <a:pt x="2" y="7"/>
                    </a:lnTo>
                    <a:lnTo>
                      <a:pt x="4" y="0"/>
                    </a:lnTo>
                    <a:lnTo>
                      <a:pt x="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4" name=""/>
              <p:cNvSpPr/>
              <p:nvPr/>
            </p:nvSpPr>
            <p:spPr>
              <a:xfrm flipH="1">
                <a:off x="5978520" y="4534200"/>
                <a:ext cx="12240" cy="24120"/>
              </a:xfrm>
              <a:custGeom>
                <a:avLst/>
                <a:gdLst/>
                <a:ahLst/>
                <a:rect l="l" t="t" r="r" b="b"/>
                <a:pathLst>
                  <a:path w="56" h="106">
                    <a:moveTo>
                      <a:pt x="46" y="2"/>
                    </a:moveTo>
                    <a:lnTo>
                      <a:pt x="48" y="7"/>
                    </a:lnTo>
                    <a:lnTo>
                      <a:pt x="52" y="15"/>
                    </a:lnTo>
                    <a:lnTo>
                      <a:pt x="52" y="21"/>
                    </a:lnTo>
                    <a:lnTo>
                      <a:pt x="52" y="28"/>
                    </a:lnTo>
                    <a:lnTo>
                      <a:pt x="50" y="34"/>
                    </a:lnTo>
                    <a:lnTo>
                      <a:pt x="48" y="41"/>
                    </a:lnTo>
                    <a:lnTo>
                      <a:pt x="46" y="49"/>
                    </a:lnTo>
                    <a:lnTo>
                      <a:pt x="46" y="59"/>
                    </a:lnTo>
                    <a:lnTo>
                      <a:pt x="44" y="62"/>
                    </a:lnTo>
                    <a:lnTo>
                      <a:pt x="42" y="68"/>
                    </a:lnTo>
                    <a:lnTo>
                      <a:pt x="42" y="74"/>
                    </a:lnTo>
                    <a:lnTo>
                      <a:pt x="42" y="79"/>
                    </a:lnTo>
                    <a:lnTo>
                      <a:pt x="42" y="83"/>
                    </a:lnTo>
                    <a:lnTo>
                      <a:pt x="46" y="89"/>
                    </a:lnTo>
                    <a:lnTo>
                      <a:pt x="50" y="95"/>
                    </a:lnTo>
                    <a:lnTo>
                      <a:pt x="56" y="100"/>
                    </a:lnTo>
                    <a:lnTo>
                      <a:pt x="46" y="104"/>
                    </a:lnTo>
                    <a:lnTo>
                      <a:pt x="38" y="106"/>
                    </a:lnTo>
                    <a:lnTo>
                      <a:pt x="29" y="104"/>
                    </a:lnTo>
                    <a:lnTo>
                      <a:pt x="21" y="100"/>
                    </a:lnTo>
                    <a:lnTo>
                      <a:pt x="14" y="93"/>
                    </a:lnTo>
                    <a:lnTo>
                      <a:pt x="10" y="83"/>
                    </a:lnTo>
                    <a:lnTo>
                      <a:pt x="6" y="78"/>
                    </a:lnTo>
                    <a:lnTo>
                      <a:pt x="4" y="72"/>
                    </a:lnTo>
                    <a:lnTo>
                      <a:pt x="2" y="66"/>
                    </a:lnTo>
                    <a:lnTo>
                      <a:pt x="2" y="62"/>
                    </a:lnTo>
                    <a:lnTo>
                      <a:pt x="2" y="57"/>
                    </a:lnTo>
                    <a:lnTo>
                      <a:pt x="0" y="51"/>
                    </a:lnTo>
                    <a:lnTo>
                      <a:pt x="0" y="45"/>
                    </a:lnTo>
                    <a:lnTo>
                      <a:pt x="2" y="38"/>
                    </a:lnTo>
                    <a:lnTo>
                      <a:pt x="2" y="32"/>
                    </a:lnTo>
                    <a:lnTo>
                      <a:pt x="4" y="28"/>
                    </a:lnTo>
                    <a:lnTo>
                      <a:pt x="4" y="22"/>
                    </a:lnTo>
                    <a:lnTo>
                      <a:pt x="8" y="19"/>
                    </a:lnTo>
                    <a:lnTo>
                      <a:pt x="12" y="9"/>
                    </a:lnTo>
                    <a:lnTo>
                      <a:pt x="21" y="3"/>
                    </a:lnTo>
                    <a:lnTo>
                      <a:pt x="25" y="2"/>
                    </a:lnTo>
                    <a:lnTo>
                      <a:pt x="31" y="2"/>
                    </a:lnTo>
                    <a:lnTo>
                      <a:pt x="38" y="0"/>
                    </a:lnTo>
                    <a:lnTo>
                      <a:pt x="46" y="2"/>
                    </a:lnTo>
                    <a:lnTo>
                      <a:pt x="46" y="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5" name=""/>
              <p:cNvSpPr/>
              <p:nvPr/>
            </p:nvSpPr>
            <p:spPr>
              <a:xfrm flipH="1">
                <a:off x="5998320" y="4539240"/>
                <a:ext cx="83160" cy="108360"/>
              </a:xfrm>
              <a:custGeom>
                <a:avLst/>
                <a:gdLst/>
                <a:ahLst/>
                <a:rect l="l" t="t" r="r" b="b"/>
                <a:pathLst>
                  <a:path w="359" h="470">
                    <a:moveTo>
                      <a:pt x="350" y="0"/>
                    </a:moveTo>
                    <a:lnTo>
                      <a:pt x="357" y="27"/>
                    </a:lnTo>
                    <a:lnTo>
                      <a:pt x="359" y="50"/>
                    </a:lnTo>
                    <a:lnTo>
                      <a:pt x="355" y="73"/>
                    </a:lnTo>
                    <a:lnTo>
                      <a:pt x="348" y="94"/>
                    </a:lnTo>
                    <a:lnTo>
                      <a:pt x="334" y="113"/>
                    </a:lnTo>
                    <a:lnTo>
                      <a:pt x="317" y="132"/>
                    </a:lnTo>
                    <a:lnTo>
                      <a:pt x="298" y="149"/>
                    </a:lnTo>
                    <a:lnTo>
                      <a:pt x="276" y="168"/>
                    </a:lnTo>
                    <a:lnTo>
                      <a:pt x="253" y="185"/>
                    </a:lnTo>
                    <a:lnTo>
                      <a:pt x="226" y="202"/>
                    </a:lnTo>
                    <a:lnTo>
                      <a:pt x="201" y="221"/>
                    </a:lnTo>
                    <a:lnTo>
                      <a:pt x="179" y="240"/>
                    </a:lnTo>
                    <a:lnTo>
                      <a:pt x="156" y="261"/>
                    </a:lnTo>
                    <a:lnTo>
                      <a:pt x="135" y="282"/>
                    </a:lnTo>
                    <a:lnTo>
                      <a:pt x="118" y="305"/>
                    </a:lnTo>
                    <a:lnTo>
                      <a:pt x="104" y="331"/>
                    </a:lnTo>
                    <a:lnTo>
                      <a:pt x="95" y="339"/>
                    </a:lnTo>
                    <a:lnTo>
                      <a:pt x="85" y="346"/>
                    </a:lnTo>
                    <a:lnTo>
                      <a:pt x="78" y="354"/>
                    </a:lnTo>
                    <a:lnTo>
                      <a:pt x="70" y="362"/>
                    </a:lnTo>
                    <a:lnTo>
                      <a:pt x="61" y="369"/>
                    </a:lnTo>
                    <a:lnTo>
                      <a:pt x="53" y="377"/>
                    </a:lnTo>
                    <a:lnTo>
                      <a:pt x="44" y="384"/>
                    </a:lnTo>
                    <a:lnTo>
                      <a:pt x="38" y="394"/>
                    </a:lnTo>
                    <a:lnTo>
                      <a:pt x="30" y="401"/>
                    </a:lnTo>
                    <a:lnTo>
                      <a:pt x="25" y="409"/>
                    </a:lnTo>
                    <a:lnTo>
                      <a:pt x="17" y="419"/>
                    </a:lnTo>
                    <a:lnTo>
                      <a:pt x="13" y="428"/>
                    </a:lnTo>
                    <a:lnTo>
                      <a:pt x="8" y="438"/>
                    </a:lnTo>
                    <a:lnTo>
                      <a:pt x="6" y="447"/>
                    </a:lnTo>
                    <a:lnTo>
                      <a:pt x="2" y="459"/>
                    </a:lnTo>
                    <a:lnTo>
                      <a:pt x="2" y="470"/>
                    </a:lnTo>
                    <a:lnTo>
                      <a:pt x="0" y="432"/>
                    </a:lnTo>
                    <a:lnTo>
                      <a:pt x="6" y="396"/>
                    </a:lnTo>
                    <a:lnTo>
                      <a:pt x="13" y="362"/>
                    </a:lnTo>
                    <a:lnTo>
                      <a:pt x="27" y="327"/>
                    </a:lnTo>
                    <a:lnTo>
                      <a:pt x="44" y="295"/>
                    </a:lnTo>
                    <a:lnTo>
                      <a:pt x="65" y="263"/>
                    </a:lnTo>
                    <a:lnTo>
                      <a:pt x="85" y="232"/>
                    </a:lnTo>
                    <a:lnTo>
                      <a:pt x="112" y="204"/>
                    </a:lnTo>
                    <a:lnTo>
                      <a:pt x="139" y="175"/>
                    </a:lnTo>
                    <a:lnTo>
                      <a:pt x="167" y="147"/>
                    </a:lnTo>
                    <a:lnTo>
                      <a:pt x="198" y="120"/>
                    </a:lnTo>
                    <a:lnTo>
                      <a:pt x="228" y="95"/>
                    </a:lnTo>
                    <a:lnTo>
                      <a:pt x="258" y="69"/>
                    </a:lnTo>
                    <a:lnTo>
                      <a:pt x="289" y="46"/>
                    </a:lnTo>
                    <a:lnTo>
                      <a:pt x="319" y="23"/>
                    </a:lnTo>
                    <a:lnTo>
                      <a:pt x="350" y="0"/>
                    </a:lnTo>
                    <a:lnTo>
                      <a:pt x="3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a:off x="6085800" y="4541040"/>
                <a:ext cx="10440" cy="36000"/>
              </a:xfrm>
              <a:custGeom>
                <a:avLst/>
                <a:gdLst/>
                <a:ahLst/>
                <a:rect l="l" t="t" r="r" b="b"/>
                <a:pathLst>
                  <a:path w="48" h="156">
                    <a:moveTo>
                      <a:pt x="34" y="0"/>
                    </a:moveTo>
                    <a:lnTo>
                      <a:pt x="38" y="6"/>
                    </a:lnTo>
                    <a:lnTo>
                      <a:pt x="42" y="15"/>
                    </a:lnTo>
                    <a:lnTo>
                      <a:pt x="42" y="19"/>
                    </a:lnTo>
                    <a:lnTo>
                      <a:pt x="44" y="25"/>
                    </a:lnTo>
                    <a:lnTo>
                      <a:pt x="46" y="30"/>
                    </a:lnTo>
                    <a:lnTo>
                      <a:pt x="48" y="36"/>
                    </a:lnTo>
                    <a:lnTo>
                      <a:pt x="48" y="42"/>
                    </a:lnTo>
                    <a:lnTo>
                      <a:pt x="48" y="48"/>
                    </a:lnTo>
                    <a:lnTo>
                      <a:pt x="48" y="53"/>
                    </a:lnTo>
                    <a:lnTo>
                      <a:pt x="48" y="61"/>
                    </a:lnTo>
                    <a:lnTo>
                      <a:pt x="46" y="67"/>
                    </a:lnTo>
                    <a:lnTo>
                      <a:pt x="46" y="74"/>
                    </a:lnTo>
                    <a:lnTo>
                      <a:pt x="46" y="80"/>
                    </a:lnTo>
                    <a:lnTo>
                      <a:pt x="44" y="87"/>
                    </a:lnTo>
                    <a:lnTo>
                      <a:pt x="40" y="97"/>
                    </a:lnTo>
                    <a:lnTo>
                      <a:pt x="38" y="106"/>
                    </a:lnTo>
                    <a:lnTo>
                      <a:pt x="33" y="116"/>
                    </a:lnTo>
                    <a:lnTo>
                      <a:pt x="29" y="125"/>
                    </a:lnTo>
                    <a:lnTo>
                      <a:pt x="23" y="133"/>
                    </a:lnTo>
                    <a:lnTo>
                      <a:pt x="17" y="141"/>
                    </a:lnTo>
                    <a:lnTo>
                      <a:pt x="12" y="148"/>
                    </a:lnTo>
                    <a:lnTo>
                      <a:pt x="6" y="156"/>
                    </a:lnTo>
                    <a:lnTo>
                      <a:pt x="4" y="146"/>
                    </a:lnTo>
                    <a:lnTo>
                      <a:pt x="4" y="139"/>
                    </a:lnTo>
                    <a:lnTo>
                      <a:pt x="4" y="131"/>
                    </a:lnTo>
                    <a:lnTo>
                      <a:pt x="4" y="124"/>
                    </a:lnTo>
                    <a:lnTo>
                      <a:pt x="4" y="114"/>
                    </a:lnTo>
                    <a:lnTo>
                      <a:pt x="4" y="105"/>
                    </a:lnTo>
                    <a:lnTo>
                      <a:pt x="2" y="97"/>
                    </a:lnTo>
                    <a:lnTo>
                      <a:pt x="2" y="87"/>
                    </a:lnTo>
                    <a:lnTo>
                      <a:pt x="0" y="82"/>
                    </a:lnTo>
                    <a:lnTo>
                      <a:pt x="0" y="76"/>
                    </a:lnTo>
                    <a:lnTo>
                      <a:pt x="0" y="68"/>
                    </a:lnTo>
                    <a:lnTo>
                      <a:pt x="0" y="63"/>
                    </a:lnTo>
                    <a:lnTo>
                      <a:pt x="0" y="57"/>
                    </a:lnTo>
                    <a:lnTo>
                      <a:pt x="0" y="51"/>
                    </a:lnTo>
                    <a:lnTo>
                      <a:pt x="0" y="46"/>
                    </a:lnTo>
                    <a:lnTo>
                      <a:pt x="2" y="40"/>
                    </a:lnTo>
                    <a:lnTo>
                      <a:pt x="4" y="34"/>
                    </a:lnTo>
                    <a:lnTo>
                      <a:pt x="6" y="29"/>
                    </a:lnTo>
                    <a:lnTo>
                      <a:pt x="10" y="23"/>
                    </a:lnTo>
                    <a:lnTo>
                      <a:pt x="14" y="17"/>
                    </a:lnTo>
                    <a:lnTo>
                      <a:pt x="15" y="11"/>
                    </a:lnTo>
                    <a:lnTo>
                      <a:pt x="23" y="8"/>
                    </a:lnTo>
                    <a:lnTo>
                      <a:pt x="27" y="2"/>
                    </a:lnTo>
                    <a:lnTo>
                      <a:pt x="34" y="0"/>
                    </a:lnTo>
                    <a:lnTo>
                      <a:pt x="34"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7" name=""/>
              <p:cNvSpPr/>
              <p:nvPr/>
            </p:nvSpPr>
            <p:spPr>
              <a:xfrm flipH="1">
                <a:off x="6086880" y="4585680"/>
                <a:ext cx="9000" cy="19800"/>
              </a:xfrm>
              <a:custGeom>
                <a:avLst/>
                <a:gdLst/>
                <a:ahLst/>
                <a:rect l="l" t="t" r="r" b="b"/>
                <a:pathLst>
                  <a:path w="40" h="85">
                    <a:moveTo>
                      <a:pt x="32" y="0"/>
                    </a:moveTo>
                    <a:lnTo>
                      <a:pt x="38" y="4"/>
                    </a:lnTo>
                    <a:lnTo>
                      <a:pt x="40" y="9"/>
                    </a:lnTo>
                    <a:lnTo>
                      <a:pt x="40" y="13"/>
                    </a:lnTo>
                    <a:lnTo>
                      <a:pt x="40" y="21"/>
                    </a:lnTo>
                    <a:lnTo>
                      <a:pt x="36" y="27"/>
                    </a:lnTo>
                    <a:lnTo>
                      <a:pt x="32" y="34"/>
                    </a:lnTo>
                    <a:lnTo>
                      <a:pt x="29" y="42"/>
                    </a:lnTo>
                    <a:lnTo>
                      <a:pt x="25" y="51"/>
                    </a:lnTo>
                    <a:lnTo>
                      <a:pt x="17" y="61"/>
                    </a:lnTo>
                    <a:lnTo>
                      <a:pt x="10" y="70"/>
                    </a:lnTo>
                    <a:lnTo>
                      <a:pt x="4" y="78"/>
                    </a:lnTo>
                    <a:lnTo>
                      <a:pt x="4" y="85"/>
                    </a:lnTo>
                    <a:lnTo>
                      <a:pt x="0" y="80"/>
                    </a:lnTo>
                    <a:lnTo>
                      <a:pt x="0" y="74"/>
                    </a:lnTo>
                    <a:lnTo>
                      <a:pt x="0" y="68"/>
                    </a:lnTo>
                    <a:lnTo>
                      <a:pt x="0" y="63"/>
                    </a:lnTo>
                    <a:lnTo>
                      <a:pt x="0" y="57"/>
                    </a:lnTo>
                    <a:lnTo>
                      <a:pt x="2" y="51"/>
                    </a:lnTo>
                    <a:lnTo>
                      <a:pt x="6" y="44"/>
                    </a:lnTo>
                    <a:lnTo>
                      <a:pt x="8" y="38"/>
                    </a:lnTo>
                    <a:lnTo>
                      <a:pt x="10" y="32"/>
                    </a:lnTo>
                    <a:lnTo>
                      <a:pt x="13" y="27"/>
                    </a:lnTo>
                    <a:lnTo>
                      <a:pt x="17" y="23"/>
                    </a:lnTo>
                    <a:lnTo>
                      <a:pt x="21" y="19"/>
                    </a:lnTo>
                    <a:lnTo>
                      <a:pt x="27" y="9"/>
                    </a:lnTo>
                    <a:lnTo>
                      <a:pt x="32" y="0"/>
                    </a:lnTo>
                    <a:lnTo>
                      <a:pt x="32"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flipH="1">
                <a:off x="5842080" y="4614840"/>
                <a:ext cx="215640" cy="232560"/>
              </a:xfrm>
              <a:custGeom>
                <a:avLst/>
                <a:gdLst/>
                <a:ahLst/>
                <a:rect l="l" t="t" r="r" b="b"/>
                <a:pathLst>
                  <a:path w="933" h="1010">
                    <a:moveTo>
                      <a:pt x="560" y="0"/>
                    </a:moveTo>
                    <a:lnTo>
                      <a:pt x="568" y="12"/>
                    </a:lnTo>
                    <a:lnTo>
                      <a:pt x="572" y="21"/>
                    </a:lnTo>
                    <a:lnTo>
                      <a:pt x="576" y="31"/>
                    </a:lnTo>
                    <a:lnTo>
                      <a:pt x="576" y="40"/>
                    </a:lnTo>
                    <a:lnTo>
                      <a:pt x="574" y="50"/>
                    </a:lnTo>
                    <a:lnTo>
                      <a:pt x="570" y="59"/>
                    </a:lnTo>
                    <a:lnTo>
                      <a:pt x="566" y="67"/>
                    </a:lnTo>
                    <a:lnTo>
                      <a:pt x="560" y="76"/>
                    </a:lnTo>
                    <a:lnTo>
                      <a:pt x="553" y="86"/>
                    </a:lnTo>
                    <a:lnTo>
                      <a:pt x="547" y="94"/>
                    </a:lnTo>
                    <a:lnTo>
                      <a:pt x="539" y="103"/>
                    </a:lnTo>
                    <a:lnTo>
                      <a:pt x="534" y="113"/>
                    </a:lnTo>
                    <a:lnTo>
                      <a:pt x="526" y="120"/>
                    </a:lnTo>
                    <a:lnTo>
                      <a:pt x="522" y="132"/>
                    </a:lnTo>
                    <a:lnTo>
                      <a:pt x="519" y="141"/>
                    </a:lnTo>
                    <a:lnTo>
                      <a:pt x="517" y="154"/>
                    </a:lnTo>
                    <a:lnTo>
                      <a:pt x="532" y="152"/>
                    </a:lnTo>
                    <a:lnTo>
                      <a:pt x="547" y="149"/>
                    </a:lnTo>
                    <a:lnTo>
                      <a:pt x="562" y="145"/>
                    </a:lnTo>
                    <a:lnTo>
                      <a:pt x="576" y="139"/>
                    </a:lnTo>
                    <a:lnTo>
                      <a:pt x="587" y="132"/>
                    </a:lnTo>
                    <a:lnTo>
                      <a:pt x="598" y="124"/>
                    </a:lnTo>
                    <a:lnTo>
                      <a:pt x="610" y="113"/>
                    </a:lnTo>
                    <a:lnTo>
                      <a:pt x="621" y="103"/>
                    </a:lnTo>
                    <a:lnTo>
                      <a:pt x="631" y="90"/>
                    </a:lnTo>
                    <a:lnTo>
                      <a:pt x="640" y="78"/>
                    </a:lnTo>
                    <a:lnTo>
                      <a:pt x="650" y="67"/>
                    </a:lnTo>
                    <a:lnTo>
                      <a:pt x="659" y="55"/>
                    </a:lnTo>
                    <a:lnTo>
                      <a:pt x="669" y="42"/>
                    </a:lnTo>
                    <a:lnTo>
                      <a:pt x="678" y="29"/>
                    </a:lnTo>
                    <a:lnTo>
                      <a:pt x="690" y="17"/>
                    </a:lnTo>
                    <a:lnTo>
                      <a:pt x="701" y="8"/>
                    </a:lnTo>
                    <a:lnTo>
                      <a:pt x="709" y="17"/>
                    </a:lnTo>
                    <a:lnTo>
                      <a:pt x="714" y="25"/>
                    </a:lnTo>
                    <a:lnTo>
                      <a:pt x="718" y="35"/>
                    </a:lnTo>
                    <a:lnTo>
                      <a:pt x="722" y="44"/>
                    </a:lnTo>
                    <a:lnTo>
                      <a:pt x="720" y="54"/>
                    </a:lnTo>
                    <a:lnTo>
                      <a:pt x="720" y="63"/>
                    </a:lnTo>
                    <a:lnTo>
                      <a:pt x="716" y="73"/>
                    </a:lnTo>
                    <a:lnTo>
                      <a:pt x="714" y="82"/>
                    </a:lnTo>
                    <a:lnTo>
                      <a:pt x="707" y="90"/>
                    </a:lnTo>
                    <a:lnTo>
                      <a:pt x="701" y="97"/>
                    </a:lnTo>
                    <a:lnTo>
                      <a:pt x="695" y="107"/>
                    </a:lnTo>
                    <a:lnTo>
                      <a:pt x="688" y="116"/>
                    </a:lnTo>
                    <a:lnTo>
                      <a:pt x="680" y="124"/>
                    </a:lnTo>
                    <a:lnTo>
                      <a:pt x="674" y="132"/>
                    </a:lnTo>
                    <a:lnTo>
                      <a:pt x="669" y="139"/>
                    </a:lnTo>
                    <a:lnTo>
                      <a:pt x="663" y="147"/>
                    </a:lnTo>
                    <a:lnTo>
                      <a:pt x="674" y="149"/>
                    </a:lnTo>
                    <a:lnTo>
                      <a:pt x="688" y="149"/>
                    </a:lnTo>
                    <a:lnTo>
                      <a:pt x="701" y="147"/>
                    </a:lnTo>
                    <a:lnTo>
                      <a:pt x="716" y="145"/>
                    </a:lnTo>
                    <a:lnTo>
                      <a:pt x="728" y="139"/>
                    </a:lnTo>
                    <a:lnTo>
                      <a:pt x="741" y="132"/>
                    </a:lnTo>
                    <a:lnTo>
                      <a:pt x="754" y="124"/>
                    </a:lnTo>
                    <a:lnTo>
                      <a:pt x="768" y="116"/>
                    </a:lnTo>
                    <a:lnTo>
                      <a:pt x="777" y="105"/>
                    </a:lnTo>
                    <a:lnTo>
                      <a:pt x="788" y="94"/>
                    </a:lnTo>
                    <a:lnTo>
                      <a:pt x="796" y="82"/>
                    </a:lnTo>
                    <a:lnTo>
                      <a:pt x="807" y="71"/>
                    </a:lnTo>
                    <a:lnTo>
                      <a:pt x="813" y="57"/>
                    </a:lnTo>
                    <a:lnTo>
                      <a:pt x="821" y="44"/>
                    </a:lnTo>
                    <a:lnTo>
                      <a:pt x="825" y="31"/>
                    </a:lnTo>
                    <a:lnTo>
                      <a:pt x="828" y="19"/>
                    </a:lnTo>
                    <a:lnTo>
                      <a:pt x="838" y="23"/>
                    </a:lnTo>
                    <a:lnTo>
                      <a:pt x="845" y="29"/>
                    </a:lnTo>
                    <a:lnTo>
                      <a:pt x="851" y="35"/>
                    </a:lnTo>
                    <a:lnTo>
                      <a:pt x="855" y="42"/>
                    </a:lnTo>
                    <a:lnTo>
                      <a:pt x="855" y="48"/>
                    </a:lnTo>
                    <a:lnTo>
                      <a:pt x="853" y="57"/>
                    </a:lnTo>
                    <a:lnTo>
                      <a:pt x="851" y="67"/>
                    </a:lnTo>
                    <a:lnTo>
                      <a:pt x="847" y="76"/>
                    </a:lnTo>
                    <a:lnTo>
                      <a:pt x="842" y="86"/>
                    </a:lnTo>
                    <a:lnTo>
                      <a:pt x="836" y="95"/>
                    </a:lnTo>
                    <a:lnTo>
                      <a:pt x="830" y="105"/>
                    </a:lnTo>
                    <a:lnTo>
                      <a:pt x="825" y="114"/>
                    </a:lnTo>
                    <a:lnTo>
                      <a:pt x="819" y="122"/>
                    </a:lnTo>
                    <a:lnTo>
                      <a:pt x="813" y="132"/>
                    </a:lnTo>
                    <a:lnTo>
                      <a:pt x="807" y="139"/>
                    </a:lnTo>
                    <a:lnTo>
                      <a:pt x="806" y="147"/>
                    </a:lnTo>
                    <a:lnTo>
                      <a:pt x="815" y="154"/>
                    </a:lnTo>
                    <a:lnTo>
                      <a:pt x="825" y="158"/>
                    </a:lnTo>
                    <a:lnTo>
                      <a:pt x="834" y="162"/>
                    </a:lnTo>
                    <a:lnTo>
                      <a:pt x="845" y="162"/>
                    </a:lnTo>
                    <a:lnTo>
                      <a:pt x="855" y="160"/>
                    </a:lnTo>
                    <a:lnTo>
                      <a:pt x="865" y="156"/>
                    </a:lnTo>
                    <a:lnTo>
                      <a:pt x="872" y="151"/>
                    </a:lnTo>
                    <a:lnTo>
                      <a:pt x="882" y="145"/>
                    </a:lnTo>
                    <a:lnTo>
                      <a:pt x="887" y="135"/>
                    </a:lnTo>
                    <a:lnTo>
                      <a:pt x="895" y="128"/>
                    </a:lnTo>
                    <a:lnTo>
                      <a:pt x="903" y="118"/>
                    </a:lnTo>
                    <a:lnTo>
                      <a:pt x="908" y="109"/>
                    </a:lnTo>
                    <a:lnTo>
                      <a:pt x="914" y="97"/>
                    </a:lnTo>
                    <a:lnTo>
                      <a:pt x="920" y="86"/>
                    </a:lnTo>
                    <a:lnTo>
                      <a:pt x="923" y="74"/>
                    </a:lnTo>
                    <a:lnTo>
                      <a:pt x="929" y="65"/>
                    </a:lnTo>
                    <a:lnTo>
                      <a:pt x="933" y="90"/>
                    </a:lnTo>
                    <a:lnTo>
                      <a:pt x="931" y="114"/>
                    </a:lnTo>
                    <a:lnTo>
                      <a:pt x="925" y="137"/>
                    </a:lnTo>
                    <a:lnTo>
                      <a:pt x="918" y="162"/>
                    </a:lnTo>
                    <a:lnTo>
                      <a:pt x="904" y="183"/>
                    </a:lnTo>
                    <a:lnTo>
                      <a:pt x="889" y="206"/>
                    </a:lnTo>
                    <a:lnTo>
                      <a:pt x="870" y="227"/>
                    </a:lnTo>
                    <a:lnTo>
                      <a:pt x="851" y="247"/>
                    </a:lnTo>
                    <a:lnTo>
                      <a:pt x="828" y="265"/>
                    </a:lnTo>
                    <a:lnTo>
                      <a:pt x="806" y="284"/>
                    </a:lnTo>
                    <a:lnTo>
                      <a:pt x="781" y="299"/>
                    </a:lnTo>
                    <a:lnTo>
                      <a:pt x="758" y="314"/>
                    </a:lnTo>
                    <a:lnTo>
                      <a:pt x="731" y="327"/>
                    </a:lnTo>
                    <a:lnTo>
                      <a:pt x="709" y="339"/>
                    </a:lnTo>
                    <a:lnTo>
                      <a:pt x="686" y="348"/>
                    </a:lnTo>
                    <a:lnTo>
                      <a:pt x="667" y="356"/>
                    </a:lnTo>
                    <a:lnTo>
                      <a:pt x="631" y="350"/>
                    </a:lnTo>
                    <a:lnTo>
                      <a:pt x="596" y="348"/>
                    </a:lnTo>
                    <a:lnTo>
                      <a:pt x="562" y="350"/>
                    </a:lnTo>
                    <a:lnTo>
                      <a:pt x="530" y="356"/>
                    </a:lnTo>
                    <a:lnTo>
                      <a:pt x="498" y="365"/>
                    </a:lnTo>
                    <a:lnTo>
                      <a:pt x="467" y="381"/>
                    </a:lnTo>
                    <a:lnTo>
                      <a:pt x="439" y="398"/>
                    </a:lnTo>
                    <a:lnTo>
                      <a:pt x="412" y="419"/>
                    </a:lnTo>
                    <a:lnTo>
                      <a:pt x="387" y="439"/>
                    </a:lnTo>
                    <a:lnTo>
                      <a:pt x="366" y="464"/>
                    </a:lnTo>
                    <a:lnTo>
                      <a:pt x="347" y="491"/>
                    </a:lnTo>
                    <a:lnTo>
                      <a:pt x="334" y="519"/>
                    </a:lnTo>
                    <a:lnTo>
                      <a:pt x="321" y="550"/>
                    </a:lnTo>
                    <a:lnTo>
                      <a:pt x="313" y="582"/>
                    </a:lnTo>
                    <a:lnTo>
                      <a:pt x="309" y="614"/>
                    </a:lnTo>
                    <a:lnTo>
                      <a:pt x="309" y="649"/>
                    </a:lnTo>
                    <a:lnTo>
                      <a:pt x="332" y="669"/>
                    </a:lnTo>
                    <a:lnTo>
                      <a:pt x="357" y="690"/>
                    </a:lnTo>
                    <a:lnTo>
                      <a:pt x="385" y="706"/>
                    </a:lnTo>
                    <a:lnTo>
                      <a:pt x="414" y="719"/>
                    </a:lnTo>
                    <a:lnTo>
                      <a:pt x="444" y="728"/>
                    </a:lnTo>
                    <a:lnTo>
                      <a:pt x="477" y="736"/>
                    </a:lnTo>
                    <a:lnTo>
                      <a:pt x="509" y="740"/>
                    </a:lnTo>
                    <a:lnTo>
                      <a:pt x="545" y="744"/>
                    </a:lnTo>
                    <a:lnTo>
                      <a:pt x="579" y="744"/>
                    </a:lnTo>
                    <a:lnTo>
                      <a:pt x="614" y="744"/>
                    </a:lnTo>
                    <a:lnTo>
                      <a:pt x="648" y="742"/>
                    </a:lnTo>
                    <a:lnTo>
                      <a:pt x="684" y="740"/>
                    </a:lnTo>
                    <a:lnTo>
                      <a:pt x="718" y="736"/>
                    </a:lnTo>
                    <a:lnTo>
                      <a:pt x="752" y="734"/>
                    </a:lnTo>
                    <a:lnTo>
                      <a:pt x="785" y="728"/>
                    </a:lnTo>
                    <a:lnTo>
                      <a:pt x="819" y="726"/>
                    </a:lnTo>
                    <a:lnTo>
                      <a:pt x="823" y="723"/>
                    </a:lnTo>
                    <a:lnTo>
                      <a:pt x="830" y="721"/>
                    </a:lnTo>
                    <a:lnTo>
                      <a:pt x="836" y="721"/>
                    </a:lnTo>
                    <a:lnTo>
                      <a:pt x="844" y="721"/>
                    </a:lnTo>
                    <a:lnTo>
                      <a:pt x="851" y="719"/>
                    </a:lnTo>
                    <a:lnTo>
                      <a:pt x="859" y="717"/>
                    </a:lnTo>
                    <a:lnTo>
                      <a:pt x="863" y="715"/>
                    </a:lnTo>
                    <a:lnTo>
                      <a:pt x="868" y="711"/>
                    </a:lnTo>
                    <a:lnTo>
                      <a:pt x="870" y="717"/>
                    </a:lnTo>
                    <a:lnTo>
                      <a:pt x="872" y="723"/>
                    </a:lnTo>
                    <a:lnTo>
                      <a:pt x="872" y="728"/>
                    </a:lnTo>
                    <a:lnTo>
                      <a:pt x="872" y="734"/>
                    </a:lnTo>
                    <a:lnTo>
                      <a:pt x="870" y="740"/>
                    </a:lnTo>
                    <a:lnTo>
                      <a:pt x="870" y="745"/>
                    </a:lnTo>
                    <a:lnTo>
                      <a:pt x="870" y="749"/>
                    </a:lnTo>
                    <a:lnTo>
                      <a:pt x="872" y="755"/>
                    </a:lnTo>
                    <a:lnTo>
                      <a:pt x="865" y="755"/>
                    </a:lnTo>
                    <a:lnTo>
                      <a:pt x="859" y="755"/>
                    </a:lnTo>
                    <a:lnTo>
                      <a:pt x="855" y="751"/>
                    </a:lnTo>
                    <a:lnTo>
                      <a:pt x="851" y="747"/>
                    </a:lnTo>
                    <a:lnTo>
                      <a:pt x="845" y="757"/>
                    </a:lnTo>
                    <a:lnTo>
                      <a:pt x="847" y="765"/>
                    </a:lnTo>
                    <a:lnTo>
                      <a:pt x="828" y="768"/>
                    </a:lnTo>
                    <a:lnTo>
                      <a:pt x="809" y="772"/>
                    </a:lnTo>
                    <a:lnTo>
                      <a:pt x="788" y="776"/>
                    </a:lnTo>
                    <a:lnTo>
                      <a:pt x="769" y="778"/>
                    </a:lnTo>
                    <a:lnTo>
                      <a:pt x="749" y="780"/>
                    </a:lnTo>
                    <a:lnTo>
                      <a:pt x="730" y="780"/>
                    </a:lnTo>
                    <a:lnTo>
                      <a:pt x="709" y="780"/>
                    </a:lnTo>
                    <a:lnTo>
                      <a:pt x="690" y="782"/>
                    </a:lnTo>
                    <a:lnTo>
                      <a:pt x="669" y="780"/>
                    </a:lnTo>
                    <a:lnTo>
                      <a:pt x="648" y="780"/>
                    </a:lnTo>
                    <a:lnTo>
                      <a:pt x="629" y="780"/>
                    </a:lnTo>
                    <a:lnTo>
                      <a:pt x="608" y="780"/>
                    </a:lnTo>
                    <a:lnTo>
                      <a:pt x="587" y="780"/>
                    </a:lnTo>
                    <a:lnTo>
                      <a:pt x="568" y="780"/>
                    </a:lnTo>
                    <a:lnTo>
                      <a:pt x="547" y="782"/>
                    </a:lnTo>
                    <a:lnTo>
                      <a:pt x="528" y="784"/>
                    </a:lnTo>
                    <a:lnTo>
                      <a:pt x="536" y="801"/>
                    </a:lnTo>
                    <a:lnTo>
                      <a:pt x="547" y="816"/>
                    </a:lnTo>
                    <a:lnTo>
                      <a:pt x="562" y="827"/>
                    </a:lnTo>
                    <a:lnTo>
                      <a:pt x="579" y="835"/>
                    </a:lnTo>
                    <a:lnTo>
                      <a:pt x="596" y="841"/>
                    </a:lnTo>
                    <a:lnTo>
                      <a:pt x="619" y="844"/>
                    </a:lnTo>
                    <a:lnTo>
                      <a:pt x="640" y="846"/>
                    </a:lnTo>
                    <a:lnTo>
                      <a:pt x="665" y="848"/>
                    </a:lnTo>
                    <a:lnTo>
                      <a:pt x="688" y="848"/>
                    </a:lnTo>
                    <a:lnTo>
                      <a:pt x="714" y="848"/>
                    </a:lnTo>
                    <a:lnTo>
                      <a:pt x="737" y="848"/>
                    </a:lnTo>
                    <a:lnTo>
                      <a:pt x="762" y="850"/>
                    </a:lnTo>
                    <a:lnTo>
                      <a:pt x="785" y="850"/>
                    </a:lnTo>
                    <a:lnTo>
                      <a:pt x="807" y="854"/>
                    </a:lnTo>
                    <a:lnTo>
                      <a:pt x="828" y="860"/>
                    </a:lnTo>
                    <a:lnTo>
                      <a:pt x="847" y="869"/>
                    </a:lnTo>
                    <a:lnTo>
                      <a:pt x="825" y="877"/>
                    </a:lnTo>
                    <a:lnTo>
                      <a:pt x="804" y="882"/>
                    </a:lnTo>
                    <a:lnTo>
                      <a:pt x="781" y="886"/>
                    </a:lnTo>
                    <a:lnTo>
                      <a:pt x="760" y="890"/>
                    </a:lnTo>
                    <a:lnTo>
                      <a:pt x="735" y="890"/>
                    </a:lnTo>
                    <a:lnTo>
                      <a:pt x="714" y="892"/>
                    </a:lnTo>
                    <a:lnTo>
                      <a:pt x="692" y="892"/>
                    </a:lnTo>
                    <a:lnTo>
                      <a:pt x="671" y="892"/>
                    </a:lnTo>
                    <a:lnTo>
                      <a:pt x="648" y="892"/>
                    </a:lnTo>
                    <a:lnTo>
                      <a:pt x="625" y="890"/>
                    </a:lnTo>
                    <a:lnTo>
                      <a:pt x="602" y="890"/>
                    </a:lnTo>
                    <a:lnTo>
                      <a:pt x="581" y="890"/>
                    </a:lnTo>
                    <a:lnTo>
                      <a:pt x="558" y="890"/>
                    </a:lnTo>
                    <a:lnTo>
                      <a:pt x="536" y="890"/>
                    </a:lnTo>
                    <a:lnTo>
                      <a:pt x="515" y="890"/>
                    </a:lnTo>
                    <a:lnTo>
                      <a:pt x="492" y="894"/>
                    </a:lnTo>
                    <a:lnTo>
                      <a:pt x="507" y="903"/>
                    </a:lnTo>
                    <a:lnTo>
                      <a:pt x="526" y="911"/>
                    </a:lnTo>
                    <a:lnTo>
                      <a:pt x="545" y="918"/>
                    </a:lnTo>
                    <a:lnTo>
                      <a:pt x="568" y="926"/>
                    </a:lnTo>
                    <a:lnTo>
                      <a:pt x="589" y="930"/>
                    </a:lnTo>
                    <a:lnTo>
                      <a:pt x="614" y="934"/>
                    </a:lnTo>
                    <a:lnTo>
                      <a:pt x="636" y="936"/>
                    </a:lnTo>
                    <a:lnTo>
                      <a:pt x="663" y="939"/>
                    </a:lnTo>
                    <a:lnTo>
                      <a:pt x="686" y="943"/>
                    </a:lnTo>
                    <a:lnTo>
                      <a:pt x="711" y="945"/>
                    </a:lnTo>
                    <a:lnTo>
                      <a:pt x="733" y="949"/>
                    </a:lnTo>
                    <a:lnTo>
                      <a:pt x="758" y="955"/>
                    </a:lnTo>
                    <a:lnTo>
                      <a:pt x="781" y="960"/>
                    </a:lnTo>
                    <a:lnTo>
                      <a:pt x="802" y="968"/>
                    </a:lnTo>
                    <a:lnTo>
                      <a:pt x="821" y="977"/>
                    </a:lnTo>
                    <a:lnTo>
                      <a:pt x="840" y="989"/>
                    </a:lnTo>
                    <a:lnTo>
                      <a:pt x="819" y="989"/>
                    </a:lnTo>
                    <a:lnTo>
                      <a:pt x="800" y="989"/>
                    </a:lnTo>
                    <a:lnTo>
                      <a:pt x="781" y="989"/>
                    </a:lnTo>
                    <a:lnTo>
                      <a:pt x="764" y="989"/>
                    </a:lnTo>
                    <a:lnTo>
                      <a:pt x="745" y="987"/>
                    </a:lnTo>
                    <a:lnTo>
                      <a:pt x="728" y="987"/>
                    </a:lnTo>
                    <a:lnTo>
                      <a:pt x="711" y="985"/>
                    </a:lnTo>
                    <a:lnTo>
                      <a:pt x="693" y="985"/>
                    </a:lnTo>
                    <a:lnTo>
                      <a:pt x="676" y="981"/>
                    </a:lnTo>
                    <a:lnTo>
                      <a:pt x="659" y="979"/>
                    </a:lnTo>
                    <a:lnTo>
                      <a:pt x="644" y="977"/>
                    </a:lnTo>
                    <a:lnTo>
                      <a:pt x="629" y="974"/>
                    </a:lnTo>
                    <a:lnTo>
                      <a:pt x="612" y="970"/>
                    </a:lnTo>
                    <a:lnTo>
                      <a:pt x="595" y="966"/>
                    </a:lnTo>
                    <a:lnTo>
                      <a:pt x="579" y="960"/>
                    </a:lnTo>
                    <a:lnTo>
                      <a:pt x="564" y="955"/>
                    </a:lnTo>
                    <a:lnTo>
                      <a:pt x="564" y="960"/>
                    </a:lnTo>
                    <a:lnTo>
                      <a:pt x="566" y="966"/>
                    </a:lnTo>
                    <a:lnTo>
                      <a:pt x="549" y="972"/>
                    </a:lnTo>
                    <a:lnTo>
                      <a:pt x="534" y="977"/>
                    </a:lnTo>
                    <a:lnTo>
                      <a:pt x="519" y="981"/>
                    </a:lnTo>
                    <a:lnTo>
                      <a:pt x="503" y="987"/>
                    </a:lnTo>
                    <a:lnTo>
                      <a:pt x="486" y="991"/>
                    </a:lnTo>
                    <a:lnTo>
                      <a:pt x="471" y="996"/>
                    </a:lnTo>
                    <a:lnTo>
                      <a:pt x="456" y="1000"/>
                    </a:lnTo>
                    <a:lnTo>
                      <a:pt x="441" y="1004"/>
                    </a:lnTo>
                    <a:lnTo>
                      <a:pt x="423" y="1006"/>
                    </a:lnTo>
                    <a:lnTo>
                      <a:pt x="406" y="1008"/>
                    </a:lnTo>
                    <a:lnTo>
                      <a:pt x="391" y="1010"/>
                    </a:lnTo>
                    <a:lnTo>
                      <a:pt x="374" y="1010"/>
                    </a:lnTo>
                    <a:lnTo>
                      <a:pt x="355" y="1010"/>
                    </a:lnTo>
                    <a:lnTo>
                      <a:pt x="338" y="1008"/>
                    </a:lnTo>
                    <a:lnTo>
                      <a:pt x="321" y="1006"/>
                    </a:lnTo>
                    <a:lnTo>
                      <a:pt x="304" y="1004"/>
                    </a:lnTo>
                    <a:lnTo>
                      <a:pt x="304" y="1000"/>
                    </a:lnTo>
                    <a:lnTo>
                      <a:pt x="311" y="996"/>
                    </a:lnTo>
                    <a:lnTo>
                      <a:pt x="321" y="991"/>
                    </a:lnTo>
                    <a:lnTo>
                      <a:pt x="325" y="989"/>
                    </a:lnTo>
                    <a:lnTo>
                      <a:pt x="328" y="987"/>
                    </a:lnTo>
                    <a:lnTo>
                      <a:pt x="334" y="987"/>
                    </a:lnTo>
                    <a:lnTo>
                      <a:pt x="340" y="987"/>
                    </a:lnTo>
                    <a:lnTo>
                      <a:pt x="340" y="983"/>
                    </a:lnTo>
                    <a:lnTo>
                      <a:pt x="334" y="974"/>
                    </a:lnTo>
                    <a:lnTo>
                      <a:pt x="327" y="966"/>
                    </a:lnTo>
                    <a:lnTo>
                      <a:pt x="317" y="960"/>
                    </a:lnTo>
                    <a:lnTo>
                      <a:pt x="308" y="955"/>
                    </a:lnTo>
                    <a:lnTo>
                      <a:pt x="298" y="951"/>
                    </a:lnTo>
                    <a:lnTo>
                      <a:pt x="287" y="947"/>
                    </a:lnTo>
                    <a:lnTo>
                      <a:pt x="275" y="945"/>
                    </a:lnTo>
                    <a:lnTo>
                      <a:pt x="266" y="943"/>
                    </a:lnTo>
                    <a:lnTo>
                      <a:pt x="256" y="941"/>
                    </a:lnTo>
                    <a:lnTo>
                      <a:pt x="249" y="939"/>
                    </a:lnTo>
                    <a:lnTo>
                      <a:pt x="243" y="937"/>
                    </a:lnTo>
                    <a:lnTo>
                      <a:pt x="241" y="936"/>
                    </a:lnTo>
                    <a:lnTo>
                      <a:pt x="239" y="934"/>
                    </a:lnTo>
                    <a:lnTo>
                      <a:pt x="243" y="930"/>
                    </a:lnTo>
                    <a:lnTo>
                      <a:pt x="249" y="926"/>
                    </a:lnTo>
                    <a:lnTo>
                      <a:pt x="260" y="922"/>
                    </a:lnTo>
                    <a:lnTo>
                      <a:pt x="258" y="917"/>
                    </a:lnTo>
                    <a:lnTo>
                      <a:pt x="256" y="911"/>
                    </a:lnTo>
                    <a:lnTo>
                      <a:pt x="254" y="907"/>
                    </a:lnTo>
                    <a:lnTo>
                      <a:pt x="250" y="905"/>
                    </a:lnTo>
                    <a:lnTo>
                      <a:pt x="243" y="898"/>
                    </a:lnTo>
                    <a:lnTo>
                      <a:pt x="237" y="894"/>
                    </a:lnTo>
                    <a:lnTo>
                      <a:pt x="228" y="886"/>
                    </a:lnTo>
                    <a:lnTo>
                      <a:pt x="224" y="880"/>
                    </a:lnTo>
                    <a:lnTo>
                      <a:pt x="220" y="875"/>
                    </a:lnTo>
                    <a:lnTo>
                      <a:pt x="222" y="865"/>
                    </a:lnTo>
                    <a:lnTo>
                      <a:pt x="186" y="848"/>
                    </a:lnTo>
                    <a:lnTo>
                      <a:pt x="159" y="831"/>
                    </a:lnTo>
                    <a:lnTo>
                      <a:pt x="138" y="808"/>
                    </a:lnTo>
                    <a:lnTo>
                      <a:pt x="125" y="784"/>
                    </a:lnTo>
                    <a:lnTo>
                      <a:pt x="117" y="755"/>
                    </a:lnTo>
                    <a:lnTo>
                      <a:pt x="114" y="726"/>
                    </a:lnTo>
                    <a:lnTo>
                      <a:pt x="116" y="696"/>
                    </a:lnTo>
                    <a:lnTo>
                      <a:pt x="121" y="666"/>
                    </a:lnTo>
                    <a:lnTo>
                      <a:pt x="129" y="631"/>
                    </a:lnTo>
                    <a:lnTo>
                      <a:pt x="140" y="601"/>
                    </a:lnTo>
                    <a:lnTo>
                      <a:pt x="152" y="567"/>
                    </a:lnTo>
                    <a:lnTo>
                      <a:pt x="165" y="535"/>
                    </a:lnTo>
                    <a:lnTo>
                      <a:pt x="178" y="502"/>
                    </a:lnTo>
                    <a:lnTo>
                      <a:pt x="192" y="474"/>
                    </a:lnTo>
                    <a:lnTo>
                      <a:pt x="203" y="445"/>
                    </a:lnTo>
                    <a:lnTo>
                      <a:pt x="214" y="420"/>
                    </a:lnTo>
                    <a:lnTo>
                      <a:pt x="199" y="430"/>
                    </a:lnTo>
                    <a:lnTo>
                      <a:pt x="188" y="439"/>
                    </a:lnTo>
                    <a:lnTo>
                      <a:pt x="174" y="451"/>
                    </a:lnTo>
                    <a:lnTo>
                      <a:pt x="163" y="462"/>
                    </a:lnTo>
                    <a:lnTo>
                      <a:pt x="152" y="476"/>
                    </a:lnTo>
                    <a:lnTo>
                      <a:pt x="144" y="489"/>
                    </a:lnTo>
                    <a:lnTo>
                      <a:pt x="135" y="502"/>
                    </a:lnTo>
                    <a:lnTo>
                      <a:pt x="127" y="517"/>
                    </a:lnTo>
                    <a:lnTo>
                      <a:pt x="117" y="531"/>
                    </a:lnTo>
                    <a:lnTo>
                      <a:pt x="112" y="546"/>
                    </a:lnTo>
                    <a:lnTo>
                      <a:pt x="104" y="561"/>
                    </a:lnTo>
                    <a:lnTo>
                      <a:pt x="98" y="576"/>
                    </a:lnTo>
                    <a:lnTo>
                      <a:pt x="91" y="592"/>
                    </a:lnTo>
                    <a:lnTo>
                      <a:pt x="85" y="609"/>
                    </a:lnTo>
                    <a:lnTo>
                      <a:pt x="77" y="624"/>
                    </a:lnTo>
                    <a:lnTo>
                      <a:pt x="72" y="641"/>
                    </a:lnTo>
                    <a:lnTo>
                      <a:pt x="62" y="626"/>
                    </a:lnTo>
                    <a:lnTo>
                      <a:pt x="58" y="612"/>
                    </a:lnTo>
                    <a:lnTo>
                      <a:pt x="57" y="595"/>
                    </a:lnTo>
                    <a:lnTo>
                      <a:pt x="60" y="580"/>
                    </a:lnTo>
                    <a:lnTo>
                      <a:pt x="64" y="563"/>
                    </a:lnTo>
                    <a:lnTo>
                      <a:pt x="72" y="544"/>
                    </a:lnTo>
                    <a:lnTo>
                      <a:pt x="79" y="527"/>
                    </a:lnTo>
                    <a:lnTo>
                      <a:pt x="91" y="510"/>
                    </a:lnTo>
                    <a:lnTo>
                      <a:pt x="98" y="491"/>
                    </a:lnTo>
                    <a:lnTo>
                      <a:pt x="108" y="474"/>
                    </a:lnTo>
                    <a:lnTo>
                      <a:pt x="117" y="455"/>
                    </a:lnTo>
                    <a:lnTo>
                      <a:pt x="125" y="438"/>
                    </a:lnTo>
                    <a:lnTo>
                      <a:pt x="133" y="420"/>
                    </a:lnTo>
                    <a:lnTo>
                      <a:pt x="138" y="403"/>
                    </a:lnTo>
                    <a:lnTo>
                      <a:pt x="140" y="388"/>
                    </a:lnTo>
                    <a:lnTo>
                      <a:pt x="140" y="375"/>
                    </a:lnTo>
                    <a:lnTo>
                      <a:pt x="127" y="382"/>
                    </a:lnTo>
                    <a:lnTo>
                      <a:pt x="116" y="394"/>
                    </a:lnTo>
                    <a:lnTo>
                      <a:pt x="104" y="403"/>
                    </a:lnTo>
                    <a:lnTo>
                      <a:pt x="97" y="417"/>
                    </a:lnTo>
                    <a:lnTo>
                      <a:pt x="87" y="428"/>
                    </a:lnTo>
                    <a:lnTo>
                      <a:pt x="77" y="441"/>
                    </a:lnTo>
                    <a:lnTo>
                      <a:pt x="68" y="457"/>
                    </a:lnTo>
                    <a:lnTo>
                      <a:pt x="60" y="472"/>
                    </a:lnTo>
                    <a:lnTo>
                      <a:pt x="53" y="485"/>
                    </a:lnTo>
                    <a:lnTo>
                      <a:pt x="45" y="500"/>
                    </a:lnTo>
                    <a:lnTo>
                      <a:pt x="39" y="515"/>
                    </a:lnTo>
                    <a:lnTo>
                      <a:pt x="32" y="531"/>
                    </a:lnTo>
                    <a:lnTo>
                      <a:pt x="26" y="544"/>
                    </a:lnTo>
                    <a:lnTo>
                      <a:pt x="20" y="559"/>
                    </a:lnTo>
                    <a:lnTo>
                      <a:pt x="17" y="573"/>
                    </a:lnTo>
                    <a:lnTo>
                      <a:pt x="13" y="588"/>
                    </a:lnTo>
                    <a:lnTo>
                      <a:pt x="9" y="578"/>
                    </a:lnTo>
                    <a:lnTo>
                      <a:pt x="5" y="571"/>
                    </a:lnTo>
                    <a:lnTo>
                      <a:pt x="3" y="559"/>
                    </a:lnTo>
                    <a:lnTo>
                      <a:pt x="1" y="548"/>
                    </a:lnTo>
                    <a:lnTo>
                      <a:pt x="0" y="536"/>
                    </a:lnTo>
                    <a:lnTo>
                      <a:pt x="0" y="525"/>
                    </a:lnTo>
                    <a:lnTo>
                      <a:pt x="0" y="512"/>
                    </a:lnTo>
                    <a:lnTo>
                      <a:pt x="1" y="500"/>
                    </a:lnTo>
                    <a:lnTo>
                      <a:pt x="1" y="487"/>
                    </a:lnTo>
                    <a:lnTo>
                      <a:pt x="5" y="476"/>
                    </a:lnTo>
                    <a:lnTo>
                      <a:pt x="7" y="464"/>
                    </a:lnTo>
                    <a:lnTo>
                      <a:pt x="11" y="455"/>
                    </a:lnTo>
                    <a:lnTo>
                      <a:pt x="15" y="445"/>
                    </a:lnTo>
                    <a:lnTo>
                      <a:pt x="22" y="438"/>
                    </a:lnTo>
                    <a:lnTo>
                      <a:pt x="28" y="432"/>
                    </a:lnTo>
                    <a:lnTo>
                      <a:pt x="38" y="428"/>
                    </a:lnTo>
                    <a:lnTo>
                      <a:pt x="32" y="419"/>
                    </a:lnTo>
                    <a:lnTo>
                      <a:pt x="30" y="415"/>
                    </a:lnTo>
                    <a:lnTo>
                      <a:pt x="36" y="409"/>
                    </a:lnTo>
                    <a:lnTo>
                      <a:pt x="41" y="403"/>
                    </a:lnTo>
                    <a:lnTo>
                      <a:pt x="47" y="398"/>
                    </a:lnTo>
                    <a:lnTo>
                      <a:pt x="53" y="392"/>
                    </a:lnTo>
                    <a:lnTo>
                      <a:pt x="58" y="384"/>
                    </a:lnTo>
                    <a:lnTo>
                      <a:pt x="64" y="377"/>
                    </a:lnTo>
                    <a:lnTo>
                      <a:pt x="70" y="369"/>
                    </a:lnTo>
                    <a:lnTo>
                      <a:pt x="76" y="362"/>
                    </a:lnTo>
                    <a:lnTo>
                      <a:pt x="81" y="354"/>
                    </a:lnTo>
                    <a:lnTo>
                      <a:pt x="89" y="348"/>
                    </a:lnTo>
                    <a:lnTo>
                      <a:pt x="95" y="343"/>
                    </a:lnTo>
                    <a:lnTo>
                      <a:pt x="102" y="339"/>
                    </a:lnTo>
                    <a:lnTo>
                      <a:pt x="108" y="333"/>
                    </a:lnTo>
                    <a:lnTo>
                      <a:pt x="117" y="331"/>
                    </a:lnTo>
                    <a:lnTo>
                      <a:pt x="125" y="331"/>
                    </a:lnTo>
                    <a:lnTo>
                      <a:pt x="136" y="331"/>
                    </a:lnTo>
                    <a:lnTo>
                      <a:pt x="140" y="318"/>
                    </a:lnTo>
                    <a:lnTo>
                      <a:pt x="140" y="310"/>
                    </a:lnTo>
                    <a:lnTo>
                      <a:pt x="140" y="303"/>
                    </a:lnTo>
                    <a:lnTo>
                      <a:pt x="138" y="297"/>
                    </a:lnTo>
                    <a:lnTo>
                      <a:pt x="135" y="293"/>
                    </a:lnTo>
                    <a:lnTo>
                      <a:pt x="131" y="291"/>
                    </a:lnTo>
                    <a:lnTo>
                      <a:pt x="123" y="289"/>
                    </a:lnTo>
                    <a:lnTo>
                      <a:pt x="117" y="291"/>
                    </a:lnTo>
                    <a:lnTo>
                      <a:pt x="110" y="291"/>
                    </a:lnTo>
                    <a:lnTo>
                      <a:pt x="102" y="291"/>
                    </a:lnTo>
                    <a:lnTo>
                      <a:pt x="93" y="293"/>
                    </a:lnTo>
                    <a:lnTo>
                      <a:pt x="85" y="297"/>
                    </a:lnTo>
                    <a:lnTo>
                      <a:pt x="76" y="299"/>
                    </a:lnTo>
                    <a:lnTo>
                      <a:pt x="68" y="301"/>
                    </a:lnTo>
                    <a:lnTo>
                      <a:pt x="60" y="301"/>
                    </a:lnTo>
                    <a:lnTo>
                      <a:pt x="55" y="303"/>
                    </a:lnTo>
                    <a:lnTo>
                      <a:pt x="64" y="291"/>
                    </a:lnTo>
                    <a:lnTo>
                      <a:pt x="74" y="284"/>
                    </a:lnTo>
                    <a:lnTo>
                      <a:pt x="83" y="274"/>
                    </a:lnTo>
                    <a:lnTo>
                      <a:pt x="95" y="268"/>
                    </a:lnTo>
                    <a:lnTo>
                      <a:pt x="106" y="263"/>
                    </a:lnTo>
                    <a:lnTo>
                      <a:pt x="116" y="257"/>
                    </a:lnTo>
                    <a:lnTo>
                      <a:pt x="127" y="251"/>
                    </a:lnTo>
                    <a:lnTo>
                      <a:pt x="138" y="247"/>
                    </a:lnTo>
                    <a:lnTo>
                      <a:pt x="148" y="242"/>
                    </a:lnTo>
                    <a:lnTo>
                      <a:pt x="159" y="236"/>
                    </a:lnTo>
                    <a:lnTo>
                      <a:pt x="169" y="228"/>
                    </a:lnTo>
                    <a:lnTo>
                      <a:pt x="178" y="223"/>
                    </a:lnTo>
                    <a:lnTo>
                      <a:pt x="186" y="213"/>
                    </a:lnTo>
                    <a:lnTo>
                      <a:pt x="193" y="206"/>
                    </a:lnTo>
                    <a:lnTo>
                      <a:pt x="201" y="192"/>
                    </a:lnTo>
                    <a:lnTo>
                      <a:pt x="207" y="181"/>
                    </a:lnTo>
                    <a:lnTo>
                      <a:pt x="199" y="175"/>
                    </a:lnTo>
                    <a:lnTo>
                      <a:pt x="192" y="171"/>
                    </a:lnTo>
                    <a:lnTo>
                      <a:pt x="184" y="168"/>
                    </a:lnTo>
                    <a:lnTo>
                      <a:pt x="176" y="168"/>
                    </a:lnTo>
                    <a:lnTo>
                      <a:pt x="169" y="168"/>
                    </a:lnTo>
                    <a:lnTo>
                      <a:pt x="161" y="170"/>
                    </a:lnTo>
                    <a:lnTo>
                      <a:pt x="154" y="171"/>
                    </a:lnTo>
                    <a:lnTo>
                      <a:pt x="146" y="173"/>
                    </a:lnTo>
                    <a:lnTo>
                      <a:pt x="136" y="177"/>
                    </a:lnTo>
                    <a:lnTo>
                      <a:pt x="129" y="179"/>
                    </a:lnTo>
                    <a:lnTo>
                      <a:pt x="121" y="183"/>
                    </a:lnTo>
                    <a:lnTo>
                      <a:pt x="114" y="189"/>
                    </a:lnTo>
                    <a:lnTo>
                      <a:pt x="104" y="192"/>
                    </a:lnTo>
                    <a:lnTo>
                      <a:pt x="98" y="196"/>
                    </a:lnTo>
                    <a:lnTo>
                      <a:pt x="91" y="200"/>
                    </a:lnTo>
                    <a:lnTo>
                      <a:pt x="83" y="204"/>
                    </a:lnTo>
                    <a:lnTo>
                      <a:pt x="89" y="194"/>
                    </a:lnTo>
                    <a:lnTo>
                      <a:pt x="98" y="185"/>
                    </a:lnTo>
                    <a:lnTo>
                      <a:pt x="106" y="175"/>
                    </a:lnTo>
                    <a:lnTo>
                      <a:pt x="116" y="166"/>
                    </a:lnTo>
                    <a:lnTo>
                      <a:pt x="125" y="154"/>
                    </a:lnTo>
                    <a:lnTo>
                      <a:pt x="136" y="143"/>
                    </a:lnTo>
                    <a:lnTo>
                      <a:pt x="144" y="135"/>
                    </a:lnTo>
                    <a:lnTo>
                      <a:pt x="155" y="128"/>
                    </a:lnTo>
                    <a:lnTo>
                      <a:pt x="163" y="120"/>
                    </a:lnTo>
                    <a:lnTo>
                      <a:pt x="173" y="116"/>
                    </a:lnTo>
                    <a:lnTo>
                      <a:pt x="180" y="114"/>
                    </a:lnTo>
                    <a:lnTo>
                      <a:pt x="188" y="116"/>
                    </a:lnTo>
                    <a:lnTo>
                      <a:pt x="193" y="120"/>
                    </a:lnTo>
                    <a:lnTo>
                      <a:pt x="199" y="128"/>
                    </a:lnTo>
                    <a:lnTo>
                      <a:pt x="201" y="139"/>
                    </a:lnTo>
                    <a:lnTo>
                      <a:pt x="203" y="158"/>
                    </a:lnTo>
                    <a:lnTo>
                      <a:pt x="216" y="154"/>
                    </a:lnTo>
                    <a:lnTo>
                      <a:pt x="228" y="152"/>
                    </a:lnTo>
                    <a:lnTo>
                      <a:pt x="241" y="145"/>
                    </a:lnTo>
                    <a:lnTo>
                      <a:pt x="254" y="139"/>
                    </a:lnTo>
                    <a:lnTo>
                      <a:pt x="266" y="130"/>
                    </a:lnTo>
                    <a:lnTo>
                      <a:pt x="277" y="122"/>
                    </a:lnTo>
                    <a:lnTo>
                      <a:pt x="289" y="111"/>
                    </a:lnTo>
                    <a:lnTo>
                      <a:pt x="300" y="101"/>
                    </a:lnTo>
                    <a:lnTo>
                      <a:pt x="309" y="88"/>
                    </a:lnTo>
                    <a:lnTo>
                      <a:pt x="319" y="76"/>
                    </a:lnTo>
                    <a:lnTo>
                      <a:pt x="330" y="65"/>
                    </a:lnTo>
                    <a:lnTo>
                      <a:pt x="340" y="52"/>
                    </a:lnTo>
                    <a:lnTo>
                      <a:pt x="349" y="40"/>
                    </a:lnTo>
                    <a:lnTo>
                      <a:pt x="359" y="29"/>
                    </a:lnTo>
                    <a:lnTo>
                      <a:pt x="368" y="17"/>
                    </a:lnTo>
                    <a:lnTo>
                      <a:pt x="378" y="8"/>
                    </a:lnTo>
                    <a:lnTo>
                      <a:pt x="385" y="14"/>
                    </a:lnTo>
                    <a:lnTo>
                      <a:pt x="393" y="21"/>
                    </a:lnTo>
                    <a:lnTo>
                      <a:pt x="399" y="31"/>
                    </a:lnTo>
                    <a:lnTo>
                      <a:pt x="404" y="40"/>
                    </a:lnTo>
                    <a:lnTo>
                      <a:pt x="408" y="50"/>
                    </a:lnTo>
                    <a:lnTo>
                      <a:pt x="412" y="61"/>
                    </a:lnTo>
                    <a:lnTo>
                      <a:pt x="416" y="69"/>
                    </a:lnTo>
                    <a:lnTo>
                      <a:pt x="422" y="78"/>
                    </a:lnTo>
                    <a:lnTo>
                      <a:pt x="414" y="80"/>
                    </a:lnTo>
                    <a:lnTo>
                      <a:pt x="408" y="82"/>
                    </a:lnTo>
                    <a:lnTo>
                      <a:pt x="403" y="86"/>
                    </a:lnTo>
                    <a:lnTo>
                      <a:pt x="399" y="90"/>
                    </a:lnTo>
                    <a:lnTo>
                      <a:pt x="389" y="97"/>
                    </a:lnTo>
                    <a:lnTo>
                      <a:pt x="380" y="107"/>
                    </a:lnTo>
                    <a:lnTo>
                      <a:pt x="370" y="116"/>
                    </a:lnTo>
                    <a:lnTo>
                      <a:pt x="361" y="128"/>
                    </a:lnTo>
                    <a:lnTo>
                      <a:pt x="355" y="132"/>
                    </a:lnTo>
                    <a:lnTo>
                      <a:pt x="349" y="137"/>
                    </a:lnTo>
                    <a:lnTo>
                      <a:pt x="344" y="141"/>
                    </a:lnTo>
                    <a:lnTo>
                      <a:pt x="340" y="147"/>
                    </a:lnTo>
                    <a:lnTo>
                      <a:pt x="357" y="151"/>
                    </a:lnTo>
                    <a:lnTo>
                      <a:pt x="374" y="152"/>
                    </a:lnTo>
                    <a:lnTo>
                      <a:pt x="391" y="152"/>
                    </a:lnTo>
                    <a:lnTo>
                      <a:pt x="408" y="149"/>
                    </a:lnTo>
                    <a:lnTo>
                      <a:pt x="423" y="141"/>
                    </a:lnTo>
                    <a:lnTo>
                      <a:pt x="439" y="133"/>
                    </a:lnTo>
                    <a:lnTo>
                      <a:pt x="452" y="126"/>
                    </a:lnTo>
                    <a:lnTo>
                      <a:pt x="467" y="114"/>
                    </a:lnTo>
                    <a:lnTo>
                      <a:pt x="481" y="103"/>
                    </a:lnTo>
                    <a:lnTo>
                      <a:pt x="494" y="88"/>
                    </a:lnTo>
                    <a:lnTo>
                      <a:pt x="505" y="74"/>
                    </a:lnTo>
                    <a:lnTo>
                      <a:pt x="519" y="59"/>
                    </a:lnTo>
                    <a:lnTo>
                      <a:pt x="528" y="44"/>
                    </a:lnTo>
                    <a:lnTo>
                      <a:pt x="539" y="29"/>
                    </a:lnTo>
                    <a:lnTo>
                      <a:pt x="549" y="16"/>
                    </a:lnTo>
                    <a:lnTo>
                      <a:pt x="560" y="0"/>
                    </a:lnTo>
                    <a:lnTo>
                      <a:pt x="560" y="0"/>
                    </a:lnTo>
                    <a:close/>
                  </a:path>
                </a:pathLst>
              </a:custGeom>
              <a:solidFill>
                <a:srgbClr val="ffcc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994360" y="4718160"/>
                <a:ext cx="30240" cy="71280"/>
              </a:xfrm>
              <a:custGeom>
                <a:avLst/>
                <a:gdLst/>
                <a:ahLst/>
                <a:rect l="l" t="t" r="r" b="b"/>
                <a:pathLst>
                  <a:path w="131" h="310">
                    <a:moveTo>
                      <a:pt x="15" y="127"/>
                    </a:moveTo>
                    <a:lnTo>
                      <a:pt x="15" y="137"/>
                    </a:lnTo>
                    <a:lnTo>
                      <a:pt x="13" y="150"/>
                    </a:lnTo>
                    <a:lnTo>
                      <a:pt x="11" y="162"/>
                    </a:lnTo>
                    <a:lnTo>
                      <a:pt x="11" y="175"/>
                    </a:lnTo>
                    <a:lnTo>
                      <a:pt x="8" y="188"/>
                    </a:lnTo>
                    <a:lnTo>
                      <a:pt x="6" y="203"/>
                    </a:lnTo>
                    <a:lnTo>
                      <a:pt x="2" y="219"/>
                    </a:lnTo>
                    <a:lnTo>
                      <a:pt x="2" y="232"/>
                    </a:lnTo>
                    <a:lnTo>
                      <a:pt x="0" y="245"/>
                    </a:lnTo>
                    <a:lnTo>
                      <a:pt x="0" y="258"/>
                    </a:lnTo>
                    <a:lnTo>
                      <a:pt x="2" y="270"/>
                    </a:lnTo>
                    <a:lnTo>
                      <a:pt x="6" y="281"/>
                    </a:lnTo>
                    <a:lnTo>
                      <a:pt x="9" y="291"/>
                    </a:lnTo>
                    <a:lnTo>
                      <a:pt x="19" y="298"/>
                    </a:lnTo>
                    <a:lnTo>
                      <a:pt x="28" y="304"/>
                    </a:lnTo>
                    <a:lnTo>
                      <a:pt x="44" y="310"/>
                    </a:lnTo>
                    <a:lnTo>
                      <a:pt x="46" y="289"/>
                    </a:lnTo>
                    <a:lnTo>
                      <a:pt x="47" y="268"/>
                    </a:lnTo>
                    <a:lnTo>
                      <a:pt x="49" y="247"/>
                    </a:lnTo>
                    <a:lnTo>
                      <a:pt x="53" y="226"/>
                    </a:lnTo>
                    <a:lnTo>
                      <a:pt x="55" y="207"/>
                    </a:lnTo>
                    <a:lnTo>
                      <a:pt x="59" y="186"/>
                    </a:lnTo>
                    <a:lnTo>
                      <a:pt x="61" y="167"/>
                    </a:lnTo>
                    <a:lnTo>
                      <a:pt x="66" y="148"/>
                    </a:lnTo>
                    <a:lnTo>
                      <a:pt x="72" y="127"/>
                    </a:lnTo>
                    <a:lnTo>
                      <a:pt x="78" y="110"/>
                    </a:lnTo>
                    <a:lnTo>
                      <a:pt x="84" y="89"/>
                    </a:lnTo>
                    <a:lnTo>
                      <a:pt x="93" y="72"/>
                    </a:lnTo>
                    <a:lnTo>
                      <a:pt x="101" y="55"/>
                    </a:lnTo>
                    <a:lnTo>
                      <a:pt x="110" y="38"/>
                    </a:lnTo>
                    <a:lnTo>
                      <a:pt x="120" y="21"/>
                    </a:lnTo>
                    <a:lnTo>
                      <a:pt x="131" y="4"/>
                    </a:lnTo>
                    <a:lnTo>
                      <a:pt x="120" y="0"/>
                    </a:lnTo>
                    <a:lnTo>
                      <a:pt x="110" y="2"/>
                    </a:lnTo>
                    <a:lnTo>
                      <a:pt x="101" y="4"/>
                    </a:lnTo>
                    <a:lnTo>
                      <a:pt x="93" y="9"/>
                    </a:lnTo>
                    <a:lnTo>
                      <a:pt x="84" y="15"/>
                    </a:lnTo>
                    <a:lnTo>
                      <a:pt x="78" y="25"/>
                    </a:lnTo>
                    <a:lnTo>
                      <a:pt x="70" y="32"/>
                    </a:lnTo>
                    <a:lnTo>
                      <a:pt x="65" y="44"/>
                    </a:lnTo>
                    <a:lnTo>
                      <a:pt x="59" y="53"/>
                    </a:lnTo>
                    <a:lnTo>
                      <a:pt x="53" y="66"/>
                    </a:lnTo>
                    <a:lnTo>
                      <a:pt x="47" y="78"/>
                    </a:lnTo>
                    <a:lnTo>
                      <a:pt x="42" y="89"/>
                    </a:lnTo>
                    <a:lnTo>
                      <a:pt x="34" y="99"/>
                    </a:lnTo>
                    <a:lnTo>
                      <a:pt x="27" y="110"/>
                    </a:lnTo>
                    <a:lnTo>
                      <a:pt x="21" y="120"/>
                    </a:lnTo>
                    <a:lnTo>
                      <a:pt x="15" y="127"/>
                    </a:lnTo>
                    <a:lnTo>
                      <a:pt x="15" y="12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 name=""/>
              <p:cNvSpPr/>
              <p:nvPr/>
            </p:nvSpPr>
            <p:spPr>
              <a:xfrm flipH="1">
                <a:off x="6106680" y="4623120"/>
                <a:ext cx="6480" cy="13680"/>
              </a:xfrm>
              <a:custGeom>
                <a:avLst/>
                <a:gdLst/>
                <a:ahLst/>
                <a:rect l="l" t="t" r="r" b="b"/>
                <a:pathLst>
                  <a:path w="29" h="61">
                    <a:moveTo>
                      <a:pt x="25" y="0"/>
                    </a:moveTo>
                    <a:lnTo>
                      <a:pt x="23" y="6"/>
                    </a:lnTo>
                    <a:lnTo>
                      <a:pt x="23" y="14"/>
                    </a:lnTo>
                    <a:lnTo>
                      <a:pt x="23" y="21"/>
                    </a:lnTo>
                    <a:lnTo>
                      <a:pt x="23" y="29"/>
                    </a:lnTo>
                    <a:lnTo>
                      <a:pt x="23" y="37"/>
                    </a:lnTo>
                    <a:lnTo>
                      <a:pt x="25" y="44"/>
                    </a:lnTo>
                    <a:lnTo>
                      <a:pt x="27" y="52"/>
                    </a:lnTo>
                    <a:lnTo>
                      <a:pt x="29" y="61"/>
                    </a:lnTo>
                    <a:lnTo>
                      <a:pt x="19" y="59"/>
                    </a:lnTo>
                    <a:lnTo>
                      <a:pt x="13" y="58"/>
                    </a:lnTo>
                    <a:lnTo>
                      <a:pt x="8" y="56"/>
                    </a:lnTo>
                    <a:lnTo>
                      <a:pt x="6" y="54"/>
                    </a:lnTo>
                    <a:lnTo>
                      <a:pt x="0" y="46"/>
                    </a:lnTo>
                    <a:lnTo>
                      <a:pt x="0" y="37"/>
                    </a:lnTo>
                    <a:lnTo>
                      <a:pt x="0" y="31"/>
                    </a:lnTo>
                    <a:lnTo>
                      <a:pt x="0" y="25"/>
                    </a:lnTo>
                    <a:lnTo>
                      <a:pt x="2" y="19"/>
                    </a:lnTo>
                    <a:lnTo>
                      <a:pt x="6" y="14"/>
                    </a:lnTo>
                    <a:lnTo>
                      <a:pt x="8" y="10"/>
                    </a:lnTo>
                    <a:lnTo>
                      <a:pt x="13" y="6"/>
                    </a:lnTo>
                    <a:lnTo>
                      <a:pt x="17" y="2"/>
                    </a:lnTo>
                    <a:lnTo>
                      <a:pt x="25" y="0"/>
                    </a:lnTo>
                    <a:lnTo>
                      <a:pt x="25"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1" name=""/>
              <p:cNvSpPr/>
              <p:nvPr/>
            </p:nvSpPr>
            <p:spPr>
              <a:xfrm flipH="1">
                <a:off x="6230160" y="4645800"/>
                <a:ext cx="23040" cy="39240"/>
              </a:xfrm>
              <a:custGeom>
                <a:avLst/>
                <a:gdLst/>
                <a:ahLst/>
                <a:rect l="l" t="t" r="r" b="b"/>
                <a:pathLst>
                  <a:path w="98" h="170">
                    <a:moveTo>
                      <a:pt x="95" y="0"/>
                    </a:moveTo>
                    <a:lnTo>
                      <a:pt x="96" y="8"/>
                    </a:lnTo>
                    <a:lnTo>
                      <a:pt x="98" y="19"/>
                    </a:lnTo>
                    <a:lnTo>
                      <a:pt x="98" y="25"/>
                    </a:lnTo>
                    <a:lnTo>
                      <a:pt x="98" y="31"/>
                    </a:lnTo>
                    <a:lnTo>
                      <a:pt x="98" y="36"/>
                    </a:lnTo>
                    <a:lnTo>
                      <a:pt x="98" y="44"/>
                    </a:lnTo>
                    <a:lnTo>
                      <a:pt x="96" y="50"/>
                    </a:lnTo>
                    <a:lnTo>
                      <a:pt x="96" y="55"/>
                    </a:lnTo>
                    <a:lnTo>
                      <a:pt x="95" y="63"/>
                    </a:lnTo>
                    <a:lnTo>
                      <a:pt x="93" y="71"/>
                    </a:lnTo>
                    <a:lnTo>
                      <a:pt x="91" y="78"/>
                    </a:lnTo>
                    <a:lnTo>
                      <a:pt x="89" y="86"/>
                    </a:lnTo>
                    <a:lnTo>
                      <a:pt x="87" y="92"/>
                    </a:lnTo>
                    <a:lnTo>
                      <a:pt x="85" y="99"/>
                    </a:lnTo>
                    <a:lnTo>
                      <a:pt x="79" y="111"/>
                    </a:lnTo>
                    <a:lnTo>
                      <a:pt x="74" y="120"/>
                    </a:lnTo>
                    <a:lnTo>
                      <a:pt x="66" y="130"/>
                    </a:lnTo>
                    <a:lnTo>
                      <a:pt x="60" y="139"/>
                    </a:lnTo>
                    <a:lnTo>
                      <a:pt x="55" y="145"/>
                    </a:lnTo>
                    <a:lnTo>
                      <a:pt x="49" y="152"/>
                    </a:lnTo>
                    <a:lnTo>
                      <a:pt x="43" y="158"/>
                    </a:lnTo>
                    <a:lnTo>
                      <a:pt x="39" y="164"/>
                    </a:lnTo>
                    <a:lnTo>
                      <a:pt x="32" y="168"/>
                    </a:lnTo>
                    <a:lnTo>
                      <a:pt x="26" y="170"/>
                    </a:lnTo>
                    <a:lnTo>
                      <a:pt x="19" y="170"/>
                    </a:lnTo>
                    <a:lnTo>
                      <a:pt x="13" y="166"/>
                    </a:lnTo>
                    <a:lnTo>
                      <a:pt x="11" y="162"/>
                    </a:lnTo>
                    <a:lnTo>
                      <a:pt x="7" y="160"/>
                    </a:lnTo>
                    <a:lnTo>
                      <a:pt x="5" y="154"/>
                    </a:lnTo>
                    <a:lnTo>
                      <a:pt x="3" y="150"/>
                    </a:lnTo>
                    <a:lnTo>
                      <a:pt x="1" y="143"/>
                    </a:lnTo>
                    <a:lnTo>
                      <a:pt x="1" y="135"/>
                    </a:lnTo>
                    <a:lnTo>
                      <a:pt x="0" y="126"/>
                    </a:lnTo>
                    <a:lnTo>
                      <a:pt x="0" y="118"/>
                    </a:lnTo>
                    <a:lnTo>
                      <a:pt x="3" y="111"/>
                    </a:lnTo>
                    <a:lnTo>
                      <a:pt x="7" y="101"/>
                    </a:lnTo>
                    <a:lnTo>
                      <a:pt x="13" y="92"/>
                    </a:lnTo>
                    <a:lnTo>
                      <a:pt x="19" y="86"/>
                    </a:lnTo>
                    <a:lnTo>
                      <a:pt x="24" y="76"/>
                    </a:lnTo>
                    <a:lnTo>
                      <a:pt x="30" y="71"/>
                    </a:lnTo>
                    <a:lnTo>
                      <a:pt x="38" y="63"/>
                    </a:lnTo>
                    <a:lnTo>
                      <a:pt x="45" y="55"/>
                    </a:lnTo>
                    <a:lnTo>
                      <a:pt x="51" y="48"/>
                    </a:lnTo>
                    <a:lnTo>
                      <a:pt x="58" y="42"/>
                    </a:lnTo>
                    <a:lnTo>
                      <a:pt x="64" y="35"/>
                    </a:lnTo>
                    <a:lnTo>
                      <a:pt x="72" y="29"/>
                    </a:lnTo>
                    <a:lnTo>
                      <a:pt x="77" y="21"/>
                    </a:lnTo>
                    <a:lnTo>
                      <a:pt x="83" y="14"/>
                    </a:lnTo>
                    <a:lnTo>
                      <a:pt x="89" y="8"/>
                    </a:lnTo>
                    <a:lnTo>
                      <a:pt x="95" y="0"/>
                    </a:lnTo>
                    <a:lnTo>
                      <a:pt x="95"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02" name=""/>
              <p:cNvSpPr/>
              <p:nvPr/>
            </p:nvSpPr>
            <p:spPr>
              <a:xfrm flipH="1">
                <a:off x="5897880" y="4657320"/>
                <a:ext cx="36000" cy="29880"/>
              </a:xfrm>
              <a:custGeom>
                <a:avLst/>
                <a:gdLst/>
                <a:ahLst/>
                <a:rect l="l" t="t" r="r" b="b"/>
                <a:pathLst>
                  <a:path w="155" h="129">
                    <a:moveTo>
                      <a:pt x="129" y="0"/>
                    </a:moveTo>
                    <a:lnTo>
                      <a:pt x="133" y="5"/>
                    </a:lnTo>
                    <a:lnTo>
                      <a:pt x="140" y="7"/>
                    </a:lnTo>
                    <a:lnTo>
                      <a:pt x="148" y="7"/>
                    </a:lnTo>
                    <a:lnTo>
                      <a:pt x="155" y="11"/>
                    </a:lnTo>
                    <a:lnTo>
                      <a:pt x="150" y="17"/>
                    </a:lnTo>
                    <a:lnTo>
                      <a:pt x="144" y="24"/>
                    </a:lnTo>
                    <a:lnTo>
                      <a:pt x="138" y="30"/>
                    </a:lnTo>
                    <a:lnTo>
                      <a:pt x="133" y="38"/>
                    </a:lnTo>
                    <a:lnTo>
                      <a:pt x="127" y="43"/>
                    </a:lnTo>
                    <a:lnTo>
                      <a:pt x="121" y="51"/>
                    </a:lnTo>
                    <a:lnTo>
                      <a:pt x="115" y="57"/>
                    </a:lnTo>
                    <a:lnTo>
                      <a:pt x="110" y="64"/>
                    </a:lnTo>
                    <a:lnTo>
                      <a:pt x="104" y="70"/>
                    </a:lnTo>
                    <a:lnTo>
                      <a:pt x="98" y="76"/>
                    </a:lnTo>
                    <a:lnTo>
                      <a:pt x="93" y="81"/>
                    </a:lnTo>
                    <a:lnTo>
                      <a:pt x="89" y="87"/>
                    </a:lnTo>
                    <a:lnTo>
                      <a:pt x="81" y="93"/>
                    </a:lnTo>
                    <a:lnTo>
                      <a:pt x="76" y="99"/>
                    </a:lnTo>
                    <a:lnTo>
                      <a:pt x="70" y="102"/>
                    </a:lnTo>
                    <a:lnTo>
                      <a:pt x="64" y="108"/>
                    </a:lnTo>
                    <a:lnTo>
                      <a:pt x="57" y="110"/>
                    </a:lnTo>
                    <a:lnTo>
                      <a:pt x="49" y="114"/>
                    </a:lnTo>
                    <a:lnTo>
                      <a:pt x="41" y="118"/>
                    </a:lnTo>
                    <a:lnTo>
                      <a:pt x="34" y="120"/>
                    </a:lnTo>
                    <a:lnTo>
                      <a:pt x="26" y="121"/>
                    </a:lnTo>
                    <a:lnTo>
                      <a:pt x="17" y="125"/>
                    </a:lnTo>
                    <a:lnTo>
                      <a:pt x="9" y="127"/>
                    </a:lnTo>
                    <a:lnTo>
                      <a:pt x="0" y="129"/>
                    </a:lnTo>
                    <a:lnTo>
                      <a:pt x="1" y="120"/>
                    </a:lnTo>
                    <a:lnTo>
                      <a:pt x="5" y="114"/>
                    </a:lnTo>
                    <a:lnTo>
                      <a:pt x="7" y="106"/>
                    </a:lnTo>
                    <a:lnTo>
                      <a:pt x="11" y="99"/>
                    </a:lnTo>
                    <a:lnTo>
                      <a:pt x="13" y="91"/>
                    </a:lnTo>
                    <a:lnTo>
                      <a:pt x="19" y="83"/>
                    </a:lnTo>
                    <a:lnTo>
                      <a:pt x="22" y="78"/>
                    </a:lnTo>
                    <a:lnTo>
                      <a:pt x="28" y="72"/>
                    </a:lnTo>
                    <a:lnTo>
                      <a:pt x="32" y="64"/>
                    </a:lnTo>
                    <a:lnTo>
                      <a:pt x="38" y="59"/>
                    </a:lnTo>
                    <a:lnTo>
                      <a:pt x="43" y="51"/>
                    </a:lnTo>
                    <a:lnTo>
                      <a:pt x="49" y="45"/>
                    </a:lnTo>
                    <a:lnTo>
                      <a:pt x="53" y="40"/>
                    </a:lnTo>
                    <a:lnTo>
                      <a:pt x="58" y="36"/>
                    </a:lnTo>
                    <a:lnTo>
                      <a:pt x="64" y="30"/>
                    </a:lnTo>
                    <a:lnTo>
                      <a:pt x="72" y="26"/>
                    </a:lnTo>
                    <a:lnTo>
                      <a:pt x="77" y="21"/>
                    </a:lnTo>
                    <a:lnTo>
                      <a:pt x="85" y="17"/>
                    </a:lnTo>
                    <a:lnTo>
                      <a:pt x="91" y="13"/>
                    </a:lnTo>
                    <a:lnTo>
                      <a:pt x="98" y="11"/>
                    </a:lnTo>
                    <a:lnTo>
                      <a:pt x="104" y="7"/>
                    </a:lnTo>
                    <a:lnTo>
                      <a:pt x="112" y="4"/>
                    </a:lnTo>
                    <a:lnTo>
                      <a:pt x="119" y="2"/>
                    </a:lnTo>
                    <a:lnTo>
                      <a:pt x="129" y="0"/>
                    </a:lnTo>
                    <a:lnTo>
                      <a:pt x="12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flipH="1">
                <a:off x="5866200" y="4660200"/>
                <a:ext cx="24840" cy="14040"/>
              </a:xfrm>
              <a:custGeom>
                <a:avLst/>
                <a:gdLst/>
                <a:ahLst/>
                <a:rect l="l" t="t" r="r" b="b"/>
                <a:pathLst>
                  <a:path w="106" h="63">
                    <a:moveTo>
                      <a:pt x="51" y="0"/>
                    </a:moveTo>
                    <a:lnTo>
                      <a:pt x="57" y="0"/>
                    </a:lnTo>
                    <a:lnTo>
                      <a:pt x="63" y="0"/>
                    </a:lnTo>
                    <a:lnTo>
                      <a:pt x="70" y="0"/>
                    </a:lnTo>
                    <a:lnTo>
                      <a:pt x="76" y="0"/>
                    </a:lnTo>
                    <a:lnTo>
                      <a:pt x="84" y="0"/>
                    </a:lnTo>
                    <a:lnTo>
                      <a:pt x="91" y="0"/>
                    </a:lnTo>
                    <a:lnTo>
                      <a:pt x="99" y="0"/>
                    </a:lnTo>
                    <a:lnTo>
                      <a:pt x="106" y="0"/>
                    </a:lnTo>
                    <a:lnTo>
                      <a:pt x="106" y="4"/>
                    </a:lnTo>
                    <a:lnTo>
                      <a:pt x="106" y="4"/>
                    </a:lnTo>
                    <a:lnTo>
                      <a:pt x="99" y="13"/>
                    </a:lnTo>
                    <a:lnTo>
                      <a:pt x="91" y="23"/>
                    </a:lnTo>
                    <a:lnTo>
                      <a:pt x="84" y="31"/>
                    </a:lnTo>
                    <a:lnTo>
                      <a:pt x="74" y="38"/>
                    </a:lnTo>
                    <a:lnTo>
                      <a:pt x="65" y="44"/>
                    </a:lnTo>
                    <a:lnTo>
                      <a:pt x="55" y="50"/>
                    </a:lnTo>
                    <a:lnTo>
                      <a:pt x="46" y="53"/>
                    </a:lnTo>
                    <a:lnTo>
                      <a:pt x="36" y="57"/>
                    </a:lnTo>
                    <a:lnTo>
                      <a:pt x="28" y="59"/>
                    </a:lnTo>
                    <a:lnTo>
                      <a:pt x="23" y="61"/>
                    </a:lnTo>
                    <a:lnTo>
                      <a:pt x="17" y="61"/>
                    </a:lnTo>
                    <a:lnTo>
                      <a:pt x="13" y="63"/>
                    </a:lnTo>
                    <a:lnTo>
                      <a:pt x="4" y="61"/>
                    </a:lnTo>
                    <a:lnTo>
                      <a:pt x="0" y="57"/>
                    </a:lnTo>
                    <a:lnTo>
                      <a:pt x="0" y="53"/>
                    </a:lnTo>
                    <a:lnTo>
                      <a:pt x="2" y="48"/>
                    </a:lnTo>
                    <a:lnTo>
                      <a:pt x="4" y="40"/>
                    </a:lnTo>
                    <a:lnTo>
                      <a:pt x="9" y="34"/>
                    </a:lnTo>
                    <a:lnTo>
                      <a:pt x="15" y="27"/>
                    </a:lnTo>
                    <a:lnTo>
                      <a:pt x="23" y="21"/>
                    </a:lnTo>
                    <a:lnTo>
                      <a:pt x="27" y="15"/>
                    </a:lnTo>
                    <a:lnTo>
                      <a:pt x="34" y="12"/>
                    </a:lnTo>
                    <a:lnTo>
                      <a:pt x="40" y="8"/>
                    </a:lnTo>
                    <a:lnTo>
                      <a:pt x="47" y="4"/>
                    </a:lnTo>
                    <a:lnTo>
                      <a:pt x="49" y="4"/>
                    </a:lnTo>
                    <a:lnTo>
                      <a:pt x="51" y="0"/>
                    </a:lnTo>
                    <a:lnTo>
                      <a:pt x="5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4" name=""/>
              <p:cNvSpPr/>
              <p:nvPr/>
            </p:nvSpPr>
            <p:spPr>
              <a:xfrm flipH="1">
                <a:off x="6231600" y="4696560"/>
                <a:ext cx="13680" cy="30600"/>
              </a:xfrm>
              <a:custGeom>
                <a:avLst/>
                <a:gdLst/>
                <a:ahLst/>
                <a:rect l="l" t="t" r="r" b="b"/>
                <a:pathLst>
                  <a:path w="59" h="133">
                    <a:moveTo>
                      <a:pt x="32" y="0"/>
                    </a:moveTo>
                    <a:lnTo>
                      <a:pt x="40" y="4"/>
                    </a:lnTo>
                    <a:lnTo>
                      <a:pt x="45" y="9"/>
                    </a:lnTo>
                    <a:lnTo>
                      <a:pt x="49" y="15"/>
                    </a:lnTo>
                    <a:lnTo>
                      <a:pt x="53" y="23"/>
                    </a:lnTo>
                    <a:lnTo>
                      <a:pt x="55" y="30"/>
                    </a:lnTo>
                    <a:lnTo>
                      <a:pt x="57" y="38"/>
                    </a:lnTo>
                    <a:lnTo>
                      <a:pt x="57" y="45"/>
                    </a:lnTo>
                    <a:lnTo>
                      <a:pt x="59" y="53"/>
                    </a:lnTo>
                    <a:lnTo>
                      <a:pt x="55" y="63"/>
                    </a:lnTo>
                    <a:lnTo>
                      <a:pt x="53" y="72"/>
                    </a:lnTo>
                    <a:lnTo>
                      <a:pt x="51" y="76"/>
                    </a:lnTo>
                    <a:lnTo>
                      <a:pt x="49" y="82"/>
                    </a:lnTo>
                    <a:lnTo>
                      <a:pt x="47" y="87"/>
                    </a:lnTo>
                    <a:lnTo>
                      <a:pt x="47" y="93"/>
                    </a:lnTo>
                    <a:lnTo>
                      <a:pt x="43" y="99"/>
                    </a:lnTo>
                    <a:lnTo>
                      <a:pt x="40" y="106"/>
                    </a:lnTo>
                    <a:lnTo>
                      <a:pt x="36" y="114"/>
                    </a:lnTo>
                    <a:lnTo>
                      <a:pt x="30" y="120"/>
                    </a:lnTo>
                    <a:lnTo>
                      <a:pt x="26" y="125"/>
                    </a:lnTo>
                    <a:lnTo>
                      <a:pt x="23" y="129"/>
                    </a:lnTo>
                    <a:lnTo>
                      <a:pt x="19" y="131"/>
                    </a:lnTo>
                    <a:lnTo>
                      <a:pt x="15" y="133"/>
                    </a:lnTo>
                    <a:lnTo>
                      <a:pt x="11" y="131"/>
                    </a:lnTo>
                    <a:lnTo>
                      <a:pt x="7" y="131"/>
                    </a:lnTo>
                    <a:lnTo>
                      <a:pt x="5" y="127"/>
                    </a:lnTo>
                    <a:lnTo>
                      <a:pt x="4" y="121"/>
                    </a:lnTo>
                    <a:lnTo>
                      <a:pt x="2" y="118"/>
                    </a:lnTo>
                    <a:lnTo>
                      <a:pt x="0" y="114"/>
                    </a:lnTo>
                    <a:lnTo>
                      <a:pt x="0" y="108"/>
                    </a:lnTo>
                    <a:lnTo>
                      <a:pt x="0" y="102"/>
                    </a:lnTo>
                    <a:lnTo>
                      <a:pt x="0" y="97"/>
                    </a:lnTo>
                    <a:lnTo>
                      <a:pt x="0" y="91"/>
                    </a:lnTo>
                    <a:lnTo>
                      <a:pt x="0" y="83"/>
                    </a:lnTo>
                    <a:lnTo>
                      <a:pt x="2" y="76"/>
                    </a:lnTo>
                    <a:lnTo>
                      <a:pt x="0" y="68"/>
                    </a:lnTo>
                    <a:lnTo>
                      <a:pt x="0" y="63"/>
                    </a:lnTo>
                    <a:lnTo>
                      <a:pt x="0" y="59"/>
                    </a:lnTo>
                    <a:lnTo>
                      <a:pt x="2" y="53"/>
                    </a:lnTo>
                    <a:lnTo>
                      <a:pt x="4" y="44"/>
                    </a:lnTo>
                    <a:lnTo>
                      <a:pt x="9" y="34"/>
                    </a:lnTo>
                    <a:lnTo>
                      <a:pt x="13" y="26"/>
                    </a:lnTo>
                    <a:lnTo>
                      <a:pt x="19" y="19"/>
                    </a:lnTo>
                    <a:lnTo>
                      <a:pt x="26" y="9"/>
                    </a:lnTo>
                    <a:lnTo>
                      <a:pt x="32" y="0"/>
                    </a:lnTo>
                    <a:lnTo>
                      <a:pt x="32"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5" name=""/>
              <p:cNvSpPr/>
              <p:nvPr/>
            </p:nvSpPr>
            <p:spPr>
              <a:xfrm flipH="1">
                <a:off x="6131520" y="4709160"/>
                <a:ext cx="5760" cy="20520"/>
              </a:xfrm>
              <a:custGeom>
                <a:avLst/>
                <a:gdLst/>
                <a:ahLst/>
                <a:rect l="l" t="t" r="r" b="b"/>
                <a:pathLst>
                  <a:path w="25" h="89">
                    <a:moveTo>
                      <a:pt x="4" y="0"/>
                    </a:moveTo>
                    <a:lnTo>
                      <a:pt x="4" y="6"/>
                    </a:lnTo>
                    <a:lnTo>
                      <a:pt x="6" y="11"/>
                    </a:lnTo>
                    <a:lnTo>
                      <a:pt x="8" y="17"/>
                    </a:lnTo>
                    <a:lnTo>
                      <a:pt x="10" y="23"/>
                    </a:lnTo>
                    <a:lnTo>
                      <a:pt x="10" y="27"/>
                    </a:lnTo>
                    <a:lnTo>
                      <a:pt x="12" y="32"/>
                    </a:lnTo>
                    <a:lnTo>
                      <a:pt x="14" y="38"/>
                    </a:lnTo>
                    <a:lnTo>
                      <a:pt x="14" y="44"/>
                    </a:lnTo>
                    <a:lnTo>
                      <a:pt x="16" y="48"/>
                    </a:lnTo>
                    <a:lnTo>
                      <a:pt x="17" y="53"/>
                    </a:lnTo>
                    <a:lnTo>
                      <a:pt x="19" y="59"/>
                    </a:lnTo>
                    <a:lnTo>
                      <a:pt x="21" y="65"/>
                    </a:lnTo>
                    <a:lnTo>
                      <a:pt x="23" y="70"/>
                    </a:lnTo>
                    <a:lnTo>
                      <a:pt x="23" y="76"/>
                    </a:lnTo>
                    <a:lnTo>
                      <a:pt x="23" y="82"/>
                    </a:lnTo>
                    <a:lnTo>
                      <a:pt x="25" y="89"/>
                    </a:lnTo>
                    <a:lnTo>
                      <a:pt x="21" y="89"/>
                    </a:lnTo>
                    <a:lnTo>
                      <a:pt x="17" y="89"/>
                    </a:lnTo>
                    <a:lnTo>
                      <a:pt x="16" y="82"/>
                    </a:lnTo>
                    <a:lnTo>
                      <a:pt x="14" y="76"/>
                    </a:lnTo>
                    <a:lnTo>
                      <a:pt x="12" y="68"/>
                    </a:lnTo>
                    <a:lnTo>
                      <a:pt x="10" y="63"/>
                    </a:lnTo>
                    <a:lnTo>
                      <a:pt x="8" y="55"/>
                    </a:lnTo>
                    <a:lnTo>
                      <a:pt x="6" y="49"/>
                    </a:lnTo>
                    <a:lnTo>
                      <a:pt x="4" y="42"/>
                    </a:lnTo>
                    <a:lnTo>
                      <a:pt x="4" y="36"/>
                    </a:lnTo>
                    <a:lnTo>
                      <a:pt x="0" y="27"/>
                    </a:lnTo>
                    <a:lnTo>
                      <a:pt x="0" y="19"/>
                    </a:lnTo>
                    <a:lnTo>
                      <a:pt x="0" y="10"/>
                    </a:lnTo>
                    <a:lnTo>
                      <a:pt x="4" y="0"/>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6" name=""/>
              <p:cNvSpPr/>
              <p:nvPr/>
            </p:nvSpPr>
            <p:spPr>
              <a:xfrm flipH="1">
                <a:off x="5778720" y="4725720"/>
                <a:ext cx="26280" cy="123120"/>
              </a:xfrm>
              <a:custGeom>
                <a:avLst/>
                <a:gdLst/>
                <a:ahLst/>
                <a:rect l="l" t="t" r="r" b="b"/>
                <a:pathLst>
                  <a:path w="114" h="534">
                    <a:moveTo>
                      <a:pt x="106" y="0"/>
                    </a:moveTo>
                    <a:lnTo>
                      <a:pt x="112" y="14"/>
                    </a:lnTo>
                    <a:lnTo>
                      <a:pt x="114" y="31"/>
                    </a:lnTo>
                    <a:lnTo>
                      <a:pt x="114" y="46"/>
                    </a:lnTo>
                    <a:lnTo>
                      <a:pt x="112" y="63"/>
                    </a:lnTo>
                    <a:lnTo>
                      <a:pt x="106" y="80"/>
                    </a:lnTo>
                    <a:lnTo>
                      <a:pt x="98" y="97"/>
                    </a:lnTo>
                    <a:lnTo>
                      <a:pt x="89" y="114"/>
                    </a:lnTo>
                    <a:lnTo>
                      <a:pt x="81" y="135"/>
                    </a:lnTo>
                    <a:lnTo>
                      <a:pt x="72" y="152"/>
                    </a:lnTo>
                    <a:lnTo>
                      <a:pt x="64" y="173"/>
                    </a:lnTo>
                    <a:lnTo>
                      <a:pt x="57" y="190"/>
                    </a:lnTo>
                    <a:lnTo>
                      <a:pt x="51" y="211"/>
                    </a:lnTo>
                    <a:lnTo>
                      <a:pt x="45" y="230"/>
                    </a:lnTo>
                    <a:lnTo>
                      <a:pt x="43" y="251"/>
                    </a:lnTo>
                    <a:lnTo>
                      <a:pt x="45" y="272"/>
                    </a:lnTo>
                    <a:lnTo>
                      <a:pt x="49" y="291"/>
                    </a:lnTo>
                    <a:lnTo>
                      <a:pt x="47" y="308"/>
                    </a:lnTo>
                    <a:lnTo>
                      <a:pt x="47" y="323"/>
                    </a:lnTo>
                    <a:lnTo>
                      <a:pt x="45" y="339"/>
                    </a:lnTo>
                    <a:lnTo>
                      <a:pt x="45" y="356"/>
                    </a:lnTo>
                    <a:lnTo>
                      <a:pt x="45" y="369"/>
                    </a:lnTo>
                    <a:lnTo>
                      <a:pt x="43" y="384"/>
                    </a:lnTo>
                    <a:lnTo>
                      <a:pt x="43" y="399"/>
                    </a:lnTo>
                    <a:lnTo>
                      <a:pt x="43" y="415"/>
                    </a:lnTo>
                    <a:lnTo>
                      <a:pt x="41" y="430"/>
                    </a:lnTo>
                    <a:lnTo>
                      <a:pt x="41" y="445"/>
                    </a:lnTo>
                    <a:lnTo>
                      <a:pt x="41" y="458"/>
                    </a:lnTo>
                    <a:lnTo>
                      <a:pt x="43" y="474"/>
                    </a:lnTo>
                    <a:lnTo>
                      <a:pt x="43" y="489"/>
                    </a:lnTo>
                    <a:lnTo>
                      <a:pt x="45" y="502"/>
                    </a:lnTo>
                    <a:lnTo>
                      <a:pt x="47" y="517"/>
                    </a:lnTo>
                    <a:lnTo>
                      <a:pt x="49" y="534"/>
                    </a:lnTo>
                    <a:lnTo>
                      <a:pt x="40" y="502"/>
                    </a:lnTo>
                    <a:lnTo>
                      <a:pt x="30" y="470"/>
                    </a:lnTo>
                    <a:lnTo>
                      <a:pt x="22" y="437"/>
                    </a:lnTo>
                    <a:lnTo>
                      <a:pt x="15" y="403"/>
                    </a:lnTo>
                    <a:lnTo>
                      <a:pt x="9" y="365"/>
                    </a:lnTo>
                    <a:lnTo>
                      <a:pt x="3" y="329"/>
                    </a:lnTo>
                    <a:lnTo>
                      <a:pt x="0" y="291"/>
                    </a:lnTo>
                    <a:lnTo>
                      <a:pt x="0" y="257"/>
                    </a:lnTo>
                    <a:lnTo>
                      <a:pt x="2" y="219"/>
                    </a:lnTo>
                    <a:lnTo>
                      <a:pt x="5" y="183"/>
                    </a:lnTo>
                    <a:lnTo>
                      <a:pt x="11" y="147"/>
                    </a:lnTo>
                    <a:lnTo>
                      <a:pt x="22" y="112"/>
                    </a:lnTo>
                    <a:lnTo>
                      <a:pt x="36" y="80"/>
                    </a:lnTo>
                    <a:lnTo>
                      <a:pt x="55" y="52"/>
                    </a:lnTo>
                    <a:lnTo>
                      <a:pt x="76" y="23"/>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5746680" y="4729680"/>
                <a:ext cx="11880" cy="8640"/>
              </a:xfrm>
              <a:custGeom>
                <a:avLst/>
                <a:gdLst/>
                <a:ahLst/>
                <a:rect l="l" t="t" r="r" b="b"/>
                <a:pathLst>
                  <a:path w="53" h="38">
                    <a:moveTo>
                      <a:pt x="29" y="0"/>
                    </a:moveTo>
                    <a:lnTo>
                      <a:pt x="38" y="2"/>
                    </a:lnTo>
                    <a:lnTo>
                      <a:pt x="46" y="6"/>
                    </a:lnTo>
                    <a:lnTo>
                      <a:pt x="50" y="8"/>
                    </a:lnTo>
                    <a:lnTo>
                      <a:pt x="53" y="14"/>
                    </a:lnTo>
                    <a:lnTo>
                      <a:pt x="51" y="19"/>
                    </a:lnTo>
                    <a:lnTo>
                      <a:pt x="48" y="25"/>
                    </a:lnTo>
                    <a:lnTo>
                      <a:pt x="42" y="27"/>
                    </a:lnTo>
                    <a:lnTo>
                      <a:pt x="38" y="31"/>
                    </a:lnTo>
                    <a:lnTo>
                      <a:pt x="31" y="33"/>
                    </a:lnTo>
                    <a:lnTo>
                      <a:pt x="25" y="37"/>
                    </a:lnTo>
                    <a:lnTo>
                      <a:pt x="17" y="38"/>
                    </a:lnTo>
                    <a:lnTo>
                      <a:pt x="12" y="38"/>
                    </a:lnTo>
                    <a:lnTo>
                      <a:pt x="6" y="38"/>
                    </a:lnTo>
                    <a:lnTo>
                      <a:pt x="4" y="38"/>
                    </a:lnTo>
                    <a:lnTo>
                      <a:pt x="0" y="35"/>
                    </a:lnTo>
                    <a:lnTo>
                      <a:pt x="2" y="31"/>
                    </a:lnTo>
                    <a:lnTo>
                      <a:pt x="4" y="25"/>
                    </a:lnTo>
                    <a:lnTo>
                      <a:pt x="12" y="19"/>
                    </a:lnTo>
                    <a:lnTo>
                      <a:pt x="13" y="14"/>
                    </a:lnTo>
                    <a:lnTo>
                      <a:pt x="19" y="10"/>
                    </a:lnTo>
                    <a:lnTo>
                      <a:pt x="23" y="4"/>
                    </a:lnTo>
                    <a:lnTo>
                      <a:pt x="29" y="0"/>
                    </a:lnTo>
                    <a:lnTo>
                      <a:pt x="29"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8" name=""/>
              <p:cNvSpPr/>
              <p:nvPr/>
            </p:nvSpPr>
            <p:spPr>
              <a:xfrm flipH="1">
                <a:off x="5992920" y="4741920"/>
                <a:ext cx="7200" cy="25560"/>
              </a:xfrm>
              <a:custGeom>
                <a:avLst/>
                <a:gdLst/>
                <a:ahLst/>
                <a:rect l="l" t="t" r="r" b="b"/>
                <a:pathLst>
                  <a:path w="33" h="112">
                    <a:moveTo>
                      <a:pt x="33" y="0"/>
                    </a:moveTo>
                    <a:lnTo>
                      <a:pt x="31" y="9"/>
                    </a:lnTo>
                    <a:lnTo>
                      <a:pt x="29" y="21"/>
                    </a:lnTo>
                    <a:lnTo>
                      <a:pt x="27" y="32"/>
                    </a:lnTo>
                    <a:lnTo>
                      <a:pt x="25" y="47"/>
                    </a:lnTo>
                    <a:lnTo>
                      <a:pt x="23" y="59"/>
                    </a:lnTo>
                    <a:lnTo>
                      <a:pt x="21" y="72"/>
                    </a:lnTo>
                    <a:lnTo>
                      <a:pt x="19" y="83"/>
                    </a:lnTo>
                    <a:lnTo>
                      <a:pt x="18" y="97"/>
                    </a:lnTo>
                    <a:lnTo>
                      <a:pt x="16" y="104"/>
                    </a:lnTo>
                    <a:lnTo>
                      <a:pt x="12" y="110"/>
                    </a:lnTo>
                    <a:lnTo>
                      <a:pt x="10" y="112"/>
                    </a:lnTo>
                    <a:lnTo>
                      <a:pt x="8" y="110"/>
                    </a:lnTo>
                    <a:lnTo>
                      <a:pt x="4" y="104"/>
                    </a:lnTo>
                    <a:lnTo>
                      <a:pt x="2" y="95"/>
                    </a:lnTo>
                    <a:lnTo>
                      <a:pt x="0" y="78"/>
                    </a:lnTo>
                    <a:lnTo>
                      <a:pt x="0" y="57"/>
                    </a:lnTo>
                    <a:lnTo>
                      <a:pt x="2" y="49"/>
                    </a:lnTo>
                    <a:lnTo>
                      <a:pt x="8" y="41"/>
                    </a:lnTo>
                    <a:lnTo>
                      <a:pt x="10" y="34"/>
                    </a:lnTo>
                    <a:lnTo>
                      <a:pt x="16" y="26"/>
                    </a:lnTo>
                    <a:lnTo>
                      <a:pt x="19" y="17"/>
                    </a:lnTo>
                    <a:lnTo>
                      <a:pt x="23" y="11"/>
                    </a:lnTo>
                    <a:lnTo>
                      <a:pt x="27" y="5"/>
                    </a:lnTo>
                    <a:lnTo>
                      <a:pt x="33" y="0"/>
                    </a:lnTo>
                    <a:lnTo>
                      <a:pt x="3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 name=""/>
              <p:cNvSpPr/>
              <p:nvPr/>
            </p:nvSpPr>
            <p:spPr>
              <a:xfrm flipH="1">
                <a:off x="5739840" y="4746600"/>
                <a:ext cx="18000" cy="13320"/>
              </a:xfrm>
              <a:custGeom>
                <a:avLst/>
                <a:gdLst/>
                <a:ahLst/>
                <a:rect l="l" t="t" r="r" b="b"/>
                <a:pathLst>
                  <a:path w="78" h="59">
                    <a:moveTo>
                      <a:pt x="59" y="0"/>
                    </a:moveTo>
                    <a:lnTo>
                      <a:pt x="66" y="5"/>
                    </a:lnTo>
                    <a:lnTo>
                      <a:pt x="72" y="11"/>
                    </a:lnTo>
                    <a:lnTo>
                      <a:pt x="76" y="17"/>
                    </a:lnTo>
                    <a:lnTo>
                      <a:pt x="78" y="24"/>
                    </a:lnTo>
                    <a:lnTo>
                      <a:pt x="78" y="30"/>
                    </a:lnTo>
                    <a:lnTo>
                      <a:pt x="76" y="36"/>
                    </a:lnTo>
                    <a:lnTo>
                      <a:pt x="74" y="41"/>
                    </a:lnTo>
                    <a:lnTo>
                      <a:pt x="68" y="45"/>
                    </a:lnTo>
                    <a:lnTo>
                      <a:pt x="63" y="49"/>
                    </a:lnTo>
                    <a:lnTo>
                      <a:pt x="59" y="51"/>
                    </a:lnTo>
                    <a:lnTo>
                      <a:pt x="51" y="53"/>
                    </a:lnTo>
                    <a:lnTo>
                      <a:pt x="45" y="57"/>
                    </a:lnTo>
                    <a:lnTo>
                      <a:pt x="38" y="57"/>
                    </a:lnTo>
                    <a:lnTo>
                      <a:pt x="30" y="59"/>
                    </a:lnTo>
                    <a:lnTo>
                      <a:pt x="21" y="59"/>
                    </a:lnTo>
                    <a:lnTo>
                      <a:pt x="15" y="59"/>
                    </a:lnTo>
                    <a:lnTo>
                      <a:pt x="6" y="55"/>
                    </a:lnTo>
                    <a:lnTo>
                      <a:pt x="2" y="51"/>
                    </a:lnTo>
                    <a:lnTo>
                      <a:pt x="0" y="47"/>
                    </a:lnTo>
                    <a:lnTo>
                      <a:pt x="2" y="43"/>
                    </a:lnTo>
                    <a:lnTo>
                      <a:pt x="4" y="40"/>
                    </a:lnTo>
                    <a:lnTo>
                      <a:pt x="9" y="36"/>
                    </a:lnTo>
                    <a:lnTo>
                      <a:pt x="11" y="30"/>
                    </a:lnTo>
                    <a:lnTo>
                      <a:pt x="17" y="24"/>
                    </a:lnTo>
                    <a:lnTo>
                      <a:pt x="23" y="19"/>
                    </a:lnTo>
                    <a:lnTo>
                      <a:pt x="30" y="17"/>
                    </a:lnTo>
                    <a:lnTo>
                      <a:pt x="38" y="15"/>
                    </a:lnTo>
                    <a:lnTo>
                      <a:pt x="45" y="9"/>
                    </a:lnTo>
                    <a:lnTo>
                      <a:pt x="51" y="3"/>
                    </a:lnTo>
                    <a:lnTo>
                      <a:pt x="59" y="0"/>
                    </a:lnTo>
                    <a:lnTo>
                      <a:pt x="59"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10" name=""/>
              <p:cNvSpPr/>
              <p:nvPr/>
            </p:nvSpPr>
            <p:spPr>
              <a:xfrm flipH="1">
                <a:off x="6087960" y="4765320"/>
                <a:ext cx="25200" cy="29880"/>
              </a:xfrm>
              <a:custGeom>
                <a:avLst/>
                <a:gdLst/>
                <a:ahLst/>
                <a:rect l="l" t="t" r="r" b="b"/>
                <a:pathLst>
                  <a:path w="110" h="132">
                    <a:moveTo>
                      <a:pt x="0" y="0"/>
                    </a:moveTo>
                    <a:lnTo>
                      <a:pt x="4" y="6"/>
                    </a:lnTo>
                    <a:lnTo>
                      <a:pt x="11" y="14"/>
                    </a:lnTo>
                    <a:lnTo>
                      <a:pt x="19" y="21"/>
                    </a:lnTo>
                    <a:lnTo>
                      <a:pt x="29" y="29"/>
                    </a:lnTo>
                    <a:lnTo>
                      <a:pt x="36" y="38"/>
                    </a:lnTo>
                    <a:lnTo>
                      <a:pt x="48" y="46"/>
                    </a:lnTo>
                    <a:lnTo>
                      <a:pt x="57" y="54"/>
                    </a:lnTo>
                    <a:lnTo>
                      <a:pt x="67" y="63"/>
                    </a:lnTo>
                    <a:lnTo>
                      <a:pt x="72" y="71"/>
                    </a:lnTo>
                    <a:lnTo>
                      <a:pt x="80" y="80"/>
                    </a:lnTo>
                    <a:lnTo>
                      <a:pt x="86" y="88"/>
                    </a:lnTo>
                    <a:lnTo>
                      <a:pt x="93" y="95"/>
                    </a:lnTo>
                    <a:lnTo>
                      <a:pt x="97" y="105"/>
                    </a:lnTo>
                    <a:lnTo>
                      <a:pt x="103" y="113"/>
                    </a:lnTo>
                    <a:lnTo>
                      <a:pt x="106" y="122"/>
                    </a:lnTo>
                    <a:lnTo>
                      <a:pt x="110" y="132"/>
                    </a:lnTo>
                    <a:lnTo>
                      <a:pt x="103" y="128"/>
                    </a:lnTo>
                    <a:lnTo>
                      <a:pt x="97" y="124"/>
                    </a:lnTo>
                    <a:lnTo>
                      <a:pt x="89" y="120"/>
                    </a:lnTo>
                    <a:lnTo>
                      <a:pt x="84" y="116"/>
                    </a:lnTo>
                    <a:lnTo>
                      <a:pt x="76" y="113"/>
                    </a:lnTo>
                    <a:lnTo>
                      <a:pt x="70" y="107"/>
                    </a:lnTo>
                    <a:lnTo>
                      <a:pt x="65" y="101"/>
                    </a:lnTo>
                    <a:lnTo>
                      <a:pt x="61" y="95"/>
                    </a:lnTo>
                    <a:lnTo>
                      <a:pt x="53" y="90"/>
                    </a:lnTo>
                    <a:lnTo>
                      <a:pt x="48" y="84"/>
                    </a:lnTo>
                    <a:lnTo>
                      <a:pt x="42" y="78"/>
                    </a:lnTo>
                    <a:lnTo>
                      <a:pt x="36" y="73"/>
                    </a:lnTo>
                    <a:lnTo>
                      <a:pt x="32" y="67"/>
                    </a:lnTo>
                    <a:lnTo>
                      <a:pt x="29" y="61"/>
                    </a:lnTo>
                    <a:lnTo>
                      <a:pt x="23" y="55"/>
                    </a:lnTo>
                    <a:lnTo>
                      <a:pt x="21" y="50"/>
                    </a:lnTo>
                    <a:lnTo>
                      <a:pt x="15" y="44"/>
                    </a:lnTo>
                    <a:lnTo>
                      <a:pt x="13" y="38"/>
                    </a:lnTo>
                    <a:lnTo>
                      <a:pt x="10" y="31"/>
                    </a:lnTo>
                    <a:lnTo>
                      <a:pt x="8" y="25"/>
                    </a:lnTo>
                    <a:lnTo>
                      <a:pt x="4" y="17"/>
                    </a:lnTo>
                    <a:lnTo>
                      <a:pt x="2" y="12"/>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flipH="1">
                <a:off x="5734440" y="4766760"/>
                <a:ext cx="15120" cy="15480"/>
              </a:xfrm>
              <a:custGeom>
                <a:avLst/>
                <a:gdLst/>
                <a:ahLst/>
                <a:rect l="l" t="t" r="r" b="b"/>
                <a:pathLst>
                  <a:path w="67" h="68">
                    <a:moveTo>
                      <a:pt x="44" y="0"/>
                    </a:moveTo>
                    <a:lnTo>
                      <a:pt x="51" y="8"/>
                    </a:lnTo>
                    <a:lnTo>
                      <a:pt x="59" y="15"/>
                    </a:lnTo>
                    <a:lnTo>
                      <a:pt x="63" y="21"/>
                    </a:lnTo>
                    <a:lnTo>
                      <a:pt x="67" y="29"/>
                    </a:lnTo>
                    <a:lnTo>
                      <a:pt x="67" y="34"/>
                    </a:lnTo>
                    <a:lnTo>
                      <a:pt x="67" y="40"/>
                    </a:lnTo>
                    <a:lnTo>
                      <a:pt x="65" y="46"/>
                    </a:lnTo>
                    <a:lnTo>
                      <a:pt x="65" y="51"/>
                    </a:lnTo>
                    <a:lnTo>
                      <a:pt x="57" y="57"/>
                    </a:lnTo>
                    <a:lnTo>
                      <a:pt x="48" y="63"/>
                    </a:lnTo>
                    <a:lnTo>
                      <a:pt x="42" y="65"/>
                    </a:lnTo>
                    <a:lnTo>
                      <a:pt x="34" y="67"/>
                    </a:lnTo>
                    <a:lnTo>
                      <a:pt x="29" y="67"/>
                    </a:lnTo>
                    <a:lnTo>
                      <a:pt x="25" y="68"/>
                    </a:lnTo>
                    <a:lnTo>
                      <a:pt x="17" y="67"/>
                    </a:lnTo>
                    <a:lnTo>
                      <a:pt x="11" y="65"/>
                    </a:lnTo>
                    <a:lnTo>
                      <a:pt x="6" y="63"/>
                    </a:lnTo>
                    <a:lnTo>
                      <a:pt x="4" y="59"/>
                    </a:lnTo>
                    <a:lnTo>
                      <a:pt x="0" y="55"/>
                    </a:lnTo>
                    <a:lnTo>
                      <a:pt x="0" y="49"/>
                    </a:lnTo>
                    <a:lnTo>
                      <a:pt x="2" y="44"/>
                    </a:lnTo>
                    <a:lnTo>
                      <a:pt x="8" y="36"/>
                    </a:lnTo>
                    <a:lnTo>
                      <a:pt x="10" y="30"/>
                    </a:lnTo>
                    <a:lnTo>
                      <a:pt x="17" y="23"/>
                    </a:lnTo>
                    <a:lnTo>
                      <a:pt x="23" y="15"/>
                    </a:lnTo>
                    <a:lnTo>
                      <a:pt x="32" y="8"/>
                    </a:lnTo>
                    <a:lnTo>
                      <a:pt x="38" y="6"/>
                    </a:lnTo>
                    <a:lnTo>
                      <a:pt x="44" y="0"/>
                    </a:lnTo>
                    <a:lnTo>
                      <a:pt x="4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12" name=""/>
              <p:cNvSpPr/>
              <p:nvPr/>
            </p:nvSpPr>
            <p:spPr>
              <a:xfrm flipH="1">
                <a:off x="5730840" y="4786920"/>
                <a:ext cx="17280" cy="16560"/>
              </a:xfrm>
              <a:custGeom>
                <a:avLst/>
                <a:gdLst/>
                <a:ahLst/>
                <a:rect l="l" t="t" r="r" b="b"/>
                <a:pathLst>
                  <a:path w="76" h="73">
                    <a:moveTo>
                      <a:pt x="62" y="0"/>
                    </a:moveTo>
                    <a:lnTo>
                      <a:pt x="66" y="6"/>
                    </a:lnTo>
                    <a:lnTo>
                      <a:pt x="70" y="12"/>
                    </a:lnTo>
                    <a:lnTo>
                      <a:pt x="74" y="18"/>
                    </a:lnTo>
                    <a:lnTo>
                      <a:pt x="76" y="25"/>
                    </a:lnTo>
                    <a:lnTo>
                      <a:pt x="76" y="29"/>
                    </a:lnTo>
                    <a:lnTo>
                      <a:pt x="76" y="37"/>
                    </a:lnTo>
                    <a:lnTo>
                      <a:pt x="74" y="42"/>
                    </a:lnTo>
                    <a:lnTo>
                      <a:pt x="74" y="48"/>
                    </a:lnTo>
                    <a:lnTo>
                      <a:pt x="68" y="54"/>
                    </a:lnTo>
                    <a:lnTo>
                      <a:pt x="60" y="61"/>
                    </a:lnTo>
                    <a:lnTo>
                      <a:pt x="51" y="65"/>
                    </a:lnTo>
                    <a:lnTo>
                      <a:pt x="41" y="71"/>
                    </a:lnTo>
                    <a:lnTo>
                      <a:pt x="34" y="73"/>
                    </a:lnTo>
                    <a:lnTo>
                      <a:pt x="28" y="73"/>
                    </a:lnTo>
                    <a:lnTo>
                      <a:pt x="21" y="73"/>
                    </a:lnTo>
                    <a:lnTo>
                      <a:pt x="17" y="73"/>
                    </a:lnTo>
                    <a:lnTo>
                      <a:pt x="7" y="71"/>
                    </a:lnTo>
                    <a:lnTo>
                      <a:pt x="3" y="69"/>
                    </a:lnTo>
                    <a:lnTo>
                      <a:pt x="0" y="61"/>
                    </a:lnTo>
                    <a:lnTo>
                      <a:pt x="3" y="52"/>
                    </a:lnTo>
                    <a:lnTo>
                      <a:pt x="7" y="46"/>
                    </a:lnTo>
                    <a:lnTo>
                      <a:pt x="13" y="40"/>
                    </a:lnTo>
                    <a:lnTo>
                      <a:pt x="15" y="37"/>
                    </a:lnTo>
                    <a:lnTo>
                      <a:pt x="21" y="33"/>
                    </a:lnTo>
                    <a:lnTo>
                      <a:pt x="24" y="29"/>
                    </a:lnTo>
                    <a:lnTo>
                      <a:pt x="32" y="25"/>
                    </a:lnTo>
                    <a:lnTo>
                      <a:pt x="34" y="19"/>
                    </a:lnTo>
                    <a:lnTo>
                      <a:pt x="38" y="16"/>
                    </a:lnTo>
                    <a:lnTo>
                      <a:pt x="41" y="14"/>
                    </a:lnTo>
                    <a:lnTo>
                      <a:pt x="45" y="12"/>
                    </a:lnTo>
                    <a:lnTo>
                      <a:pt x="55" y="6"/>
                    </a:lnTo>
                    <a:lnTo>
                      <a:pt x="62" y="0"/>
                    </a:lnTo>
                    <a:lnTo>
                      <a:pt x="62"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3" name=""/>
              <p:cNvSpPr/>
              <p:nvPr/>
            </p:nvSpPr>
            <p:spPr>
              <a:xfrm flipH="1">
                <a:off x="5727960" y="4811760"/>
                <a:ext cx="23400" cy="18720"/>
              </a:xfrm>
              <a:custGeom>
                <a:avLst/>
                <a:gdLst/>
                <a:ahLst/>
                <a:rect l="l" t="t" r="r" b="b"/>
                <a:pathLst>
                  <a:path w="102" h="82">
                    <a:moveTo>
                      <a:pt x="79" y="0"/>
                    </a:moveTo>
                    <a:lnTo>
                      <a:pt x="89" y="6"/>
                    </a:lnTo>
                    <a:lnTo>
                      <a:pt x="95" y="13"/>
                    </a:lnTo>
                    <a:lnTo>
                      <a:pt x="98" y="21"/>
                    </a:lnTo>
                    <a:lnTo>
                      <a:pt x="102" y="26"/>
                    </a:lnTo>
                    <a:lnTo>
                      <a:pt x="100" y="32"/>
                    </a:lnTo>
                    <a:lnTo>
                      <a:pt x="98" y="38"/>
                    </a:lnTo>
                    <a:lnTo>
                      <a:pt x="95" y="44"/>
                    </a:lnTo>
                    <a:lnTo>
                      <a:pt x="91" y="49"/>
                    </a:lnTo>
                    <a:lnTo>
                      <a:pt x="85" y="55"/>
                    </a:lnTo>
                    <a:lnTo>
                      <a:pt x="79" y="61"/>
                    </a:lnTo>
                    <a:lnTo>
                      <a:pt x="74" y="64"/>
                    </a:lnTo>
                    <a:lnTo>
                      <a:pt x="66" y="68"/>
                    </a:lnTo>
                    <a:lnTo>
                      <a:pt x="58" y="72"/>
                    </a:lnTo>
                    <a:lnTo>
                      <a:pt x="51" y="74"/>
                    </a:lnTo>
                    <a:lnTo>
                      <a:pt x="43" y="76"/>
                    </a:lnTo>
                    <a:lnTo>
                      <a:pt x="38" y="80"/>
                    </a:lnTo>
                    <a:lnTo>
                      <a:pt x="30" y="80"/>
                    </a:lnTo>
                    <a:lnTo>
                      <a:pt x="24" y="82"/>
                    </a:lnTo>
                    <a:lnTo>
                      <a:pt x="17" y="82"/>
                    </a:lnTo>
                    <a:lnTo>
                      <a:pt x="13" y="82"/>
                    </a:lnTo>
                    <a:lnTo>
                      <a:pt x="3" y="76"/>
                    </a:lnTo>
                    <a:lnTo>
                      <a:pt x="1" y="68"/>
                    </a:lnTo>
                    <a:lnTo>
                      <a:pt x="0" y="64"/>
                    </a:lnTo>
                    <a:lnTo>
                      <a:pt x="1" y="61"/>
                    </a:lnTo>
                    <a:lnTo>
                      <a:pt x="1" y="55"/>
                    </a:lnTo>
                    <a:lnTo>
                      <a:pt x="5" y="51"/>
                    </a:lnTo>
                    <a:lnTo>
                      <a:pt x="7" y="44"/>
                    </a:lnTo>
                    <a:lnTo>
                      <a:pt x="13" y="36"/>
                    </a:lnTo>
                    <a:lnTo>
                      <a:pt x="19" y="28"/>
                    </a:lnTo>
                    <a:lnTo>
                      <a:pt x="26" y="19"/>
                    </a:lnTo>
                    <a:lnTo>
                      <a:pt x="32" y="17"/>
                    </a:lnTo>
                    <a:lnTo>
                      <a:pt x="39" y="17"/>
                    </a:lnTo>
                    <a:lnTo>
                      <a:pt x="47" y="13"/>
                    </a:lnTo>
                    <a:lnTo>
                      <a:pt x="53" y="13"/>
                    </a:lnTo>
                    <a:lnTo>
                      <a:pt x="58" y="9"/>
                    </a:lnTo>
                    <a:lnTo>
                      <a:pt x="66" y="7"/>
                    </a:lnTo>
                    <a:lnTo>
                      <a:pt x="72" y="4"/>
                    </a:lnTo>
                    <a:lnTo>
                      <a:pt x="79" y="0"/>
                    </a:lnTo>
                    <a:lnTo>
                      <a:pt x="7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4" name=""/>
              <p:cNvSpPr/>
              <p:nvPr/>
            </p:nvSpPr>
            <p:spPr>
              <a:xfrm flipH="1">
                <a:off x="6051600" y="4826880"/>
                <a:ext cx="212400" cy="226800"/>
              </a:xfrm>
              <a:custGeom>
                <a:avLst/>
                <a:gdLst/>
                <a:ahLst/>
                <a:rect l="l" t="t" r="r" b="b"/>
                <a:pathLst>
                  <a:path w="920" h="985">
                    <a:moveTo>
                      <a:pt x="0" y="0"/>
                    </a:moveTo>
                    <a:lnTo>
                      <a:pt x="32" y="80"/>
                    </a:lnTo>
                    <a:lnTo>
                      <a:pt x="70" y="158"/>
                    </a:lnTo>
                    <a:lnTo>
                      <a:pt x="110" y="232"/>
                    </a:lnTo>
                    <a:lnTo>
                      <a:pt x="158" y="303"/>
                    </a:lnTo>
                    <a:lnTo>
                      <a:pt x="207" y="371"/>
                    </a:lnTo>
                    <a:lnTo>
                      <a:pt x="260" y="438"/>
                    </a:lnTo>
                    <a:lnTo>
                      <a:pt x="315" y="500"/>
                    </a:lnTo>
                    <a:lnTo>
                      <a:pt x="374" y="561"/>
                    </a:lnTo>
                    <a:lnTo>
                      <a:pt x="435" y="620"/>
                    </a:lnTo>
                    <a:lnTo>
                      <a:pt x="500" y="677"/>
                    </a:lnTo>
                    <a:lnTo>
                      <a:pt x="566" y="732"/>
                    </a:lnTo>
                    <a:lnTo>
                      <a:pt x="633" y="786"/>
                    </a:lnTo>
                    <a:lnTo>
                      <a:pt x="703" y="837"/>
                    </a:lnTo>
                    <a:lnTo>
                      <a:pt x="774" y="886"/>
                    </a:lnTo>
                    <a:lnTo>
                      <a:pt x="846" y="936"/>
                    </a:lnTo>
                    <a:lnTo>
                      <a:pt x="920" y="985"/>
                    </a:lnTo>
                    <a:lnTo>
                      <a:pt x="897" y="983"/>
                    </a:lnTo>
                    <a:lnTo>
                      <a:pt x="876" y="978"/>
                    </a:lnTo>
                    <a:lnTo>
                      <a:pt x="855" y="972"/>
                    </a:lnTo>
                    <a:lnTo>
                      <a:pt x="834" y="964"/>
                    </a:lnTo>
                    <a:lnTo>
                      <a:pt x="814" y="955"/>
                    </a:lnTo>
                    <a:lnTo>
                      <a:pt x="795" y="943"/>
                    </a:lnTo>
                    <a:lnTo>
                      <a:pt x="774" y="932"/>
                    </a:lnTo>
                    <a:lnTo>
                      <a:pt x="753" y="920"/>
                    </a:lnTo>
                    <a:lnTo>
                      <a:pt x="732" y="907"/>
                    </a:lnTo>
                    <a:lnTo>
                      <a:pt x="713" y="892"/>
                    </a:lnTo>
                    <a:lnTo>
                      <a:pt x="692" y="879"/>
                    </a:lnTo>
                    <a:lnTo>
                      <a:pt x="673" y="865"/>
                    </a:lnTo>
                    <a:lnTo>
                      <a:pt x="652" y="852"/>
                    </a:lnTo>
                    <a:lnTo>
                      <a:pt x="633" y="841"/>
                    </a:lnTo>
                    <a:lnTo>
                      <a:pt x="612" y="829"/>
                    </a:lnTo>
                    <a:lnTo>
                      <a:pt x="593" y="820"/>
                    </a:lnTo>
                    <a:lnTo>
                      <a:pt x="538" y="780"/>
                    </a:lnTo>
                    <a:lnTo>
                      <a:pt x="487" y="740"/>
                    </a:lnTo>
                    <a:lnTo>
                      <a:pt x="433" y="696"/>
                    </a:lnTo>
                    <a:lnTo>
                      <a:pt x="382" y="654"/>
                    </a:lnTo>
                    <a:lnTo>
                      <a:pt x="333" y="609"/>
                    </a:lnTo>
                    <a:lnTo>
                      <a:pt x="285" y="561"/>
                    </a:lnTo>
                    <a:lnTo>
                      <a:pt x="239" y="514"/>
                    </a:lnTo>
                    <a:lnTo>
                      <a:pt x="198" y="464"/>
                    </a:lnTo>
                    <a:lnTo>
                      <a:pt x="156" y="411"/>
                    </a:lnTo>
                    <a:lnTo>
                      <a:pt x="122" y="358"/>
                    </a:lnTo>
                    <a:lnTo>
                      <a:pt x="87" y="303"/>
                    </a:lnTo>
                    <a:lnTo>
                      <a:pt x="61" y="246"/>
                    </a:lnTo>
                    <a:lnTo>
                      <a:pt x="36" y="187"/>
                    </a:lnTo>
                    <a:lnTo>
                      <a:pt x="19" y="126"/>
                    </a:lnTo>
                    <a:lnTo>
                      <a:pt x="6" y="63"/>
                    </a:lnTo>
                    <a:lnTo>
                      <a:pt x="0" y="0"/>
                    </a:lnTo>
                    <a:lnTo>
                      <a:pt x="0" y="0"/>
                    </a:lnTo>
                    <a:close/>
                  </a:path>
                </a:pathLst>
              </a:custGeom>
              <a:solidFill>
                <a:srgbClr val="ffcc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a:off x="5945040" y="4826160"/>
                <a:ext cx="24120" cy="12600"/>
              </a:xfrm>
              <a:custGeom>
                <a:avLst/>
                <a:gdLst/>
                <a:ahLst/>
                <a:rect l="l" t="t" r="r" b="b"/>
                <a:pathLst>
                  <a:path w="104" h="57">
                    <a:moveTo>
                      <a:pt x="68" y="1"/>
                    </a:moveTo>
                    <a:lnTo>
                      <a:pt x="77" y="1"/>
                    </a:lnTo>
                    <a:lnTo>
                      <a:pt x="89" y="0"/>
                    </a:lnTo>
                    <a:lnTo>
                      <a:pt x="93" y="0"/>
                    </a:lnTo>
                    <a:lnTo>
                      <a:pt x="97" y="3"/>
                    </a:lnTo>
                    <a:lnTo>
                      <a:pt x="100" y="5"/>
                    </a:lnTo>
                    <a:lnTo>
                      <a:pt x="104" y="13"/>
                    </a:lnTo>
                    <a:lnTo>
                      <a:pt x="97" y="20"/>
                    </a:lnTo>
                    <a:lnTo>
                      <a:pt x="89" y="30"/>
                    </a:lnTo>
                    <a:lnTo>
                      <a:pt x="77" y="36"/>
                    </a:lnTo>
                    <a:lnTo>
                      <a:pt x="70" y="43"/>
                    </a:lnTo>
                    <a:lnTo>
                      <a:pt x="58" y="49"/>
                    </a:lnTo>
                    <a:lnTo>
                      <a:pt x="49" y="53"/>
                    </a:lnTo>
                    <a:lnTo>
                      <a:pt x="41" y="55"/>
                    </a:lnTo>
                    <a:lnTo>
                      <a:pt x="32" y="55"/>
                    </a:lnTo>
                    <a:lnTo>
                      <a:pt x="26" y="55"/>
                    </a:lnTo>
                    <a:lnTo>
                      <a:pt x="19" y="57"/>
                    </a:lnTo>
                    <a:lnTo>
                      <a:pt x="13" y="55"/>
                    </a:lnTo>
                    <a:lnTo>
                      <a:pt x="9" y="55"/>
                    </a:lnTo>
                    <a:lnTo>
                      <a:pt x="3" y="51"/>
                    </a:lnTo>
                    <a:lnTo>
                      <a:pt x="1" y="45"/>
                    </a:lnTo>
                    <a:lnTo>
                      <a:pt x="0" y="41"/>
                    </a:lnTo>
                    <a:lnTo>
                      <a:pt x="1" y="38"/>
                    </a:lnTo>
                    <a:lnTo>
                      <a:pt x="3" y="32"/>
                    </a:lnTo>
                    <a:lnTo>
                      <a:pt x="9" y="28"/>
                    </a:lnTo>
                    <a:lnTo>
                      <a:pt x="15" y="22"/>
                    </a:lnTo>
                    <a:lnTo>
                      <a:pt x="24" y="17"/>
                    </a:lnTo>
                    <a:lnTo>
                      <a:pt x="28" y="15"/>
                    </a:lnTo>
                    <a:lnTo>
                      <a:pt x="34" y="11"/>
                    </a:lnTo>
                    <a:lnTo>
                      <a:pt x="39" y="9"/>
                    </a:lnTo>
                    <a:lnTo>
                      <a:pt x="47" y="5"/>
                    </a:lnTo>
                    <a:lnTo>
                      <a:pt x="53" y="5"/>
                    </a:lnTo>
                    <a:lnTo>
                      <a:pt x="58" y="5"/>
                    </a:lnTo>
                    <a:lnTo>
                      <a:pt x="64" y="3"/>
                    </a:lnTo>
                    <a:lnTo>
                      <a:pt x="68" y="1"/>
                    </a:lnTo>
                    <a:lnTo>
                      <a:pt x="68"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flipH="1">
                <a:off x="5918400" y="4845600"/>
                <a:ext cx="24480" cy="9000"/>
              </a:xfrm>
              <a:custGeom>
                <a:avLst/>
                <a:gdLst/>
                <a:ahLst/>
                <a:rect l="l" t="t" r="r" b="b"/>
                <a:pathLst>
                  <a:path w="104" h="40">
                    <a:moveTo>
                      <a:pt x="49" y="0"/>
                    </a:moveTo>
                    <a:lnTo>
                      <a:pt x="55" y="2"/>
                    </a:lnTo>
                    <a:lnTo>
                      <a:pt x="62" y="6"/>
                    </a:lnTo>
                    <a:lnTo>
                      <a:pt x="70" y="8"/>
                    </a:lnTo>
                    <a:lnTo>
                      <a:pt x="77" y="10"/>
                    </a:lnTo>
                    <a:lnTo>
                      <a:pt x="83" y="14"/>
                    </a:lnTo>
                    <a:lnTo>
                      <a:pt x="91" y="17"/>
                    </a:lnTo>
                    <a:lnTo>
                      <a:pt x="96" y="23"/>
                    </a:lnTo>
                    <a:lnTo>
                      <a:pt x="104" y="29"/>
                    </a:lnTo>
                    <a:lnTo>
                      <a:pt x="98" y="29"/>
                    </a:lnTo>
                    <a:lnTo>
                      <a:pt x="91" y="31"/>
                    </a:lnTo>
                    <a:lnTo>
                      <a:pt x="85" y="31"/>
                    </a:lnTo>
                    <a:lnTo>
                      <a:pt x="79" y="33"/>
                    </a:lnTo>
                    <a:lnTo>
                      <a:pt x="72" y="34"/>
                    </a:lnTo>
                    <a:lnTo>
                      <a:pt x="66" y="34"/>
                    </a:lnTo>
                    <a:lnTo>
                      <a:pt x="60" y="36"/>
                    </a:lnTo>
                    <a:lnTo>
                      <a:pt x="53" y="38"/>
                    </a:lnTo>
                    <a:lnTo>
                      <a:pt x="47" y="38"/>
                    </a:lnTo>
                    <a:lnTo>
                      <a:pt x="39" y="38"/>
                    </a:lnTo>
                    <a:lnTo>
                      <a:pt x="34" y="38"/>
                    </a:lnTo>
                    <a:lnTo>
                      <a:pt x="26" y="40"/>
                    </a:lnTo>
                    <a:lnTo>
                      <a:pt x="20" y="40"/>
                    </a:lnTo>
                    <a:lnTo>
                      <a:pt x="13" y="40"/>
                    </a:lnTo>
                    <a:lnTo>
                      <a:pt x="5" y="40"/>
                    </a:lnTo>
                    <a:lnTo>
                      <a:pt x="0" y="40"/>
                    </a:lnTo>
                    <a:lnTo>
                      <a:pt x="1" y="33"/>
                    </a:lnTo>
                    <a:lnTo>
                      <a:pt x="7" y="27"/>
                    </a:lnTo>
                    <a:lnTo>
                      <a:pt x="15" y="21"/>
                    </a:lnTo>
                    <a:lnTo>
                      <a:pt x="20" y="15"/>
                    </a:lnTo>
                    <a:lnTo>
                      <a:pt x="28" y="10"/>
                    </a:lnTo>
                    <a:lnTo>
                      <a:pt x="34" y="6"/>
                    </a:lnTo>
                    <a:lnTo>
                      <a:pt x="41" y="4"/>
                    </a:lnTo>
                    <a:lnTo>
                      <a:pt x="49" y="0"/>
                    </a:lnTo>
                    <a:lnTo>
                      <a:pt x="49" y="0"/>
                    </a:lnTo>
                    <a:close/>
                  </a:path>
                </a:pathLst>
              </a:custGeom>
              <a:solidFill>
                <a:srgbClr val="ffccd4"/>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7" name=""/>
              <p:cNvSpPr/>
              <p:nvPr/>
            </p:nvSpPr>
            <p:spPr>
              <a:xfrm flipH="1">
                <a:off x="5853960" y="4896360"/>
                <a:ext cx="9720" cy="5400"/>
              </a:xfrm>
              <a:custGeom>
                <a:avLst/>
                <a:gdLst/>
                <a:ahLst/>
                <a:rect l="l" t="t" r="r" b="b"/>
                <a:pathLst>
                  <a:path w="42" h="24">
                    <a:moveTo>
                      <a:pt x="28" y="0"/>
                    </a:moveTo>
                    <a:lnTo>
                      <a:pt x="34" y="0"/>
                    </a:lnTo>
                    <a:lnTo>
                      <a:pt x="38" y="2"/>
                    </a:lnTo>
                    <a:lnTo>
                      <a:pt x="40" y="2"/>
                    </a:lnTo>
                    <a:lnTo>
                      <a:pt x="42" y="5"/>
                    </a:lnTo>
                    <a:lnTo>
                      <a:pt x="38" y="11"/>
                    </a:lnTo>
                    <a:lnTo>
                      <a:pt x="34" y="17"/>
                    </a:lnTo>
                    <a:lnTo>
                      <a:pt x="25" y="21"/>
                    </a:lnTo>
                    <a:lnTo>
                      <a:pt x="17" y="24"/>
                    </a:lnTo>
                    <a:lnTo>
                      <a:pt x="5" y="24"/>
                    </a:lnTo>
                    <a:lnTo>
                      <a:pt x="0" y="24"/>
                    </a:lnTo>
                    <a:lnTo>
                      <a:pt x="0" y="21"/>
                    </a:lnTo>
                    <a:lnTo>
                      <a:pt x="0" y="19"/>
                    </a:lnTo>
                    <a:lnTo>
                      <a:pt x="5" y="17"/>
                    </a:lnTo>
                    <a:lnTo>
                      <a:pt x="15" y="11"/>
                    </a:lnTo>
                    <a:lnTo>
                      <a:pt x="21" y="5"/>
                    </a:lnTo>
                    <a:lnTo>
                      <a:pt x="28" y="0"/>
                    </a:lnTo>
                    <a:lnTo>
                      <a:pt x="28"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8" name=""/>
              <p:cNvSpPr/>
              <p:nvPr/>
            </p:nvSpPr>
            <p:spPr>
              <a:xfrm flipH="1">
                <a:off x="5826600" y="4907160"/>
                <a:ext cx="18720" cy="9000"/>
              </a:xfrm>
              <a:custGeom>
                <a:avLst/>
                <a:gdLst/>
                <a:ahLst/>
                <a:rect l="l" t="t" r="r" b="b"/>
                <a:pathLst>
                  <a:path w="81" h="40">
                    <a:moveTo>
                      <a:pt x="53" y="0"/>
                    </a:moveTo>
                    <a:lnTo>
                      <a:pt x="60" y="4"/>
                    </a:lnTo>
                    <a:lnTo>
                      <a:pt x="70" y="8"/>
                    </a:lnTo>
                    <a:lnTo>
                      <a:pt x="76" y="12"/>
                    </a:lnTo>
                    <a:lnTo>
                      <a:pt x="81" y="19"/>
                    </a:lnTo>
                    <a:lnTo>
                      <a:pt x="74" y="19"/>
                    </a:lnTo>
                    <a:lnTo>
                      <a:pt x="68" y="23"/>
                    </a:lnTo>
                    <a:lnTo>
                      <a:pt x="58" y="25"/>
                    </a:lnTo>
                    <a:lnTo>
                      <a:pt x="51" y="29"/>
                    </a:lnTo>
                    <a:lnTo>
                      <a:pt x="43" y="33"/>
                    </a:lnTo>
                    <a:lnTo>
                      <a:pt x="36" y="35"/>
                    </a:lnTo>
                    <a:lnTo>
                      <a:pt x="28" y="36"/>
                    </a:lnTo>
                    <a:lnTo>
                      <a:pt x="22" y="40"/>
                    </a:lnTo>
                    <a:lnTo>
                      <a:pt x="15" y="38"/>
                    </a:lnTo>
                    <a:lnTo>
                      <a:pt x="9" y="36"/>
                    </a:lnTo>
                    <a:lnTo>
                      <a:pt x="5" y="33"/>
                    </a:lnTo>
                    <a:lnTo>
                      <a:pt x="0" y="29"/>
                    </a:lnTo>
                    <a:lnTo>
                      <a:pt x="5" y="23"/>
                    </a:lnTo>
                    <a:lnTo>
                      <a:pt x="11" y="17"/>
                    </a:lnTo>
                    <a:lnTo>
                      <a:pt x="17" y="14"/>
                    </a:lnTo>
                    <a:lnTo>
                      <a:pt x="24" y="12"/>
                    </a:lnTo>
                    <a:lnTo>
                      <a:pt x="32" y="8"/>
                    </a:lnTo>
                    <a:lnTo>
                      <a:pt x="39" y="4"/>
                    </a:lnTo>
                    <a:lnTo>
                      <a:pt x="45" y="2"/>
                    </a:lnTo>
                    <a:lnTo>
                      <a:pt x="53" y="0"/>
                    </a:lnTo>
                    <a:lnTo>
                      <a:pt x="5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9" name=""/>
              <p:cNvSpPr/>
              <p:nvPr/>
            </p:nvSpPr>
            <p:spPr>
              <a:xfrm flipH="1">
                <a:off x="5801760" y="4923000"/>
                <a:ext cx="21600" cy="6120"/>
              </a:xfrm>
              <a:custGeom>
                <a:avLst/>
                <a:gdLst/>
                <a:ahLst/>
                <a:rect l="l" t="t" r="r" b="b"/>
                <a:pathLst>
                  <a:path w="95" h="28">
                    <a:moveTo>
                      <a:pt x="49" y="0"/>
                    </a:moveTo>
                    <a:lnTo>
                      <a:pt x="55" y="0"/>
                    </a:lnTo>
                    <a:lnTo>
                      <a:pt x="61" y="0"/>
                    </a:lnTo>
                    <a:lnTo>
                      <a:pt x="66" y="0"/>
                    </a:lnTo>
                    <a:lnTo>
                      <a:pt x="74" y="2"/>
                    </a:lnTo>
                    <a:lnTo>
                      <a:pt x="80" y="2"/>
                    </a:lnTo>
                    <a:lnTo>
                      <a:pt x="85" y="4"/>
                    </a:lnTo>
                    <a:lnTo>
                      <a:pt x="91" y="5"/>
                    </a:lnTo>
                    <a:lnTo>
                      <a:pt x="95" y="11"/>
                    </a:lnTo>
                    <a:lnTo>
                      <a:pt x="89" y="13"/>
                    </a:lnTo>
                    <a:lnTo>
                      <a:pt x="83" y="15"/>
                    </a:lnTo>
                    <a:lnTo>
                      <a:pt x="78" y="17"/>
                    </a:lnTo>
                    <a:lnTo>
                      <a:pt x="70" y="21"/>
                    </a:lnTo>
                    <a:lnTo>
                      <a:pt x="64" y="21"/>
                    </a:lnTo>
                    <a:lnTo>
                      <a:pt x="59" y="23"/>
                    </a:lnTo>
                    <a:lnTo>
                      <a:pt x="53" y="24"/>
                    </a:lnTo>
                    <a:lnTo>
                      <a:pt x="47" y="26"/>
                    </a:lnTo>
                    <a:lnTo>
                      <a:pt x="42" y="26"/>
                    </a:lnTo>
                    <a:lnTo>
                      <a:pt x="36" y="28"/>
                    </a:lnTo>
                    <a:lnTo>
                      <a:pt x="30" y="28"/>
                    </a:lnTo>
                    <a:lnTo>
                      <a:pt x="24" y="28"/>
                    </a:lnTo>
                    <a:lnTo>
                      <a:pt x="17" y="26"/>
                    </a:lnTo>
                    <a:lnTo>
                      <a:pt x="9" y="24"/>
                    </a:lnTo>
                    <a:lnTo>
                      <a:pt x="3" y="23"/>
                    </a:lnTo>
                    <a:lnTo>
                      <a:pt x="0" y="21"/>
                    </a:lnTo>
                    <a:lnTo>
                      <a:pt x="0" y="17"/>
                    </a:lnTo>
                    <a:lnTo>
                      <a:pt x="2" y="15"/>
                    </a:lnTo>
                    <a:lnTo>
                      <a:pt x="7" y="11"/>
                    </a:lnTo>
                    <a:lnTo>
                      <a:pt x="17" y="7"/>
                    </a:lnTo>
                    <a:lnTo>
                      <a:pt x="22" y="5"/>
                    </a:lnTo>
                    <a:lnTo>
                      <a:pt x="30" y="4"/>
                    </a:lnTo>
                    <a:lnTo>
                      <a:pt x="38" y="2"/>
                    </a:lnTo>
                    <a:lnTo>
                      <a:pt x="49" y="0"/>
                    </a:lnTo>
                    <a:lnTo>
                      <a:pt x="4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0" name=""/>
              <p:cNvSpPr/>
              <p:nvPr/>
            </p:nvSpPr>
            <p:spPr>
              <a:xfrm flipH="1">
                <a:off x="5711760" y="4932000"/>
                <a:ext cx="7200" cy="5400"/>
              </a:xfrm>
              <a:custGeom>
                <a:avLst/>
                <a:gdLst/>
                <a:ahLst/>
                <a:rect l="l" t="t" r="r" b="b"/>
                <a:pathLst>
                  <a:path w="32" h="24">
                    <a:moveTo>
                      <a:pt x="27" y="0"/>
                    </a:moveTo>
                    <a:lnTo>
                      <a:pt x="32" y="5"/>
                    </a:lnTo>
                    <a:lnTo>
                      <a:pt x="32" y="13"/>
                    </a:lnTo>
                    <a:lnTo>
                      <a:pt x="27" y="19"/>
                    </a:lnTo>
                    <a:lnTo>
                      <a:pt x="19" y="24"/>
                    </a:lnTo>
                    <a:lnTo>
                      <a:pt x="12" y="22"/>
                    </a:lnTo>
                    <a:lnTo>
                      <a:pt x="4" y="21"/>
                    </a:lnTo>
                    <a:lnTo>
                      <a:pt x="0" y="15"/>
                    </a:lnTo>
                    <a:lnTo>
                      <a:pt x="6" y="9"/>
                    </a:lnTo>
                    <a:lnTo>
                      <a:pt x="8" y="7"/>
                    </a:lnTo>
                    <a:lnTo>
                      <a:pt x="13" y="3"/>
                    </a:lnTo>
                    <a:lnTo>
                      <a:pt x="19" y="2"/>
                    </a:lnTo>
                    <a:lnTo>
                      <a:pt x="27" y="0"/>
                    </a:lnTo>
                    <a:lnTo>
                      <a:pt x="27" y="0"/>
                    </a:lnTo>
                    <a:close/>
                  </a:path>
                </a:pathLst>
              </a:custGeom>
              <a:solidFill>
                <a:srgbClr val="ffccd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1" name=""/>
              <p:cNvSpPr/>
              <p:nvPr/>
            </p:nvSpPr>
            <p:spPr>
              <a:xfrm flipH="1">
                <a:off x="5781960" y="4937760"/>
                <a:ext cx="24480" cy="12600"/>
              </a:xfrm>
              <a:custGeom>
                <a:avLst/>
                <a:gdLst/>
                <a:ahLst/>
                <a:rect l="l" t="t" r="r" b="b"/>
                <a:pathLst>
                  <a:path w="106" h="56">
                    <a:moveTo>
                      <a:pt x="49" y="0"/>
                    </a:moveTo>
                    <a:lnTo>
                      <a:pt x="55" y="0"/>
                    </a:lnTo>
                    <a:lnTo>
                      <a:pt x="61" y="2"/>
                    </a:lnTo>
                    <a:lnTo>
                      <a:pt x="66" y="4"/>
                    </a:lnTo>
                    <a:lnTo>
                      <a:pt x="74" y="8"/>
                    </a:lnTo>
                    <a:lnTo>
                      <a:pt x="80" y="8"/>
                    </a:lnTo>
                    <a:lnTo>
                      <a:pt x="87" y="12"/>
                    </a:lnTo>
                    <a:lnTo>
                      <a:pt x="93" y="14"/>
                    </a:lnTo>
                    <a:lnTo>
                      <a:pt x="99" y="17"/>
                    </a:lnTo>
                    <a:lnTo>
                      <a:pt x="102" y="23"/>
                    </a:lnTo>
                    <a:lnTo>
                      <a:pt x="106" y="31"/>
                    </a:lnTo>
                    <a:lnTo>
                      <a:pt x="106" y="35"/>
                    </a:lnTo>
                    <a:lnTo>
                      <a:pt x="106" y="40"/>
                    </a:lnTo>
                    <a:lnTo>
                      <a:pt x="104" y="46"/>
                    </a:lnTo>
                    <a:lnTo>
                      <a:pt x="102" y="54"/>
                    </a:lnTo>
                    <a:lnTo>
                      <a:pt x="95" y="54"/>
                    </a:lnTo>
                    <a:lnTo>
                      <a:pt x="87" y="54"/>
                    </a:lnTo>
                    <a:lnTo>
                      <a:pt x="82" y="54"/>
                    </a:lnTo>
                    <a:lnTo>
                      <a:pt x="74" y="54"/>
                    </a:lnTo>
                    <a:lnTo>
                      <a:pt x="66" y="54"/>
                    </a:lnTo>
                    <a:lnTo>
                      <a:pt x="61" y="56"/>
                    </a:lnTo>
                    <a:lnTo>
                      <a:pt x="55" y="56"/>
                    </a:lnTo>
                    <a:lnTo>
                      <a:pt x="49" y="56"/>
                    </a:lnTo>
                    <a:lnTo>
                      <a:pt x="40" y="54"/>
                    </a:lnTo>
                    <a:lnTo>
                      <a:pt x="34" y="52"/>
                    </a:lnTo>
                    <a:lnTo>
                      <a:pt x="26" y="50"/>
                    </a:lnTo>
                    <a:lnTo>
                      <a:pt x="21" y="46"/>
                    </a:lnTo>
                    <a:lnTo>
                      <a:pt x="15" y="40"/>
                    </a:lnTo>
                    <a:lnTo>
                      <a:pt x="9" y="37"/>
                    </a:lnTo>
                    <a:lnTo>
                      <a:pt x="6" y="29"/>
                    </a:lnTo>
                    <a:lnTo>
                      <a:pt x="0" y="21"/>
                    </a:lnTo>
                    <a:lnTo>
                      <a:pt x="6" y="16"/>
                    </a:lnTo>
                    <a:lnTo>
                      <a:pt x="11" y="14"/>
                    </a:lnTo>
                    <a:lnTo>
                      <a:pt x="17" y="10"/>
                    </a:lnTo>
                    <a:lnTo>
                      <a:pt x="25" y="10"/>
                    </a:lnTo>
                    <a:lnTo>
                      <a:pt x="30" y="8"/>
                    </a:lnTo>
                    <a:lnTo>
                      <a:pt x="36" y="4"/>
                    </a:lnTo>
                    <a:lnTo>
                      <a:pt x="42" y="2"/>
                    </a:lnTo>
                    <a:lnTo>
                      <a:pt x="49" y="0"/>
                    </a:lnTo>
                    <a:lnTo>
                      <a:pt x="4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 name=""/>
              <p:cNvSpPr/>
              <p:nvPr/>
            </p:nvSpPr>
            <p:spPr>
              <a:xfrm flipH="1">
                <a:off x="5821560" y="4945320"/>
                <a:ext cx="36720" cy="20520"/>
              </a:xfrm>
              <a:custGeom>
                <a:avLst/>
                <a:gdLst/>
                <a:ahLst/>
                <a:rect l="l" t="t" r="r" b="b"/>
                <a:pathLst>
                  <a:path w="159" h="89">
                    <a:moveTo>
                      <a:pt x="133" y="0"/>
                    </a:moveTo>
                    <a:lnTo>
                      <a:pt x="138" y="3"/>
                    </a:lnTo>
                    <a:lnTo>
                      <a:pt x="146" y="7"/>
                    </a:lnTo>
                    <a:lnTo>
                      <a:pt x="150" y="11"/>
                    </a:lnTo>
                    <a:lnTo>
                      <a:pt x="153" y="15"/>
                    </a:lnTo>
                    <a:lnTo>
                      <a:pt x="159" y="21"/>
                    </a:lnTo>
                    <a:lnTo>
                      <a:pt x="159" y="30"/>
                    </a:lnTo>
                    <a:lnTo>
                      <a:pt x="155" y="36"/>
                    </a:lnTo>
                    <a:lnTo>
                      <a:pt x="150" y="41"/>
                    </a:lnTo>
                    <a:lnTo>
                      <a:pt x="146" y="45"/>
                    </a:lnTo>
                    <a:lnTo>
                      <a:pt x="142" y="47"/>
                    </a:lnTo>
                    <a:lnTo>
                      <a:pt x="136" y="51"/>
                    </a:lnTo>
                    <a:lnTo>
                      <a:pt x="133" y="53"/>
                    </a:lnTo>
                    <a:lnTo>
                      <a:pt x="123" y="57"/>
                    </a:lnTo>
                    <a:lnTo>
                      <a:pt x="114" y="60"/>
                    </a:lnTo>
                    <a:lnTo>
                      <a:pt x="106" y="62"/>
                    </a:lnTo>
                    <a:lnTo>
                      <a:pt x="96" y="68"/>
                    </a:lnTo>
                    <a:lnTo>
                      <a:pt x="87" y="70"/>
                    </a:lnTo>
                    <a:lnTo>
                      <a:pt x="79" y="74"/>
                    </a:lnTo>
                    <a:lnTo>
                      <a:pt x="68" y="76"/>
                    </a:lnTo>
                    <a:lnTo>
                      <a:pt x="60" y="79"/>
                    </a:lnTo>
                    <a:lnTo>
                      <a:pt x="51" y="81"/>
                    </a:lnTo>
                    <a:lnTo>
                      <a:pt x="41" y="83"/>
                    </a:lnTo>
                    <a:lnTo>
                      <a:pt x="32" y="85"/>
                    </a:lnTo>
                    <a:lnTo>
                      <a:pt x="24" y="87"/>
                    </a:lnTo>
                    <a:lnTo>
                      <a:pt x="17" y="87"/>
                    </a:lnTo>
                    <a:lnTo>
                      <a:pt x="11" y="89"/>
                    </a:lnTo>
                    <a:lnTo>
                      <a:pt x="3" y="89"/>
                    </a:lnTo>
                    <a:lnTo>
                      <a:pt x="0" y="89"/>
                    </a:lnTo>
                    <a:lnTo>
                      <a:pt x="3" y="81"/>
                    </a:lnTo>
                    <a:lnTo>
                      <a:pt x="7" y="72"/>
                    </a:lnTo>
                    <a:lnTo>
                      <a:pt x="13" y="64"/>
                    </a:lnTo>
                    <a:lnTo>
                      <a:pt x="20" y="57"/>
                    </a:lnTo>
                    <a:lnTo>
                      <a:pt x="26" y="49"/>
                    </a:lnTo>
                    <a:lnTo>
                      <a:pt x="36" y="43"/>
                    </a:lnTo>
                    <a:lnTo>
                      <a:pt x="43" y="38"/>
                    </a:lnTo>
                    <a:lnTo>
                      <a:pt x="53" y="32"/>
                    </a:lnTo>
                    <a:lnTo>
                      <a:pt x="62" y="26"/>
                    </a:lnTo>
                    <a:lnTo>
                      <a:pt x="72" y="21"/>
                    </a:lnTo>
                    <a:lnTo>
                      <a:pt x="81" y="17"/>
                    </a:lnTo>
                    <a:lnTo>
                      <a:pt x="93" y="13"/>
                    </a:lnTo>
                    <a:lnTo>
                      <a:pt x="102" y="9"/>
                    </a:lnTo>
                    <a:lnTo>
                      <a:pt x="112" y="5"/>
                    </a:lnTo>
                    <a:lnTo>
                      <a:pt x="121" y="2"/>
                    </a:lnTo>
                    <a:lnTo>
                      <a:pt x="133" y="0"/>
                    </a:lnTo>
                    <a:lnTo>
                      <a:pt x="13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 name=""/>
              <p:cNvSpPr/>
              <p:nvPr/>
            </p:nvSpPr>
            <p:spPr>
              <a:xfrm flipH="1">
                <a:off x="5705280" y="4957920"/>
                <a:ext cx="18360" cy="11880"/>
              </a:xfrm>
              <a:custGeom>
                <a:avLst/>
                <a:gdLst/>
                <a:ahLst/>
                <a:rect l="l" t="t" r="r" b="b"/>
                <a:pathLst>
                  <a:path w="80" h="51">
                    <a:moveTo>
                      <a:pt x="50" y="0"/>
                    </a:moveTo>
                    <a:lnTo>
                      <a:pt x="54" y="0"/>
                    </a:lnTo>
                    <a:lnTo>
                      <a:pt x="59" y="0"/>
                    </a:lnTo>
                    <a:lnTo>
                      <a:pt x="63" y="0"/>
                    </a:lnTo>
                    <a:lnTo>
                      <a:pt x="67" y="2"/>
                    </a:lnTo>
                    <a:lnTo>
                      <a:pt x="73" y="4"/>
                    </a:lnTo>
                    <a:lnTo>
                      <a:pt x="78" y="7"/>
                    </a:lnTo>
                    <a:lnTo>
                      <a:pt x="80" y="17"/>
                    </a:lnTo>
                    <a:lnTo>
                      <a:pt x="78" y="26"/>
                    </a:lnTo>
                    <a:lnTo>
                      <a:pt x="71" y="32"/>
                    </a:lnTo>
                    <a:lnTo>
                      <a:pt x="63" y="38"/>
                    </a:lnTo>
                    <a:lnTo>
                      <a:pt x="52" y="44"/>
                    </a:lnTo>
                    <a:lnTo>
                      <a:pt x="42" y="47"/>
                    </a:lnTo>
                    <a:lnTo>
                      <a:pt x="36" y="47"/>
                    </a:lnTo>
                    <a:lnTo>
                      <a:pt x="31" y="49"/>
                    </a:lnTo>
                    <a:lnTo>
                      <a:pt x="25" y="49"/>
                    </a:lnTo>
                    <a:lnTo>
                      <a:pt x="19" y="51"/>
                    </a:lnTo>
                    <a:lnTo>
                      <a:pt x="14" y="49"/>
                    </a:lnTo>
                    <a:lnTo>
                      <a:pt x="8" y="47"/>
                    </a:lnTo>
                    <a:lnTo>
                      <a:pt x="2" y="45"/>
                    </a:lnTo>
                    <a:lnTo>
                      <a:pt x="0" y="44"/>
                    </a:lnTo>
                    <a:lnTo>
                      <a:pt x="2" y="36"/>
                    </a:lnTo>
                    <a:lnTo>
                      <a:pt x="8" y="30"/>
                    </a:lnTo>
                    <a:lnTo>
                      <a:pt x="14" y="25"/>
                    </a:lnTo>
                    <a:lnTo>
                      <a:pt x="19" y="19"/>
                    </a:lnTo>
                    <a:lnTo>
                      <a:pt x="27" y="11"/>
                    </a:lnTo>
                    <a:lnTo>
                      <a:pt x="35" y="7"/>
                    </a:lnTo>
                    <a:lnTo>
                      <a:pt x="42" y="4"/>
                    </a:lnTo>
                    <a:lnTo>
                      <a:pt x="50" y="0"/>
                    </a:lnTo>
                    <a:lnTo>
                      <a:pt x="50" y="0"/>
                    </a:lnTo>
                    <a:close/>
                  </a:path>
                </a:pathLst>
              </a:custGeom>
              <a:solidFill>
                <a:srgbClr val="ffccd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4" name=""/>
              <p:cNvSpPr/>
              <p:nvPr/>
            </p:nvSpPr>
            <p:spPr>
              <a:xfrm flipH="1">
                <a:off x="5868360" y="4971960"/>
                <a:ext cx="44280" cy="15480"/>
              </a:xfrm>
              <a:custGeom>
                <a:avLst/>
                <a:gdLst/>
                <a:ahLst/>
                <a:rect l="l" t="t" r="r" b="b"/>
                <a:pathLst>
                  <a:path w="192" h="68">
                    <a:moveTo>
                      <a:pt x="135" y="1"/>
                    </a:moveTo>
                    <a:lnTo>
                      <a:pt x="142" y="0"/>
                    </a:lnTo>
                    <a:lnTo>
                      <a:pt x="150" y="1"/>
                    </a:lnTo>
                    <a:lnTo>
                      <a:pt x="156" y="1"/>
                    </a:lnTo>
                    <a:lnTo>
                      <a:pt x="163" y="3"/>
                    </a:lnTo>
                    <a:lnTo>
                      <a:pt x="171" y="5"/>
                    </a:lnTo>
                    <a:lnTo>
                      <a:pt x="179" y="7"/>
                    </a:lnTo>
                    <a:lnTo>
                      <a:pt x="184" y="7"/>
                    </a:lnTo>
                    <a:lnTo>
                      <a:pt x="192" y="9"/>
                    </a:lnTo>
                    <a:lnTo>
                      <a:pt x="192" y="13"/>
                    </a:lnTo>
                    <a:lnTo>
                      <a:pt x="184" y="15"/>
                    </a:lnTo>
                    <a:lnTo>
                      <a:pt x="177" y="19"/>
                    </a:lnTo>
                    <a:lnTo>
                      <a:pt x="167" y="22"/>
                    </a:lnTo>
                    <a:lnTo>
                      <a:pt x="161" y="26"/>
                    </a:lnTo>
                    <a:lnTo>
                      <a:pt x="154" y="28"/>
                    </a:lnTo>
                    <a:lnTo>
                      <a:pt x="146" y="32"/>
                    </a:lnTo>
                    <a:lnTo>
                      <a:pt x="139" y="36"/>
                    </a:lnTo>
                    <a:lnTo>
                      <a:pt x="133" y="39"/>
                    </a:lnTo>
                    <a:lnTo>
                      <a:pt x="123" y="43"/>
                    </a:lnTo>
                    <a:lnTo>
                      <a:pt x="118" y="45"/>
                    </a:lnTo>
                    <a:lnTo>
                      <a:pt x="110" y="49"/>
                    </a:lnTo>
                    <a:lnTo>
                      <a:pt x="103" y="51"/>
                    </a:lnTo>
                    <a:lnTo>
                      <a:pt x="95" y="53"/>
                    </a:lnTo>
                    <a:lnTo>
                      <a:pt x="89" y="57"/>
                    </a:lnTo>
                    <a:lnTo>
                      <a:pt x="80" y="58"/>
                    </a:lnTo>
                    <a:lnTo>
                      <a:pt x="74" y="62"/>
                    </a:lnTo>
                    <a:lnTo>
                      <a:pt x="65" y="64"/>
                    </a:lnTo>
                    <a:lnTo>
                      <a:pt x="55" y="66"/>
                    </a:lnTo>
                    <a:lnTo>
                      <a:pt x="46" y="66"/>
                    </a:lnTo>
                    <a:lnTo>
                      <a:pt x="36" y="68"/>
                    </a:lnTo>
                    <a:lnTo>
                      <a:pt x="26" y="66"/>
                    </a:lnTo>
                    <a:lnTo>
                      <a:pt x="17" y="66"/>
                    </a:lnTo>
                    <a:lnTo>
                      <a:pt x="7" y="64"/>
                    </a:lnTo>
                    <a:lnTo>
                      <a:pt x="0" y="62"/>
                    </a:lnTo>
                    <a:lnTo>
                      <a:pt x="6" y="55"/>
                    </a:lnTo>
                    <a:lnTo>
                      <a:pt x="13" y="49"/>
                    </a:lnTo>
                    <a:lnTo>
                      <a:pt x="19" y="43"/>
                    </a:lnTo>
                    <a:lnTo>
                      <a:pt x="28" y="39"/>
                    </a:lnTo>
                    <a:lnTo>
                      <a:pt x="36" y="34"/>
                    </a:lnTo>
                    <a:lnTo>
                      <a:pt x="46" y="30"/>
                    </a:lnTo>
                    <a:lnTo>
                      <a:pt x="53" y="26"/>
                    </a:lnTo>
                    <a:lnTo>
                      <a:pt x="63" y="24"/>
                    </a:lnTo>
                    <a:lnTo>
                      <a:pt x="70" y="20"/>
                    </a:lnTo>
                    <a:lnTo>
                      <a:pt x="80" y="17"/>
                    </a:lnTo>
                    <a:lnTo>
                      <a:pt x="89" y="15"/>
                    </a:lnTo>
                    <a:lnTo>
                      <a:pt x="99" y="11"/>
                    </a:lnTo>
                    <a:lnTo>
                      <a:pt x="106" y="9"/>
                    </a:lnTo>
                    <a:lnTo>
                      <a:pt x="116" y="7"/>
                    </a:lnTo>
                    <a:lnTo>
                      <a:pt x="125" y="3"/>
                    </a:lnTo>
                    <a:lnTo>
                      <a:pt x="135" y="1"/>
                    </a:lnTo>
                    <a:lnTo>
                      <a:pt x="135"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5" name=""/>
              <p:cNvSpPr/>
              <p:nvPr/>
            </p:nvSpPr>
            <p:spPr>
              <a:xfrm flipH="1">
                <a:off x="5859000" y="5007240"/>
                <a:ext cx="32040" cy="9720"/>
              </a:xfrm>
              <a:custGeom>
                <a:avLst/>
                <a:gdLst/>
                <a:ahLst/>
                <a:rect l="l" t="t" r="r" b="b"/>
                <a:pathLst>
                  <a:path w="141" h="41">
                    <a:moveTo>
                      <a:pt x="0" y="0"/>
                    </a:moveTo>
                    <a:lnTo>
                      <a:pt x="8" y="0"/>
                    </a:lnTo>
                    <a:lnTo>
                      <a:pt x="17" y="2"/>
                    </a:lnTo>
                    <a:lnTo>
                      <a:pt x="23" y="2"/>
                    </a:lnTo>
                    <a:lnTo>
                      <a:pt x="29" y="2"/>
                    </a:lnTo>
                    <a:lnTo>
                      <a:pt x="34" y="2"/>
                    </a:lnTo>
                    <a:lnTo>
                      <a:pt x="40" y="3"/>
                    </a:lnTo>
                    <a:lnTo>
                      <a:pt x="46" y="3"/>
                    </a:lnTo>
                    <a:lnTo>
                      <a:pt x="51" y="3"/>
                    </a:lnTo>
                    <a:lnTo>
                      <a:pt x="57" y="3"/>
                    </a:lnTo>
                    <a:lnTo>
                      <a:pt x="63" y="5"/>
                    </a:lnTo>
                    <a:lnTo>
                      <a:pt x="67" y="5"/>
                    </a:lnTo>
                    <a:lnTo>
                      <a:pt x="72" y="7"/>
                    </a:lnTo>
                    <a:lnTo>
                      <a:pt x="78" y="7"/>
                    </a:lnTo>
                    <a:lnTo>
                      <a:pt x="86" y="9"/>
                    </a:lnTo>
                    <a:lnTo>
                      <a:pt x="95" y="11"/>
                    </a:lnTo>
                    <a:lnTo>
                      <a:pt x="105" y="13"/>
                    </a:lnTo>
                    <a:lnTo>
                      <a:pt x="112" y="15"/>
                    </a:lnTo>
                    <a:lnTo>
                      <a:pt x="120" y="19"/>
                    </a:lnTo>
                    <a:lnTo>
                      <a:pt x="125" y="22"/>
                    </a:lnTo>
                    <a:lnTo>
                      <a:pt x="133" y="28"/>
                    </a:lnTo>
                    <a:lnTo>
                      <a:pt x="137" y="34"/>
                    </a:lnTo>
                    <a:lnTo>
                      <a:pt x="141" y="41"/>
                    </a:lnTo>
                    <a:lnTo>
                      <a:pt x="131" y="41"/>
                    </a:lnTo>
                    <a:lnTo>
                      <a:pt x="122" y="41"/>
                    </a:lnTo>
                    <a:lnTo>
                      <a:pt x="110" y="40"/>
                    </a:lnTo>
                    <a:lnTo>
                      <a:pt x="99" y="40"/>
                    </a:lnTo>
                    <a:lnTo>
                      <a:pt x="87" y="38"/>
                    </a:lnTo>
                    <a:lnTo>
                      <a:pt x="76" y="36"/>
                    </a:lnTo>
                    <a:lnTo>
                      <a:pt x="65" y="34"/>
                    </a:lnTo>
                    <a:lnTo>
                      <a:pt x="53" y="32"/>
                    </a:lnTo>
                    <a:lnTo>
                      <a:pt x="42" y="28"/>
                    </a:lnTo>
                    <a:lnTo>
                      <a:pt x="32" y="26"/>
                    </a:lnTo>
                    <a:lnTo>
                      <a:pt x="23" y="22"/>
                    </a:lnTo>
                    <a:lnTo>
                      <a:pt x="15" y="19"/>
                    </a:lnTo>
                    <a:lnTo>
                      <a:pt x="8" y="13"/>
                    </a:lnTo>
                    <a:lnTo>
                      <a:pt x="4" y="9"/>
                    </a:lnTo>
                    <a:lnTo>
                      <a:pt x="0" y="3"/>
                    </a:lnTo>
                    <a:lnTo>
                      <a:pt x="0"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 name=""/>
              <p:cNvSpPr/>
              <p:nvPr/>
            </p:nvSpPr>
            <p:spPr>
              <a:xfrm flipH="1">
                <a:off x="5759640" y="5025600"/>
                <a:ext cx="74160" cy="11160"/>
              </a:xfrm>
              <a:custGeom>
                <a:avLst/>
                <a:gdLst/>
                <a:ahLst/>
                <a:rect l="l" t="t" r="r" b="b"/>
                <a:pathLst>
                  <a:path w="321" h="50">
                    <a:moveTo>
                      <a:pt x="103" y="2"/>
                    </a:moveTo>
                    <a:lnTo>
                      <a:pt x="114" y="2"/>
                    </a:lnTo>
                    <a:lnTo>
                      <a:pt x="127" y="2"/>
                    </a:lnTo>
                    <a:lnTo>
                      <a:pt x="141" y="2"/>
                    </a:lnTo>
                    <a:lnTo>
                      <a:pt x="154" y="2"/>
                    </a:lnTo>
                    <a:lnTo>
                      <a:pt x="169" y="2"/>
                    </a:lnTo>
                    <a:lnTo>
                      <a:pt x="184" y="2"/>
                    </a:lnTo>
                    <a:lnTo>
                      <a:pt x="198" y="2"/>
                    </a:lnTo>
                    <a:lnTo>
                      <a:pt x="213" y="2"/>
                    </a:lnTo>
                    <a:lnTo>
                      <a:pt x="226" y="0"/>
                    </a:lnTo>
                    <a:lnTo>
                      <a:pt x="241" y="0"/>
                    </a:lnTo>
                    <a:lnTo>
                      <a:pt x="255" y="2"/>
                    </a:lnTo>
                    <a:lnTo>
                      <a:pt x="270" y="4"/>
                    </a:lnTo>
                    <a:lnTo>
                      <a:pt x="281" y="6"/>
                    </a:lnTo>
                    <a:lnTo>
                      <a:pt x="295" y="10"/>
                    </a:lnTo>
                    <a:lnTo>
                      <a:pt x="308" y="14"/>
                    </a:lnTo>
                    <a:lnTo>
                      <a:pt x="321" y="19"/>
                    </a:lnTo>
                    <a:lnTo>
                      <a:pt x="314" y="19"/>
                    </a:lnTo>
                    <a:lnTo>
                      <a:pt x="306" y="21"/>
                    </a:lnTo>
                    <a:lnTo>
                      <a:pt x="298" y="23"/>
                    </a:lnTo>
                    <a:lnTo>
                      <a:pt x="293" y="25"/>
                    </a:lnTo>
                    <a:lnTo>
                      <a:pt x="285" y="25"/>
                    </a:lnTo>
                    <a:lnTo>
                      <a:pt x="278" y="27"/>
                    </a:lnTo>
                    <a:lnTo>
                      <a:pt x="272" y="29"/>
                    </a:lnTo>
                    <a:lnTo>
                      <a:pt x="264" y="31"/>
                    </a:lnTo>
                    <a:lnTo>
                      <a:pt x="257" y="33"/>
                    </a:lnTo>
                    <a:lnTo>
                      <a:pt x="249" y="33"/>
                    </a:lnTo>
                    <a:lnTo>
                      <a:pt x="241" y="35"/>
                    </a:lnTo>
                    <a:lnTo>
                      <a:pt x="234" y="37"/>
                    </a:lnTo>
                    <a:lnTo>
                      <a:pt x="226" y="38"/>
                    </a:lnTo>
                    <a:lnTo>
                      <a:pt x="219" y="38"/>
                    </a:lnTo>
                    <a:lnTo>
                      <a:pt x="209" y="40"/>
                    </a:lnTo>
                    <a:lnTo>
                      <a:pt x="203" y="42"/>
                    </a:lnTo>
                    <a:lnTo>
                      <a:pt x="190" y="42"/>
                    </a:lnTo>
                    <a:lnTo>
                      <a:pt x="177" y="44"/>
                    </a:lnTo>
                    <a:lnTo>
                      <a:pt x="163" y="46"/>
                    </a:lnTo>
                    <a:lnTo>
                      <a:pt x="152" y="48"/>
                    </a:lnTo>
                    <a:lnTo>
                      <a:pt x="139" y="48"/>
                    </a:lnTo>
                    <a:lnTo>
                      <a:pt x="125" y="48"/>
                    </a:lnTo>
                    <a:lnTo>
                      <a:pt x="112" y="48"/>
                    </a:lnTo>
                    <a:lnTo>
                      <a:pt x="101" y="50"/>
                    </a:lnTo>
                    <a:lnTo>
                      <a:pt x="87" y="48"/>
                    </a:lnTo>
                    <a:lnTo>
                      <a:pt x="74" y="48"/>
                    </a:lnTo>
                    <a:lnTo>
                      <a:pt x="61" y="46"/>
                    </a:lnTo>
                    <a:lnTo>
                      <a:pt x="49" y="44"/>
                    </a:lnTo>
                    <a:lnTo>
                      <a:pt x="36" y="42"/>
                    </a:lnTo>
                    <a:lnTo>
                      <a:pt x="25" y="40"/>
                    </a:lnTo>
                    <a:lnTo>
                      <a:pt x="11" y="37"/>
                    </a:lnTo>
                    <a:lnTo>
                      <a:pt x="0" y="33"/>
                    </a:lnTo>
                    <a:lnTo>
                      <a:pt x="4" y="27"/>
                    </a:lnTo>
                    <a:lnTo>
                      <a:pt x="9" y="23"/>
                    </a:lnTo>
                    <a:lnTo>
                      <a:pt x="13" y="19"/>
                    </a:lnTo>
                    <a:lnTo>
                      <a:pt x="21" y="18"/>
                    </a:lnTo>
                    <a:lnTo>
                      <a:pt x="27" y="14"/>
                    </a:lnTo>
                    <a:lnTo>
                      <a:pt x="32" y="14"/>
                    </a:lnTo>
                    <a:lnTo>
                      <a:pt x="40" y="12"/>
                    </a:lnTo>
                    <a:lnTo>
                      <a:pt x="47" y="12"/>
                    </a:lnTo>
                    <a:lnTo>
                      <a:pt x="53" y="12"/>
                    </a:lnTo>
                    <a:lnTo>
                      <a:pt x="61" y="10"/>
                    </a:lnTo>
                    <a:lnTo>
                      <a:pt x="68" y="10"/>
                    </a:lnTo>
                    <a:lnTo>
                      <a:pt x="76" y="10"/>
                    </a:lnTo>
                    <a:lnTo>
                      <a:pt x="84" y="8"/>
                    </a:lnTo>
                    <a:lnTo>
                      <a:pt x="89" y="6"/>
                    </a:lnTo>
                    <a:lnTo>
                      <a:pt x="97" y="4"/>
                    </a:lnTo>
                    <a:lnTo>
                      <a:pt x="103" y="2"/>
                    </a:lnTo>
                    <a:lnTo>
                      <a:pt x="10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flipH="1">
                <a:off x="5692320" y="5030280"/>
                <a:ext cx="43200" cy="132840"/>
              </a:xfrm>
              <a:custGeom>
                <a:avLst/>
                <a:gdLst/>
                <a:ahLst/>
                <a:rect l="l" t="t" r="r" b="b"/>
                <a:pathLst>
                  <a:path w="188" h="576">
                    <a:moveTo>
                      <a:pt x="0" y="0"/>
                    </a:moveTo>
                    <a:lnTo>
                      <a:pt x="17" y="16"/>
                    </a:lnTo>
                    <a:lnTo>
                      <a:pt x="34" y="33"/>
                    </a:lnTo>
                    <a:lnTo>
                      <a:pt x="51" y="50"/>
                    </a:lnTo>
                    <a:lnTo>
                      <a:pt x="68" y="69"/>
                    </a:lnTo>
                    <a:lnTo>
                      <a:pt x="84" y="88"/>
                    </a:lnTo>
                    <a:lnTo>
                      <a:pt x="99" y="109"/>
                    </a:lnTo>
                    <a:lnTo>
                      <a:pt x="112" y="128"/>
                    </a:lnTo>
                    <a:lnTo>
                      <a:pt x="127" y="151"/>
                    </a:lnTo>
                    <a:lnTo>
                      <a:pt x="137" y="170"/>
                    </a:lnTo>
                    <a:lnTo>
                      <a:pt x="148" y="192"/>
                    </a:lnTo>
                    <a:lnTo>
                      <a:pt x="158" y="213"/>
                    </a:lnTo>
                    <a:lnTo>
                      <a:pt x="167" y="238"/>
                    </a:lnTo>
                    <a:lnTo>
                      <a:pt x="173" y="259"/>
                    </a:lnTo>
                    <a:lnTo>
                      <a:pt x="180" y="282"/>
                    </a:lnTo>
                    <a:lnTo>
                      <a:pt x="184" y="305"/>
                    </a:lnTo>
                    <a:lnTo>
                      <a:pt x="188" y="327"/>
                    </a:lnTo>
                    <a:lnTo>
                      <a:pt x="188" y="346"/>
                    </a:lnTo>
                    <a:lnTo>
                      <a:pt x="188" y="364"/>
                    </a:lnTo>
                    <a:lnTo>
                      <a:pt x="188" y="381"/>
                    </a:lnTo>
                    <a:lnTo>
                      <a:pt x="188" y="398"/>
                    </a:lnTo>
                    <a:lnTo>
                      <a:pt x="184" y="415"/>
                    </a:lnTo>
                    <a:lnTo>
                      <a:pt x="180" y="432"/>
                    </a:lnTo>
                    <a:lnTo>
                      <a:pt x="177" y="447"/>
                    </a:lnTo>
                    <a:lnTo>
                      <a:pt x="171" y="464"/>
                    </a:lnTo>
                    <a:lnTo>
                      <a:pt x="163" y="479"/>
                    </a:lnTo>
                    <a:lnTo>
                      <a:pt x="156" y="495"/>
                    </a:lnTo>
                    <a:lnTo>
                      <a:pt x="146" y="510"/>
                    </a:lnTo>
                    <a:lnTo>
                      <a:pt x="137" y="523"/>
                    </a:lnTo>
                    <a:lnTo>
                      <a:pt x="123" y="537"/>
                    </a:lnTo>
                    <a:lnTo>
                      <a:pt x="110" y="550"/>
                    </a:lnTo>
                    <a:lnTo>
                      <a:pt x="97" y="563"/>
                    </a:lnTo>
                    <a:lnTo>
                      <a:pt x="82" y="576"/>
                    </a:lnTo>
                    <a:lnTo>
                      <a:pt x="85" y="565"/>
                    </a:lnTo>
                    <a:lnTo>
                      <a:pt x="89" y="554"/>
                    </a:lnTo>
                    <a:lnTo>
                      <a:pt x="93" y="542"/>
                    </a:lnTo>
                    <a:lnTo>
                      <a:pt x="97" y="531"/>
                    </a:lnTo>
                    <a:lnTo>
                      <a:pt x="101" y="519"/>
                    </a:lnTo>
                    <a:lnTo>
                      <a:pt x="103" y="506"/>
                    </a:lnTo>
                    <a:lnTo>
                      <a:pt x="104" y="495"/>
                    </a:lnTo>
                    <a:lnTo>
                      <a:pt x="108" y="485"/>
                    </a:lnTo>
                    <a:lnTo>
                      <a:pt x="108" y="474"/>
                    </a:lnTo>
                    <a:lnTo>
                      <a:pt x="110" y="460"/>
                    </a:lnTo>
                    <a:lnTo>
                      <a:pt x="112" y="449"/>
                    </a:lnTo>
                    <a:lnTo>
                      <a:pt x="112" y="438"/>
                    </a:lnTo>
                    <a:lnTo>
                      <a:pt x="112" y="426"/>
                    </a:lnTo>
                    <a:lnTo>
                      <a:pt x="112" y="415"/>
                    </a:lnTo>
                    <a:lnTo>
                      <a:pt x="112" y="403"/>
                    </a:lnTo>
                    <a:lnTo>
                      <a:pt x="112" y="392"/>
                    </a:lnTo>
                    <a:lnTo>
                      <a:pt x="110" y="365"/>
                    </a:lnTo>
                    <a:lnTo>
                      <a:pt x="106" y="341"/>
                    </a:lnTo>
                    <a:lnTo>
                      <a:pt x="103" y="316"/>
                    </a:lnTo>
                    <a:lnTo>
                      <a:pt x="97" y="291"/>
                    </a:lnTo>
                    <a:lnTo>
                      <a:pt x="89" y="265"/>
                    </a:lnTo>
                    <a:lnTo>
                      <a:pt x="84" y="242"/>
                    </a:lnTo>
                    <a:lnTo>
                      <a:pt x="74" y="215"/>
                    </a:lnTo>
                    <a:lnTo>
                      <a:pt x="66" y="192"/>
                    </a:lnTo>
                    <a:lnTo>
                      <a:pt x="57" y="168"/>
                    </a:lnTo>
                    <a:lnTo>
                      <a:pt x="49" y="143"/>
                    </a:lnTo>
                    <a:lnTo>
                      <a:pt x="40" y="118"/>
                    </a:lnTo>
                    <a:lnTo>
                      <a:pt x="32" y="96"/>
                    </a:lnTo>
                    <a:lnTo>
                      <a:pt x="23" y="71"/>
                    </a:lnTo>
                    <a:lnTo>
                      <a:pt x="13" y="48"/>
                    </a:lnTo>
                    <a:lnTo>
                      <a:pt x="6" y="2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5869080" y="5032080"/>
                <a:ext cx="22320" cy="7920"/>
              </a:xfrm>
              <a:custGeom>
                <a:avLst/>
                <a:gdLst/>
                <a:ahLst/>
                <a:rect l="l" t="t" r="r" b="b"/>
                <a:pathLst>
                  <a:path w="97" h="36">
                    <a:moveTo>
                      <a:pt x="21" y="0"/>
                    </a:moveTo>
                    <a:lnTo>
                      <a:pt x="27" y="2"/>
                    </a:lnTo>
                    <a:lnTo>
                      <a:pt x="34" y="4"/>
                    </a:lnTo>
                    <a:lnTo>
                      <a:pt x="42" y="6"/>
                    </a:lnTo>
                    <a:lnTo>
                      <a:pt x="49" y="8"/>
                    </a:lnTo>
                    <a:lnTo>
                      <a:pt x="57" y="8"/>
                    </a:lnTo>
                    <a:lnTo>
                      <a:pt x="65" y="8"/>
                    </a:lnTo>
                    <a:lnTo>
                      <a:pt x="72" y="8"/>
                    </a:lnTo>
                    <a:lnTo>
                      <a:pt x="78" y="11"/>
                    </a:lnTo>
                    <a:lnTo>
                      <a:pt x="85" y="13"/>
                    </a:lnTo>
                    <a:lnTo>
                      <a:pt x="91" y="19"/>
                    </a:lnTo>
                    <a:lnTo>
                      <a:pt x="93" y="21"/>
                    </a:lnTo>
                    <a:lnTo>
                      <a:pt x="95" y="25"/>
                    </a:lnTo>
                    <a:lnTo>
                      <a:pt x="95" y="30"/>
                    </a:lnTo>
                    <a:lnTo>
                      <a:pt x="97" y="36"/>
                    </a:lnTo>
                    <a:lnTo>
                      <a:pt x="89" y="34"/>
                    </a:lnTo>
                    <a:lnTo>
                      <a:pt x="84" y="34"/>
                    </a:lnTo>
                    <a:lnTo>
                      <a:pt x="78" y="34"/>
                    </a:lnTo>
                    <a:lnTo>
                      <a:pt x="72" y="34"/>
                    </a:lnTo>
                    <a:lnTo>
                      <a:pt x="65" y="34"/>
                    </a:lnTo>
                    <a:lnTo>
                      <a:pt x="59" y="34"/>
                    </a:lnTo>
                    <a:lnTo>
                      <a:pt x="53" y="34"/>
                    </a:lnTo>
                    <a:lnTo>
                      <a:pt x="47" y="34"/>
                    </a:lnTo>
                    <a:lnTo>
                      <a:pt x="42" y="32"/>
                    </a:lnTo>
                    <a:lnTo>
                      <a:pt x="36" y="32"/>
                    </a:lnTo>
                    <a:lnTo>
                      <a:pt x="28" y="30"/>
                    </a:lnTo>
                    <a:lnTo>
                      <a:pt x="23" y="30"/>
                    </a:lnTo>
                    <a:lnTo>
                      <a:pt x="17" y="29"/>
                    </a:lnTo>
                    <a:lnTo>
                      <a:pt x="11" y="29"/>
                    </a:lnTo>
                    <a:lnTo>
                      <a:pt x="6" y="27"/>
                    </a:lnTo>
                    <a:lnTo>
                      <a:pt x="0" y="25"/>
                    </a:lnTo>
                    <a:lnTo>
                      <a:pt x="2" y="17"/>
                    </a:lnTo>
                    <a:lnTo>
                      <a:pt x="9" y="11"/>
                    </a:lnTo>
                    <a:lnTo>
                      <a:pt x="17" y="4"/>
                    </a:lnTo>
                    <a:lnTo>
                      <a:pt x="21" y="0"/>
                    </a:lnTo>
                    <a:lnTo>
                      <a:pt x="2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flipH="1">
                <a:off x="5729760" y="5050800"/>
                <a:ext cx="72360" cy="42840"/>
              </a:xfrm>
              <a:custGeom>
                <a:avLst/>
                <a:gdLst/>
                <a:ahLst/>
                <a:rect l="l" t="t" r="r" b="b"/>
                <a:pathLst>
                  <a:path w="314" h="184">
                    <a:moveTo>
                      <a:pt x="57" y="7"/>
                    </a:moveTo>
                    <a:lnTo>
                      <a:pt x="82" y="2"/>
                    </a:lnTo>
                    <a:lnTo>
                      <a:pt x="106" y="0"/>
                    </a:lnTo>
                    <a:lnTo>
                      <a:pt x="131" y="0"/>
                    </a:lnTo>
                    <a:lnTo>
                      <a:pt x="154" y="4"/>
                    </a:lnTo>
                    <a:lnTo>
                      <a:pt x="175" y="7"/>
                    </a:lnTo>
                    <a:lnTo>
                      <a:pt x="196" y="15"/>
                    </a:lnTo>
                    <a:lnTo>
                      <a:pt x="215" y="25"/>
                    </a:lnTo>
                    <a:lnTo>
                      <a:pt x="234" y="36"/>
                    </a:lnTo>
                    <a:lnTo>
                      <a:pt x="249" y="47"/>
                    </a:lnTo>
                    <a:lnTo>
                      <a:pt x="262" y="63"/>
                    </a:lnTo>
                    <a:lnTo>
                      <a:pt x="276" y="78"/>
                    </a:lnTo>
                    <a:lnTo>
                      <a:pt x="287" y="97"/>
                    </a:lnTo>
                    <a:lnTo>
                      <a:pt x="296" y="116"/>
                    </a:lnTo>
                    <a:lnTo>
                      <a:pt x="304" y="137"/>
                    </a:lnTo>
                    <a:lnTo>
                      <a:pt x="310" y="159"/>
                    </a:lnTo>
                    <a:lnTo>
                      <a:pt x="314" y="184"/>
                    </a:lnTo>
                    <a:lnTo>
                      <a:pt x="298" y="177"/>
                    </a:lnTo>
                    <a:lnTo>
                      <a:pt x="283" y="171"/>
                    </a:lnTo>
                    <a:lnTo>
                      <a:pt x="270" y="167"/>
                    </a:lnTo>
                    <a:lnTo>
                      <a:pt x="255" y="161"/>
                    </a:lnTo>
                    <a:lnTo>
                      <a:pt x="239" y="156"/>
                    </a:lnTo>
                    <a:lnTo>
                      <a:pt x="224" y="152"/>
                    </a:lnTo>
                    <a:lnTo>
                      <a:pt x="209" y="148"/>
                    </a:lnTo>
                    <a:lnTo>
                      <a:pt x="194" y="144"/>
                    </a:lnTo>
                    <a:lnTo>
                      <a:pt x="179" y="139"/>
                    </a:lnTo>
                    <a:lnTo>
                      <a:pt x="163" y="133"/>
                    </a:lnTo>
                    <a:lnTo>
                      <a:pt x="150" y="129"/>
                    </a:lnTo>
                    <a:lnTo>
                      <a:pt x="137" y="123"/>
                    </a:lnTo>
                    <a:lnTo>
                      <a:pt x="123" y="118"/>
                    </a:lnTo>
                    <a:lnTo>
                      <a:pt x="112" y="112"/>
                    </a:lnTo>
                    <a:lnTo>
                      <a:pt x="99" y="104"/>
                    </a:lnTo>
                    <a:lnTo>
                      <a:pt x="89" y="95"/>
                    </a:lnTo>
                    <a:lnTo>
                      <a:pt x="95" y="95"/>
                    </a:lnTo>
                    <a:lnTo>
                      <a:pt x="101" y="95"/>
                    </a:lnTo>
                    <a:lnTo>
                      <a:pt x="106" y="95"/>
                    </a:lnTo>
                    <a:lnTo>
                      <a:pt x="112" y="95"/>
                    </a:lnTo>
                    <a:lnTo>
                      <a:pt x="118" y="95"/>
                    </a:lnTo>
                    <a:lnTo>
                      <a:pt x="123" y="95"/>
                    </a:lnTo>
                    <a:lnTo>
                      <a:pt x="131" y="95"/>
                    </a:lnTo>
                    <a:lnTo>
                      <a:pt x="137" y="95"/>
                    </a:lnTo>
                    <a:lnTo>
                      <a:pt x="143" y="95"/>
                    </a:lnTo>
                    <a:lnTo>
                      <a:pt x="148" y="95"/>
                    </a:lnTo>
                    <a:lnTo>
                      <a:pt x="154" y="95"/>
                    </a:lnTo>
                    <a:lnTo>
                      <a:pt x="162" y="95"/>
                    </a:lnTo>
                    <a:lnTo>
                      <a:pt x="167" y="95"/>
                    </a:lnTo>
                    <a:lnTo>
                      <a:pt x="173" y="95"/>
                    </a:lnTo>
                    <a:lnTo>
                      <a:pt x="179" y="95"/>
                    </a:lnTo>
                    <a:lnTo>
                      <a:pt x="186" y="95"/>
                    </a:lnTo>
                    <a:lnTo>
                      <a:pt x="184" y="83"/>
                    </a:lnTo>
                    <a:lnTo>
                      <a:pt x="179" y="74"/>
                    </a:lnTo>
                    <a:lnTo>
                      <a:pt x="171" y="66"/>
                    </a:lnTo>
                    <a:lnTo>
                      <a:pt x="162" y="63"/>
                    </a:lnTo>
                    <a:lnTo>
                      <a:pt x="150" y="59"/>
                    </a:lnTo>
                    <a:lnTo>
                      <a:pt x="139" y="57"/>
                    </a:lnTo>
                    <a:lnTo>
                      <a:pt x="123" y="57"/>
                    </a:lnTo>
                    <a:lnTo>
                      <a:pt x="110" y="57"/>
                    </a:lnTo>
                    <a:lnTo>
                      <a:pt x="93" y="57"/>
                    </a:lnTo>
                    <a:lnTo>
                      <a:pt x="78" y="57"/>
                    </a:lnTo>
                    <a:lnTo>
                      <a:pt x="63" y="55"/>
                    </a:lnTo>
                    <a:lnTo>
                      <a:pt x="47" y="53"/>
                    </a:lnTo>
                    <a:lnTo>
                      <a:pt x="34" y="49"/>
                    </a:lnTo>
                    <a:lnTo>
                      <a:pt x="21" y="45"/>
                    </a:lnTo>
                    <a:lnTo>
                      <a:pt x="9" y="38"/>
                    </a:lnTo>
                    <a:lnTo>
                      <a:pt x="0" y="28"/>
                    </a:lnTo>
                    <a:lnTo>
                      <a:pt x="6" y="25"/>
                    </a:lnTo>
                    <a:lnTo>
                      <a:pt x="13" y="23"/>
                    </a:lnTo>
                    <a:lnTo>
                      <a:pt x="21" y="19"/>
                    </a:lnTo>
                    <a:lnTo>
                      <a:pt x="28" y="19"/>
                    </a:lnTo>
                    <a:lnTo>
                      <a:pt x="36" y="15"/>
                    </a:lnTo>
                    <a:lnTo>
                      <a:pt x="44" y="13"/>
                    </a:lnTo>
                    <a:lnTo>
                      <a:pt x="49" y="9"/>
                    </a:lnTo>
                    <a:lnTo>
                      <a:pt x="57" y="7"/>
                    </a:lnTo>
                    <a:lnTo>
                      <a:pt x="57"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0" name=""/>
              <p:cNvSpPr/>
              <p:nvPr/>
            </p:nvSpPr>
            <p:spPr>
              <a:xfrm flipH="1">
                <a:off x="6002280" y="5059080"/>
                <a:ext cx="28800" cy="24840"/>
              </a:xfrm>
              <a:custGeom>
                <a:avLst/>
                <a:gdLst/>
                <a:ahLst/>
                <a:rect l="l" t="t" r="r" b="b"/>
                <a:pathLst>
                  <a:path w="126" h="106">
                    <a:moveTo>
                      <a:pt x="40" y="0"/>
                    </a:moveTo>
                    <a:lnTo>
                      <a:pt x="48" y="2"/>
                    </a:lnTo>
                    <a:lnTo>
                      <a:pt x="56" y="6"/>
                    </a:lnTo>
                    <a:lnTo>
                      <a:pt x="65" y="11"/>
                    </a:lnTo>
                    <a:lnTo>
                      <a:pt x="76" y="19"/>
                    </a:lnTo>
                    <a:lnTo>
                      <a:pt x="86" y="27"/>
                    </a:lnTo>
                    <a:lnTo>
                      <a:pt x="95" y="34"/>
                    </a:lnTo>
                    <a:lnTo>
                      <a:pt x="103" y="44"/>
                    </a:lnTo>
                    <a:lnTo>
                      <a:pt x="111" y="53"/>
                    </a:lnTo>
                    <a:lnTo>
                      <a:pt x="116" y="57"/>
                    </a:lnTo>
                    <a:lnTo>
                      <a:pt x="120" y="63"/>
                    </a:lnTo>
                    <a:lnTo>
                      <a:pt x="122" y="70"/>
                    </a:lnTo>
                    <a:lnTo>
                      <a:pt x="126" y="78"/>
                    </a:lnTo>
                    <a:lnTo>
                      <a:pt x="126" y="84"/>
                    </a:lnTo>
                    <a:lnTo>
                      <a:pt x="126" y="91"/>
                    </a:lnTo>
                    <a:lnTo>
                      <a:pt x="126" y="99"/>
                    </a:lnTo>
                    <a:lnTo>
                      <a:pt x="126" y="106"/>
                    </a:lnTo>
                    <a:lnTo>
                      <a:pt x="118" y="103"/>
                    </a:lnTo>
                    <a:lnTo>
                      <a:pt x="111" y="101"/>
                    </a:lnTo>
                    <a:lnTo>
                      <a:pt x="105" y="99"/>
                    </a:lnTo>
                    <a:lnTo>
                      <a:pt x="99" y="95"/>
                    </a:lnTo>
                    <a:lnTo>
                      <a:pt x="92" y="91"/>
                    </a:lnTo>
                    <a:lnTo>
                      <a:pt x="86" y="87"/>
                    </a:lnTo>
                    <a:lnTo>
                      <a:pt x="80" y="84"/>
                    </a:lnTo>
                    <a:lnTo>
                      <a:pt x="76" y="82"/>
                    </a:lnTo>
                    <a:lnTo>
                      <a:pt x="67" y="74"/>
                    </a:lnTo>
                    <a:lnTo>
                      <a:pt x="57" y="68"/>
                    </a:lnTo>
                    <a:lnTo>
                      <a:pt x="50" y="61"/>
                    </a:lnTo>
                    <a:lnTo>
                      <a:pt x="40" y="55"/>
                    </a:lnTo>
                    <a:lnTo>
                      <a:pt x="31" y="49"/>
                    </a:lnTo>
                    <a:lnTo>
                      <a:pt x="21" y="46"/>
                    </a:lnTo>
                    <a:lnTo>
                      <a:pt x="10" y="42"/>
                    </a:lnTo>
                    <a:lnTo>
                      <a:pt x="0" y="42"/>
                    </a:lnTo>
                    <a:lnTo>
                      <a:pt x="4" y="36"/>
                    </a:lnTo>
                    <a:lnTo>
                      <a:pt x="8" y="28"/>
                    </a:lnTo>
                    <a:lnTo>
                      <a:pt x="12" y="23"/>
                    </a:lnTo>
                    <a:lnTo>
                      <a:pt x="18" y="17"/>
                    </a:lnTo>
                    <a:lnTo>
                      <a:pt x="23" y="11"/>
                    </a:lnTo>
                    <a:lnTo>
                      <a:pt x="29" y="8"/>
                    </a:lnTo>
                    <a:lnTo>
                      <a:pt x="35" y="2"/>
                    </a:lnTo>
                    <a:lnTo>
                      <a:pt x="40" y="0"/>
                    </a:lnTo>
                    <a:lnTo>
                      <a:pt x="40" y="0"/>
                    </a:lnTo>
                    <a:close/>
                  </a:path>
                </a:pathLst>
              </a:custGeom>
              <a:solidFill>
                <a:srgbClr val="ffccd4"/>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1" name=""/>
              <p:cNvSpPr/>
              <p:nvPr/>
            </p:nvSpPr>
            <p:spPr>
              <a:xfrm flipH="1">
                <a:off x="5769360" y="5082120"/>
                <a:ext cx="47880" cy="13320"/>
              </a:xfrm>
              <a:custGeom>
                <a:avLst/>
                <a:gdLst/>
                <a:ahLst/>
                <a:rect l="l" t="t" r="r" b="b"/>
                <a:pathLst>
                  <a:path w="208" h="59">
                    <a:moveTo>
                      <a:pt x="8" y="0"/>
                    </a:moveTo>
                    <a:lnTo>
                      <a:pt x="16" y="0"/>
                    </a:lnTo>
                    <a:lnTo>
                      <a:pt x="23" y="2"/>
                    </a:lnTo>
                    <a:lnTo>
                      <a:pt x="29" y="2"/>
                    </a:lnTo>
                    <a:lnTo>
                      <a:pt x="36" y="4"/>
                    </a:lnTo>
                    <a:lnTo>
                      <a:pt x="44" y="4"/>
                    </a:lnTo>
                    <a:lnTo>
                      <a:pt x="54" y="5"/>
                    </a:lnTo>
                    <a:lnTo>
                      <a:pt x="61" y="5"/>
                    </a:lnTo>
                    <a:lnTo>
                      <a:pt x="69" y="7"/>
                    </a:lnTo>
                    <a:lnTo>
                      <a:pt x="76" y="9"/>
                    </a:lnTo>
                    <a:lnTo>
                      <a:pt x="84" y="9"/>
                    </a:lnTo>
                    <a:lnTo>
                      <a:pt x="92" y="11"/>
                    </a:lnTo>
                    <a:lnTo>
                      <a:pt x="101" y="13"/>
                    </a:lnTo>
                    <a:lnTo>
                      <a:pt x="111" y="15"/>
                    </a:lnTo>
                    <a:lnTo>
                      <a:pt x="118" y="17"/>
                    </a:lnTo>
                    <a:lnTo>
                      <a:pt x="128" y="19"/>
                    </a:lnTo>
                    <a:lnTo>
                      <a:pt x="135" y="21"/>
                    </a:lnTo>
                    <a:lnTo>
                      <a:pt x="145" y="24"/>
                    </a:lnTo>
                    <a:lnTo>
                      <a:pt x="152" y="26"/>
                    </a:lnTo>
                    <a:lnTo>
                      <a:pt x="162" y="30"/>
                    </a:lnTo>
                    <a:lnTo>
                      <a:pt x="169" y="34"/>
                    </a:lnTo>
                    <a:lnTo>
                      <a:pt x="179" y="38"/>
                    </a:lnTo>
                    <a:lnTo>
                      <a:pt x="188" y="43"/>
                    </a:lnTo>
                    <a:lnTo>
                      <a:pt x="198" y="49"/>
                    </a:lnTo>
                    <a:lnTo>
                      <a:pt x="208" y="57"/>
                    </a:lnTo>
                    <a:lnTo>
                      <a:pt x="198" y="57"/>
                    </a:lnTo>
                    <a:lnTo>
                      <a:pt x="188" y="59"/>
                    </a:lnTo>
                    <a:lnTo>
                      <a:pt x="179" y="59"/>
                    </a:lnTo>
                    <a:lnTo>
                      <a:pt x="169" y="59"/>
                    </a:lnTo>
                    <a:lnTo>
                      <a:pt x="160" y="59"/>
                    </a:lnTo>
                    <a:lnTo>
                      <a:pt x="150" y="59"/>
                    </a:lnTo>
                    <a:lnTo>
                      <a:pt x="141" y="57"/>
                    </a:lnTo>
                    <a:lnTo>
                      <a:pt x="133" y="57"/>
                    </a:lnTo>
                    <a:lnTo>
                      <a:pt x="124" y="55"/>
                    </a:lnTo>
                    <a:lnTo>
                      <a:pt x="116" y="53"/>
                    </a:lnTo>
                    <a:lnTo>
                      <a:pt x="107" y="49"/>
                    </a:lnTo>
                    <a:lnTo>
                      <a:pt x="99" y="47"/>
                    </a:lnTo>
                    <a:lnTo>
                      <a:pt x="90" y="45"/>
                    </a:lnTo>
                    <a:lnTo>
                      <a:pt x="82" y="42"/>
                    </a:lnTo>
                    <a:lnTo>
                      <a:pt x="73" y="40"/>
                    </a:lnTo>
                    <a:lnTo>
                      <a:pt x="65" y="36"/>
                    </a:lnTo>
                    <a:lnTo>
                      <a:pt x="57" y="32"/>
                    </a:lnTo>
                    <a:lnTo>
                      <a:pt x="48" y="28"/>
                    </a:lnTo>
                    <a:lnTo>
                      <a:pt x="40" y="24"/>
                    </a:lnTo>
                    <a:lnTo>
                      <a:pt x="33" y="21"/>
                    </a:lnTo>
                    <a:lnTo>
                      <a:pt x="25" y="17"/>
                    </a:lnTo>
                    <a:lnTo>
                      <a:pt x="17" y="13"/>
                    </a:lnTo>
                    <a:lnTo>
                      <a:pt x="10" y="7"/>
                    </a:lnTo>
                    <a:lnTo>
                      <a:pt x="0" y="4"/>
                    </a:lnTo>
                    <a:lnTo>
                      <a:pt x="4" y="2"/>
                    </a:lnTo>
                    <a:lnTo>
                      <a:pt x="8" y="0"/>
                    </a:lnTo>
                    <a:lnTo>
                      <a:pt x="8"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2" name=""/>
              <p:cNvSpPr/>
              <p:nvPr/>
            </p:nvSpPr>
            <p:spPr>
              <a:xfrm flipH="1">
                <a:off x="5938560" y="5085360"/>
                <a:ext cx="25200" cy="16200"/>
              </a:xfrm>
              <a:custGeom>
                <a:avLst/>
                <a:gdLst/>
                <a:ahLst/>
                <a:rect l="l" t="t" r="r" b="b"/>
                <a:pathLst>
                  <a:path w="111" h="70">
                    <a:moveTo>
                      <a:pt x="29" y="0"/>
                    </a:moveTo>
                    <a:lnTo>
                      <a:pt x="38" y="2"/>
                    </a:lnTo>
                    <a:lnTo>
                      <a:pt x="46" y="6"/>
                    </a:lnTo>
                    <a:lnTo>
                      <a:pt x="55" y="9"/>
                    </a:lnTo>
                    <a:lnTo>
                      <a:pt x="65" y="13"/>
                    </a:lnTo>
                    <a:lnTo>
                      <a:pt x="73" y="17"/>
                    </a:lnTo>
                    <a:lnTo>
                      <a:pt x="82" y="23"/>
                    </a:lnTo>
                    <a:lnTo>
                      <a:pt x="88" y="28"/>
                    </a:lnTo>
                    <a:lnTo>
                      <a:pt x="95" y="34"/>
                    </a:lnTo>
                    <a:lnTo>
                      <a:pt x="101" y="42"/>
                    </a:lnTo>
                    <a:lnTo>
                      <a:pt x="107" y="51"/>
                    </a:lnTo>
                    <a:lnTo>
                      <a:pt x="109" y="59"/>
                    </a:lnTo>
                    <a:lnTo>
                      <a:pt x="111" y="70"/>
                    </a:lnTo>
                    <a:lnTo>
                      <a:pt x="103" y="68"/>
                    </a:lnTo>
                    <a:lnTo>
                      <a:pt x="97" y="66"/>
                    </a:lnTo>
                    <a:lnTo>
                      <a:pt x="92" y="65"/>
                    </a:lnTo>
                    <a:lnTo>
                      <a:pt x="84" y="65"/>
                    </a:lnTo>
                    <a:lnTo>
                      <a:pt x="76" y="63"/>
                    </a:lnTo>
                    <a:lnTo>
                      <a:pt x="69" y="61"/>
                    </a:lnTo>
                    <a:lnTo>
                      <a:pt x="61" y="59"/>
                    </a:lnTo>
                    <a:lnTo>
                      <a:pt x="54" y="59"/>
                    </a:lnTo>
                    <a:lnTo>
                      <a:pt x="46" y="55"/>
                    </a:lnTo>
                    <a:lnTo>
                      <a:pt x="38" y="53"/>
                    </a:lnTo>
                    <a:lnTo>
                      <a:pt x="31" y="51"/>
                    </a:lnTo>
                    <a:lnTo>
                      <a:pt x="25" y="49"/>
                    </a:lnTo>
                    <a:lnTo>
                      <a:pt x="19" y="46"/>
                    </a:lnTo>
                    <a:lnTo>
                      <a:pt x="14" y="44"/>
                    </a:lnTo>
                    <a:lnTo>
                      <a:pt x="6" y="40"/>
                    </a:lnTo>
                    <a:lnTo>
                      <a:pt x="4" y="38"/>
                    </a:lnTo>
                    <a:lnTo>
                      <a:pt x="0" y="28"/>
                    </a:lnTo>
                    <a:lnTo>
                      <a:pt x="2" y="21"/>
                    </a:lnTo>
                    <a:lnTo>
                      <a:pt x="4" y="15"/>
                    </a:lnTo>
                    <a:lnTo>
                      <a:pt x="10" y="11"/>
                    </a:lnTo>
                    <a:lnTo>
                      <a:pt x="14" y="8"/>
                    </a:lnTo>
                    <a:lnTo>
                      <a:pt x="17" y="6"/>
                    </a:lnTo>
                    <a:lnTo>
                      <a:pt x="23" y="2"/>
                    </a:lnTo>
                    <a:lnTo>
                      <a:pt x="29" y="0"/>
                    </a:lnTo>
                    <a:lnTo>
                      <a:pt x="29" y="0"/>
                    </a:lnTo>
                    <a:close/>
                  </a:path>
                </a:pathLst>
              </a:custGeom>
              <a:solidFill>
                <a:srgbClr val="ffccd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3" name=""/>
              <p:cNvSpPr/>
              <p:nvPr/>
            </p:nvSpPr>
            <p:spPr>
              <a:xfrm flipH="1">
                <a:off x="5724360" y="5110200"/>
                <a:ext cx="64080" cy="18360"/>
              </a:xfrm>
              <a:custGeom>
                <a:avLst/>
                <a:gdLst/>
                <a:ahLst/>
                <a:rect l="l" t="t" r="r" b="b"/>
                <a:pathLst>
                  <a:path w="277" h="80">
                    <a:moveTo>
                      <a:pt x="201" y="0"/>
                    </a:moveTo>
                    <a:lnTo>
                      <a:pt x="211" y="0"/>
                    </a:lnTo>
                    <a:lnTo>
                      <a:pt x="222" y="4"/>
                    </a:lnTo>
                    <a:lnTo>
                      <a:pt x="232" y="6"/>
                    </a:lnTo>
                    <a:lnTo>
                      <a:pt x="241" y="10"/>
                    </a:lnTo>
                    <a:lnTo>
                      <a:pt x="251" y="14"/>
                    </a:lnTo>
                    <a:lnTo>
                      <a:pt x="260" y="21"/>
                    </a:lnTo>
                    <a:lnTo>
                      <a:pt x="268" y="27"/>
                    </a:lnTo>
                    <a:lnTo>
                      <a:pt x="274" y="37"/>
                    </a:lnTo>
                    <a:lnTo>
                      <a:pt x="274" y="38"/>
                    </a:lnTo>
                    <a:lnTo>
                      <a:pt x="275" y="44"/>
                    </a:lnTo>
                    <a:lnTo>
                      <a:pt x="275" y="48"/>
                    </a:lnTo>
                    <a:lnTo>
                      <a:pt x="277" y="54"/>
                    </a:lnTo>
                    <a:lnTo>
                      <a:pt x="277" y="59"/>
                    </a:lnTo>
                    <a:lnTo>
                      <a:pt x="277" y="65"/>
                    </a:lnTo>
                    <a:lnTo>
                      <a:pt x="275" y="71"/>
                    </a:lnTo>
                    <a:lnTo>
                      <a:pt x="274" y="78"/>
                    </a:lnTo>
                    <a:lnTo>
                      <a:pt x="268" y="78"/>
                    </a:lnTo>
                    <a:lnTo>
                      <a:pt x="260" y="80"/>
                    </a:lnTo>
                    <a:lnTo>
                      <a:pt x="254" y="80"/>
                    </a:lnTo>
                    <a:lnTo>
                      <a:pt x="247" y="80"/>
                    </a:lnTo>
                    <a:lnTo>
                      <a:pt x="241" y="78"/>
                    </a:lnTo>
                    <a:lnTo>
                      <a:pt x="239" y="76"/>
                    </a:lnTo>
                    <a:lnTo>
                      <a:pt x="239" y="71"/>
                    </a:lnTo>
                    <a:lnTo>
                      <a:pt x="241" y="63"/>
                    </a:lnTo>
                    <a:lnTo>
                      <a:pt x="226" y="65"/>
                    </a:lnTo>
                    <a:lnTo>
                      <a:pt x="211" y="65"/>
                    </a:lnTo>
                    <a:lnTo>
                      <a:pt x="196" y="63"/>
                    </a:lnTo>
                    <a:lnTo>
                      <a:pt x="180" y="63"/>
                    </a:lnTo>
                    <a:lnTo>
                      <a:pt x="167" y="59"/>
                    </a:lnTo>
                    <a:lnTo>
                      <a:pt x="152" y="57"/>
                    </a:lnTo>
                    <a:lnTo>
                      <a:pt x="137" y="54"/>
                    </a:lnTo>
                    <a:lnTo>
                      <a:pt x="123" y="52"/>
                    </a:lnTo>
                    <a:lnTo>
                      <a:pt x="106" y="46"/>
                    </a:lnTo>
                    <a:lnTo>
                      <a:pt x="93" y="42"/>
                    </a:lnTo>
                    <a:lnTo>
                      <a:pt x="78" y="40"/>
                    </a:lnTo>
                    <a:lnTo>
                      <a:pt x="62" y="37"/>
                    </a:lnTo>
                    <a:lnTo>
                      <a:pt x="47" y="35"/>
                    </a:lnTo>
                    <a:lnTo>
                      <a:pt x="32" y="35"/>
                    </a:lnTo>
                    <a:lnTo>
                      <a:pt x="15" y="35"/>
                    </a:lnTo>
                    <a:lnTo>
                      <a:pt x="0" y="37"/>
                    </a:lnTo>
                    <a:lnTo>
                      <a:pt x="5" y="29"/>
                    </a:lnTo>
                    <a:lnTo>
                      <a:pt x="13" y="25"/>
                    </a:lnTo>
                    <a:lnTo>
                      <a:pt x="21" y="21"/>
                    </a:lnTo>
                    <a:lnTo>
                      <a:pt x="28" y="19"/>
                    </a:lnTo>
                    <a:lnTo>
                      <a:pt x="36" y="16"/>
                    </a:lnTo>
                    <a:lnTo>
                      <a:pt x="43" y="16"/>
                    </a:lnTo>
                    <a:lnTo>
                      <a:pt x="51" y="14"/>
                    </a:lnTo>
                    <a:lnTo>
                      <a:pt x="61" y="14"/>
                    </a:lnTo>
                    <a:lnTo>
                      <a:pt x="68" y="12"/>
                    </a:lnTo>
                    <a:lnTo>
                      <a:pt x="78" y="12"/>
                    </a:lnTo>
                    <a:lnTo>
                      <a:pt x="85" y="10"/>
                    </a:lnTo>
                    <a:lnTo>
                      <a:pt x="95" y="10"/>
                    </a:lnTo>
                    <a:lnTo>
                      <a:pt x="102" y="10"/>
                    </a:lnTo>
                    <a:lnTo>
                      <a:pt x="114" y="10"/>
                    </a:lnTo>
                    <a:lnTo>
                      <a:pt x="121" y="10"/>
                    </a:lnTo>
                    <a:lnTo>
                      <a:pt x="131" y="10"/>
                    </a:lnTo>
                    <a:lnTo>
                      <a:pt x="140" y="10"/>
                    </a:lnTo>
                    <a:lnTo>
                      <a:pt x="148" y="8"/>
                    </a:lnTo>
                    <a:lnTo>
                      <a:pt x="158" y="8"/>
                    </a:lnTo>
                    <a:lnTo>
                      <a:pt x="167" y="8"/>
                    </a:lnTo>
                    <a:lnTo>
                      <a:pt x="175" y="6"/>
                    </a:lnTo>
                    <a:lnTo>
                      <a:pt x="184" y="4"/>
                    </a:lnTo>
                    <a:lnTo>
                      <a:pt x="192" y="2"/>
                    </a:lnTo>
                    <a:lnTo>
                      <a:pt x="201" y="0"/>
                    </a:lnTo>
                    <a:lnTo>
                      <a:pt x="20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4" name=""/>
              <p:cNvSpPr/>
              <p:nvPr/>
            </p:nvSpPr>
            <p:spPr>
              <a:xfrm flipH="1">
                <a:off x="5841720" y="5127120"/>
                <a:ext cx="115560" cy="95400"/>
              </a:xfrm>
              <a:custGeom>
                <a:avLst/>
                <a:gdLst/>
                <a:ahLst/>
                <a:rect l="l" t="t" r="r" b="b"/>
                <a:pathLst>
                  <a:path w="500" h="414">
                    <a:moveTo>
                      <a:pt x="7" y="0"/>
                    </a:moveTo>
                    <a:lnTo>
                      <a:pt x="38" y="19"/>
                    </a:lnTo>
                    <a:lnTo>
                      <a:pt x="66" y="41"/>
                    </a:lnTo>
                    <a:lnTo>
                      <a:pt x="97" y="66"/>
                    </a:lnTo>
                    <a:lnTo>
                      <a:pt x="125" y="95"/>
                    </a:lnTo>
                    <a:lnTo>
                      <a:pt x="152" y="121"/>
                    </a:lnTo>
                    <a:lnTo>
                      <a:pt x="182" y="152"/>
                    </a:lnTo>
                    <a:lnTo>
                      <a:pt x="209" y="182"/>
                    </a:lnTo>
                    <a:lnTo>
                      <a:pt x="239" y="212"/>
                    </a:lnTo>
                    <a:lnTo>
                      <a:pt x="266" y="241"/>
                    </a:lnTo>
                    <a:lnTo>
                      <a:pt x="296" y="269"/>
                    </a:lnTo>
                    <a:lnTo>
                      <a:pt x="327" y="298"/>
                    </a:lnTo>
                    <a:lnTo>
                      <a:pt x="359" y="323"/>
                    </a:lnTo>
                    <a:lnTo>
                      <a:pt x="391" y="344"/>
                    </a:lnTo>
                    <a:lnTo>
                      <a:pt x="428" y="365"/>
                    </a:lnTo>
                    <a:lnTo>
                      <a:pt x="462" y="380"/>
                    </a:lnTo>
                    <a:lnTo>
                      <a:pt x="500" y="391"/>
                    </a:lnTo>
                    <a:lnTo>
                      <a:pt x="488" y="401"/>
                    </a:lnTo>
                    <a:lnTo>
                      <a:pt x="475" y="408"/>
                    </a:lnTo>
                    <a:lnTo>
                      <a:pt x="458" y="412"/>
                    </a:lnTo>
                    <a:lnTo>
                      <a:pt x="443" y="414"/>
                    </a:lnTo>
                    <a:lnTo>
                      <a:pt x="426" y="410"/>
                    </a:lnTo>
                    <a:lnTo>
                      <a:pt x="409" y="406"/>
                    </a:lnTo>
                    <a:lnTo>
                      <a:pt x="390" y="399"/>
                    </a:lnTo>
                    <a:lnTo>
                      <a:pt x="372" y="391"/>
                    </a:lnTo>
                    <a:lnTo>
                      <a:pt x="353" y="380"/>
                    </a:lnTo>
                    <a:lnTo>
                      <a:pt x="336" y="370"/>
                    </a:lnTo>
                    <a:lnTo>
                      <a:pt x="317" y="357"/>
                    </a:lnTo>
                    <a:lnTo>
                      <a:pt x="300" y="344"/>
                    </a:lnTo>
                    <a:lnTo>
                      <a:pt x="285" y="330"/>
                    </a:lnTo>
                    <a:lnTo>
                      <a:pt x="270" y="317"/>
                    </a:lnTo>
                    <a:lnTo>
                      <a:pt x="255" y="302"/>
                    </a:lnTo>
                    <a:lnTo>
                      <a:pt x="245" y="290"/>
                    </a:lnTo>
                    <a:lnTo>
                      <a:pt x="230" y="273"/>
                    </a:lnTo>
                    <a:lnTo>
                      <a:pt x="213" y="256"/>
                    </a:lnTo>
                    <a:lnTo>
                      <a:pt x="198" y="239"/>
                    </a:lnTo>
                    <a:lnTo>
                      <a:pt x="180" y="222"/>
                    </a:lnTo>
                    <a:lnTo>
                      <a:pt x="163" y="205"/>
                    </a:lnTo>
                    <a:lnTo>
                      <a:pt x="146" y="188"/>
                    </a:lnTo>
                    <a:lnTo>
                      <a:pt x="129" y="169"/>
                    </a:lnTo>
                    <a:lnTo>
                      <a:pt x="112" y="154"/>
                    </a:lnTo>
                    <a:lnTo>
                      <a:pt x="95" y="135"/>
                    </a:lnTo>
                    <a:lnTo>
                      <a:pt x="80" y="117"/>
                    </a:lnTo>
                    <a:lnTo>
                      <a:pt x="63" y="98"/>
                    </a:lnTo>
                    <a:lnTo>
                      <a:pt x="49" y="81"/>
                    </a:lnTo>
                    <a:lnTo>
                      <a:pt x="34" y="62"/>
                    </a:lnTo>
                    <a:lnTo>
                      <a:pt x="21" y="43"/>
                    </a:lnTo>
                    <a:lnTo>
                      <a:pt x="9" y="24"/>
                    </a:lnTo>
                    <a:lnTo>
                      <a:pt x="0" y="7"/>
                    </a:lnTo>
                    <a:lnTo>
                      <a:pt x="4" y="1"/>
                    </a:lnTo>
                    <a:lnTo>
                      <a:pt x="7" y="0"/>
                    </a:lnTo>
                    <a:lnTo>
                      <a:pt x="7" y="0"/>
                    </a:lnTo>
                    <a:close/>
                  </a:path>
                </a:pathLst>
              </a:custGeom>
              <a:solidFill>
                <a:srgbClr val="ffcc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5729040" y="5141160"/>
                <a:ext cx="36720" cy="11520"/>
              </a:xfrm>
              <a:custGeom>
                <a:avLst/>
                <a:gdLst/>
                <a:ahLst/>
                <a:rect l="l" t="t" r="r" b="b"/>
                <a:pathLst>
                  <a:path w="159" h="50">
                    <a:moveTo>
                      <a:pt x="138" y="0"/>
                    </a:moveTo>
                    <a:lnTo>
                      <a:pt x="148" y="8"/>
                    </a:lnTo>
                    <a:lnTo>
                      <a:pt x="154" y="16"/>
                    </a:lnTo>
                    <a:lnTo>
                      <a:pt x="157" y="23"/>
                    </a:lnTo>
                    <a:lnTo>
                      <a:pt x="159" y="31"/>
                    </a:lnTo>
                    <a:lnTo>
                      <a:pt x="159" y="35"/>
                    </a:lnTo>
                    <a:lnTo>
                      <a:pt x="155" y="40"/>
                    </a:lnTo>
                    <a:lnTo>
                      <a:pt x="150" y="42"/>
                    </a:lnTo>
                    <a:lnTo>
                      <a:pt x="146" y="46"/>
                    </a:lnTo>
                    <a:lnTo>
                      <a:pt x="138" y="48"/>
                    </a:lnTo>
                    <a:lnTo>
                      <a:pt x="133" y="48"/>
                    </a:lnTo>
                    <a:lnTo>
                      <a:pt x="127" y="50"/>
                    </a:lnTo>
                    <a:lnTo>
                      <a:pt x="119" y="50"/>
                    </a:lnTo>
                    <a:lnTo>
                      <a:pt x="112" y="50"/>
                    </a:lnTo>
                    <a:lnTo>
                      <a:pt x="106" y="50"/>
                    </a:lnTo>
                    <a:lnTo>
                      <a:pt x="97" y="50"/>
                    </a:lnTo>
                    <a:lnTo>
                      <a:pt x="91" y="50"/>
                    </a:lnTo>
                    <a:lnTo>
                      <a:pt x="81" y="50"/>
                    </a:lnTo>
                    <a:lnTo>
                      <a:pt x="74" y="48"/>
                    </a:lnTo>
                    <a:lnTo>
                      <a:pt x="66" y="48"/>
                    </a:lnTo>
                    <a:lnTo>
                      <a:pt x="59" y="46"/>
                    </a:lnTo>
                    <a:lnTo>
                      <a:pt x="51" y="44"/>
                    </a:lnTo>
                    <a:lnTo>
                      <a:pt x="43" y="42"/>
                    </a:lnTo>
                    <a:lnTo>
                      <a:pt x="38" y="40"/>
                    </a:lnTo>
                    <a:lnTo>
                      <a:pt x="32" y="40"/>
                    </a:lnTo>
                    <a:lnTo>
                      <a:pt x="22" y="36"/>
                    </a:lnTo>
                    <a:lnTo>
                      <a:pt x="15" y="33"/>
                    </a:lnTo>
                    <a:lnTo>
                      <a:pt x="7" y="29"/>
                    </a:lnTo>
                    <a:lnTo>
                      <a:pt x="3" y="25"/>
                    </a:lnTo>
                    <a:lnTo>
                      <a:pt x="0" y="21"/>
                    </a:lnTo>
                    <a:lnTo>
                      <a:pt x="0" y="17"/>
                    </a:lnTo>
                    <a:lnTo>
                      <a:pt x="2" y="14"/>
                    </a:lnTo>
                    <a:lnTo>
                      <a:pt x="7" y="10"/>
                    </a:lnTo>
                    <a:lnTo>
                      <a:pt x="15" y="8"/>
                    </a:lnTo>
                    <a:lnTo>
                      <a:pt x="22" y="6"/>
                    </a:lnTo>
                    <a:lnTo>
                      <a:pt x="30" y="6"/>
                    </a:lnTo>
                    <a:lnTo>
                      <a:pt x="38" y="6"/>
                    </a:lnTo>
                    <a:lnTo>
                      <a:pt x="47" y="6"/>
                    </a:lnTo>
                    <a:lnTo>
                      <a:pt x="55" y="6"/>
                    </a:lnTo>
                    <a:lnTo>
                      <a:pt x="64" y="8"/>
                    </a:lnTo>
                    <a:lnTo>
                      <a:pt x="74" y="8"/>
                    </a:lnTo>
                    <a:lnTo>
                      <a:pt x="81" y="8"/>
                    </a:lnTo>
                    <a:lnTo>
                      <a:pt x="89" y="8"/>
                    </a:lnTo>
                    <a:lnTo>
                      <a:pt x="98" y="8"/>
                    </a:lnTo>
                    <a:lnTo>
                      <a:pt x="108" y="8"/>
                    </a:lnTo>
                    <a:lnTo>
                      <a:pt x="116" y="6"/>
                    </a:lnTo>
                    <a:lnTo>
                      <a:pt x="123" y="6"/>
                    </a:lnTo>
                    <a:lnTo>
                      <a:pt x="131" y="2"/>
                    </a:lnTo>
                    <a:lnTo>
                      <a:pt x="138" y="0"/>
                    </a:lnTo>
                    <a:lnTo>
                      <a:pt x="13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6" name=""/>
              <p:cNvSpPr/>
              <p:nvPr/>
            </p:nvSpPr>
            <p:spPr>
              <a:xfrm flipH="1">
                <a:off x="5745960" y="5167440"/>
                <a:ext cx="27720" cy="15840"/>
              </a:xfrm>
              <a:custGeom>
                <a:avLst/>
                <a:gdLst/>
                <a:ahLst/>
                <a:rect l="l" t="t" r="r" b="b"/>
                <a:pathLst>
                  <a:path w="120" h="71">
                    <a:moveTo>
                      <a:pt x="113" y="0"/>
                    </a:moveTo>
                    <a:lnTo>
                      <a:pt x="115" y="6"/>
                    </a:lnTo>
                    <a:lnTo>
                      <a:pt x="116" y="12"/>
                    </a:lnTo>
                    <a:lnTo>
                      <a:pt x="118" y="16"/>
                    </a:lnTo>
                    <a:lnTo>
                      <a:pt x="120" y="21"/>
                    </a:lnTo>
                    <a:lnTo>
                      <a:pt x="120" y="29"/>
                    </a:lnTo>
                    <a:lnTo>
                      <a:pt x="118" y="38"/>
                    </a:lnTo>
                    <a:lnTo>
                      <a:pt x="115" y="44"/>
                    </a:lnTo>
                    <a:lnTo>
                      <a:pt x="111" y="50"/>
                    </a:lnTo>
                    <a:lnTo>
                      <a:pt x="105" y="56"/>
                    </a:lnTo>
                    <a:lnTo>
                      <a:pt x="97" y="61"/>
                    </a:lnTo>
                    <a:lnTo>
                      <a:pt x="90" y="63"/>
                    </a:lnTo>
                    <a:lnTo>
                      <a:pt x="84" y="65"/>
                    </a:lnTo>
                    <a:lnTo>
                      <a:pt x="78" y="65"/>
                    </a:lnTo>
                    <a:lnTo>
                      <a:pt x="73" y="67"/>
                    </a:lnTo>
                    <a:lnTo>
                      <a:pt x="67" y="69"/>
                    </a:lnTo>
                    <a:lnTo>
                      <a:pt x="61" y="69"/>
                    </a:lnTo>
                    <a:lnTo>
                      <a:pt x="54" y="69"/>
                    </a:lnTo>
                    <a:lnTo>
                      <a:pt x="48" y="71"/>
                    </a:lnTo>
                    <a:lnTo>
                      <a:pt x="40" y="69"/>
                    </a:lnTo>
                    <a:lnTo>
                      <a:pt x="35" y="69"/>
                    </a:lnTo>
                    <a:lnTo>
                      <a:pt x="29" y="69"/>
                    </a:lnTo>
                    <a:lnTo>
                      <a:pt x="23" y="67"/>
                    </a:lnTo>
                    <a:lnTo>
                      <a:pt x="18" y="65"/>
                    </a:lnTo>
                    <a:lnTo>
                      <a:pt x="12" y="65"/>
                    </a:lnTo>
                    <a:lnTo>
                      <a:pt x="6" y="63"/>
                    </a:lnTo>
                    <a:lnTo>
                      <a:pt x="0" y="61"/>
                    </a:lnTo>
                    <a:lnTo>
                      <a:pt x="2" y="52"/>
                    </a:lnTo>
                    <a:lnTo>
                      <a:pt x="4" y="46"/>
                    </a:lnTo>
                    <a:lnTo>
                      <a:pt x="8" y="38"/>
                    </a:lnTo>
                    <a:lnTo>
                      <a:pt x="12" y="35"/>
                    </a:lnTo>
                    <a:lnTo>
                      <a:pt x="16" y="31"/>
                    </a:lnTo>
                    <a:lnTo>
                      <a:pt x="20" y="27"/>
                    </a:lnTo>
                    <a:lnTo>
                      <a:pt x="25" y="23"/>
                    </a:lnTo>
                    <a:lnTo>
                      <a:pt x="31" y="21"/>
                    </a:lnTo>
                    <a:lnTo>
                      <a:pt x="39" y="19"/>
                    </a:lnTo>
                    <a:lnTo>
                      <a:pt x="50" y="18"/>
                    </a:lnTo>
                    <a:lnTo>
                      <a:pt x="54" y="16"/>
                    </a:lnTo>
                    <a:lnTo>
                      <a:pt x="59" y="14"/>
                    </a:lnTo>
                    <a:lnTo>
                      <a:pt x="65" y="14"/>
                    </a:lnTo>
                    <a:lnTo>
                      <a:pt x="71" y="14"/>
                    </a:lnTo>
                    <a:lnTo>
                      <a:pt x="75" y="12"/>
                    </a:lnTo>
                    <a:lnTo>
                      <a:pt x="80" y="10"/>
                    </a:lnTo>
                    <a:lnTo>
                      <a:pt x="86" y="10"/>
                    </a:lnTo>
                    <a:lnTo>
                      <a:pt x="92" y="8"/>
                    </a:lnTo>
                    <a:lnTo>
                      <a:pt x="101" y="4"/>
                    </a:lnTo>
                    <a:lnTo>
                      <a:pt x="113" y="0"/>
                    </a:lnTo>
                    <a:lnTo>
                      <a:pt x="1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 name=""/>
              <p:cNvSpPr/>
              <p:nvPr/>
            </p:nvSpPr>
            <p:spPr>
              <a:xfrm flipH="1">
                <a:off x="5924880" y="5208480"/>
                <a:ext cx="10800" cy="9720"/>
              </a:xfrm>
              <a:custGeom>
                <a:avLst/>
                <a:gdLst/>
                <a:ahLst/>
                <a:rect l="l" t="t" r="r" b="b"/>
                <a:pathLst>
                  <a:path w="49" h="44">
                    <a:moveTo>
                      <a:pt x="4" y="0"/>
                    </a:moveTo>
                    <a:lnTo>
                      <a:pt x="11" y="6"/>
                    </a:lnTo>
                    <a:lnTo>
                      <a:pt x="17" y="12"/>
                    </a:lnTo>
                    <a:lnTo>
                      <a:pt x="25" y="17"/>
                    </a:lnTo>
                    <a:lnTo>
                      <a:pt x="32" y="25"/>
                    </a:lnTo>
                    <a:lnTo>
                      <a:pt x="40" y="31"/>
                    </a:lnTo>
                    <a:lnTo>
                      <a:pt x="49" y="40"/>
                    </a:lnTo>
                    <a:lnTo>
                      <a:pt x="46" y="44"/>
                    </a:lnTo>
                    <a:lnTo>
                      <a:pt x="42" y="38"/>
                    </a:lnTo>
                    <a:lnTo>
                      <a:pt x="36" y="36"/>
                    </a:lnTo>
                    <a:lnTo>
                      <a:pt x="30" y="33"/>
                    </a:lnTo>
                    <a:lnTo>
                      <a:pt x="25" y="31"/>
                    </a:lnTo>
                    <a:lnTo>
                      <a:pt x="19" y="27"/>
                    </a:lnTo>
                    <a:lnTo>
                      <a:pt x="13" y="25"/>
                    </a:lnTo>
                    <a:lnTo>
                      <a:pt x="8" y="21"/>
                    </a:lnTo>
                    <a:lnTo>
                      <a:pt x="4" y="19"/>
                    </a:lnTo>
                    <a:lnTo>
                      <a:pt x="0" y="12"/>
                    </a:lnTo>
                    <a:lnTo>
                      <a:pt x="4" y="0"/>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438" name=""/>
            <p:cNvGrpSpPr/>
            <p:nvPr/>
          </p:nvGrpSpPr>
          <p:grpSpPr>
            <a:xfrm>
              <a:off x="5335920" y="5411880"/>
              <a:ext cx="1124640" cy="783720"/>
              <a:chOff x="5335920" y="5411880"/>
              <a:chExt cx="1124640" cy="783720"/>
            </a:xfrm>
          </p:grpSpPr>
          <p:sp>
            <p:nvSpPr>
              <p:cNvPr id="439" name=""/>
              <p:cNvSpPr/>
              <p:nvPr/>
            </p:nvSpPr>
            <p:spPr>
              <a:xfrm>
                <a:off x="5335920" y="5411880"/>
                <a:ext cx="1124640" cy="783720"/>
              </a:xfrm>
              <a:custGeom>
                <a:avLst/>
                <a:gdLst/>
                <a:ahLst/>
                <a:rect l="l" t="t" r="r" b="b"/>
                <a:pathLst>
                  <a:path w="2229" h="1551">
                    <a:moveTo>
                      <a:pt x="1020" y="320"/>
                    </a:moveTo>
                    <a:lnTo>
                      <a:pt x="1013" y="319"/>
                    </a:lnTo>
                    <a:lnTo>
                      <a:pt x="1001" y="319"/>
                    </a:lnTo>
                    <a:lnTo>
                      <a:pt x="986" y="318"/>
                    </a:lnTo>
                    <a:lnTo>
                      <a:pt x="968" y="317"/>
                    </a:lnTo>
                    <a:lnTo>
                      <a:pt x="947" y="315"/>
                    </a:lnTo>
                    <a:lnTo>
                      <a:pt x="925" y="314"/>
                    </a:lnTo>
                    <a:lnTo>
                      <a:pt x="901" y="312"/>
                    </a:lnTo>
                    <a:lnTo>
                      <a:pt x="877" y="311"/>
                    </a:lnTo>
                    <a:lnTo>
                      <a:pt x="851" y="310"/>
                    </a:lnTo>
                    <a:lnTo>
                      <a:pt x="826" y="309"/>
                    </a:lnTo>
                    <a:lnTo>
                      <a:pt x="802" y="307"/>
                    </a:lnTo>
                    <a:lnTo>
                      <a:pt x="779" y="307"/>
                    </a:lnTo>
                    <a:lnTo>
                      <a:pt x="757" y="306"/>
                    </a:lnTo>
                    <a:lnTo>
                      <a:pt x="737" y="305"/>
                    </a:lnTo>
                    <a:lnTo>
                      <a:pt x="721" y="305"/>
                    </a:lnTo>
                    <a:lnTo>
                      <a:pt x="708" y="305"/>
                    </a:lnTo>
                    <a:lnTo>
                      <a:pt x="694" y="305"/>
                    </a:lnTo>
                    <a:lnTo>
                      <a:pt x="676" y="304"/>
                    </a:lnTo>
                    <a:lnTo>
                      <a:pt x="657" y="303"/>
                    </a:lnTo>
                    <a:lnTo>
                      <a:pt x="634" y="302"/>
                    </a:lnTo>
                    <a:lnTo>
                      <a:pt x="611" y="299"/>
                    </a:lnTo>
                    <a:lnTo>
                      <a:pt x="585" y="298"/>
                    </a:lnTo>
                    <a:lnTo>
                      <a:pt x="559" y="296"/>
                    </a:lnTo>
                    <a:lnTo>
                      <a:pt x="534" y="294"/>
                    </a:lnTo>
                    <a:lnTo>
                      <a:pt x="509" y="291"/>
                    </a:lnTo>
                    <a:lnTo>
                      <a:pt x="485" y="289"/>
                    </a:lnTo>
                    <a:lnTo>
                      <a:pt x="465" y="288"/>
                    </a:lnTo>
                    <a:lnTo>
                      <a:pt x="445" y="285"/>
                    </a:lnTo>
                    <a:lnTo>
                      <a:pt x="429" y="284"/>
                    </a:lnTo>
                    <a:lnTo>
                      <a:pt x="417" y="283"/>
                    </a:lnTo>
                    <a:lnTo>
                      <a:pt x="409" y="282"/>
                    </a:lnTo>
                    <a:lnTo>
                      <a:pt x="407" y="282"/>
                    </a:lnTo>
                    <a:lnTo>
                      <a:pt x="393" y="283"/>
                    </a:lnTo>
                    <a:lnTo>
                      <a:pt x="377" y="285"/>
                    </a:lnTo>
                    <a:lnTo>
                      <a:pt x="357" y="289"/>
                    </a:lnTo>
                    <a:lnTo>
                      <a:pt x="338" y="292"/>
                    </a:lnTo>
                    <a:lnTo>
                      <a:pt x="319" y="297"/>
                    </a:lnTo>
                    <a:lnTo>
                      <a:pt x="302" y="300"/>
                    </a:lnTo>
                    <a:lnTo>
                      <a:pt x="288" y="305"/>
                    </a:lnTo>
                    <a:lnTo>
                      <a:pt x="279" y="309"/>
                    </a:lnTo>
                    <a:lnTo>
                      <a:pt x="265" y="318"/>
                    </a:lnTo>
                    <a:lnTo>
                      <a:pt x="250" y="327"/>
                    </a:lnTo>
                    <a:lnTo>
                      <a:pt x="237" y="337"/>
                    </a:lnTo>
                    <a:lnTo>
                      <a:pt x="225" y="348"/>
                    </a:lnTo>
                    <a:lnTo>
                      <a:pt x="213" y="357"/>
                    </a:lnTo>
                    <a:lnTo>
                      <a:pt x="205" y="365"/>
                    </a:lnTo>
                    <a:lnTo>
                      <a:pt x="200" y="370"/>
                    </a:lnTo>
                    <a:lnTo>
                      <a:pt x="197" y="372"/>
                    </a:lnTo>
                    <a:lnTo>
                      <a:pt x="188" y="374"/>
                    </a:lnTo>
                    <a:lnTo>
                      <a:pt x="174" y="378"/>
                    </a:lnTo>
                    <a:lnTo>
                      <a:pt x="159" y="381"/>
                    </a:lnTo>
                    <a:lnTo>
                      <a:pt x="143" y="385"/>
                    </a:lnTo>
                    <a:lnTo>
                      <a:pt x="128" y="388"/>
                    </a:lnTo>
                    <a:lnTo>
                      <a:pt x="116" y="391"/>
                    </a:lnTo>
                    <a:lnTo>
                      <a:pt x="106" y="393"/>
                    </a:lnTo>
                    <a:lnTo>
                      <a:pt x="103" y="394"/>
                    </a:lnTo>
                    <a:lnTo>
                      <a:pt x="85" y="402"/>
                    </a:lnTo>
                    <a:lnTo>
                      <a:pt x="71" y="410"/>
                    </a:lnTo>
                    <a:lnTo>
                      <a:pt x="60" y="418"/>
                    </a:lnTo>
                    <a:lnTo>
                      <a:pt x="52" y="427"/>
                    </a:lnTo>
                    <a:lnTo>
                      <a:pt x="48" y="436"/>
                    </a:lnTo>
                    <a:lnTo>
                      <a:pt x="44" y="446"/>
                    </a:lnTo>
                    <a:lnTo>
                      <a:pt x="42" y="455"/>
                    </a:lnTo>
                    <a:lnTo>
                      <a:pt x="40" y="464"/>
                    </a:lnTo>
                    <a:lnTo>
                      <a:pt x="33" y="488"/>
                    </a:lnTo>
                    <a:lnTo>
                      <a:pt x="26" y="511"/>
                    </a:lnTo>
                    <a:lnTo>
                      <a:pt x="19" y="527"/>
                    </a:lnTo>
                    <a:lnTo>
                      <a:pt x="17" y="534"/>
                    </a:lnTo>
                    <a:lnTo>
                      <a:pt x="6" y="556"/>
                    </a:lnTo>
                    <a:lnTo>
                      <a:pt x="2" y="579"/>
                    </a:lnTo>
                    <a:lnTo>
                      <a:pt x="0" y="601"/>
                    </a:lnTo>
                    <a:lnTo>
                      <a:pt x="4" y="622"/>
                    </a:lnTo>
                    <a:lnTo>
                      <a:pt x="9" y="638"/>
                    </a:lnTo>
                    <a:lnTo>
                      <a:pt x="15" y="654"/>
                    </a:lnTo>
                    <a:lnTo>
                      <a:pt x="25" y="668"/>
                    </a:lnTo>
                    <a:lnTo>
                      <a:pt x="34" y="680"/>
                    </a:lnTo>
                    <a:lnTo>
                      <a:pt x="44" y="690"/>
                    </a:lnTo>
                    <a:lnTo>
                      <a:pt x="55" y="698"/>
                    </a:lnTo>
                    <a:lnTo>
                      <a:pt x="65" y="704"/>
                    </a:lnTo>
                    <a:lnTo>
                      <a:pt x="74" y="706"/>
                    </a:lnTo>
                    <a:lnTo>
                      <a:pt x="90" y="710"/>
                    </a:lnTo>
                    <a:lnTo>
                      <a:pt x="108" y="714"/>
                    </a:lnTo>
                    <a:lnTo>
                      <a:pt x="127" y="721"/>
                    </a:lnTo>
                    <a:lnTo>
                      <a:pt x="146" y="729"/>
                    </a:lnTo>
                    <a:lnTo>
                      <a:pt x="162" y="736"/>
                    </a:lnTo>
                    <a:lnTo>
                      <a:pt x="175" y="743"/>
                    </a:lnTo>
                    <a:lnTo>
                      <a:pt x="185" y="748"/>
                    </a:lnTo>
                    <a:lnTo>
                      <a:pt x="188" y="749"/>
                    </a:lnTo>
                    <a:lnTo>
                      <a:pt x="190" y="774"/>
                    </a:lnTo>
                    <a:lnTo>
                      <a:pt x="201" y="793"/>
                    </a:lnTo>
                    <a:lnTo>
                      <a:pt x="212" y="805"/>
                    </a:lnTo>
                    <a:lnTo>
                      <a:pt x="217" y="810"/>
                    </a:lnTo>
                    <a:lnTo>
                      <a:pt x="220" y="812"/>
                    </a:lnTo>
                    <a:lnTo>
                      <a:pt x="232" y="820"/>
                    </a:lnTo>
                    <a:lnTo>
                      <a:pt x="247" y="832"/>
                    </a:lnTo>
                    <a:lnTo>
                      <a:pt x="264" y="843"/>
                    </a:lnTo>
                    <a:lnTo>
                      <a:pt x="283" y="857"/>
                    </a:lnTo>
                    <a:lnTo>
                      <a:pt x="300" y="869"/>
                    </a:lnTo>
                    <a:lnTo>
                      <a:pt x="314" y="877"/>
                    </a:lnTo>
                    <a:lnTo>
                      <a:pt x="322" y="881"/>
                    </a:lnTo>
                    <a:lnTo>
                      <a:pt x="330" y="885"/>
                    </a:lnTo>
                    <a:lnTo>
                      <a:pt x="342" y="891"/>
                    </a:lnTo>
                    <a:lnTo>
                      <a:pt x="360" y="900"/>
                    </a:lnTo>
                    <a:lnTo>
                      <a:pt x="378" y="909"/>
                    </a:lnTo>
                    <a:lnTo>
                      <a:pt x="397" y="919"/>
                    </a:lnTo>
                    <a:lnTo>
                      <a:pt x="414" y="930"/>
                    </a:lnTo>
                    <a:lnTo>
                      <a:pt x="429" y="940"/>
                    </a:lnTo>
                    <a:lnTo>
                      <a:pt x="440" y="948"/>
                    </a:lnTo>
                    <a:lnTo>
                      <a:pt x="446" y="952"/>
                    </a:lnTo>
                    <a:lnTo>
                      <a:pt x="455" y="957"/>
                    </a:lnTo>
                    <a:lnTo>
                      <a:pt x="466" y="963"/>
                    </a:lnTo>
                    <a:lnTo>
                      <a:pt x="478" y="970"/>
                    </a:lnTo>
                    <a:lnTo>
                      <a:pt x="493" y="978"/>
                    </a:lnTo>
                    <a:lnTo>
                      <a:pt x="508" y="985"/>
                    </a:lnTo>
                    <a:lnTo>
                      <a:pt x="524" y="993"/>
                    </a:lnTo>
                    <a:lnTo>
                      <a:pt x="541" y="1000"/>
                    </a:lnTo>
                    <a:lnTo>
                      <a:pt x="558" y="1008"/>
                    </a:lnTo>
                    <a:lnTo>
                      <a:pt x="579" y="1019"/>
                    </a:lnTo>
                    <a:lnTo>
                      <a:pt x="600" y="1030"/>
                    </a:lnTo>
                    <a:lnTo>
                      <a:pt x="621" y="1040"/>
                    </a:lnTo>
                    <a:lnTo>
                      <a:pt x="640" y="1051"/>
                    </a:lnTo>
                    <a:lnTo>
                      <a:pt x="656" y="1059"/>
                    </a:lnTo>
                    <a:lnTo>
                      <a:pt x="666" y="1065"/>
                    </a:lnTo>
                    <a:lnTo>
                      <a:pt x="670" y="1067"/>
                    </a:lnTo>
                    <a:lnTo>
                      <a:pt x="694" y="1076"/>
                    </a:lnTo>
                    <a:lnTo>
                      <a:pt x="721" y="1085"/>
                    </a:lnTo>
                    <a:lnTo>
                      <a:pt x="752" y="1093"/>
                    </a:lnTo>
                    <a:lnTo>
                      <a:pt x="786" y="1103"/>
                    </a:lnTo>
                    <a:lnTo>
                      <a:pt x="822" y="1111"/>
                    </a:lnTo>
                    <a:lnTo>
                      <a:pt x="858" y="1120"/>
                    </a:lnTo>
                    <a:lnTo>
                      <a:pt x="895" y="1127"/>
                    </a:lnTo>
                    <a:lnTo>
                      <a:pt x="933" y="1135"/>
                    </a:lnTo>
                    <a:lnTo>
                      <a:pt x="969" y="1142"/>
                    </a:lnTo>
                    <a:lnTo>
                      <a:pt x="1003" y="1148"/>
                    </a:lnTo>
                    <a:lnTo>
                      <a:pt x="1036" y="1153"/>
                    </a:lnTo>
                    <a:lnTo>
                      <a:pt x="1065" y="1158"/>
                    </a:lnTo>
                    <a:lnTo>
                      <a:pt x="1090" y="1161"/>
                    </a:lnTo>
                    <a:lnTo>
                      <a:pt x="1111" y="1165"/>
                    </a:lnTo>
                    <a:lnTo>
                      <a:pt x="1126" y="1166"/>
                    </a:lnTo>
                    <a:lnTo>
                      <a:pt x="1135" y="1167"/>
                    </a:lnTo>
                    <a:lnTo>
                      <a:pt x="1144" y="1167"/>
                    </a:lnTo>
                    <a:lnTo>
                      <a:pt x="1158" y="1168"/>
                    </a:lnTo>
                    <a:lnTo>
                      <a:pt x="1175" y="1171"/>
                    </a:lnTo>
                    <a:lnTo>
                      <a:pt x="1196" y="1173"/>
                    </a:lnTo>
                    <a:lnTo>
                      <a:pt x="1219" y="1176"/>
                    </a:lnTo>
                    <a:lnTo>
                      <a:pt x="1244" y="1179"/>
                    </a:lnTo>
                    <a:lnTo>
                      <a:pt x="1271" y="1182"/>
                    </a:lnTo>
                    <a:lnTo>
                      <a:pt x="1297" y="1186"/>
                    </a:lnTo>
                    <a:lnTo>
                      <a:pt x="1324" y="1190"/>
                    </a:lnTo>
                    <a:lnTo>
                      <a:pt x="1349" y="1194"/>
                    </a:lnTo>
                    <a:lnTo>
                      <a:pt x="1372" y="1196"/>
                    </a:lnTo>
                    <a:lnTo>
                      <a:pt x="1393" y="1199"/>
                    </a:lnTo>
                    <a:lnTo>
                      <a:pt x="1410" y="1202"/>
                    </a:lnTo>
                    <a:lnTo>
                      <a:pt x="1424" y="1204"/>
                    </a:lnTo>
                    <a:lnTo>
                      <a:pt x="1432" y="1205"/>
                    </a:lnTo>
                    <a:lnTo>
                      <a:pt x="1435" y="1205"/>
                    </a:lnTo>
                    <a:lnTo>
                      <a:pt x="1469" y="1210"/>
                    </a:lnTo>
                    <a:lnTo>
                      <a:pt x="1502" y="1216"/>
                    </a:lnTo>
                    <a:lnTo>
                      <a:pt x="1534" y="1223"/>
                    </a:lnTo>
                    <a:lnTo>
                      <a:pt x="1567" y="1232"/>
                    </a:lnTo>
                    <a:lnTo>
                      <a:pt x="1597" y="1241"/>
                    </a:lnTo>
                    <a:lnTo>
                      <a:pt x="1624" y="1250"/>
                    </a:lnTo>
                    <a:lnTo>
                      <a:pt x="1652" y="1261"/>
                    </a:lnTo>
                    <a:lnTo>
                      <a:pt x="1676" y="1270"/>
                    </a:lnTo>
                    <a:lnTo>
                      <a:pt x="1699" y="1280"/>
                    </a:lnTo>
                    <a:lnTo>
                      <a:pt x="1720" y="1289"/>
                    </a:lnTo>
                    <a:lnTo>
                      <a:pt x="1737" y="1299"/>
                    </a:lnTo>
                    <a:lnTo>
                      <a:pt x="1752" y="1305"/>
                    </a:lnTo>
                    <a:lnTo>
                      <a:pt x="1765" y="1312"/>
                    </a:lnTo>
                    <a:lnTo>
                      <a:pt x="1774" y="1317"/>
                    </a:lnTo>
                    <a:lnTo>
                      <a:pt x="1778" y="1320"/>
                    </a:lnTo>
                    <a:lnTo>
                      <a:pt x="1781" y="1322"/>
                    </a:lnTo>
                    <a:lnTo>
                      <a:pt x="1792" y="1334"/>
                    </a:lnTo>
                    <a:lnTo>
                      <a:pt x="1808" y="1349"/>
                    </a:lnTo>
                    <a:lnTo>
                      <a:pt x="1829" y="1365"/>
                    </a:lnTo>
                    <a:lnTo>
                      <a:pt x="1852" y="1384"/>
                    </a:lnTo>
                    <a:lnTo>
                      <a:pt x="1880" y="1402"/>
                    </a:lnTo>
                    <a:lnTo>
                      <a:pt x="1909" y="1422"/>
                    </a:lnTo>
                    <a:lnTo>
                      <a:pt x="1939" y="1440"/>
                    </a:lnTo>
                    <a:lnTo>
                      <a:pt x="1968" y="1460"/>
                    </a:lnTo>
                    <a:lnTo>
                      <a:pt x="1997" y="1478"/>
                    </a:lnTo>
                    <a:lnTo>
                      <a:pt x="2026" y="1495"/>
                    </a:lnTo>
                    <a:lnTo>
                      <a:pt x="2053" y="1511"/>
                    </a:lnTo>
                    <a:lnTo>
                      <a:pt x="2076" y="1523"/>
                    </a:lnTo>
                    <a:lnTo>
                      <a:pt x="2095" y="1535"/>
                    </a:lnTo>
                    <a:lnTo>
                      <a:pt x="2110" y="1544"/>
                    </a:lnTo>
                    <a:lnTo>
                      <a:pt x="2119" y="1549"/>
                    </a:lnTo>
                    <a:lnTo>
                      <a:pt x="2123" y="1551"/>
                    </a:lnTo>
                    <a:lnTo>
                      <a:pt x="2129" y="1539"/>
                    </a:lnTo>
                    <a:lnTo>
                      <a:pt x="2139" y="1514"/>
                    </a:lnTo>
                    <a:lnTo>
                      <a:pt x="2152" y="1482"/>
                    </a:lnTo>
                    <a:lnTo>
                      <a:pt x="2165" y="1444"/>
                    </a:lnTo>
                    <a:lnTo>
                      <a:pt x="2179" y="1406"/>
                    </a:lnTo>
                    <a:lnTo>
                      <a:pt x="2192" y="1371"/>
                    </a:lnTo>
                    <a:lnTo>
                      <a:pt x="2202" y="1344"/>
                    </a:lnTo>
                    <a:lnTo>
                      <a:pt x="2208" y="1327"/>
                    </a:lnTo>
                    <a:lnTo>
                      <a:pt x="2223" y="1261"/>
                    </a:lnTo>
                    <a:lnTo>
                      <a:pt x="2229" y="1182"/>
                    </a:lnTo>
                    <a:lnTo>
                      <a:pt x="2229" y="1096"/>
                    </a:lnTo>
                    <a:lnTo>
                      <a:pt x="2224" y="1010"/>
                    </a:lnTo>
                    <a:lnTo>
                      <a:pt x="2216" y="932"/>
                    </a:lnTo>
                    <a:lnTo>
                      <a:pt x="2206" y="865"/>
                    </a:lnTo>
                    <a:lnTo>
                      <a:pt x="2198" y="817"/>
                    </a:lnTo>
                    <a:lnTo>
                      <a:pt x="2192" y="794"/>
                    </a:lnTo>
                    <a:lnTo>
                      <a:pt x="2179" y="773"/>
                    </a:lnTo>
                    <a:lnTo>
                      <a:pt x="2160" y="756"/>
                    </a:lnTo>
                    <a:lnTo>
                      <a:pt x="2137" y="740"/>
                    </a:lnTo>
                    <a:lnTo>
                      <a:pt x="2112" y="726"/>
                    </a:lnTo>
                    <a:lnTo>
                      <a:pt x="2089" y="715"/>
                    </a:lnTo>
                    <a:lnTo>
                      <a:pt x="2070" y="707"/>
                    </a:lnTo>
                    <a:lnTo>
                      <a:pt x="2056" y="702"/>
                    </a:lnTo>
                    <a:lnTo>
                      <a:pt x="2051" y="700"/>
                    </a:lnTo>
                    <a:lnTo>
                      <a:pt x="2049" y="699"/>
                    </a:lnTo>
                    <a:lnTo>
                      <a:pt x="2043" y="696"/>
                    </a:lnTo>
                    <a:lnTo>
                      <a:pt x="2034" y="689"/>
                    </a:lnTo>
                    <a:lnTo>
                      <a:pt x="2021" y="682"/>
                    </a:lnTo>
                    <a:lnTo>
                      <a:pt x="2007" y="672"/>
                    </a:lnTo>
                    <a:lnTo>
                      <a:pt x="1990" y="661"/>
                    </a:lnTo>
                    <a:lnTo>
                      <a:pt x="1972" y="649"/>
                    </a:lnTo>
                    <a:lnTo>
                      <a:pt x="1954" y="636"/>
                    </a:lnTo>
                    <a:lnTo>
                      <a:pt x="1934" y="622"/>
                    </a:lnTo>
                    <a:lnTo>
                      <a:pt x="1916" y="607"/>
                    </a:lnTo>
                    <a:lnTo>
                      <a:pt x="1897" y="593"/>
                    </a:lnTo>
                    <a:lnTo>
                      <a:pt x="1880" y="579"/>
                    </a:lnTo>
                    <a:lnTo>
                      <a:pt x="1865" y="564"/>
                    </a:lnTo>
                    <a:lnTo>
                      <a:pt x="1851" y="552"/>
                    </a:lnTo>
                    <a:lnTo>
                      <a:pt x="1841" y="539"/>
                    </a:lnTo>
                    <a:lnTo>
                      <a:pt x="1834" y="527"/>
                    </a:lnTo>
                    <a:lnTo>
                      <a:pt x="1821" y="503"/>
                    </a:lnTo>
                    <a:lnTo>
                      <a:pt x="1805" y="477"/>
                    </a:lnTo>
                    <a:lnTo>
                      <a:pt x="1789" y="449"/>
                    </a:lnTo>
                    <a:lnTo>
                      <a:pt x="1772" y="423"/>
                    </a:lnTo>
                    <a:lnTo>
                      <a:pt x="1757" y="400"/>
                    </a:lnTo>
                    <a:lnTo>
                      <a:pt x="1745" y="380"/>
                    </a:lnTo>
                    <a:lnTo>
                      <a:pt x="1737" y="367"/>
                    </a:lnTo>
                    <a:lnTo>
                      <a:pt x="1734" y="363"/>
                    </a:lnTo>
                    <a:lnTo>
                      <a:pt x="1712" y="341"/>
                    </a:lnTo>
                    <a:lnTo>
                      <a:pt x="1686" y="321"/>
                    </a:lnTo>
                    <a:lnTo>
                      <a:pt x="1661" y="303"/>
                    </a:lnTo>
                    <a:lnTo>
                      <a:pt x="1635" y="287"/>
                    </a:lnTo>
                    <a:lnTo>
                      <a:pt x="1607" y="272"/>
                    </a:lnTo>
                    <a:lnTo>
                      <a:pt x="1580" y="258"/>
                    </a:lnTo>
                    <a:lnTo>
                      <a:pt x="1554" y="246"/>
                    </a:lnTo>
                    <a:lnTo>
                      <a:pt x="1527" y="235"/>
                    </a:lnTo>
                    <a:lnTo>
                      <a:pt x="1503" y="226"/>
                    </a:lnTo>
                    <a:lnTo>
                      <a:pt x="1480" y="217"/>
                    </a:lnTo>
                    <a:lnTo>
                      <a:pt x="1461" y="212"/>
                    </a:lnTo>
                    <a:lnTo>
                      <a:pt x="1442" y="206"/>
                    </a:lnTo>
                    <a:lnTo>
                      <a:pt x="1428" y="201"/>
                    </a:lnTo>
                    <a:lnTo>
                      <a:pt x="1417" y="199"/>
                    </a:lnTo>
                    <a:lnTo>
                      <a:pt x="1410" y="197"/>
                    </a:lnTo>
                    <a:lnTo>
                      <a:pt x="1408" y="197"/>
                    </a:lnTo>
                    <a:lnTo>
                      <a:pt x="1404" y="194"/>
                    </a:lnTo>
                    <a:lnTo>
                      <a:pt x="1396" y="189"/>
                    </a:lnTo>
                    <a:lnTo>
                      <a:pt x="1383" y="179"/>
                    </a:lnTo>
                    <a:lnTo>
                      <a:pt x="1367" y="168"/>
                    </a:lnTo>
                    <a:lnTo>
                      <a:pt x="1350" y="153"/>
                    </a:lnTo>
                    <a:lnTo>
                      <a:pt x="1331" y="137"/>
                    </a:lnTo>
                    <a:lnTo>
                      <a:pt x="1311" y="119"/>
                    </a:lnTo>
                    <a:lnTo>
                      <a:pt x="1293" y="100"/>
                    </a:lnTo>
                    <a:lnTo>
                      <a:pt x="1291" y="99"/>
                    </a:lnTo>
                    <a:lnTo>
                      <a:pt x="1288" y="95"/>
                    </a:lnTo>
                    <a:lnTo>
                      <a:pt x="1283" y="91"/>
                    </a:lnTo>
                    <a:lnTo>
                      <a:pt x="1275" y="84"/>
                    </a:lnTo>
                    <a:lnTo>
                      <a:pt x="1266" y="76"/>
                    </a:lnTo>
                    <a:lnTo>
                      <a:pt x="1256" y="66"/>
                    </a:lnTo>
                    <a:lnTo>
                      <a:pt x="1243" y="57"/>
                    </a:lnTo>
                    <a:lnTo>
                      <a:pt x="1229" y="48"/>
                    </a:lnTo>
                    <a:lnTo>
                      <a:pt x="1214" y="39"/>
                    </a:lnTo>
                    <a:lnTo>
                      <a:pt x="1197" y="30"/>
                    </a:lnTo>
                    <a:lnTo>
                      <a:pt x="1180" y="20"/>
                    </a:lnTo>
                    <a:lnTo>
                      <a:pt x="1161" y="13"/>
                    </a:lnTo>
                    <a:lnTo>
                      <a:pt x="1142" y="8"/>
                    </a:lnTo>
                    <a:lnTo>
                      <a:pt x="1121" y="3"/>
                    </a:lnTo>
                    <a:lnTo>
                      <a:pt x="1099" y="0"/>
                    </a:lnTo>
                    <a:lnTo>
                      <a:pt x="1077" y="0"/>
                    </a:lnTo>
                    <a:lnTo>
                      <a:pt x="1071" y="0"/>
                    </a:lnTo>
                    <a:lnTo>
                      <a:pt x="1056" y="1"/>
                    </a:lnTo>
                    <a:lnTo>
                      <a:pt x="1036" y="4"/>
                    </a:lnTo>
                    <a:lnTo>
                      <a:pt x="1014" y="12"/>
                    </a:lnTo>
                    <a:lnTo>
                      <a:pt x="992" y="26"/>
                    </a:lnTo>
                    <a:lnTo>
                      <a:pt x="976" y="47"/>
                    </a:lnTo>
                    <a:lnTo>
                      <a:pt x="969" y="77"/>
                    </a:lnTo>
                    <a:lnTo>
                      <a:pt x="974" y="116"/>
                    </a:lnTo>
                    <a:lnTo>
                      <a:pt x="975" y="122"/>
                    </a:lnTo>
                    <a:lnTo>
                      <a:pt x="979" y="138"/>
                    </a:lnTo>
                    <a:lnTo>
                      <a:pt x="989" y="161"/>
                    </a:lnTo>
                    <a:lnTo>
                      <a:pt x="1002" y="189"/>
                    </a:lnTo>
                    <a:lnTo>
                      <a:pt x="1023" y="219"/>
                    </a:lnTo>
                    <a:lnTo>
                      <a:pt x="1048" y="247"/>
                    </a:lnTo>
                    <a:lnTo>
                      <a:pt x="1083" y="273"/>
                    </a:lnTo>
                    <a:lnTo>
                      <a:pt x="1124" y="291"/>
                    </a:lnTo>
                    <a:lnTo>
                      <a:pt x="1122" y="292"/>
                    </a:lnTo>
                    <a:lnTo>
                      <a:pt x="1117" y="297"/>
                    </a:lnTo>
                    <a:lnTo>
                      <a:pt x="1109" y="303"/>
                    </a:lnTo>
                    <a:lnTo>
                      <a:pt x="1097" y="309"/>
                    </a:lnTo>
                    <a:lnTo>
                      <a:pt x="1082" y="314"/>
                    </a:lnTo>
                    <a:lnTo>
                      <a:pt x="1065" y="319"/>
                    </a:lnTo>
                    <a:lnTo>
                      <a:pt x="1044" y="321"/>
                    </a:lnTo>
                    <a:lnTo>
                      <a:pt x="1020" y="320"/>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348160" y="5426280"/>
                <a:ext cx="1024920" cy="688680"/>
              </a:xfrm>
              <a:custGeom>
                <a:avLst/>
                <a:gdLst/>
                <a:ahLst/>
                <a:rect l="l" t="t" r="r" b="b"/>
                <a:pathLst>
                  <a:path w="2030" h="1365">
                    <a:moveTo>
                      <a:pt x="2003" y="1128"/>
                    </a:moveTo>
                    <a:lnTo>
                      <a:pt x="1995" y="1152"/>
                    </a:lnTo>
                    <a:lnTo>
                      <a:pt x="1987" y="1176"/>
                    </a:lnTo>
                    <a:lnTo>
                      <a:pt x="1979" y="1200"/>
                    </a:lnTo>
                    <a:lnTo>
                      <a:pt x="1970" y="1223"/>
                    </a:lnTo>
                    <a:lnTo>
                      <a:pt x="1960" y="1246"/>
                    </a:lnTo>
                    <a:lnTo>
                      <a:pt x="1948" y="1268"/>
                    </a:lnTo>
                    <a:lnTo>
                      <a:pt x="1937" y="1291"/>
                    </a:lnTo>
                    <a:lnTo>
                      <a:pt x="1923" y="1313"/>
                    </a:lnTo>
                    <a:lnTo>
                      <a:pt x="1918" y="1310"/>
                    </a:lnTo>
                    <a:lnTo>
                      <a:pt x="1918" y="1304"/>
                    </a:lnTo>
                    <a:lnTo>
                      <a:pt x="1920" y="1299"/>
                    </a:lnTo>
                    <a:lnTo>
                      <a:pt x="1922" y="1295"/>
                    </a:lnTo>
                    <a:lnTo>
                      <a:pt x="1926" y="1276"/>
                    </a:lnTo>
                    <a:lnTo>
                      <a:pt x="1931" y="1258"/>
                    </a:lnTo>
                    <a:lnTo>
                      <a:pt x="1934" y="1239"/>
                    </a:lnTo>
                    <a:lnTo>
                      <a:pt x="1939" y="1220"/>
                    </a:lnTo>
                    <a:lnTo>
                      <a:pt x="1943" y="1201"/>
                    </a:lnTo>
                    <a:lnTo>
                      <a:pt x="1948" y="1182"/>
                    </a:lnTo>
                    <a:lnTo>
                      <a:pt x="1955" y="1163"/>
                    </a:lnTo>
                    <a:lnTo>
                      <a:pt x="1962" y="1146"/>
                    </a:lnTo>
                    <a:lnTo>
                      <a:pt x="1969" y="1118"/>
                    </a:lnTo>
                    <a:lnTo>
                      <a:pt x="1975" y="1088"/>
                    </a:lnTo>
                    <a:lnTo>
                      <a:pt x="1980" y="1060"/>
                    </a:lnTo>
                    <a:lnTo>
                      <a:pt x="1987" y="1031"/>
                    </a:lnTo>
                    <a:lnTo>
                      <a:pt x="1984" y="1031"/>
                    </a:lnTo>
                    <a:lnTo>
                      <a:pt x="1955" y="1122"/>
                    </a:lnTo>
                    <a:lnTo>
                      <a:pt x="1950" y="1122"/>
                    </a:lnTo>
                    <a:lnTo>
                      <a:pt x="1947" y="1137"/>
                    </a:lnTo>
                    <a:lnTo>
                      <a:pt x="1942" y="1151"/>
                    </a:lnTo>
                    <a:lnTo>
                      <a:pt x="1938" y="1166"/>
                    </a:lnTo>
                    <a:lnTo>
                      <a:pt x="1931" y="1179"/>
                    </a:lnTo>
                    <a:lnTo>
                      <a:pt x="1925" y="1193"/>
                    </a:lnTo>
                    <a:lnTo>
                      <a:pt x="1919" y="1207"/>
                    </a:lnTo>
                    <a:lnTo>
                      <a:pt x="1914" y="1221"/>
                    </a:lnTo>
                    <a:lnTo>
                      <a:pt x="1908" y="1236"/>
                    </a:lnTo>
                    <a:lnTo>
                      <a:pt x="1901" y="1246"/>
                    </a:lnTo>
                    <a:lnTo>
                      <a:pt x="1895" y="1258"/>
                    </a:lnTo>
                    <a:lnTo>
                      <a:pt x="1888" y="1269"/>
                    </a:lnTo>
                    <a:lnTo>
                      <a:pt x="1881" y="1278"/>
                    </a:lnTo>
                    <a:lnTo>
                      <a:pt x="1879" y="1281"/>
                    </a:lnTo>
                    <a:lnTo>
                      <a:pt x="1877" y="1280"/>
                    </a:lnTo>
                    <a:lnTo>
                      <a:pt x="1874" y="1277"/>
                    </a:lnTo>
                    <a:lnTo>
                      <a:pt x="1872" y="1276"/>
                    </a:lnTo>
                    <a:lnTo>
                      <a:pt x="1893" y="1194"/>
                    </a:lnTo>
                    <a:lnTo>
                      <a:pt x="1900" y="1184"/>
                    </a:lnTo>
                    <a:lnTo>
                      <a:pt x="1902" y="1171"/>
                    </a:lnTo>
                    <a:lnTo>
                      <a:pt x="1904" y="1160"/>
                    </a:lnTo>
                    <a:lnTo>
                      <a:pt x="1912" y="1148"/>
                    </a:lnTo>
                    <a:lnTo>
                      <a:pt x="1916" y="1116"/>
                    </a:lnTo>
                    <a:lnTo>
                      <a:pt x="1923" y="1086"/>
                    </a:lnTo>
                    <a:lnTo>
                      <a:pt x="1930" y="1056"/>
                    </a:lnTo>
                    <a:lnTo>
                      <a:pt x="1933" y="1028"/>
                    </a:lnTo>
                    <a:lnTo>
                      <a:pt x="1927" y="1040"/>
                    </a:lnTo>
                    <a:lnTo>
                      <a:pt x="1923" y="1054"/>
                    </a:lnTo>
                    <a:lnTo>
                      <a:pt x="1918" y="1066"/>
                    </a:lnTo>
                    <a:lnTo>
                      <a:pt x="1914" y="1079"/>
                    </a:lnTo>
                    <a:lnTo>
                      <a:pt x="1909" y="1102"/>
                    </a:lnTo>
                    <a:lnTo>
                      <a:pt x="1902" y="1125"/>
                    </a:lnTo>
                    <a:lnTo>
                      <a:pt x="1894" y="1148"/>
                    </a:lnTo>
                    <a:lnTo>
                      <a:pt x="1884" y="1170"/>
                    </a:lnTo>
                    <a:lnTo>
                      <a:pt x="1873" y="1193"/>
                    </a:lnTo>
                    <a:lnTo>
                      <a:pt x="1862" y="1215"/>
                    </a:lnTo>
                    <a:lnTo>
                      <a:pt x="1850" y="1237"/>
                    </a:lnTo>
                    <a:lnTo>
                      <a:pt x="1840" y="1259"/>
                    </a:lnTo>
                    <a:lnTo>
                      <a:pt x="1829" y="1251"/>
                    </a:lnTo>
                    <a:lnTo>
                      <a:pt x="1840" y="1213"/>
                    </a:lnTo>
                    <a:lnTo>
                      <a:pt x="1851" y="1176"/>
                    </a:lnTo>
                    <a:lnTo>
                      <a:pt x="1862" y="1138"/>
                    </a:lnTo>
                    <a:lnTo>
                      <a:pt x="1872" y="1100"/>
                    </a:lnTo>
                    <a:lnTo>
                      <a:pt x="1882" y="1062"/>
                    </a:lnTo>
                    <a:lnTo>
                      <a:pt x="1892" y="1024"/>
                    </a:lnTo>
                    <a:lnTo>
                      <a:pt x="1901" y="985"/>
                    </a:lnTo>
                    <a:lnTo>
                      <a:pt x="1910" y="945"/>
                    </a:lnTo>
                    <a:lnTo>
                      <a:pt x="1907" y="945"/>
                    </a:lnTo>
                    <a:lnTo>
                      <a:pt x="1897" y="978"/>
                    </a:lnTo>
                    <a:lnTo>
                      <a:pt x="1887" y="1011"/>
                    </a:lnTo>
                    <a:lnTo>
                      <a:pt x="1878" y="1045"/>
                    </a:lnTo>
                    <a:lnTo>
                      <a:pt x="1867" y="1078"/>
                    </a:lnTo>
                    <a:lnTo>
                      <a:pt x="1856" y="1110"/>
                    </a:lnTo>
                    <a:lnTo>
                      <a:pt x="1843" y="1142"/>
                    </a:lnTo>
                    <a:lnTo>
                      <a:pt x="1828" y="1175"/>
                    </a:lnTo>
                    <a:lnTo>
                      <a:pt x="1811" y="1205"/>
                    </a:lnTo>
                    <a:lnTo>
                      <a:pt x="1805" y="1208"/>
                    </a:lnTo>
                    <a:lnTo>
                      <a:pt x="1801" y="1215"/>
                    </a:lnTo>
                    <a:lnTo>
                      <a:pt x="1796" y="1224"/>
                    </a:lnTo>
                    <a:lnTo>
                      <a:pt x="1791" y="1232"/>
                    </a:lnTo>
                    <a:lnTo>
                      <a:pt x="1785" y="1227"/>
                    </a:lnTo>
                    <a:lnTo>
                      <a:pt x="1790" y="1209"/>
                    </a:lnTo>
                    <a:lnTo>
                      <a:pt x="1796" y="1191"/>
                    </a:lnTo>
                    <a:lnTo>
                      <a:pt x="1802" y="1174"/>
                    </a:lnTo>
                    <a:lnTo>
                      <a:pt x="1805" y="1156"/>
                    </a:lnTo>
                    <a:lnTo>
                      <a:pt x="1820" y="1118"/>
                    </a:lnTo>
                    <a:lnTo>
                      <a:pt x="1833" y="1081"/>
                    </a:lnTo>
                    <a:lnTo>
                      <a:pt x="1843" y="1043"/>
                    </a:lnTo>
                    <a:lnTo>
                      <a:pt x="1853" y="1004"/>
                    </a:lnTo>
                    <a:lnTo>
                      <a:pt x="1861" y="966"/>
                    </a:lnTo>
                    <a:lnTo>
                      <a:pt x="1869" y="927"/>
                    </a:lnTo>
                    <a:lnTo>
                      <a:pt x="1878" y="888"/>
                    </a:lnTo>
                    <a:lnTo>
                      <a:pt x="1888" y="849"/>
                    </a:lnTo>
                    <a:lnTo>
                      <a:pt x="1884" y="855"/>
                    </a:lnTo>
                    <a:lnTo>
                      <a:pt x="1881" y="864"/>
                    </a:lnTo>
                    <a:lnTo>
                      <a:pt x="1878" y="870"/>
                    </a:lnTo>
                    <a:lnTo>
                      <a:pt x="1873" y="874"/>
                    </a:lnTo>
                    <a:lnTo>
                      <a:pt x="1869" y="897"/>
                    </a:lnTo>
                    <a:lnTo>
                      <a:pt x="1864" y="919"/>
                    </a:lnTo>
                    <a:lnTo>
                      <a:pt x="1857" y="941"/>
                    </a:lnTo>
                    <a:lnTo>
                      <a:pt x="1851" y="963"/>
                    </a:lnTo>
                    <a:lnTo>
                      <a:pt x="1843" y="985"/>
                    </a:lnTo>
                    <a:lnTo>
                      <a:pt x="1836" y="1006"/>
                    </a:lnTo>
                    <a:lnTo>
                      <a:pt x="1827" y="1028"/>
                    </a:lnTo>
                    <a:lnTo>
                      <a:pt x="1819" y="1049"/>
                    </a:lnTo>
                    <a:lnTo>
                      <a:pt x="1815" y="1069"/>
                    </a:lnTo>
                    <a:lnTo>
                      <a:pt x="1808" y="1089"/>
                    </a:lnTo>
                    <a:lnTo>
                      <a:pt x="1801" y="1109"/>
                    </a:lnTo>
                    <a:lnTo>
                      <a:pt x="1793" y="1129"/>
                    </a:lnTo>
                    <a:lnTo>
                      <a:pt x="1783" y="1147"/>
                    </a:lnTo>
                    <a:lnTo>
                      <a:pt x="1774" y="1167"/>
                    </a:lnTo>
                    <a:lnTo>
                      <a:pt x="1765" y="1185"/>
                    </a:lnTo>
                    <a:lnTo>
                      <a:pt x="1756" y="1205"/>
                    </a:lnTo>
                    <a:lnTo>
                      <a:pt x="1752" y="1208"/>
                    </a:lnTo>
                    <a:lnTo>
                      <a:pt x="1749" y="1208"/>
                    </a:lnTo>
                    <a:lnTo>
                      <a:pt x="1744" y="1206"/>
                    </a:lnTo>
                    <a:lnTo>
                      <a:pt x="1742" y="1202"/>
                    </a:lnTo>
                    <a:lnTo>
                      <a:pt x="1747" y="1190"/>
                    </a:lnTo>
                    <a:lnTo>
                      <a:pt x="1750" y="1176"/>
                    </a:lnTo>
                    <a:lnTo>
                      <a:pt x="1755" y="1163"/>
                    </a:lnTo>
                    <a:lnTo>
                      <a:pt x="1759" y="1149"/>
                    </a:lnTo>
                    <a:lnTo>
                      <a:pt x="1763" y="1136"/>
                    </a:lnTo>
                    <a:lnTo>
                      <a:pt x="1767" y="1123"/>
                    </a:lnTo>
                    <a:lnTo>
                      <a:pt x="1772" y="1109"/>
                    </a:lnTo>
                    <a:lnTo>
                      <a:pt x="1777" y="1096"/>
                    </a:lnTo>
                    <a:lnTo>
                      <a:pt x="1775" y="1095"/>
                    </a:lnTo>
                    <a:lnTo>
                      <a:pt x="1780" y="1087"/>
                    </a:lnTo>
                    <a:lnTo>
                      <a:pt x="1783" y="1079"/>
                    </a:lnTo>
                    <a:lnTo>
                      <a:pt x="1785" y="1070"/>
                    </a:lnTo>
                    <a:lnTo>
                      <a:pt x="1786" y="1062"/>
                    </a:lnTo>
                    <a:lnTo>
                      <a:pt x="1797" y="1042"/>
                    </a:lnTo>
                    <a:lnTo>
                      <a:pt x="1805" y="1021"/>
                    </a:lnTo>
                    <a:lnTo>
                      <a:pt x="1810" y="1000"/>
                    </a:lnTo>
                    <a:lnTo>
                      <a:pt x="1813" y="978"/>
                    </a:lnTo>
                    <a:lnTo>
                      <a:pt x="1817" y="956"/>
                    </a:lnTo>
                    <a:lnTo>
                      <a:pt x="1821" y="934"/>
                    </a:lnTo>
                    <a:lnTo>
                      <a:pt x="1826" y="912"/>
                    </a:lnTo>
                    <a:lnTo>
                      <a:pt x="1834" y="891"/>
                    </a:lnTo>
                    <a:lnTo>
                      <a:pt x="1836" y="891"/>
                    </a:lnTo>
                    <a:lnTo>
                      <a:pt x="1834" y="889"/>
                    </a:lnTo>
                    <a:lnTo>
                      <a:pt x="1841" y="861"/>
                    </a:lnTo>
                    <a:lnTo>
                      <a:pt x="1847" y="834"/>
                    </a:lnTo>
                    <a:lnTo>
                      <a:pt x="1855" y="805"/>
                    </a:lnTo>
                    <a:lnTo>
                      <a:pt x="1862" y="777"/>
                    </a:lnTo>
                    <a:lnTo>
                      <a:pt x="1871" y="749"/>
                    </a:lnTo>
                    <a:lnTo>
                      <a:pt x="1882" y="723"/>
                    </a:lnTo>
                    <a:lnTo>
                      <a:pt x="1896" y="699"/>
                    </a:lnTo>
                    <a:lnTo>
                      <a:pt x="1914" y="676"/>
                    </a:lnTo>
                    <a:lnTo>
                      <a:pt x="1920" y="698"/>
                    </a:lnTo>
                    <a:lnTo>
                      <a:pt x="1916" y="719"/>
                    </a:lnTo>
                    <a:lnTo>
                      <a:pt x="1908" y="743"/>
                    </a:lnTo>
                    <a:lnTo>
                      <a:pt x="1904" y="766"/>
                    </a:lnTo>
                    <a:lnTo>
                      <a:pt x="1910" y="761"/>
                    </a:lnTo>
                    <a:lnTo>
                      <a:pt x="1914" y="753"/>
                    </a:lnTo>
                    <a:lnTo>
                      <a:pt x="1918" y="745"/>
                    </a:lnTo>
                    <a:lnTo>
                      <a:pt x="1926" y="740"/>
                    </a:lnTo>
                    <a:lnTo>
                      <a:pt x="1929" y="726"/>
                    </a:lnTo>
                    <a:lnTo>
                      <a:pt x="1933" y="714"/>
                    </a:lnTo>
                    <a:lnTo>
                      <a:pt x="1939" y="702"/>
                    </a:lnTo>
                    <a:lnTo>
                      <a:pt x="1947" y="691"/>
                    </a:lnTo>
                    <a:lnTo>
                      <a:pt x="1950" y="695"/>
                    </a:lnTo>
                    <a:lnTo>
                      <a:pt x="1954" y="700"/>
                    </a:lnTo>
                    <a:lnTo>
                      <a:pt x="1956" y="706"/>
                    </a:lnTo>
                    <a:lnTo>
                      <a:pt x="1956" y="710"/>
                    </a:lnTo>
                    <a:lnTo>
                      <a:pt x="1961" y="714"/>
                    </a:lnTo>
                    <a:lnTo>
                      <a:pt x="1958" y="734"/>
                    </a:lnTo>
                    <a:lnTo>
                      <a:pt x="1954" y="753"/>
                    </a:lnTo>
                    <a:lnTo>
                      <a:pt x="1950" y="773"/>
                    </a:lnTo>
                    <a:lnTo>
                      <a:pt x="1949" y="792"/>
                    </a:lnTo>
                    <a:lnTo>
                      <a:pt x="1950" y="792"/>
                    </a:lnTo>
                    <a:lnTo>
                      <a:pt x="1954" y="779"/>
                    </a:lnTo>
                    <a:lnTo>
                      <a:pt x="1958" y="768"/>
                    </a:lnTo>
                    <a:lnTo>
                      <a:pt x="1963" y="756"/>
                    </a:lnTo>
                    <a:lnTo>
                      <a:pt x="1967" y="745"/>
                    </a:lnTo>
                    <a:lnTo>
                      <a:pt x="1973" y="736"/>
                    </a:lnTo>
                    <a:lnTo>
                      <a:pt x="1980" y="724"/>
                    </a:lnTo>
                    <a:lnTo>
                      <a:pt x="1986" y="713"/>
                    </a:lnTo>
                    <a:lnTo>
                      <a:pt x="1987" y="700"/>
                    </a:lnTo>
                    <a:lnTo>
                      <a:pt x="1975" y="693"/>
                    </a:lnTo>
                    <a:lnTo>
                      <a:pt x="1962" y="686"/>
                    </a:lnTo>
                    <a:lnTo>
                      <a:pt x="1950" y="678"/>
                    </a:lnTo>
                    <a:lnTo>
                      <a:pt x="1939" y="670"/>
                    </a:lnTo>
                    <a:lnTo>
                      <a:pt x="1927" y="661"/>
                    </a:lnTo>
                    <a:lnTo>
                      <a:pt x="1916" y="651"/>
                    </a:lnTo>
                    <a:lnTo>
                      <a:pt x="1904" y="643"/>
                    </a:lnTo>
                    <a:lnTo>
                      <a:pt x="1893" y="634"/>
                    </a:lnTo>
                    <a:lnTo>
                      <a:pt x="1891" y="628"/>
                    </a:lnTo>
                    <a:lnTo>
                      <a:pt x="1878" y="623"/>
                    </a:lnTo>
                    <a:lnTo>
                      <a:pt x="1866" y="613"/>
                    </a:lnTo>
                    <a:lnTo>
                      <a:pt x="1856" y="603"/>
                    </a:lnTo>
                    <a:lnTo>
                      <a:pt x="1847" y="593"/>
                    </a:lnTo>
                    <a:lnTo>
                      <a:pt x="1838" y="581"/>
                    </a:lnTo>
                    <a:lnTo>
                      <a:pt x="1828" y="570"/>
                    </a:lnTo>
                    <a:lnTo>
                      <a:pt x="1817" y="560"/>
                    </a:lnTo>
                    <a:lnTo>
                      <a:pt x="1805" y="554"/>
                    </a:lnTo>
                    <a:lnTo>
                      <a:pt x="1795" y="535"/>
                    </a:lnTo>
                    <a:lnTo>
                      <a:pt x="1785" y="515"/>
                    </a:lnTo>
                    <a:lnTo>
                      <a:pt x="1773" y="495"/>
                    </a:lnTo>
                    <a:lnTo>
                      <a:pt x="1759" y="473"/>
                    </a:lnTo>
                    <a:lnTo>
                      <a:pt x="1745" y="451"/>
                    </a:lnTo>
                    <a:lnTo>
                      <a:pt x="1729" y="428"/>
                    </a:lnTo>
                    <a:lnTo>
                      <a:pt x="1712" y="404"/>
                    </a:lnTo>
                    <a:lnTo>
                      <a:pt x="1691" y="381"/>
                    </a:lnTo>
                    <a:lnTo>
                      <a:pt x="1669" y="358"/>
                    </a:lnTo>
                    <a:lnTo>
                      <a:pt x="1644" y="336"/>
                    </a:lnTo>
                    <a:lnTo>
                      <a:pt x="1616" y="314"/>
                    </a:lnTo>
                    <a:lnTo>
                      <a:pt x="1587" y="293"/>
                    </a:lnTo>
                    <a:lnTo>
                      <a:pt x="1552" y="273"/>
                    </a:lnTo>
                    <a:lnTo>
                      <a:pt x="1514" y="256"/>
                    </a:lnTo>
                    <a:lnTo>
                      <a:pt x="1473" y="240"/>
                    </a:lnTo>
                    <a:lnTo>
                      <a:pt x="1428" y="226"/>
                    </a:lnTo>
                    <a:lnTo>
                      <a:pt x="1411" y="218"/>
                    </a:lnTo>
                    <a:lnTo>
                      <a:pt x="1394" y="208"/>
                    </a:lnTo>
                    <a:lnTo>
                      <a:pt x="1377" y="195"/>
                    </a:lnTo>
                    <a:lnTo>
                      <a:pt x="1360" y="184"/>
                    </a:lnTo>
                    <a:lnTo>
                      <a:pt x="1345" y="172"/>
                    </a:lnTo>
                    <a:lnTo>
                      <a:pt x="1333" y="163"/>
                    </a:lnTo>
                    <a:lnTo>
                      <a:pt x="1325" y="157"/>
                    </a:lnTo>
                    <a:lnTo>
                      <a:pt x="1322" y="155"/>
                    </a:lnTo>
                    <a:lnTo>
                      <a:pt x="1306" y="143"/>
                    </a:lnTo>
                    <a:lnTo>
                      <a:pt x="1291" y="132"/>
                    </a:lnTo>
                    <a:lnTo>
                      <a:pt x="1276" y="119"/>
                    </a:lnTo>
                    <a:lnTo>
                      <a:pt x="1261" y="106"/>
                    </a:lnTo>
                    <a:lnTo>
                      <a:pt x="1246" y="95"/>
                    </a:lnTo>
                    <a:lnTo>
                      <a:pt x="1231" y="82"/>
                    </a:lnTo>
                    <a:lnTo>
                      <a:pt x="1216" y="69"/>
                    </a:lnTo>
                    <a:lnTo>
                      <a:pt x="1200" y="58"/>
                    </a:lnTo>
                    <a:lnTo>
                      <a:pt x="1183" y="48"/>
                    </a:lnTo>
                    <a:lnTo>
                      <a:pt x="1167" y="37"/>
                    </a:lnTo>
                    <a:lnTo>
                      <a:pt x="1150" y="27"/>
                    </a:lnTo>
                    <a:lnTo>
                      <a:pt x="1133" y="19"/>
                    </a:lnTo>
                    <a:lnTo>
                      <a:pt x="1114" y="12"/>
                    </a:lnTo>
                    <a:lnTo>
                      <a:pt x="1095" y="6"/>
                    </a:lnTo>
                    <a:lnTo>
                      <a:pt x="1074" y="3"/>
                    </a:lnTo>
                    <a:lnTo>
                      <a:pt x="1053" y="0"/>
                    </a:lnTo>
                    <a:lnTo>
                      <a:pt x="1041" y="3"/>
                    </a:lnTo>
                    <a:lnTo>
                      <a:pt x="1028" y="7"/>
                    </a:lnTo>
                    <a:lnTo>
                      <a:pt x="1018" y="14"/>
                    </a:lnTo>
                    <a:lnTo>
                      <a:pt x="1007" y="21"/>
                    </a:lnTo>
                    <a:lnTo>
                      <a:pt x="998" y="29"/>
                    </a:lnTo>
                    <a:lnTo>
                      <a:pt x="991" y="38"/>
                    </a:lnTo>
                    <a:lnTo>
                      <a:pt x="984" y="49"/>
                    </a:lnTo>
                    <a:lnTo>
                      <a:pt x="980" y="59"/>
                    </a:lnTo>
                    <a:lnTo>
                      <a:pt x="982" y="94"/>
                    </a:lnTo>
                    <a:lnTo>
                      <a:pt x="992" y="125"/>
                    </a:lnTo>
                    <a:lnTo>
                      <a:pt x="1010" y="152"/>
                    </a:lnTo>
                    <a:lnTo>
                      <a:pt x="1031" y="177"/>
                    </a:lnTo>
                    <a:lnTo>
                      <a:pt x="1057" y="200"/>
                    </a:lnTo>
                    <a:lnTo>
                      <a:pt x="1084" y="219"/>
                    </a:lnTo>
                    <a:lnTo>
                      <a:pt x="1113" y="238"/>
                    </a:lnTo>
                    <a:lnTo>
                      <a:pt x="1141" y="255"/>
                    </a:lnTo>
                    <a:lnTo>
                      <a:pt x="1148" y="260"/>
                    </a:lnTo>
                    <a:lnTo>
                      <a:pt x="1155" y="263"/>
                    </a:lnTo>
                    <a:lnTo>
                      <a:pt x="1163" y="267"/>
                    </a:lnTo>
                    <a:lnTo>
                      <a:pt x="1170" y="270"/>
                    </a:lnTo>
                    <a:lnTo>
                      <a:pt x="1177" y="273"/>
                    </a:lnTo>
                    <a:lnTo>
                      <a:pt x="1183" y="278"/>
                    </a:lnTo>
                    <a:lnTo>
                      <a:pt x="1188" y="284"/>
                    </a:lnTo>
                    <a:lnTo>
                      <a:pt x="1190" y="292"/>
                    </a:lnTo>
                    <a:lnTo>
                      <a:pt x="1185" y="294"/>
                    </a:lnTo>
                    <a:lnTo>
                      <a:pt x="1172" y="299"/>
                    </a:lnTo>
                    <a:lnTo>
                      <a:pt x="1155" y="305"/>
                    </a:lnTo>
                    <a:lnTo>
                      <a:pt x="1134" y="310"/>
                    </a:lnTo>
                    <a:lnTo>
                      <a:pt x="1114" y="316"/>
                    </a:lnTo>
                    <a:lnTo>
                      <a:pt x="1097" y="322"/>
                    </a:lnTo>
                    <a:lnTo>
                      <a:pt x="1086" y="325"/>
                    </a:lnTo>
                    <a:lnTo>
                      <a:pt x="1081" y="326"/>
                    </a:lnTo>
                    <a:lnTo>
                      <a:pt x="1010" y="332"/>
                    </a:lnTo>
                    <a:lnTo>
                      <a:pt x="975" y="336"/>
                    </a:lnTo>
                    <a:lnTo>
                      <a:pt x="942" y="337"/>
                    </a:lnTo>
                    <a:lnTo>
                      <a:pt x="907" y="337"/>
                    </a:lnTo>
                    <a:lnTo>
                      <a:pt x="874" y="336"/>
                    </a:lnTo>
                    <a:lnTo>
                      <a:pt x="839" y="333"/>
                    </a:lnTo>
                    <a:lnTo>
                      <a:pt x="806" y="330"/>
                    </a:lnTo>
                    <a:lnTo>
                      <a:pt x="772" y="326"/>
                    </a:lnTo>
                    <a:lnTo>
                      <a:pt x="738" y="323"/>
                    </a:lnTo>
                    <a:lnTo>
                      <a:pt x="704" y="320"/>
                    </a:lnTo>
                    <a:lnTo>
                      <a:pt x="671" y="315"/>
                    </a:lnTo>
                    <a:lnTo>
                      <a:pt x="638" y="311"/>
                    </a:lnTo>
                    <a:lnTo>
                      <a:pt x="604" y="308"/>
                    </a:lnTo>
                    <a:lnTo>
                      <a:pt x="571" y="306"/>
                    </a:lnTo>
                    <a:lnTo>
                      <a:pt x="536" y="305"/>
                    </a:lnTo>
                    <a:lnTo>
                      <a:pt x="503" y="303"/>
                    </a:lnTo>
                    <a:lnTo>
                      <a:pt x="469" y="305"/>
                    </a:lnTo>
                    <a:lnTo>
                      <a:pt x="457" y="306"/>
                    </a:lnTo>
                    <a:lnTo>
                      <a:pt x="444" y="307"/>
                    </a:lnTo>
                    <a:lnTo>
                      <a:pt x="431" y="307"/>
                    </a:lnTo>
                    <a:lnTo>
                      <a:pt x="419" y="307"/>
                    </a:lnTo>
                    <a:lnTo>
                      <a:pt x="405" y="307"/>
                    </a:lnTo>
                    <a:lnTo>
                      <a:pt x="392" y="307"/>
                    </a:lnTo>
                    <a:lnTo>
                      <a:pt x="379" y="306"/>
                    </a:lnTo>
                    <a:lnTo>
                      <a:pt x="366" y="306"/>
                    </a:lnTo>
                    <a:lnTo>
                      <a:pt x="352" y="306"/>
                    </a:lnTo>
                    <a:lnTo>
                      <a:pt x="339" y="307"/>
                    </a:lnTo>
                    <a:lnTo>
                      <a:pt x="326" y="307"/>
                    </a:lnTo>
                    <a:lnTo>
                      <a:pt x="313" y="309"/>
                    </a:lnTo>
                    <a:lnTo>
                      <a:pt x="300" y="310"/>
                    </a:lnTo>
                    <a:lnTo>
                      <a:pt x="288" y="313"/>
                    </a:lnTo>
                    <a:lnTo>
                      <a:pt x="275" y="316"/>
                    </a:lnTo>
                    <a:lnTo>
                      <a:pt x="263" y="321"/>
                    </a:lnTo>
                    <a:lnTo>
                      <a:pt x="252" y="326"/>
                    </a:lnTo>
                    <a:lnTo>
                      <a:pt x="241" y="335"/>
                    </a:lnTo>
                    <a:lnTo>
                      <a:pt x="233" y="343"/>
                    </a:lnTo>
                    <a:lnTo>
                      <a:pt x="226" y="353"/>
                    </a:lnTo>
                    <a:lnTo>
                      <a:pt x="221" y="364"/>
                    </a:lnTo>
                    <a:lnTo>
                      <a:pt x="217" y="376"/>
                    </a:lnTo>
                    <a:lnTo>
                      <a:pt x="215" y="386"/>
                    </a:lnTo>
                    <a:lnTo>
                      <a:pt x="214" y="398"/>
                    </a:lnTo>
                    <a:lnTo>
                      <a:pt x="209" y="397"/>
                    </a:lnTo>
                    <a:lnTo>
                      <a:pt x="206" y="396"/>
                    </a:lnTo>
                    <a:lnTo>
                      <a:pt x="201" y="393"/>
                    </a:lnTo>
                    <a:lnTo>
                      <a:pt x="197" y="392"/>
                    </a:lnTo>
                    <a:lnTo>
                      <a:pt x="192" y="391"/>
                    </a:lnTo>
                    <a:lnTo>
                      <a:pt x="188" y="390"/>
                    </a:lnTo>
                    <a:lnTo>
                      <a:pt x="184" y="390"/>
                    </a:lnTo>
                    <a:lnTo>
                      <a:pt x="179" y="390"/>
                    </a:lnTo>
                    <a:lnTo>
                      <a:pt x="161" y="392"/>
                    </a:lnTo>
                    <a:lnTo>
                      <a:pt x="141" y="394"/>
                    </a:lnTo>
                    <a:lnTo>
                      <a:pt x="122" y="397"/>
                    </a:lnTo>
                    <a:lnTo>
                      <a:pt x="103" y="401"/>
                    </a:lnTo>
                    <a:lnTo>
                      <a:pt x="85" y="407"/>
                    </a:lnTo>
                    <a:lnTo>
                      <a:pt x="69" y="416"/>
                    </a:lnTo>
                    <a:lnTo>
                      <a:pt x="55" y="429"/>
                    </a:lnTo>
                    <a:lnTo>
                      <a:pt x="43" y="446"/>
                    </a:lnTo>
                    <a:lnTo>
                      <a:pt x="42" y="458"/>
                    </a:lnTo>
                    <a:lnTo>
                      <a:pt x="40" y="468"/>
                    </a:lnTo>
                    <a:lnTo>
                      <a:pt x="39" y="479"/>
                    </a:lnTo>
                    <a:lnTo>
                      <a:pt x="43" y="488"/>
                    </a:lnTo>
                    <a:lnTo>
                      <a:pt x="38" y="491"/>
                    </a:lnTo>
                    <a:lnTo>
                      <a:pt x="33" y="495"/>
                    </a:lnTo>
                    <a:lnTo>
                      <a:pt x="27" y="498"/>
                    </a:lnTo>
                    <a:lnTo>
                      <a:pt x="23" y="503"/>
                    </a:lnTo>
                    <a:lnTo>
                      <a:pt x="18" y="507"/>
                    </a:lnTo>
                    <a:lnTo>
                      <a:pt x="13" y="512"/>
                    </a:lnTo>
                    <a:lnTo>
                      <a:pt x="10" y="517"/>
                    </a:lnTo>
                    <a:lnTo>
                      <a:pt x="7" y="522"/>
                    </a:lnTo>
                    <a:lnTo>
                      <a:pt x="4" y="527"/>
                    </a:lnTo>
                    <a:lnTo>
                      <a:pt x="3" y="533"/>
                    </a:lnTo>
                    <a:lnTo>
                      <a:pt x="2" y="540"/>
                    </a:lnTo>
                    <a:lnTo>
                      <a:pt x="0" y="544"/>
                    </a:lnTo>
                    <a:lnTo>
                      <a:pt x="4" y="563"/>
                    </a:lnTo>
                    <a:lnTo>
                      <a:pt x="11" y="579"/>
                    </a:lnTo>
                    <a:lnTo>
                      <a:pt x="20" y="592"/>
                    </a:lnTo>
                    <a:lnTo>
                      <a:pt x="31" y="604"/>
                    </a:lnTo>
                    <a:lnTo>
                      <a:pt x="42" y="613"/>
                    </a:lnTo>
                    <a:lnTo>
                      <a:pt x="56" y="623"/>
                    </a:lnTo>
                    <a:lnTo>
                      <a:pt x="70" y="630"/>
                    </a:lnTo>
                    <a:lnTo>
                      <a:pt x="85" y="637"/>
                    </a:lnTo>
                    <a:lnTo>
                      <a:pt x="101" y="642"/>
                    </a:lnTo>
                    <a:lnTo>
                      <a:pt x="117" y="648"/>
                    </a:lnTo>
                    <a:lnTo>
                      <a:pt x="132" y="655"/>
                    </a:lnTo>
                    <a:lnTo>
                      <a:pt x="148" y="661"/>
                    </a:lnTo>
                    <a:lnTo>
                      <a:pt x="164" y="668"/>
                    </a:lnTo>
                    <a:lnTo>
                      <a:pt x="179" y="676"/>
                    </a:lnTo>
                    <a:lnTo>
                      <a:pt x="193" y="684"/>
                    </a:lnTo>
                    <a:lnTo>
                      <a:pt x="206" y="694"/>
                    </a:lnTo>
                    <a:lnTo>
                      <a:pt x="207" y="716"/>
                    </a:lnTo>
                    <a:lnTo>
                      <a:pt x="210" y="737"/>
                    </a:lnTo>
                    <a:lnTo>
                      <a:pt x="218" y="755"/>
                    </a:lnTo>
                    <a:lnTo>
                      <a:pt x="233" y="771"/>
                    </a:lnTo>
                    <a:lnTo>
                      <a:pt x="247" y="775"/>
                    </a:lnTo>
                    <a:lnTo>
                      <a:pt x="261" y="779"/>
                    </a:lnTo>
                    <a:lnTo>
                      <a:pt x="274" y="785"/>
                    </a:lnTo>
                    <a:lnTo>
                      <a:pt x="286" y="792"/>
                    </a:lnTo>
                    <a:lnTo>
                      <a:pt x="299" y="799"/>
                    </a:lnTo>
                    <a:lnTo>
                      <a:pt x="311" y="807"/>
                    </a:lnTo>
                    <a:lnTo>
                      <a:pt x="322" y="815"/>
                    </a:lnTo>
                    <a:lnTo>
                      <a:pt x="334" y="823"/>
                    </a:lnTo>
                    <a:lnTo>
                      <a:pt x="343" y="826"/>
                    </a:lnTo>
                    <a:lnTo>
                      <a:pt x="351" y="829"/>
                    </a:lnTo>
                    <a:lnTo>
                      <a:pt x="360" y="835"/>
                    </a:lnTo>
                    <a:lnTo>
                      <a:pt x="368" y="842"/>
                    </a:lnTo>
                    <a:lnTo>
                      <a:pt x="376" y="849"/>
                    </a:lnTo>
                    <a:lnTo>
                      <a:pt x="384" y="855"/>
                    </a:lnTo>
                    <a:lnTo>
                      <a:pt x="392" y="861"/>
                    </a:lnTo>
                    <a:lnTo>
                      <a:pt x="399" y="866"/>
                    </a:lnTo>
                    <a:lnTo>
                      <a:pt x="413" y="879"/>
                    </a:lnTo>
                    <a:lnTo>
                      <a:pt x="428" y="889"/>
                    </a:lnTo>
                    <a:lnTo>
                      <a:pt x="445" y="897"/>
                    </a:lnTo>
                    <a:lnTo>
                      <a:pt x="463" y="904"/>
                    </a:lnTo>
                    <a:lnTo>
                      <a:pt x="480" y="910"/>
                    </a:lnTo>
                    <a:lnTo>
                      <a:pt x="498" y="915"/>
                    </a:lnTo>
                    <a:lnTo>
                      <a:pt x="514" y="923"/>
                    </a:lnTo>
                    <a:lnTo>
                      <a:pt x="529" y="932"/>
                    </a:lnTo>
                    <a:lnTo>
                      <a:pt x="541" y="934"/>
                    </a:lnTo>
                    <a:lnTo>
                      <a:pt x="551" y="940"/>
                    </a:lnTo>
                    <a:lnTo>
                      <a:pt x="562" y="945"/>
                    </a:lnTo>
                    <a:lnTo>
                      <a:pt x="571" y="952"/>
                    </a:lnTo>
                    <a:lnTo>
                      <a:pt x="581" y="959"/>
                    </a:lnTo>
                    <a:lnTo>
                      <a:pt x="592" y="966"/>
                    </a:lnTo>
                    <a:lnTo>
                      <a:pt x="602" y="972"/>
                    </a:lnTo>
                    <a:lnTo>
                      <a:pt x="612" y="977"/>
                    </a:lnTo>
                    <a:lnTo>
                      <a:pt x="627" y="987"/>
                    </a:lnTo>
                    <a:lnTo>
                      <a:pt x="643" y="996"/>
                    </a:lnTo>
                    <a:lnTo>
                      <a:pt x="661" y="1003"/>
                    </a:lnTo>
                    <a:lnTo>
                      <a:pt x="678" y="1010"/>
                    </a:lnTo>
                    <a:lnTo>
                      <a:pt x="695" y="1015"/>
                    </a:lnTo>
                    <a:lnTo>
                      <a:pt x="712" y="1020"/>
                    </a:lnTo>
                    <a:lnTo>
                      <a:pt x="731" y="1025"/>
                    </a:lnTo>
                    <a:lnTo>
                      <a:pt x="748" y="1031"/>
                    </a:lnTo>
                    <a:lnTo>
                      <a:pt x="769" y="1033"/>
                    </a:lnTo>
                    <a:lnTo>
                      <a:pt x="791" y="1035"/>
                    </a:lnTo>
                    <a:lnTo>
                      <a:pt x="811" y="1038"/>
                    </a:lnTo>
                    <a:lnTo>
                      <a:pt x="833" y="1040"/>
                    </a:lnTo>
                    <a:lnTo>
                      <a:pt x="854" y="1042"/>
                    </a:lnTo>
                    <a:lnTo>
                      <a:pt x="876" y="1045"/>
                    </a:lnTo>
                    <a:lnTo>
                      <a:pt x="897" y="1047"/>
                    </a:lnTo>
                    <a:lnTo>
                      <a:pt x="917" y="1049"/>
                    </a:lnTo>
                    <a:lnTo>
                      <a:pt x="939" y="1053"/>
                    </a:lnTo>
                    <a:lnTo>
                      <a:pt x="960" y="1055"/>
                    </a:lnTo>
                    <a:lnTo>
                      <a:pt x="981" y="1058"/>
                    </a:lnTo>
                    <a:lnTo>
                      <a:pt x="1002" y="1062"/>
                    </a:lnTo>
                    <a:lnTo>
                      <a:pt x="1022" y="1066"/>
                    </a:lnTo>
                    <a:lnTo>
                      <a:pt x="1043" y="1071"/>
                    </a:lnTo>
                    <a:lnTo>
                      <a:pt x="1063" y="1077"/>
                    </a:lnTo>
                    <a:lnTo>
                      <a:pt x="1083" y="1083"/>
                    </a:lnTo>
                    <a:lnTo>
                      <a:pt x="1089" y="1086"/>
                    </a:lnTo>
                    <a:lnTo>
                      <a:pt x="1095" y="1088"/>
                    </a:lnTo>
                    <a:lnTo>
                      <a:pt x="1101" y="1089"/>
                    </a:lnTo>
                    <a:lnTo>
                      <a:pt x="1107" y="1087"/>
                    </a:lnTo>
                    <a:lnTo>
                      <a:pt x="1124" y="1089"/>
                    </a:lnTo>
                    <a:lnTo>
                      <a:pt x="1141" y="1092"/>
                    </a:lnTo>
                    <a:lnTo>
                      <a:pt x="1157" y="1095"/>
                    </a:lnTo>
                    <a:lnTo>
                      <a:pt x="1173" y="1099"/>
                    </a:lnTo>
                    <a:lnTo>
                      <a:pt x="1189" y="1102"/>
                    </a:lnTo>
                    <a:lnTo>
                      <a:pt x="1206" y="1106"/>
                    </a:lnTo>
                    <a:lnTo>
                      <a:pt x="1223" y="1109"/>
                    </a:lnTo>
                    <a:lnTo>
                      <a:pt x="1239" y="1113"/>
                    </a:lnTo>
                    <a:lnTo>
                      <a:pt x="1255" y="1116"/>
                    </a:lnTo>
                    <a:lnTo>
                      <a:pt x="1271" y="1118"/>
                    </a:lnTo>
                    <a:lnTo>
                      <a:pt x="1288" y="1122"/>
                    </a:lnTo>
                    <a:lnTo>
                      <a:pt x="1304" y="1124"/>
                    </a:lnTo>
                    <a:lnTo>
                      <a:pt x="1322" y="1126"/>
                    </a:lnTo>
                    <a:lnTo>
                      <a:pt x="1338" y="1129"/>
                    </a:lnTo>
                    <a:lnTo>
                      <a:pt x="1355" y="1130"/>
                    </a:lnTo>
                    <a:lnTo>
                      <a:pt x="1372" y="1130"/>
                    </a:lnTo>
                    <a:lnTo>
                      <a:pt x="1376" y="1132"/>
                    </a:lnTo>
                    <a:lnTo>
                      <a:pt x="1380" y="1134"/>
                    </a:lnTo>
                    <a:lnTo>
                      <a:pt x="1385" y="1136"/>
                    </a:lnTo>
                    <a:lnTo>
                      <a:pt x="1390" y="1137"/>
                    </a:lnTo>
                    <a:lnTo>
                      <a:pt x="1394" y="1137"/>
                    </a:lnTo>
                    <a:lnTo>
                      <a:pt x="1400" y="1137"/>
                    </a:lnTo>
                    <a:lnTo>
                      <a:pt x="1405" y="1137"/>
                    </a:lnTo>
                    <a:lnTo>
                      <a:pt x="1409" y="1137"/>
                    </a:lnTo>
                    <a:lnTo>
                      <a:pt x="1416" y="1138"/>
                    </a:lnTo>
                    <a:lnTo>
                      <a:pt x="1422" y="1140"/>
                    </a:lnTo>
                    <a:lnTo>
                      <a:pt x="1429" y="1141"/>
                    </a:lnTo>
                    <a:lnTo>
                      <a:pt x="1433" y="1139"/>
                    </a:lnTo>
                    <a:lnTo>
                      <a:pt x="1441" y="1139"/>
                    </a:lnTo>
                    <a:lnTo>
                      <a:pt x="1451" y="1138"/>
                    </a:lnTo>
                    <a:lnTo>
                      <a:pt x="1459" y="1140"/>
                    </a:lnTo>
                    <a:lnTo>
                      <a:pt x="1463" y="1145"/>
                    </a:lnTo>
                    <a:lnTo>
                      <a:pt x="1471" y="1146"/>
                    </a:lnTo>
                    <a:lnTo>
                      <a:pt x="1478" y="1146"/>
                    </a:lnTo>
                    <a:lnTo>
                      <a:pt x="1486" y="1146"/>
                    </a:lnTo>
                    <a:lnTo>
                      <a:pt x="1493" y="1146"/>
                    </a:lnTo>
                    <a:lnTo>
                      <a:pt x="1501" y="1147"/>
                    </a:lnTo>
                    <a:lnTo>
                      <a:pt x="1508" y="1148"/>
                    </a:lnTo>
                    <a:lnTo>
                      <a:pt x="1516" y="1149"/>
                    </a:lnTo>
                    <a:lnTo>
                      <a:pt x="1523" y="1153"/>
                    </a:lnTo>
                    <a:lnTo>
                      <a:pt x="1538" y="1156"/>
                    </a:lnTo>
                    <a:lnTo>
                      <a:pt x="1554" y="1160"/>
                    </a:lnTo>
                    <a:lnTo>
                      <a:pt x="1569" y="1162"/>
                    </a:lnTo>
                    <a:lnTo>
                      <a:pt x="1585" y="1166"/>
                    </a:lnTo>
                    <a:lnTo>
                      <a:pt x="1600" y="1168"/>
                    </a:lnTo>
                    <a:lnTo>
                      <a:pt x="1615" y="1171"/>
                    </a:lnTo>
                    <a:lnTo>
                      <a:pt x="1630" y="1176"/>
                    </a:lnTo>
                    <a:lnTo>
                      <a:pt x="1645" y="1182"/>
                    </a:lnTo>
                    <a:lnTo>
                      <a:pt x="1659" y="1187"/>
                    </a:lnTo>
                    <a:lnTo>
                      <a:pt x="1673" y="1194"/>
                    </a:lnTo>
                    <a:lnTo>
                      <a:pt x="1687" y="1200"/>
                    </a:lnTo>
                    <a:lnTo>
                      <a:pt x="1701" y="1207"/>
                    </a:lnTo>
                    <a:lnTo>
                      <a:pt x="1713" y="1214"/>
                    </a:lnTo>
                    <a:lnTo>
                      <a:pt x="1727" y="1221"/>
                    </a:lnTo>
                    <a:lnTo>
                      <a:pt x="1741" y="1229"/>
                    </a:lnTo>
                    <a:lnTo>
                      <a:pt x="1755" y="1236"/>
                    </a:lnTo>
                    <a:lnTo>
                      <a:pt x="1767" y="1244"/>
                    </a:lnTo>
                    <a:lnTo>
                      <a:pt x="1781" y="1252"/>
                    </a:lnTo>
                    <a:lnTo>
                      <a:pt x="1794" y="1260"/>
                    </a:lnTo>
                    <a:lnTo>
                      <a:pt x="1808" y="1268"/>
                    </a:lnTo>
                    <a:lnTo>
                      <a:pt x="1820" y="1276"/>
                    </a:lnTo>
                    <a:lnTo>
                      <a:pt x="1833" y="1284"/>
                    </a:lnTo>
                    <a:lnTo>
                      <a:pt x="1847" y="1293"/>
                    </a:lnTo>
                    <a:lnTo>
                      <a:pt x="1859" y="1302"/>
                    </a:lnTo>
                    <a:lnTo>
                      <a:pt x="1867" y="1307"/>
                    </a:lnTo>
                    <a:lnTo>
                      <a:pt x="1878" y="1311"/>
                    </a:lnTo>
                    <a:lnTo>
                      <a:pt x="1886" y="1315"/>
                    </a:lnTo>
                    <a:lnTo>
                      <a:pt x="1893" y="1323"/>
                    </a:lnTo>
                    <a:lnTo>
                      <a:pt x="1902" y="1325"/>
                    </a:lnTo>
                    <a:lnTo>
                      <a:pt x="1910" y="1328"/>
                    </a:lnTo>
                    <a:lnTo>
                      <a:pt x="1917" y="1334"/>
                    </a:lnTo>
                    <a:lnTo>
                      <a:pt x="1925" y="1341"/>
                    </a:lnTo>
                    <a:lnTo>
                      <a:pt x="1931" y="1348"/>
                    </a:lnTo>
                    <a:lnTo>
                      <a:pt x="1938" y="1355"/>
                    </a:lnTo>
                    <a:lnTo>
                      <a:pt x="1946" y="1360"/>
                    </a:lnTo>
                    <a:lnTo>
                      <a:pt x="1953" y="1365"/>
                    </a:lnTo>
                    <a:lnTo>
                      <a:pt x="1954" y="1352"/>
                    </a:lnTo>
                    <a:lnTo>
                      <a:pt x="1956" y="1338"/>
                    </a:lnTo>
                    <a:lnTo>
                      <a:pt x="1961" y="1326"/>
                    </a:lnTo>
                    <a:lnTo>
                      <a:pt x="1967" y="1313"/>
                    </a:lnTo>
                    <a:lnTo>
                      <a:pt x="1972" y="1283"/>
                    </a:lnTo>
                    <a:lnTo>
                      <a:pt x="1979" y="1254"/>
                    </a:lnTo>
                    <a:lnTo>
                      <a:pt x="1987" y="1225"/>
                    </a:lnTo>
                    <a:lnTo>
                      <a:pt x="1996" y="1197"/>
                    </a:lnTo>
                    <a:lnTo>
                      <a:pt x="2006" y="1168"/>
                    </a:lnTo>
                    <a:lnTo>
                      <a:pt x="2015" y="1139"/>
                    </a:lnTo>
                    <a:lnTo>
                      <a:pt x="2023" y="1110"/>
                    </a:lnTo>
                    <a:lnTo>
                      <a:pt x="2030" y="1081"/>
                    </a:lnTo>
                    <a:lnTo>
                      <a:pt x="2022" y="1092"/>
                    </a:lnTo>
                    <a:lnTo>
                      <a:pt x="2017" y="1104"/>
                    </a:lnTo>
                    <a:lnTo>
                      <a:pt x="2013" y="1118"/>
                    </a:lnTo>
                    <a:lnTo>
                      <a:pt x="2003" y="1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358240" y="5528880"/>
                <a:ext cx="878400" cy="465480"/>
              </a:xfrm>
              <a:custGeom>
                <a:avLst/>
                <a:gdLst/>
                <a:ahLst/>
                <a:rect l="l" t="t" r="r" b="b"/>
                <a:pathLst>
                  <a:path w="1740" h="921">
                    <a:moveTo>
                      <a:pt x="1696" y="285"/>
                    </a:moveTo>
                    <a:lnTo>
                      <a:pt x="1694" y="305"/>
                    </a:lnTo>
                    <a:lnTo>
                      <a:pt x="1691" y="325"/>
                    </a:lnTo>
                    <a:lnTo>
                      <a:pt x="1687" y="347"/>
                    </a:lnTo>
                    <a:lnTo>
                      <a:pt x="1683" y="368"/>
                    </a:lnTo>
                    <a:lnTo>
                      <a:pt x="1678" y="390"/>
                    </a:lnTo>
                    <a:lnTo>
                      <a:pt x="1672" y="409"/>
                    </a:lnTo>
                    <a:lnTo>
                      <a:pt x="1667" y="429"/>
                    </a:lnTo>
                    <a:lnTo>
                      <a:pt x="1660" y="447"/>
                    </a:lnTo>
                    <a:lnTo>
                      <a:pt x="1652" y="464"/>
                    </a:lnTo>
                    <a:lnTo>
                      <a:pt x="1640" y="490"/>
                    </a:lnTo>
                    <a:lnTo>
                      <a:pt x="1626" y="525"/>
                    </a:lnTo>
                    <a:lnTo>
                      <a:pt x="1611" y="565"/>
                    </a:lnTo>
                    <a:lnTo>
                      <a:pt x="1596" y="608"/>
                    </a:lnTo>
                    <a:lnTo>
                      <a:pt x="1585" y="649"/>
                    </a:lnTo>
                    <a:lnTo>
                      <a:pt x="1576" y="686"/>
                    </a:lnTo>
                    <a:lnTo>
                      <a:pt x="1572" y="716"/>
                    </a:lnTo>
                    <a:lnTo>
                      <a:pt x="1581" y="700"/>
                    </a:lnTo>
                    <a:lnTo>
                      <a:pt x="1588" y="681"/>
                    </a:lnTo>
                    <a:lnTo>
                      <a:pt x="1593" y="663"/>
                    </a:lnTo>
                    <a:lnTo>
                      <a:pt x="1597" y="645"/>
                    </a:lnTo>
                    <a:lnTo>
                      <a:pt x="1603" y="627"/>
                    </a:lnTo>
                    <a:lnTo>
                      <a:pt x="1610" y="610"/>
                    </a:lnTo>
                    <a:lnTo>
                      <a:pt x="1616" y="593"/>
                    </a:lnTo>
                    <a:lnTo>
                      <a:pt x="1623" y="575"/>
                    </a:lnTo>
                    <a:lnTo>
                      <a:pt x="1630" y="558"/>
                    </a:lnTo>
                    <a:lnTo>
                      <a:pt x="1637" y="541"/>
                    </a:lnTo>
                    <a:lnTo>
                      <a:pt x="1642" y="524"/>
                    </a:lnTo>
                    <a:lnTo>
                      <a:pt x="1649" y="507"/>
                    </a:lnTo>
                    <a:lnTo>
                      <a:pt x="1653" y="501"/>
                    </a:lnTo>
                    <a:lnTo>
                      <a:pt x="1660" y="482"/>
                    </a:lnTo>
                    <a:lnTo>
                      <a:pt x="1670" y="454"/>
                    </a:lnTo>
                    <a:lnTo>
                      <a:pt x="1682" y="421"/>
                    </a:lnTo>
                    <a:lnTo>
                      <a:pt x="1694" y="385"/>
                    </a:lnTo>
                    <a:lnTo>
                      <a:pt x="1706" y="348"/>
                    </a:lnTo>
                    <a:lnTo>
                      <a:pt x="1717" y="314"/>
                    </a:lnTo>
                    <a:lnTo>
                      <a:pt x="1726" y="284"/>
                    </a:lnTo>
                    <a:lnTo>
                      <a:pt x="1736" y="301"/>
                    </a:lnTo>
                    <a:lnTo>
                      <a:pt x="1740" y="320"/>
                    </a:lnTo>
                    <a:lnTo>
                      <a:pt x="1739" y="339"/>
                    </a:lnTo>
                    <a:lnTo>
                      <a:pt x="1736" y="361"/>
                    </a:lnTo>
                    <a:lnTo>
                      <a:pt x="1731" y="383"/>
                    </a:lnTo>
                    <a:lnTo>
                      <a:pt x="1725" y="405"/>
                    </a:lnTo>
                    <a:lnTo>
                      <a:pt x="1720" y="426"/>
                    </a:lnTo>
                    <a:lnTo>
                      <a:pt x="1717" y="446"/>
                    </a:lnTo>
                    <a:lnTo>
                      <a:pt x="1715" y="446"/>
                    </a:lnTo>
                    <a:lnTo>
                      <a:pt x="1694" y="497"/>
                    </a:lnTo>
                    <a:lnTo>
                      <a:pt x="1676" y="550"/>
                    </a:lnTo>
                    <a:lnTo>
                      <a:pt x="1660" y="603"/>
                    </a:lnTo>
                    <a:lnTo>
                      <a:pt x="1644" y="657"/>
                    </a:lnTo>
                    <a:lnTo>
                      <a:pt x="1627" y="711"/>
                    </a:lnTo>
                    <a:lnTo>
                      <a:pt x="1611" y="766"/>
                    </a:lnTo>
                    <a:lnTo>
                      <a:pt x="1593" y="819"/>
                    </a:lnTo>
                    <a:lnTo>
                      <a:pt x="1573" y="872"/>
                    </a:lnTo>
                    <a:lnTo>
                      <a:pt x="1569" y="877"/>
                    </a:lnTo>
                    <a:lnTo>
                      <a:pt x="1565" y="884"/>
                    </a:lnTo>
                    <a:lnTo>
                      <a:pt x="1561" y="891"/>
                    </a:lnTo>
                    <a:lnTo>
                      <a:pt x="1556" y="898"/>
                    </a:lnTo>
                    <a:lnTo>
                      <a:pt x="1551" y="904"/>
                    </a:lnTo>
                    <a:lnTo>
                      <a:pt x="1547" y="911"/>
                    </a:lnTo>
                    <a:lnTo>
                      <a:pt x="1543" y="917"/>
                    </a:lnTo>
                    <a:lnTo>
                      <a:pt x="1539" y="921"/>
                    </a:lnTo>
                    <a:lnTo>
                      <a:pt x="1541" y="900"/>
                    </a:lnTo>
                    <a:lnTo>
                      <a:pt x="1544" y="880"/>
                    </a:lnTo>
                    <a:lnTo>
                      <a:pt x="1550" y="858"/>
                    </a:lnTo>
                    <a:lnTo>
                      <a:pt x="1556" y="837"/>
                    </a:lnTo>
                    <a:lnTo>
                      <a:pt x="1561" y="815"/>
                    </a:lnTo>
                    <a:lnTo>
                      <a:pt x="1564" y="793"/>
                    </a:lnTo>
                    <a:lnTo>
                      <a:pt x="1565" y="771"/>
                    </a:lnTo>
                    <a:lnTo>
                      <a:pt x="1564" y="751"/>
                    </a:lnTo>
                    <a:lnTo>
                      <a:pt x="1566" y="744"/>
                    </a:lnTo>
                    <a:lnTo>
                      <a:pt x="1570" y="736"/>
                    </a:lnTo>
                    <a:lnTo>
                      <a:pt x="1571" y="728"/>
                    </a:lnTo>
                    <a:lnTo>
                      <a:pt x="1570" y="719"/>
                    </a:lnTo>
                    <a:lnTo>
                      <a:pt x="1564" y="726"/>
                    </a:lnTo>
                    <a:lnTo>
                      <a:pt x="1561" y="736"/>
                    </a:lnTo>
                    <a:lnTo>
                      <a:pt x="1557" y="745"/>
                    </a:lnTo>
                    <a:lnTo>
                      <a:pt x="1554" y="755"/>
                    </a:lnTo>
                    <a:lnTo>
                      <a:pt x="1549" y="767"/>
                    </a:lnTo>
                    <a:lnTo>
                      <a:pt x="1547" y="779"/>
                    </a:lnTo>
                    <a:lnTo>
                      <a:pt x="1544" y="792"/>
                    </a:lnTo>
                    <a:lnTo>
                      <a:pt x="1542" y="805"/>
                    </a:lnTo>
                    <a:lnTo>
                      <a:pt x="1539" y="819"/>
                    </a:lnTo>
                    <a:lnTo>
                      <a:pt x="1534" y="831"/>
                    </a:lnTo>
                    <a:lnTo>
                      <a:pt x="1527" y="843"/>
                    </a:lnTo>
                    <a:lnTo>
                      <a:pt x="1519" y="853"/>
                    </a:lnTo>
                    <a:lnTo>
                      <a:pt x="1517" y="866"/>
                    </a:lnTo>
                    <a:lnTo>
                      <a:pt x="1513" y="880"/>
                    </a:lnTo>
                    <a:lnTo>
                      <a:pt x="1509" y="891"/>
                    </a:lnTo>
                    <a:lnTo>
                      <a:pt x="1501" y="900"/>
                    </a:lnTo>
                    <a:lnTo>
                      <a:pt x="1497" y="904"/>
                    </a:lnTo>
                    <a:lnTo>
                      <a:pt x="1494" y="907"/>
                    </a:lnTo>
                    <a:lnTo>
                      <a:pt x="1492" y="911"/>
                    </a:lnTo>
                    <a:lnTo>
                      <a:pt x="1487" y="915"/>
                    </a:lnTo>
                    <a:lnTo>
                      <a:pt x="1488" y="905"/>
                    </a:lnTo>
                    <a:lnTo>
                      <a:pt x="1489" y="895"/>
                    </a:lnTo>
                    <a:lnTo>
                      <a:pt x="1489" y="885"/>
                    </a:lnTo>
                    <a:lnTo>
                      <a:pt x="1490" y="875"/>
                    </a:lnTo>
                    <a:lnTo>
                      <a:pt x="1505" y="837"/>
                    </a:lnTo>
                    <a:lnTo>
                      <a:pt x="1511" y="798"/>
                    </a:lnTo>
                    <a:lnTo>
                      <a:pt x="1516" y="759"/>
                    </a:lnTo>
                    <a:lnTo>
                      <a:pt x="1524" y="719"/>
                    </a:lnTo>
                    <a:lnTo>
                      <a:pt x="1524" y="714"/>
                    </a:lnTo>
                    <a:lnTo>
                      <a:pt x="1525" y="707"/>
                    </a:lnTo>
                    <a:lnTo>
                      <a:pt x="1524" y="701"/>
                    </a:lnTo>
                    <a:lnTo>
                      <a:pt x="1518" y="699"/>
                    </a:lnTo>
                    <a:lnTo>
                      <a:pt x="1511" y="713"/>
                    </a:lnTo>
                    <a:lnTo>
                      <a:pt x="1506" y="729"/>
                    </a:lnTo>
                    <a:lnTo>
                      <a:pt x="1501" y="743"/>
                    </a:lnTo>
                    <a:lnTo>
                      <a:pt x="1490" y="755"/>
                    </a:lnTo>
                    <a:lnTo>
                      <a:pt x="1489" y="776"/>
                    </a:lnTo>
                    <a:lnTo>
                      <a:pt x="1487" y="797"/>
                    </a:lnTo>
                    <a:lnTo>
                      <a:pt x="1483" y="817"/>
                    </a:lnTo>
                    <a:lnTo>
                      <a:pt x="1478" y="837"/>
                    </a:lnTo>
                    <a:lnTo>
                      <a:pt x="1470" y="856"/>
                    </a:lnTo>
                    <a:lnTo>
                      <a:pt x="1460" y="874"/>
                    </a:lnTo>
                    <a:lnTo>
                      <a:pt x="1448" y="890"/>
                    </a:lnTo>
                    <a:lnTo>
                      <a:pt x="1434" y="904"/>
                    </a:lnTo>
                    <a:lnTo>
                      <a:pt x="1436" y="879"/>
                    </a:lnTo>
                    <a:lnTo>
                      <a:pt x="1442" y="853"/>
                    </a:lnTo>
                    <a:lnTo>
                      <a:pt x="1448" y="826"/>
                    </a:lnTo>
                    <a:lnTo>
                      <a:pt x="1454" y="799"/>
                    </a:lnTo>
                    <a:lnTo>
                      <a:pt x="1457" y="771"/>
                    </a:lnTo>
                    <a:lnTo>
                      <a:pt x="1459" y="743"/>
                    </a:lnTo>
                    <a:lnTo>
                      <a:pt x="1463" y="715"/>
                    </a:lnTo>
                    <a:lnTo>
                      <a:pt x="1470" y="687"/>
                    </a:lnTo>
                    <a:lnTo>
                      <a:pt x="1470" y="684"/>
                    </a:lnTo>
                    <a:lnTo>
                      <a:pt x="1468" y="681"/>
                    </a:lnTo>
                    <a:lnTo>
                      <a:pt x="1466" y="680"/>
                    </a:lnTo>
                    <a:lnTo>
                      <a:pt x="1465" y="678"/>
                    </a:lnTo>
                    <a:lnTo>
                      <a:pt x="1460" y="678"/>
                    </a:lnTo>
                    <a:lnTo>
                      <a:pt x="1456" y="679"/>
                    </a:lnTo>
                    <a:lnTo>
                      <a:pt x="1452" y="683"/>
                    </a:lnTo>
                    <a:lnTo>
                      <a:pt x="1450" y="687"/>
                    </a:lnTo>
                    <a:lnTo>
                      <a:pt x="1449" y="711"/>
                    </a:lnTo>
                    <a:lnTo>
                      <a:pt x="1444" y="734"/>
                    </a:lnTo>
                    <a:lnTo>
                      <a:pt x="1439" y="759"/>
                    </a:lnTo>
                    <a:lnTo>
                      <a:pt x="1439" y="784"/>
                    </a:lnTo>
                    <a:lnTo>
                      <a:pt x="1433" y="802"/>
                    </a:lnTo>
                    <a:lnTo>
                      <a:pt x="1425" y="821"/>
                    </a:lnTo>
                    <a:lnTo>
                      <a:pt x="1418" y="841"/>
                    </a:lnTo>
                    <a:lnTo>
                      <a:pt x="1413" y="861"/>
                    </a:lnTo>
                    <a:lnTo>
                      <a:pt x="1406" y="875"/>
                    </a:lnTo>
                    <a:lnTo>
                      <a:pt x="1401" y="889"/>
                    </a:lnTo>
                    <a:lnTo>
                      <a:pt x="1392" y="903"/>
                    </a:lnTo>
                    <a:lnTo>
                      <a:pt x="1382" y="913"/>
                    </a:lnTo>
                    <a:lnTo>
                      <a:pt x="1384" y="892"/>
                    </a:lnTo>
                    <a:lnTo>
                      <a:pt x="1389" y="874"/>
                    </a:lnTo>
                    <a:lnTo>
                      <a:pt x="1394" y="854"/>
                    </a:lnTo>
                    <a:lnTo>
                      <a:pt x="1398" y="835"/>
                    </a:lnTo>
                    <a:lnTo>
                      <a:pt x="1392" y="830"/>
                    </a:lnTo>
                    <a:lnTo>
                      <a:pt x="1399" y="798"/>
                    </a:lnTo>
                    <a:lnTo>
                      <a:pt x="1407" y="766"/>
                    </a:lnTo>
                    <a:lnTo>
                      <a:pt x="1412" y="731"/>
                    </a:lnTo>
                    <a:lnTo>
                      <a:pt x="1409" y="696"/>
                    </a:lnTo>
                    <a:lnTo>
                      <a:pt x="1399" y="717"/>
                    </a:lnTo>
                    <a:lnTo>
                      <a:pt x="1394" y="738"/>
                    </a:lnTo>
                    <a:lnTo>
                      <a:pt x="1388" y="761"/>
                    </a:lnTo>
                    <a:lnTo>
                      <a:pt x="1384" y="783"/>
                    </a:lnTo>
                    <a:lnTo>
                      <a:pt x="1380" y="806"/>
                    </a:lnTo>
                    <a:lnTo>
                      <a:pt x="1375" y="827"/>
                    </a:lnTo>
                    <a:lnTo>
                      <a:pt x="1367" y="847"/>
                    </a:lnTo>
                    <a:lnTo>
                      <a:pt x="1357" y="867"/>
                    </a:lnTo>
                    <a:lnTo>
                      <a:pt x="1359" y="869"/>
                    </a:lnTo>
                    <a:lnTo>
                      <a:pt x="1328" y="907"/>
                    </a:lnTo>
                    <a:lnTo>
                      <a:pt x="1333" y="880"/>
                    </a:lnTo>
                    <a:lnTo>
                      <a:pt x="1338" y="849"/>
                    </a:lnTo>
                    <a:lnTo>
                      <a:pt x="1344" y="817"/>
                    </a:lnTo>
                    <a:lnTo>
                      <a:pt x="1348" y="786"/>
                    </a:lnTo>
                    <a:lnTo>
                      <a:pt x="1349" y="786"/>
                    </a:lnTo>
                    <a:lnTo>
                      <a:pt x="1350" y="788"/>
                    </a:lnTo>
                    <a:lnTo>
                      <a:pt x="1350" y="788"/>
                    </a:lnTo>
                    <a:lnTo>
                      <a:pt x="1351" y="788"/>
                    </a:lnTo>
                    <a:lnTo>
                      <a:pt x="1352" y="786"/>
                    </a:lnTo>
                    <a:lnTo>
                      <a:pt x="1353" y="785"/>
                    </a:lnTo>
                    <a:lnTo>
                      <a:pt x="1353" y="783"/>
                    </a:lnTo>
                    <a:lnTo>
                      <a:pt x="1353" y="782"/>
                    </a:lnTo>
                    <a:lnTo>
                      <a:pt x="1351" y="776"/>
                    </a:lnTo>
                    <a:lnTo>
                      <a:pt x="1352" y="766"/>
                    </a:lnTo>
                    <a:lnTo>
                      <a:pt x="1354" y="754"/>
                    </a:lnTo>
                    <a:lnTo>
                      <a:pt x="1357" y="743"/>
                    </a:lnTo>
                    <a:lnTo>
                      <a:pt x="1356" y="731"/>
                    </a:lnTo>
                    <a:lnTo>
                      <a:pt x="1357" y="718"/>
                    </a:lnTo>
                    <a:lnTo>
                      <a:pt x="1359" y="707"/>
                    </a:lnTo>
                    <a:lnTo>
                      <a:pt x="1359" y="694"/>
                    </a:lnTo>
                    <a:lnTo>
                      <a:pt x="1356" y="692"/>
                    </a:lnTo>
                    <a:lnTo>
                      <a:pt x="1351" y="692"/>
                    </a:lnTo>
                    <a:lnTo>
                      <a:pt x="1348" y="694"/>
                    </a:lnTo>
                    <a:lnTo>
                      <a:pt x="1345" y="699"/>
                    </a:lnTo>
                    <a:lnTo>
                      <a:pt x="1341" y="722"/>
                    </a:lnTo>
                    <a:lnTo>
                      <a:pt x="1336" y="745"/>
                    </a:lnTo>
                    <a:lnTo>
                      <a:pt x="1330" y="768"/>
                    </a:lnTo>
                    <a:lnTo>
                      <a:pt x="1325" y="791"/>
                    </a:lnTo>
                    <a:lnTo>
                      <a:pt x="1319" y="815"/>
                    </a:lnTo>
                    <a:lnTo>
                      <a:pt x="1313" y="839"/>
                    </a:lnTo>
                    <a:lnTo>
                      <a:pt x="1307" y="862"/>
                    </a:lnTo>
                    <a:lnTo>
                      <a:pt x="1301" y="887"/>
                    </a:lnTo>
                    <a:lnTo>
                      <a:pt x="1288" y="904"/>
                    </a:lnTo>
                    <a:lnTo>
                      <a:pt x="1288" y="868"/>
                    </a:lnTo>
                    <a:lnTo>
                      <a:pt x="1289" y="832"/>
                    </a:lnTo>
                    <a:lnTo>
                      <a:pt x="1291" y="794"/>
                    </a:lnTo>
                    <a:lnTo>
                      <a:pt x="1296" y="755"/>
                    </a:lnTo>
                    <a:lnTo>
                      <a:pt x="1292" y="741"/>
                    </a:lnTo>
                    <a:lnTo>
                      <a:pt x="1291" y="728"/>
                    </a:lnTo>
                    <a:lnTo>
                      <a:pt x="1291" y="715"/>
                    </a:lnTo>
                    <a:lnTo>
                      <a:pt x="1289" y="702"/>
                    </a:lnTo>
                    <a:lnTo>
                      <a:pt x="1281" y="719"/>
                    </a:lnTo>
                    <a:lnTo>
                      <a:pt x="1278" y="740"/>
                    </a:lnTo>
                    <a:lnTo>
                      <a:pt x="1276" y="762"/>
                    </a:lnTo>
                    <a:lnTo>
                      <a:pt x="1272" y="782"/>
                    </a:lnTo>
                    <a:lnTo>
                      <a:pt x="1268" y="812"/>
                    </a:lnTo>
                    <a:lnTo>
                      <a:pt x="1262" y="841"/>
                    </a:lnTo>
                    <a:lnTo>
                      <a:pt x="1254" y="869"/>
                    </a:lnTo>
                    <a:lnTo>
                      <a:pt x="1245" y="898"/>
                    </a:lnTo>
                    <a:lnTo>
                      <a:pt x="1239" y="898"/>
                    </a:lnTo>
                    <a:lnTo>
                      <a:pt x="1237" y="895"/>
                    </a:lnTo>
                    <a:lnTo>
                      <a:pt x="1236" y="890"/>
                    </a:lnTo>
                    <a:lnTo>
                      <a:pt x="1234" y="887"/>
                    </a:lnTo>
                    <a:lnTo>
                      <a:pt x="1236" y="867"/>
                    </a:lnTo>
                    <a:lnTo>
                      <a:pt x="1239" y="845"/>
                    </a:lnTo>
                    <a:lnTo>
                      <a:pt x="1242" y="823"/>
                    </a:lnTo>
                    <a:lnTo>
                      <a:pt x="1243" y="804"/>
                    </a:lnTo>
                    <a:lnTo>
                      <a:pt x="1237" y="804"/>
                    </a:lnTo>
                    <a:lnTo>
                      <a:pt x="1240" y="781"/>
                    </a:lnTo>
                    <a:lnTo>
                      <a:pt x="1243" y="758"/>
                    </a:lnTo>
                    <a:lnTo>
                      <a:pt x="1243" y="734"/>
                    </a:lnTo>
                    <a:lnTo>
                      <a:pt x="1240" y="713"/>
                    </a:lnTo>
                    <a:lnTo>
                      <a:pt x="1235" y="736"/>
                    </a:lnTo>
                    <a:lnTo>
                      <a:pt x="1230" y="758"/>
                    </a:lnTo>
                    <a:lnTo>
                      <a:pt x="1225" y="781"/>
                    </a:lnTo>
                    <a:lnTo>
                      <a:pt x="1222" y="802"/>
                    </a:lnTo>
                    <a:lnTo>
                      <a:pt x="1217" y="824"/>
                    </a:lnTo>
                    <a:lnTo>
                      <a:pt x="1213" y="846"/>
                    </a:lnTo>
                    <a:lnTo>
                      <a:pt x="1206" y="867"/>
                    </a:lnTo>
                    <a:lnTo>
                      <a:pt x="1199" y="888"/>
                    </a:lnTo>
                    <a:lnTo>
                      <a:pt x="1193" y="889"/>
                    </a:lnTo>
                    <a:lnTo>
                      <a:pt x="1190" y="887"/>
                    </a:lnTo>
                    <a:lnTo>
                      <a:pt x="1187" y="883"/>
                    </a:lnTo>
                    <a:lnTo>
                      <a:pt x="1186" y="879"/>
                    </a:lnTo>
                    <a:lnTo>
                      <a:pt x="1190" y="844"/>
                    </a:lnTo>
                    <a:lnTo>
                      <a:pt x="1191" y="808"/>
                    </a:lnTo>
                    <a:lnTo>
                      <a:pt x="1190" y="775"/>
                    </a:lnTo>
                    <a:lnTo>
                      <a:pt x="1191" y="741"/>
                    </a:lnTo>
                    <a:lnTo>
                      <a:pt x="1187" y="741"/>
                    </a:lnTo>
                    <a:lnTo>
                      <a:pt x="1186" y="743"/>
                    </a:lnTo>
                    <a:lnTo>
                      <a:pt x="1186" y="746"/>
                    </a:lnTo>
                    <a:lnTo>
                      <a:pt x="1186" y="748"/>
                    </a:lnTo>
                    <a:lnTo>
                      <a:pt x="1186" y="753"/>
                    </a:lnTo>
                    <a:lnTo>
                      <a:pt x="1184" y="758"/>
                    </a:lnTo>
                    <a:lnTo>
                      <a:pt x="1181" y="761"/>
                    </a:lnTo>
                    <a:lnTo>
                      <a:pt x="1179" y="767"/>
                    </a:lnTo>
                    <a:lnTo>
                      <a:pt x="1171" y="794"/>
                    </a:lnTo>
                    <a:lnTo>
                      <a:pt x="1167" y="822"/>
                    </a:lnTo>
                    <a:lnTo>
                      <a:pt x="1161" y="850"/>
                    </a:lnTo>
                    <a:lnTo>
                      <a:pt x="1152" y="877"/>
                    </a:lnTo>
                    <a:lnTo>
                      <a:pt x="1144" y="862"/>
                    </a:lnTo>
                    <a:lnTo>
                      <a:pt x="1144" y="844"/>
                    </a:lnTo>
                    <a:lnTo>
                      <a:pt x="1146" y="827"/>
                    </a:lnTo>
                    <a:lnTo>
                      <a:pt x="1146" y="809"/>
                    </a:lnTo>
                    <a:lnTo>
                      <a:pt x="1151" y="805"/>
                    </a:lnTo>
                    <a:lnTo>
                      <a:pt x="1147" y="790"/>
                    </a:lnTo>
                    <a:lnTo>
                      <a:pt x="1149" y="774"/>
                    </a:lnTo>
                    <a:lnTo>
                      <a:pt x="1153" y="758"/>
                    </a:lnTo>
                    <a:lnTo>
                      <a:pt x="1156" y="741"/>
                    </a:lnTo>
                    <a:lnTo>
                      <a:pt x="1154" y="726"/>
                    </a:lnTo>
                    <a:lnTo>
                      <a:pt x="1154" y="711"/>
                    </a:lnTo>
                    <a:lnTo>
                      <a:pt x="1155" y="698"/>
                    </a:lnTo>
                    <a:lnTo>
                      <a:pt x="1152" y="685"/>
                    </a:lnTo>
                    <a:lnTo>
                      <a:pt x="1145" y="703"/>
                    </a:lnTo>
                    <a:lnTo>
                      <a:pt x="1143" y="725"/>
                    </a:lnTo>
                    <a:lnTo>
                      <a:pt x="1141" y="748"/>
                    </a:lnTo>
                    <a:lnTo>
                      <a:pt x="1138" y="768"/>
                    </a:lnTo>
                    <a:lnTo>
                      <a:pt x="1133" y="782"/>
                    </a:lnTo>
                    <a:lnTo>
                      <a:pt x="1131" y="796"/>
                    </a:lnTo>
                    <a:lnTo>
                      <a:pt x="1128" y="809"/>
                    </a:lnTo>
                    <a:lnTo>
                      <a:pt x="1123" y="823"/>
                    </a:lnTo>
                    <a:lnTo>
                      <a:pt x="1123" y="835"/>
                    </a:lnTo>
                    <a:lnTo>
                      <a:pt x="1116" y="845"/>
                    </a:lnTo>
                    <a:lnTo>
                      <a:pt x="1108" y="856"/>
                    </a:lnTo>
                    <a:lnTo>
                      <a:pt x="1103" y="867"/>
                    </a:lnTo>
                    <a:lnTo>
                      <a:pt x="1100" y="859"/>
                    </a:lnTo>
                    <a:lnTo>
                      <a:pt x="1100" y="849"/>
                    </a:lnTo>
                    <a:lnTo>
                      <a:pt x="1102" y="838"/>
                    </a:lnTo>
                    <a:lnTo>
                      <a:pt x="1102" y="830"/>
                    </a:lnTo>
                    <a:lnTo>
                      <a:pt x="1106" y="812"/>
                    </a:lnTo>
                    <a:lnTo>
                      <a:pt x="1109" y="792"/>
                    </a:lnTo>
                    <a:lnTo>
                      <a:pt x="1113" y="773"/>
                    </a:lnTo>
                    <a:lnTo>
                      <a:pt x="1117" y="753"/>
                    </a:lnTo>
                    <a:lnTo>
                      <a:pt x="1115" y="738"/>
                    </a:lnTo>
                    <a:lnTo>
                      <a:pt x="1117" y="722"/>
                    </a:lnTo>
                    <a:lnTo>
                      <a:pt x="1121" y="707"/>
                    </a:lnTo>
                    <a:lnTo>
                      <a:pt x="1123" y="691"/>
                    </a:lnTo>
                    <a:lnTo>
                      <a:pt x="1118" y="687"/>
                    </a:lnTo>
                    <a:lnTo>
                      <a:pt x="1120" y="670"/>
                    </a:lnTo>
                    <a:lnTo>
                      <a:pt x="1121" y="655"/>
                    </a:lnTo>
                    <a:lnTo>
                      <a:pt x="1121" y="642"/>
                    </a:lnTo>
                    <a:lnTo>
                      <a:pt x="1117" y="627"/>
                    </a:lnTo>
                    <a:lnTo>
                      <a:pt x="1113" y="633"/>
                    </a:lnTo>
                    <a:lnTo>
                      <a:pt x="1110" y="641"/>
                    </a:lnTo>
                    <a:lnTo>
                      <a:pt x="1109" y="650"/>
                    </a:lnTo>
                    <a:lnTo>
                      <a:pt x="1108" y="660"/>
                    </a:lnTo>
                    <a:lnTo>
                      <a:pt x="1109" y="681"/>
                    </a:lnTo>
                    <a:lnTo>
                      <a:pt x="1108" y="702"/>
                    </a:lnTo>
                    <a:lnTo>
                      <a:pt x="1105" y="723"/>
                    </a:lnTo>
                    <a:lnTo>
                      <a:pt x="1100" y="744"/>
                    </a:lnTo>
                    <a:lnTo>
                      <a:pt x="1094" y="763"/>
                    </a:lnTo>
                    <a:lnTo>
                      <a:pt x="1088" y="784"/>
                    </a:lnTo>
                    <a:lnTo>
                      <a:pt x="1084" y="804"/>
                    </a:lnTo>
                    <a:lnTo>
                      <a:pt x="1080" y="824"/>
                    </a:lnTo>
                    <a:lnTo>
                      <a:pt x="1063" y="858"/>
                    </a:lnTo>
                    <a:lnTo>
                      <a:pt x="1060" y="846"/>
                    </a:lnTo>
                    <a:lnTo>
                      <a:pt x="1061" y="834"/>
                    </a:lnTo>
                    <a:lnTo>
                      <a:pt x="1062" y="821"/>
                    </a:lnTo>
                    <a:lnTo>
                      <a:pt x="1061" y="807"/>
                    </a:lnTo>
                    <a:lnTo>
                      <a:pt x="1067" y="778"/>
                    </a:lnTo>
                    <a:lnTo>
                      <a:pt x="1072" y="747"/>
                    </a:lnTo>
                    <a:lnTo>
                      <a:pt x="1075" y="716"/>
                    </a:lnTo>
                    <a:lnTo>
                      <a:pt x="1076" y="685"/>
                    </a:lnTo>
                    <a:lnTo>
                      <a:pt x="1072" y="670"/>
                    </a:lnTo>
                    <a:lnTo>
                      <a:pt x="1072" y="654"/>
                    </a:lnTo>
                    <a:lnTo>
                      <a:pt x="1072" y="638"/>
                    </a:lnTo>
                    <a:lnTo>
                      <a:pt x="1070" y="623"/>
                    </a:lnTo>
                    <a:lnTo>
                      <a:pt x="1065" y="624"/>
                    </a:lnTo>
                    <a:lnTo>
                      <a:pt x="1064" y="627"/>
                    </a:lnTo>
                    <a:lnTo>
                      <a:pt x="1063" y="632"/>
                    </a:lnTo>
                    <a:lnTo>
                      <a:pt x="1061" y="637"/>
                    </a:lnTo>
                    <a:lnTo>
                      <a:pt x="1060" y="692"/>
                    </a:lnTo>
                    <a:lnTo>
                      <a:pt x="1054" y="747"/>
                    </a:lnTo>
                    <a:lnTo>
                      <a:pt x="1044" y="800"/>
                    </a:lnTo>
                    <a:lnTo>
                      <a:pt x="1031" y="852"/>
                    </a:lnTo>
                    <a:lnTo>
                      <a:pt x="1024" y="838"/>
                    </a:lnTo>
                    <a:lnTo>
                      <a:pt x="1023" y="822"/>
                    </a:lnTo>
                    <a:lnTo>
                      <a:pt x="1024" y="806"/>
                    </a:lnTo>
                    <a:lnTo>
                      <a:pt x="1022" y="791"/>
                    </a:lnTo>
                    <a:lnTo>
                      <a:pt x="1027" y="699"/>
                    </a:lnTo>
                    <a:lnTo>
                      <a:pt x="1025" y="696"/>
                    </a:lnTo>
                    <a:lnTo>
                      <a:pt x="1023" y="695"/>
                    </a:lnTo>
                    <a:lnTo>
                      <a:pt x="1021" y="694"/>
                    </a:lnTo>
                    <a:lnTo>
                      <a:pt x="1017" y="694"/>
                    </a:lnTo>
                    <a:lnTo>
                      <a:pt x="1014" y="702"/>
                    </a:lnTo>
                    <a:lnTo>
                      <a:pt x="1014" y="710"/>
                    </a:lnTo>
                    <a:lnTo>
                      <a:pt x="1014" y="719"/>
                    </a:lnTo>
                    <a:lnTo>
                      <a:pt x="1011" y="728"/>
                    </a:lnTo>
                    <a:lnTo>
                      <a:pt x="1009" y="755"/>
                    </a:lnTo>
                    <a:lnTo>
                      <a:pt x="1004" y="783"/>
                    </a:lnTo>
                    <a:lnTo>
                      <a:pt x="996" y="808"/>
                    </a:lnTo>
                    <a:lnTo>
                      <a:pt x="987" y="832"/>
                    </a:lnTo>
                    <a:lnTo>
                      <a:pt x="983" y="836"/>
                    </a:lnTo>
                    <a:lnTo>
                      <a:pt x="979" y="820"/>
                    </a:lnTo>
                    <a:lnTo>
                      <a:pt x="978" y="799"/>
                    </a:lnTo>
                    <a:lnTo>
                      <a:pt x="979" y="777"/>
                    </a:lnTo>
                    <a:lnTo>
                      <a:pt x="979" y="755"/>
                    </a:lnTo>
                    <a:lnTo>
                      <a:pt x="977" y="736"/>
                    </a:lnTo>
                    <a:lnTo>
                      <a:pt x="976" y="714"/>
                    </a:lnTo>
                    <a:lnTo>
                      <a:pt x="973" y="693"/>
                    </a:lnTo>
                    <a:lnTo>
                      <a:pt x="969" y="673"/>
                    </a:lnTo>
                    <a:lnTo>
                      <a:pt x="963" y="700"/>
                    </a:lnTo>
                    <a:lnTo>
                      <a:pt x="959" y="725"/>
                    </a:lnTo>
                    <a:lnTo>
                      <a:pt x="956" y="752"/>
                    </a:lnTo>
                    <a:lnTo>
                      <a:pt x="954" y="778"/>
                    </a:lnTo>
                    <a:lnTo>
                      <a:pt x="951" y="778"/>
                    </a:lnTo>
                    <a:lnTo>
                      <a:pt x="950" y="792"/>
                    </a:lnTo>
                    <a:lnTo>
                      <a:pt x="948" y="805"/>
                    </a:lnTo>
                    <a:lnTo>
                      <a:pt x="943" y="819"/>
                    </a:lnTo>
                    <a:lnTo>
                      <a:pt x="939" y="832"/>
                    </a:lnTo>
                    <a:lnTo>
                      <a:pt x="931" y="790"/>
                    </a:lnTo>
                    <a:lnTo>
                      <a:pt x="933" y="741"/>
                    </a:lnTo>
                    <a:lnTo>
                      <a:pt x="938" y="690"/>
                    </a:lnTo>
                    <a:lnTo>
                      <a:pt x="936" y="639"/>
                    </a:lnTo>
                    <a:lnTo>
                      <a:pt x="931" y="640"/>
                    </a:lnTo>
                    <a:lnTo>
                      <a:pt x="928" y="643"/>
                    </a:lnTo>
                    <a:lnTo>
                      <a:pt x="927" y="647"/>
                    </a:lnTo>
                    <a:lnTo>
                      <a:pt x="926" y="651"/>
                    </a:lnTo>
                    <a:lnTo>
                      <a:pt x="925" y="651"/>
                    </a:lnTo>
                    <a:lnTo>
                      <a:pt x="924" y="662"/>
                    </a:lnTo>
                    <a:lnTo>
                      <a:pt x="925" y="673"/>
                    </a:lnTo>
                    <a:lnTo>
                      <a:pt x="924" y="684"/>
                    </a:lnTo>
                    <a:lnTo>
                      <a:pt x="917" y="693"/>
                    </a:lnTo>
                    <a:lnTo>
                      <a:pt x="918" y="717"/>
                    </a:lnTo>
                    <a:lnTo>
                      <a:pt x="915" y="741"/>
                    </a:lnTo>
                    <a:lnTo>
                      <a:pt x="911" y="763"/>
                    </a:lnTo>
                    <a:lnTo>
                      <a:pt x="905" y="784"/>
                    </a:lnTo>
                    <a:lnTo>
                      <a:pt x="908" y="793"/>
                    </a:lnTo>
                    <a:lnTo>
                      <a:pt x="904" y="801"/>
                    </a:lnTo>
                    <a:lnTo>
                      <a:pt x="901" y="812"/>
                    </a:lnTo>
                    <a:lnTo>
                      <a:pt x="902" y="823"/>
                    </a:lnTo>
                    <a:lnTo>
                      <a:pt x="898" y="824"/>
                    </a:lnTo>
                    <a:lnTo>
                      <a:pt x="895" y="824"/>
                    </a:lnTo>
                    <a:lnTo>
                      <a:pt x="892" y="824"/>
                    </a:lnTo>
                    <a:lnTo>
                      <a:pt x="888" y="824"/>
                    </a:lnTo>
                    <a:lnTo>
                      <a:pt x="888" y="770"/>
                    </a:lnTo>
                    <a:lnTo>
                      <a:pt x="890" y="717"/>
                    </a:lnTo>
                    <a:lnTo>
                      <a:pt x="895" y="665"/>
                    </a:lnTo>
                    <a:lnTo>
                      <a:pt x="903" y="613"/>
                    </a:lnTo>
                    <a:lnTo>
                      <a:pt x="901" y="596"/>
                    </a:lnTo>
                    <a:lnTo>
                      <a:pt x="903" y="579"/>
                    </a:lnTo>
                    <a:lnTo>
                      <a:pt x="907" y="560"/>
                    </a:lnTo>
                    <a:lnTo>
                      <a:pt x="905" y="544"/>
                    </a:lnTo>
                    <a:lnTo>
                      <a:pt x="900" y="549"/>
                    </a:lnTo>
                    <a:lnTo>
                      <a:pt x="896" y="579"/>
                    </a:lnTo>
                    <a:lnTo>
                      <a:pt x="892" y="607"/>
                    </a:lnTo>
                    <a:lnTo>
                      <a:pt x="885" y="635"/>
                    </a:lnTo>
                    <a:lnTo>
                      <a:pt x="880" y="664"/>
                    </a:lnTo>
                    <a:lnTo>
                      <a:pt x="872" y="641"/>
                    </a:lnTo>
                    <a:lnTo>
                      <a:pt x="864" y="617"/>
                    </a:lnTo>
                    <a:lnTo>
                      <a:pt x="860" y="592"/>
                    </a:lnTo>
                    <a:lnTo>
                      <a:pt x="864" y="567"/>
                    </a:lnTo>
                    <a:lnTo>
                      <a:pt x="862" y="564"/>
                    </a:lnTo>
                    <a:lnTo>
                      <a:pt x="858" y="562"/>
                    </a:lnTo>
                    <a:lnTo>
                      <a:pt x="855" y="562"/>
                    </a:lnTo>
                    <a:lnTo>
                      <a:pt x="851" y="563"/>
                    </a:lnTo>
                    <a:lnTo>
                      <a:pt x="847" y="574"/>
                    </a:lnTo>
                    <a:lnTo>
                      <a:pt x="843" y="587"/>
                    </a:lnTo>
                    <a:lnTo>
                      <a:pt x="837" y="597"/>
                    </a:lnTo>
                    <a:lnTo>
                      <a:pt x="828" y="602"/>
                    </a:lnTo>
                    <a:lnTo>
                      <a:pt x="821" y="589"/>
                    </a:lnTo>
                    <a:lnTo>
                      <a:pt x="817" y="577"/>
                    </a:lnTo>
                    <a:lnTo>
                      <a:pt x="814" y="562"/>
                    </a:lnTo>
                    <a:lnTo>
                      <a:pt x="814" y="548"/>
                    </a:lnTo>
                    <a:lnTo>
                      <a:pt x="811" y="545"/>
                    </a:lnTo>
                    <a:lnTo>
                      <a:pt x="807" y="543"/>
                    </a:lnTo>
                    <a:lnTo>
                      <a:pt x="804" y="542"/>
                    </a:lnTo>
                    <a:lnTo>
                      <a:pt x="801" y="544"/>
                    </a:lnTo>
                    <a:lnTo>
                      <a:pt x="795" y="554"/>
                    </a:lnTo>
                    <a:lnTo>
                      <a:pt x="790" y="564"/>
                    </a:lnTo>
                    <a:lnTo>
                      <a:pt x="786" y="573"/>
                    </a:lnTo>
                    <a:lnTo>
                      <a:pt x="780" y="581"/>
                    </a:lnTo>
                    <a:lnTo>
                      <a:pt x="772" y="578"/>
                    </a:lnTo>
                    <a:lnTo>
                      <a:pt x="767" y="573"/>
                    </a:lnTo>
                    <a:lnTo>
                      <a:pt x="763" y="567"/>
                    </a:lnTo>
                    <a:lnTo>
                      <a:pt x="760" y="562"/>
                    </a:lnTo>
                    <a:lnTo>
                      <a:pt x="758" y="556"/>
                    </a:lnTo>
                    <a:lnTo>
                      <a:pt x="758" y="550"/>
                    </a:lnTo>
                    <a:lnTo>
                      <a:pt x="758" y="544"/>
                    </a:lnTo>
                    <a:lnTo>
                      <a:pt x="754" y="540"/>
                    </a:lnTo>
                    <a:lnTo>
                      <a:pt x="743" y="543"/>
                    </a:lnTo>
                    <a:lnTo>
                      <a:pt x="736" y="554"/>
                    </a:lnTo>
                    <a:lnTo>
                      <a:pt x="730" y="563"/>
                    </a:lnTo>
                    <a:lnTo>
                      <a:pt x="721" y="565"/>
                    </a:lnTo>
                    <a:lnTo>
                      <a:pt x="719" y="554"/>
                    </a:lnTo>
                    <a:lnTo>
                      <a:pt x="722" y="541"/>
                    </a:lnTo>
                    <a:lnTo>
                      <a:pt x="723" y="532"/>
                    </a:lnTo>
                    <a:lnTo>
                      <a:pt x="715" y="526"/>
                    </a:lnTo>
                    <a:lnTo>
                      <a:pt x="707" y="534"/>
                    </a:lnTo>
                    <a:lnTo>
                      <a:pt x="704" y="543"/>
                    </a:lnTo>
                    <a:lnTo>
                      <a:pt x="700" y="554"/>
                    </a:lnTo>
                    <a:lnTo>
                      <a:pt x="695" y="563"/>
                    </a:lnTo>
                    <a:lnTo>
                      <a:pt x="690" y="563"/>
                    </a:lnTo>
                    <a:lnTo>
                      <a:pt x="690" y="548"/>
                    </a:lnTo>
                    <a:lnTo>
                      <a:pt x="691" y="534"/>
                    </a:lnTo>
                    <a:lnTo>
                      <a:pt x="689" y="521"/>
                    </a:lnTo>
                    <a:lnTo>
                      <a:pt x="681" y="510"/>
                    </a:lnTo>
                    <a:lnTo>
                      <a:pt x="676" y="521"/>
                    </a:lnTo>
                    <a:lnTo>
                      <a:pt x="672" y="533"/>
                    </a:lnTo>
                    <a:lnTo>
                      <a:pt x="667" y="544"/>
                    </a:lnTo>
                    <a:lnTo>
                      <a:pt x="659" y="554"/>
                    </a:lnTo>
                    <a:lnTo>
                      <a:pt x="650" y="547"/>
                    </a:lnTo>
                    <a:lnTo>
                      <a:pt x="651" y="535"/>
                    </a:lnTo>
                    <a:lnTo>
                      <a:pt x="654" y="522"/>
                    </a:lnTo>
                    <a:lnTo>
                      <a:pt x="654" y="510"/>
                    </a:lnTo>
                    <a:lnTo>
                      <a:pt x="649" y="498"/>
                    </a:lnTo>
                    <a:lnTo>
                      <a:pt x="643" y="503"/>
                    </a:lnTo>
                    <a:lnTo>
                      <a:pt x="639" y="510"/>
                    </a:lnTo>
                    <a:lnTo>
                      <a:pt x="635" y="517"/>
                    </a:lnTo>
                    <a:lnTo>
                      <a:pt x="631" y="524"/>
                    </a:lnTo>
                    <a:lnTo>
                      <a:pt x="628" y="530"/>
                    </a:lnTo>
                    <a:lnTo>
                      <a:pt x="623" y="535"/>
                    </a:lnTo>
                    <a:lnTo>
                      <a:pt x="617" y="537"/>
                    </a:lnTo>
                    <a:lnTo>
                      <a:pt x="609" y="536"/>
                    </a:lnTo>
                    <a:lnTo>
                      <a:pt x="609" y="522"/>
                    </a:lnTo>
                    <a:lnTo>
                      <a:pt x="609" y="510"/>
                    </a:lnTo>
                    <a:lnTo>
                      <a:pt x="608" y="498"/>
                    </a:lnTo>
                    <a:lnTo>
                      <a:pt x="602" y="487"/>
                    </a:lnTo>
                    <a:lnTo>
                      <a:pt x="598" y="498"/>
                    </a:lnTo>
                    <a:lnTo>
                      <a:pt x="591" y="510"/>
                    </a:lnTo>
                    <a:lnTo>
                      <a:pt x="582" y="519"/>
                    </a:lnTo>
                    <a:lnTo>
                      <a:pt x="573" y="526"/>
                    </a:lnTo>
                    <a:lnTo>
                      <a:pt x="574" y="509"/>
                    </a:lnTo>
                    <a:lnTo>
                      <a:pt x="576" y="492"/>
                    </a:lnTo>
                    <a:lnTo>
                      <a:pt x="575" y="477"/>
                    </a:lnTo>
                    <a:lnTo>
                      <a:pt x="568" y="466"/>
                    </a:lnTo>
                    <a:lnTo>
                      <a:pt x="561" y="477"/>
                    </a:lnTo>
                    <a:lnTo>
                      <a:pt x="554" y="491"/>
                    </a:lnTo>
                    <a:lnTo>
                      <a:pt x="546" y="505"/>
                    </a:lnTo>
                    <a:lnTo>
                      <a:pt x="536" y="514"/>
                    </a:lnTo>
                    <a:lnTo>
                      <a:pt x="535" y="498"/>
                    </a:lnTo>
                    <a:lnTo>
                      <a:pt x="535" y="483"/>
                    </a:lnTo>
                    <a:lnTo>
                      <a:pt x="535" y="467"/>
                    </a:lnTo>
                    <a:lnTo>
                      <a:pt x="530" y="452"/>
                    </a:lnTo>
                    <a:lnTo>
                      <a:pt x="522" y="465"/>
                    </a:lnTo>
                    <a:lnTo>
                      <a:pt x="515" y="477"/>
                    </a:lnTo>
                    <a:lnTo>
                      <a:pt x="507" y="490"/>
                    </a:lnTo>
                    <a:lnTo>
                      <a:pt x="497" y="502"/>
                    </a:lnTo>
                    <a:lnTo>
                      <a:pt x="494" y="487"/>
                    </a:lnTo>
                    <a:lnTo>
                      <a:pt x="497" y="469"/>
                    </a:lnTo>
                    <a:lnTo>
                      <a:pt x="500" y="453"/>
                    </a:lnTo>
                    <a:lnTo>
                      <a:pt x="505" y="438"/>
                    </a:lnTo>
                    <a:lnTo>
                      <a:pt x="502" y="430"/>
                    </a:lnTo>
                    <a:lnTo>
                      <a:pt x="501" y="422"/>
                    </a:lnTo>
                    <a:lnTo>
                      <a:pt x="499" y="416"/>
                    </a:lnTo>
                    <a:lnTo>
                      <a:pt x="491" y="413"/>
                    </a:lnTo>
                    <a:lnTo>
                      <a:pt x="487" y="422"/>
                    </a:lnTo>
                    <a:lnTo>
                      <a:pt x="484" y="430"/>
                    </a:lnTo>
                    <a:lnTo>
                      <a:pt x="479" y="438"/>
                    </a:lnTo>
                    <a:lnTo>
                      <a:pt x="476" y="446"/>
                    </a:lnTo>
                    <a:lnTo>
                      <a:pt x="471" y="454"/>
                    </a:lnTo>
                    <a:lnTo>
                      <a:pt x="467" y="462"/>
                    </a:lnTo>
                    <a:lnTo>
                      <a:pt x="462" y="471"/>
                    </a:lnTo>
                    <a:lnTo>
                      <a:pt x="456" y="479"/>
                    </a:lnTo>
                    <a:lnTo>
                      <a:pt x="459" y="461"/>
                    </a:lnTo>
                    <a:lnTo>
                      <a:pt x="457" y="442"/>
                    </a:lnTo>
                    <a:lnTo>
                      <a:pt x="455" y="422"/>
                    </a:lnTo>
                    <a:lnTo>
                      <a:pt x="452" y="401"/>
                    </a:lnTo>
                    <a:lnTo>
                      <a:pt x="445" y="405"/>
                    </a:lnTo>
                    <a:lnTo>
                      <a:pt x="440" y="413"/>
                    </a:lnTo>
                    <a:lnTo>
                      <a:pt x="437" y="423"/>
                    </a:lnTo>
                    <a:lnTo>
                      <a:pt x="433" y="433"/>
                    </a:lnTo>
                    <a:lnTo>
                      <a:pt x="432" y="442"/>
                    </a:lnTo>
                    <a:lnTo>
                      <a:pt x="429" y="449"/>
                    </a:lnTo>
                    <a:lnTo>
                      <a:pt x="423" y="457"/>
                    </a:lnTo>
                    <a:lnTo>
                      <a:pt x="417" y="464"/>
                    </a:lnTo>
                    <a:lnTo>
                      <a:pt x="415" y="457"/>
                    </a:lnTo>
                    <a:lnTo>
                      <a:pt x="416" y="450"/>
                    </a:lnTo>
                    <a:lnTo>
                      <a:pt x="418" y="442"/>
                    </a:lnTo>
                    <a:lnTo>
                      <a:pt x="419" y="434"/>
                    </a:lnTo>
                    <a:lnTo>
                      <a:pt x="418" y="424"/>
                    </a:lnTo>
                    <a:lnTo>
                      <a:pt x="417" y="414"/>
                    </a:lnTo>
                    <a:lnTo>
                      <a:pt x="415" y="406"/>
                    </a:lnTo>
                    <a:lnTo>
                      <a:pt x="407" y="401"/>
                    </a:lnTo>
                    <a:lnTo>
                      <a:pt x="402" y="407"/>
                    </a:lnTo>
                    <a:lnTo>
                      <a:pt x="399" y="412"/>
                    </a:lnTo>
                    <a:lnTo>
                      <a:pt x="395" y="418"/>
                    </a:lnTo>
                    <a:lnTo>
                      <a:pt x="396" y="423"/>
                    </a:lnTo>
                    <a:lnTo>
                      <a:pt x="392" y="434"/>
                    </a:lnTo>
                    <a:lnTo>
                      <a:pt x="387" y="444"/>
                    </a:lnTo>
                    <a:lnTo>
                      <a:pt x="380" y="453"/>
                    </a:lnTo>
                    <a:lnTo>
                      <a:pt x="373" y="461"/>
                    </a:lnTo>
                    <a:lnTo>
                      <a:pt x="371" y="447"/>
                    </a:lnTo>
                    <a:lnTo>
                      <a:pt x="372" y="431"/>
                    </a:lnTo>
                    <a:lnTo>
                      <a:pt x="372" y="416"/>
                    </a:lnTo>
                    <a:lnTo>
                      <a:pt x="363" y="405"/>
                    </a:lnTo>
                    <a:lnTo>
                      <a:pt x="357" y="411"/>
                    </a:lnTo>
                    <a:lnTo>
                      <a:pt x="355" y="418"/>
                    </a:lnTo>
                    <a:lnTo>
                      <a:pt x="355" y="427"/>
                    </a:lnTo>
                    <a:lnTo>
                      <a:pt x="354" y="434"/>
                    </a:lnTo>
                    <a:lnTo>
                      <a:pt x="347" y="441"/>
                    </a:lnTo>
                    <a:lnTo>
                      <a:pt x="342" y="450"/>
                    </a:lnTo>
                    <a:lnTo>
                      <a:pt x="335" y="457"/>
                    </a:lnTo>
                    <a:lnTo>
                      <a:pt x="326" y="456"/>
                    </a:lnTo>
                    <a:lnTo>
                      <a:pt x="327" y="443"/>
                    </a:lnTo>
                    <a:lnTo>
                      <a:pt x="328" y="428"/>
                    </a:lnTo>
                    <a:lnTo>
                      <a:pt x="328" y="414"/>
                    </a:lnTo>
                    <a:lnTo>
                      <a:pt x="325" y="401"/>
                    </a:lnTo>
                    <a:lnTo>
                      <a:pt x="320" y="401"/>
                    </a:lnTo>
                    <a:lnTo>
                      <a:pt x="317" y="403"/>
                    </a:lnTo>
                    <a:lnTo>
                      <a:pt x="315" y="406"/>
                    </a:lnTo>
                    <a:lnTo>
                      <a:pt x="312" y="409"/>
                    </a:lnTo>
                    <a:lnTo>
                      <a:pt x="312" y="421"/>
                    </a:lnTo>
                    <a:lnTo>
                      <a:pt x="309" y="423"/>
                    </a:lnTo>
                    <a:lnTo>
                      <a:pt x="308" y="428"/>
                    </a:lnTo>
                    <a:lnTo>
                      <a:pt x="307" y="433"/>
                    </a:lnTo>
                    <a:lnTo>
                      <a:pt x="305" y="437"/>
                    </a:lnTo>
                    <a:lnTo>
                      <a:pt x="292" y="452"/>
                    </a:lnTo>
                    <a:lnTo>
                      <a:pt x="290" y="451"/>
                    </a:lnTo>
                    <a:lnTo>
                      <a:pt x="289" y="449"/>
                    </a:lnTo>
                    <a:lnTo>
                      <a:pt x="287" y="447"/>
                    </a:lnTo>
                    <a:lnTo>
                      <a:pt x="286" y="447"/>
                    </a:lnTo>
                    <a:lnTo>
                      <a:pt x="282" y="452"/>
                    </a:lnTo>
                    <a:lnTo>
                      <a:pt x="284" y="438"/>
                    </a:lnTo>
                    <a:lnTo>
                      <a:pt x="287" y="424"/>
                    </a:lnTo>
                    <a:lnTo>
                      <a:pt x="289" y="411"/>
                    </a:lnTo>
                    <a:lnTo>
                      <a:pt x="290" y="398"/>
                    </a:lnTo>
                    <a:lnTo>
                      <a:pt x="288" y="394"/>
                    </a:lnTo>
                    <a:lnTo>
                      <a:pt x="287" y="391"/>
                    </a:lnTo>
                    <a:lnTo>
                      <a:pt x="286" y="388"/>
                    </a:lnTo>
                    <a:lnTo>
                      <a:pt x="282" y="384"/>
                    </a:lnTo>
                    <a:lnTo>
                      <a:pt x="273" y="391"/>
                    </a:lnTo>
                    <a:lnTo>
                      <a:pt x="269" y="403"/>
                    </a:lnTo>
                    <a:lnTo>
                      <a:pt x="265" y="414"/>
                    </a:lnTo>
                    <a:lnTo>
                      <a:pt x="260" y="424"/>
                    </a:lnTo>
                    <a:lnTo>
                      <a:pt x="252" y="429"/>
                    </a:lnTo>
                    <a:lnTo>
                      <a:pt x="251" y="437"/>
                    </a:lnTo>
                    <a:lnTo>
                      <a:pt x="250" y="446"/>
                    </a:lnTo>
                    <a:lnTo>
                      <a:pt x="242" y="450"/>
                    </a:lnTo>
                    <a:lnTo>
                      <a:pt x="246" y="428"/>
                    </a:lnTo>
                    <a:lnTo>
                      <a:pt x="249" y="403"/>
                    </a:lnTo>
                    <a:lnTo>
                      <a:pt x="249" y="378"/>
                    </a:lnTo>
                    <a:lnTo>
                      <a:pt x="242" y="356"/>
                    </a:lnTo>
                    <a:lnTo>
                      <a:pt x="240" y="355"/>
                    </a:lnTo>
                    <a:lnTo>
                      <a:pt x="236" y="366"/>
                    </a:lnTo>
                    <a:lnTo>
                      <a:pt x="233" y="377"/>
                    </a:lnTo>
                    <a:lnTo>
                      <a:pt x="228" y="388"/>
                    </a:lnTo>
                    <a:lnTo>
                      <a:pt x="224" y="398"/>
                    </a:lnTo>
                    <a:lnTo>
                      <a:pt x="219" y="408"/>
                    </a:lnTo>
                    <a:lnTo>
                      <a:pt x="213" y="419"/>
                    </a:lnTo>
                    <a:lnTo>
                      <a:pt x="207" y="429"/>
                    </a:lnTo>
                    <a:lnTo>
                      <a:pt x="201" y="438"/>
                    </a:lnTo>
                    <a:lnTo>
                      <a:pt x="203" y="416"/>
                    </a:lnTo>
                    <a:lnTo>
                      <a:pt x="207" y="393"/>
                    </a:lnTo>
                    <a:lnTo>
                      <a:pt x="209" y="371"/>
                    </a:lnTo>
                    <a:lnTo>
                      <a:pt x="203" y="350"/>
                    </a:lnTo>
                    <a:lnTo>
                      <a:pt x="196" y="358"/>
                    </a:lnTo>
                    <a:lnTo>
                      <a:pt x="194" y="368"/>
                    </a:lnTo>
                    <a:lnTo>
                      <a:pt x="191" y="381"/>
                    </a:lnTo>
                    <a:lnTo>
                      <a:pt x="187" y="391"/>
                    </a:lnTo>
                    <a:lnTo>
                      <a:pt x="183" y="403"/>
                    </a:lnTo>
                    <a:lnTo>
                      <a:pt x="176" y="413"/>
                    </a:lnTo>
                    <a:lnTo>
                      <a:pt x="169" y="423"/>
                    </a:lnTo>
                    <a:lnTo>
                      <a:pt x="161" y="433"/>
                    </a:lnTo>
                    <a:lnTo>
                      <a:pt x="160" y="413"/>
                    </a:lnTo>
                    <a:lnTo>
                      <a:pt x="164" y="391"/>
                    </a:lnTo>
                    <a:lnTo>
                      <a:pt x="167" y="367"/>
                    </a:lnTo>
                    <a:lnTo>
                      <a:pt x="167" y="343"/>
                    </a:lnTo>
                    <a:lnTo>
                      <a:pt x="166" y="341"/>
                    </a:lnTo>
                    <a:lnTo>
                      <a:pt x="165" y="341"/>
                    </a:lnTo>
                    <a:lnTo>
                      <a:pt x="163" y="341"/>
                    </a:lnTo>
                    <a:lnTo>
                      <a:pt x="160" y="341"/>
                    </a:lnTo>
                    <a:lnTo>
                      <a:pt x="153" y="356"/>
                    </a:lnTo>
                    <a:lnTo>
                      <a:pt x="150" y="374"/>
                    </a:lnTo>
                    <a:lnTo>
                      <a:pt x="144" y="390"/>
                    </a:lnTo>
                    <a:lnTo>
                      <a:pt x="135" y="404"/>
                    </a:lnTo>
                    <a:lnTo>
                      <a:pt x="137" y="412"/>
                    </a:lnTo>
                    <a:lnTo>
                      <a:pt x="134" y="419"/>
                    </a:lnTo>
                    <a:lnTo>
                      <a:pt x="127" y="426"/>
                    </a:lnTo>
                    <a:lnTo>
                      <a:pt x="121" y="433"/>
                    </a:lnTo>
                    <a:lnTo>
                      <a:pt x="122" y="408"/>
                    </a:lnTo>
                    <a:lnTo>
                      <a:pt x="127" y="383"/>
                    </a:lnTo>
                    <a:lnTo>
                      <a:pt x="128" y="358"/>
                    </a:lnTo>
                    <a:lnTo>
                      <a:pt x="123" y="333"/>
                    </a:lnTo>
                    <a:lnTo>
                      <a:pt x="114" y="351"/>
                    </a:lnTo>
                    <a:lnTo>
                      <a:pt x="108" y="370"/>
                    </a:lnTo>
                    <a:lnTo>
                      <a:pt x="102" y="389"/>
                    </a:lnTo>
                    <a:lnTo>
                      <a:pt x="90" y="405"/>
                    </a:lnTo>
                    <a:lnTo>
                      <a:pt x="85" y="409"/>
                    </a:lnTo>
                    <a:lnTo>
                      <a:pt x="83" y="414"/>
                    </a:lnTo>
                    <a:lnTo>
                      <a:pt x="80" y="418"/>
                    </a:lnTo>
                    <a:lnTo>
                      <a:pt x="75" y="419"/>
                    </a:lnTo>
                    <a:lnTo>
                      <a:pt x="77" y="399"/>
                    </a:lnTo>
                    <a:lnTo>
                      <a:pt x="80" y="379"/>
                    </a:lnTo>
                    <a:lnTo>
                      <a:pt x="81" y="361"/>
                    </a:lnTo>
                    <a:lnTo>
                      <a:pt x="79" y="341"/>
                    </a:lnTo>
                    <a:lnTo>
                      <a:pt x="69" y="354"/>
                    </a:lnTo>
                    <a:lnTo>
                      <a:pt x="62" y="367"/>
                    </a:lnTo>
                    <a:lnTo>
                      <a:pt x="55" y="381"/>
                    </a:lnTo>
                    <a:lnTo>
                      <a:pt x="49" y="393"/>
                    </a:lnTo>
                    <a:lnTo>
                      <a:pt x="44" y="396"/>
                    </a:lnTo>
                    <a:lnTo>
                      <a:pt x="41" y="394"/>
                    </a:lnTo>
                    <a:lnTo>
                      <a:pt x="37" y="392"/>
                    </a:lnTo>
                    <a:lnTo>
                      <a:pt x="35" y="390"/>
                    </a:lnTo>
                    <a:lnTo>
                      <a:pt x="36" y="375"/>
                    </a:lnTo>
                    <a:lnTo>
                      <a:pt x="37" y="361"/>
                    </a:lnTo>
                    <a:lnTo>
                      <a:pt x="38" y="348"/>
                    </a:lnTo>
                    <a:lnTo>
                      <a:pt x="36" y="333"/>
                    </a:lnTo>
                    <a:lnTo>
                      <a:pt x="36" y="332"/>
                    </a:lnTo>
                    <a:lnTo>
                      <a:pt x="36" y="331"/>
                    </a:lnTo>
                    <a:lnTo>
                      <a:pt x="35" y="331"/>
                    </a:lnTo>
                    <a:lnTo>
                      <a:pt x="35" y="330"/>
                    </a:lnTo>
                    <a:lnTo>
                      <a:pt x="28" y="340"/>
                    </a:lnTo>
                    <a:lnTo>
                      <a:pt x="23" y="352"/>
                    </a:lnTo>
                    <a:lnTo>
                      <a:pt x="17" y="361"/>
                    </a:lnTo>
                    <a:lnTo>
                      <a:pt x="7" y="367"/>
                    </a:lnTo>
                    <a:lnTo>
                      <a:pt x="3" y="354"/>
                    </a:lnTo>
                    <a:lnTo>
                      <a:pt x="0" y="343"/>
                    </a:lnTo>
                    <a:lnTo>
                      <a:pt x="3" y="330"/>
                    </a:lnTo>
                    <a:lnTo>
                      <a:pt x="9" y="318"/>
                    </a:lnTo>
                    <a:lnTo>
                      <a:pt x="15" y="311"/>
                    </a:lnTo>
                    <a:lnTo>
                      <a:pt x="22" y="307"/>
                    </a:lnTo>
                    <a:lnTo>
                      <a:pt x="30" y="303"/>
                    </a:lnTo>
                    <a:lnTo>
                      <a:pt x="39" y="302"/>
                    </a:lnTo>
                    <a:lnTo>
                      <a:pt x="49" y="301"/>
                    </a:lnTo>
                    <a:lnTo>
                      <a:pt x="58" y="301"/>
                    </a:lnTo>
                    <a:lnTo>
                      <a:pt x="67" y="301"/>
                    </a:lnTo>
                    <a:lnTo>
                      <a:pt x="75" y="301"/>
                    </a:lnTo>
                    <a:lnTo>
                      <a:pt x="90" y="303"/>
                    </a:lnTo>
                    <a:lnTo>
                      <a:pt x="106" y="305"/>
                    </a:lnTo>
                    <a:lnTo>
                      <a:pt x="121" y="308"/>
                    </a:lnTo>
                    <a:lnTo>
                      <a:pt x="136" y="310"/>
                    </a:lnTo>
                    <a:lnTo>
                      <a:pt x="152" y="313"/>
                    </a:lnTo>
                    <a:lnTo>
                      <a:pt x="167" y="316"/>
                    </a:lnTo>
                    <a:lnTo>
                      <a:pt x="183" y="320"/>
                    </a:lnTo>
                    <a:lnTo>
                      <a:pt x="198" y="323"/>
                    </a:lnTo>
                    <a:lnTo>
                      <a:pt x="213" y="328"/>
                    </a:lnTo>
                    <a:lnTo>
                      <a:pt x="228" y="331"/>
                    </a:lnTo>
                    <a:lnTo>
                      <a:pt x="243" y="336"/>
                    </a:lnTo>
                    <a:lnTo>
                      <a:pt x="258" y="340"/>
                    </a:lnTo>
                    <a:lnTo>
                      <a:pt x="273" y="346"/>
                    </a:lnTo>
                    <a:lnTo>
                      <a:pt x="288" y="351"/>
                    </a:lnTo>
                    <a:lnTo>
                      <a:pt x="303" y="356"/>
                    </a:lnTo>
                    <a:lnTo>
                      <a:pt x="317" y="362"/>
                    </a:lnTo>
                    <a:lnTo>
                      <a:pt x="341" y="367"/>
                    </a:lnTo>
                    <a:lnTo>
                      <a:pt x="364" y="371"/>
                    </a:lnTo>
                    <a:lnTo>
                      <a:pt x="388" y="376"/>
                    </a:lnTo>
                    <a:lnTo>
                      <a:pt x="412" y="381"/>
                    </a:lnTo>
                    <a:lnTo>
                      <a:pt x="437" y="386"/>
                    </a:lnTo>
                    <a:lnTo>
                      <a:pt x="461" y="391"/>
                    </a:lnTo>
                    <a:lnTo>
                      <a:pt x="485" y="398"/>
                    </a:lnTo>
                    <a:lnTo>
                      <a:pt x="509" y="404"/>
                    </a:lnTo>
                    <a:lnTo>
                      <a:pt x="532" y="411"/>
                    </a:lnTo>
                    <a:lnTo>
                      <a:pt x="556" y="418"/>
                    </a:lnTo>
                    <a:lnTo>
                      <a:pt x="579" y="426"/>
                    </a:lnTo>
                    <a:lnTo>
                      <a:pt x="602" y="434"/>
                    </a:lnTo>
                    <a:lnTo>
                      <a:pt x="626" y="443"/>
                    </a:lnTo>
                    <a:lnTo>
                      <a:pt x="649" y="452"/>
                    </a:lnTo>
                    <a:lnTo>
                      <a:pt x="670" y="461"/>
                    </a:lnTo>
                    <a:lnTo>
                      <a:pt x="692" y="472"/>
                    </a:lnTo>
                    <a:lnTo>
                      <a:pt x="689" y="477"/>
                    </a:lnTo>
                    <a:lnTo>
                      <a:pt x="692" y="479"/>
                    </a:lnTo>
                    <a:lnTo>
                      <a:pt x="696" y="482"/>
                    </a:lnTo>
                    <a:lnTo>
                      <a:pt x="699" y="486"/>
                    </a:lnTo>
                    <a:lnTo>
                      <a:pt x="704" y="486"/>
                    </a:lnTo>
                    <a:lnTo>
                      <a:pt x="706" y="471"/>
                    </a:lnTo>
                    <a:lnTo>
                      <a:pt x="707" y="457"/>
                    </a:lnTo>
                    <a:lnTo>
                      <a:pt x="708" y="444"/>
                    </a:lnTo>
                    <a:lnTo>
                      <a:pt x="713" y="429"/>
                    </a:lnTo>
                    <a:lnTo>
                      <a:pt x="713" y="414"/>
                    </a:lnTo>
                    <a:lnTo>
                      <a:pt x="713" y="400"/>
                    </a:lnTo>
                    <a:lnTo>
                      <a:pt x="712" y="388"/>
                    </a:lnTo>
                    <a:lnTo>
                      <a:pt x="706" y="375"/>
                    </a:lnTo>
                    <a:lnTo>
                      <a:pt x="702" y="383"/>
                    </a:lnTo>
                    <a:lnTo>
                      <a:pt x="699" y="393"/>
                    </a:lnTo>
                    <a:lnTo>
                      <a:pt x="698" y="404"/>
                    </a:lnTo>
                    <a:lnTo>
                      <a:pt x="695" y="413"/>
                    </a:lnTo>
                    <a:lnTo>
                      <a:pt x="695" y="422"/>
                    </a:lnTo>
                    <a:lnTo>
                      <a:pt x="689" y="429"/>
                    </a:lnTo>
                    <a:lnTo>
                      <a:pt x="683" y="437"/>
                    </a:lnTo>
                    <a:lnTo>
                      <a:pt x="683" y="446"/>
                    </a:lnTo>
                    <a:lnTo>
                      <a:pt x="670" y="444"/>
                    </a:lnTo>
                    <a:lnTo>
                      <a:pt x="673" y="426"/>
                    </a:lnTo>
                    <a:lnTo>
                      <a:pt x="673" y="409"/>
                    </a:lnTo>
                    <a:lnTo>
                      <a:pt x="670" y="393"/>
                    </a:lnTo>
                    <a:lnTo>
                      <a:pt x="667" y="376"/>
                    </a:lnTo>
                    <a:lnTo>
                      <a:pt x="661" y="370"/>
                    </a:lnTo>
                    <a:lnTo>
                      <a:pt x="657" y="385"/>
                    </a:lnTo>
                    <a:lnTo>
                      <a:pt x="651" y="400"/>
                    </a:lnTo>
                    <a:lnTo>
                      <a:pt x="644" y="415"/>
                    </a:lnTo>
                    <a:lnTo>
                      <a:pt x="636" y="429"/>
                    </a:lnTo>
                    <a:lnTo>
                      <a:pt x="630" y="427"/>
                    </a:lnTo>
                    <a:lnTo>
                      <a:pt x="629" y="408"/>
                    </a:lnTo>
                    <a:lnTo>
                      <a:pt x="628" y="390"/>
                    </a:lnTo>
                    <a:lnTo>
                      <a:pt x="626" y="373"/>
                    </a:lnTo>
                    <a:lnTo>
                      <a:pt x="619" y="355"/>
                    </a:lnTo>
                    <a:lnTo>
                      <a:pt x="613" y="371"/>
                    </a:lnTo>
                    <a:lnTo>
                      <a:pt x="608" y="388"/>
                    </a:lnTo>
                    <a:lnTo>
                      <a:pt x="601" y="403"/>
                    </a:lnTo>
                    <a:lnTo>
                      <a:pt x="590" y="411"/>
                    </a:lnTo>
                    <a:lnTo>
                      <a:pt x="589" y="393"/>
                    </a:lnTo>
                    <a:lnTo>
                      <a:pt x="585" y="375"/>
                    </a:lnTo>
                    <a:lnTo>
                      <a:pt x="581" y="358"/>
                    </a:lnTo>
                    <a:lnTo>
                      <a:pt x="573" y="341"/>
                    </a:lnTo>
                    <a:lnTo>
                      <a:pt x="568" y="356"/>
                    </a:lnTo>
                    <a:lnTo>
                      <a:pt x="563" y="371"/>
                    </a:lnTo>
                    <a:lnTo>
                      <a:pt x="558" y="386"/>
                    </a:lnTo>
                    <a:lnTo>
                      <a:pt x="550" y="399"/>
                    </a:lnTo>
                    <a:lnTo>
                      <a:pt x="547" y="399"/>
                    </a:lnTo>
                    <a:lnTo>
                      <a:pt x="546" y="398"/>
                    </a:lnTo>
                    <a:lnTo>
                      <a:pt x="544" y="398"/>
                    </a:lnTo>
                    <a:lnTo>
                      <a:pt x="541" y="398"/>
                    </a:lnTo>
                    <a:lnTo>
                      <a:pt x="541" y="378"/>
                    </a:lnTo>
                    <a:lnTo>
                      <a:pt x="541" y="360"/>
                    </a:lnTo>
                    <a:lnTo>
                      <a:pt x="540" y="343"/>
                    </a:lnTo>
                    <a:lnTo>
                      <a:pt x="536" y="326"/>
                    </a:lnTo>
                    <a:lnTo>
                      <a:pt x="529" y="331"/>
                    </a:lnTo>
                    <a:lnTo>
                      <a:pt x="524" y="338"/>
                    </a:lnTo>
                    <a:lnTo>
                      <a:pt x="521" y="347"/>
                    </a:lnTo>
                    <a:lnTo>
                      <a:pt x="518" y="355"/>
                    </a:lnTo>
                    <a:lnTo>
                      <a:pt x="497" y="385"/>
                    </a:lnTo>
                    <a:lnTo>
                      <a:pt x="493" y="381"/>
                    </a:lnTo>
                    <a:lnTo>
                      <a:pt x="493" y="374"/>
                    </a:lnTo>
                    <a:lnTo>
                      <a:pt x="495" y="367"/>
                    </a:lnTo>
                    <a:lnTo>
                      <a:pt x="495" y="359"/>
                    </a:lnTo>
                    <a:lnTo>
                      <a:pt x="500" y="337"/>
                    </a:lnTo>
                    <a:lnTo>
                      <a:pt x="503" y="315"/>
                    </a:lnTo>
                    <a:lnTo>
                      <a:pt x="501" y="294"/>
                    </a:lnTo>
                    <a:lnTo>
                      <a:pt x="491" y="276"/>
                    </a:lnTo>
                    <a:lnTo>
                      <a:pt x="485" y="287"/>
                    </a:lnTo>
                    <a:lnTo>
                      <a:pt x="480" y="301"/>
                    </a:lnTo>
                    <a:lnTo>
                      <a:pt x="476" y="317"/>
                    </a:lnTo>
                    <a:lnTo>
                      <a:pt x="471" y="332"/>
                    </a:lnTo>
                    <a:lnTo>
                      <a:pt x="456" y="356"/>
                    </a:lnTo>
                    <a:lnTo>
                      <a:pt x="460" y="293"/>
                    </a:lnTo>
                    <a:lnTo>
                      <a:pt x="455" y="287"/>
                    </a:lnTo>
                    <a:lnTo>
                      <a:pt x="446" y="301"/>
                    </a:lnTo>
                    <a:lnTo>
                      <a:pt x="439" y="316"/>
                    </a:lnTo>
                    <a:lnTo>
                      <a:pt x="433" y="332"/>
                    </a:lnTo>
                    <a:lnTo>
                      <a:pt x="422" y="345"/>
                    </a:lnTo>
                    <a:lnTo>
                      <a:pt x="423" y="347"/>
                    </a:lnTo>
                    <a:lnTo>
                      <a:pt x="417" y="353"/>
                    </a:lnTo>
                    <a:lnTo>
                      <a:pt x="414" y="347"/>
                    </a:lnTo>
                    <a:lnTo>
                      <a:pt x="415" y="340"/>
                    </a:lnTo>
                    <a:lnTo>
                      <a:pt x="418" y="331"/>
                    </a:lnTo>
                    <a:lnTo>
                      <a:pt x="419" y="322"/>
                    </a:lnTo>
                    <a:lnTo>
                      <a:pt x="414" y="292"/>
                    </a:lnTo>
                    <a:lnTo>
                      <a:pt x="407" y="298"/>
                    </a:lnTo>
                    <a:lnTo>
                      <a:pt x="406" y="305"/>
                    </a:lnTo>
                    <a:lnTo>
                      <a:pt x="403" y="314"/>
                    </a:lnTo>
                    <a:lnTo>
                      <a:pt x="400" y="322"/>
                    </a:lnTo>
                    <a:lnTo>
                      <a:pt x="394" y="331"/>
                    </a:lnTo>
                    <a:lnTo>
                      <a:pt x="388" y="340"/>
                    </a:lnTo>
                    <a:lnTo>
                      <a:pt x="383" y="350"/>
                    </a:lnTo>
                    <a:lnTo>
                      <a:pt x="374" y="356"/>
                    </a:lnTo>
                    <a:lnTo>
                      <a:pt x="373" y="355"/>
                    </a:lnTo>
                    <a:lnTo>
                      <a:pt x="380" y="351"/>
                    </a:lnTo>
                    <a:lnTo>
                      <a:pt x="379" y="336"/>
                    </a:lnTo>
                    <a:lnTo>
                      <a:pt x="379" y="318"/>
                    </a:lnTo>
                    <a:lnTo>
                      <a:pt x="378" y="302"/>
                    </a:lnTo>
                    <a:lnTo>
                      <a:pt x="373" y="287"/>
                    </a:lnTo>
                    <a:lnTo>
                      <a:pt x="365" y="295"/>
                    </a:lnTo>
                    <a:lnTo>
                      <a:pt x="362" y="306"/>
                    </a:lnTo>
                    <a:lnTo>
                      <a:pt x="358" y="316"/>
                    </a:lnTo>
                    <a:lnTo>
                      <a:pt x="351" y="324"/>
                    </a:lnTo>
                    <a:lnTo>
                      <a:pt x="350" y="331"/>
                    </a:lnTo>
                    <a:lnTo>
                      <a:pt x="348" y="338"/>
                    </a:lnTo>
                    <a:lnTo>
                      <a:pt x="345" y="344"/>
                    </a:lnTo>
                    <a:lnTo>
                      <a:pt x="339" y="350"/>
                    </a:lnTo>
                    <a:lnTo>
                      <a:pt x="339" y="333"/>
                    </a:lnTo>
                    <a:lnTo>
                      <a:pt x="338" y="318"/>
                    </a:lnTo>
                    <a:lnTo>
                      <a:pt x="335" y="303"/>
                    </a:lnTo>
                    <a:lnTo>
                      <a:pt x="334" y="287"/>
                    </a:lnTo>
                    <a:lnTo>
                      <a:pt x="327" y="301"/>
                    </a:lnTo>
                    <a:lnTo>
                      <a:pt x="320" y="315"/>
                    </a:lnTo>
                    <a:lnTo>
                      <a:pt x="313" y="328"/>
                    </a:lnTo>
                    <a:lnTo>
                      <a:pt x="309" y="343"/>
                    </a:lnTo>
                    <a:lnTo>
                      <a:pt x="303" y="330"/>
                    </a:lnTo>
                    <a:lnTo>
                      <a:pt x="304" y="315"/>
                    </a:lnTo>
                    <a:lnTo>
                      <a:pt x="308" y="300"/>
                    </a:lnTo>
                    <a:lnTo>
                      <a:pt x="307" y="285"/>
                    </a:lnTo>
                    <a:lnTo>
                      <a:pt x="303" y="282"/>
                    </a:lnTo>
                    <a:lnTo>
                      <a:pt x="295" y="290"/>
                    </a:lnTo>
                    <a:lnTo>
                      <a:pt x="292" y="302"/>
                    </a:lnTo>
                    <a:lnTo>
                      <a:pt x="288" y="314"/>
                    </a:lnTo>
                    <a:lnTo>
                      <a:pt x="278" y="321"/>
                    </a:lnTo>
                    <a:lnTo>
                      <a:pt x="280" y="322"/>
                    </a:lnTo>
                    <a:lnTo>
                      <a:pt x="272" y="332"/>
                    </a:lnTo>
                    <a:lnTo>
                      <a:pt x="273" y="310"/>
                    </a:lnTo>
                    <a:lnTo>
                      <a:pt x="277" y="290"/>
                    </a:lnTo>
                    <a:lnTo>
                      <a:pt x="279" y="270"/>
                    </a:lnTo>
                    <a:lnTo>
                      <a:pt x="280" y="248"/>
                    </a:lnTo>
                    <a:lnTo>
                      <a:pt x="278" y="247"/>
                    </a:lnTo>
                    <a:lnTo>
                      <a:pt x="275" y="245"/>
                    </a:lnTo>
                    <a:lnTo>
                      <a:pt x="273" y="245"/>
                    </a:lnTo>
                    <a:lnTo>
                      <a:pt x="271" y="245"/>
                    </a:lnTo>
                    <a:lnTo>
                      <a:pt x="266" y="253"/>
                    </a:lnTo>
                    <a:lnTo>
                      <a:pt x="263" y="262"/>
                    </a:lnTo>
                    <a:lnTo>
                      <a:pt x="259" y="271"/>
                    </a:lnTo>
                    <a:lnTo>
                      <a:pt x="256" y="279"/>
                    </a:lnTo>
                    <a:lnTo>
                      <a:pt x="252" y="288"/>
                    </a:lnTo>
                    <a:lnTo>
                      <a:pt x="248" y="296"/>
                    </a:lnTo>
                    <a:lnTo>
                      <a:pt x="242" y="303"/>
                    </a:lnTo>
                    <a:lnTo>
                      <a:pt x="235" y="310"/>
                    </a:lnTo>
                    <a:lnTo>
                      <a:pt x="240" y="293"/>
                    </a:lnTo>
                    <a:lnTo>
                      <a:pt x="242" y="275"/>
                    </a:lnTo>
                    <a:lnTo>
                      <a:pt x="243" y="257"/>
                    </a:lnTo>
                    <a:lnTo>
                      <a:pt x="242" y="239"/>
                    </a:lnTo>
                    <a:lnTo>
                      <a:pt x="235" y="234"/>
                    </a:lnTo>
                    <a:lnTo>
                      <a:pt x="229" y="254"/>
                    </a:lnTo>
                    <a:lnTo>
                      <a:pt x="224" y="272"/>
                    </a:lnTo>
                    <a:lnTo>
                      <a:pt x="216" y="291"/>
                    </a:lnTo>
                    <a:lnTo>
                      <a:pt x="206" y="308"/>
                    </a:lnTo>
                    <a:lnTo>
                      <a:pt x="199" y="308"/>
                    </a:lnTo>
                    <a:lnTo>
                      <a:pt x="203" y="291"/>
                    </a:lnTo>
                    <a:lnTo>
                      <a:pt x="205" y="271"/>
                    </a:lnTo>
                    <a:lnTo>
                      <a:pt x="206" y="252"/>
                    </a:lnTo>
                    <a:lnTo>
                      <a:pt x="204" y="233"/>
                    </a:lnTo>
                    <a:lnTo>
                      <a:pt x="196" y="237"/>
                    </a:lnTo>
                    <a:lnTo>
                      <a:pt x="191" y="243"/>
                    </a:lnTo>
                    <a:lnTo>
                      <a:pt x="188" y="253"/>
                    </a:lnTo>
                    <a:lnTo>
                      <a:pt x="186" y="262"/>
                    </a:lnTo>
                    <a:lnTo>
                      <a:pt x="184" y="267"/>
                    </a:lnTo>
                    <a:lnTo>
                      <a:pt x="183" y="272"/>
                    </a:lnTo>
                    <a:lnTo>
                      <a:pt x="181" y="277"/>
                    </a:lnTo>
                    <a:lnTo>
                      <a:pt x="175" y="278"/>
                    </a:lnTo>
                    <a:lnTo>
                      <a:pt x="174" y="283"/>
                    </a:lnTo>
                    <a:lnTo>
                      <a:pt x="173" y="288"/>
                    </a:lnTo>
                    <a:lnTo>
                      <a:pt x="171" y="294"/>
                    </a:lnTo>
                    <a:lnTo>
                      <a:pt x="167" y="299"/>
                    </a:lnTo>
                    <a:lnTo>
                      <a:pt x="167" y="245"/>
                    </a:lnTo>
                    <a:lnTo>
                      <a:pt x="165" y="242"/>
                    </a:lnTo>
                    <a:lnTo>
                      <a:pt x="163" y="241"/>
                    </a:lnTo>
                    <a:lnTo>
                      <a:pt x="159" y="242"/>
                    </a:lnTo>
                    <a:lnTo>
                      <a:pt x="156" y="242"/>
                    </a:lnTo>
                    <a:lnTo>
                      <a:pt x="149" y="255"/>
                    </a:lnTo>
                    <a:lnTo>
                      <a:pt x="143" y="270"/>
                    </a:lnTo>
                    <a:lnTo>
                      <a:pt x="137" y="284"/>
                    </a:lnTo>
                    <a:lnTo>
                      <a:pt x="127" y="292"/>
                    </a:lnTo>
                    <a:lnTo>
                      <a:pt x="125" y="278"/>
                    </a:lnTo>
                    <a:lnTo>
                      <a:pt x="128" y="264"/>
                    </a:lnTo>
                    <a:lnTo>
                      <a:pt x="128" y="253"/>
                    </a:lnTo>
                    <a:lnTo>
                      <a:pt x="115" y="248"/>
                    </a:lnTo>
                    <a:lnTo>
                      <a:pt x="108" y="260"/>
                    </a:lnTo>
                    <a:lnTo>
                      <a:pt x="105" y="272"/>
                    </a:lnTo>
                    <a:lnTo>
                      <a:pt x="99" y="283"/>
                    </a:lnTo>
                    <a:lnTo>
                      <a:pt x="87" y="284"/>
                    </a:lnTo>
                    <a:lnTo>
                      <a:pt x="88" y="275"/>
                    </a:lnTo>
                    <a:lnTo>
                      <a:pt x="90" y="264"/>
                    </a:lnTo>
                    <a:lnTo>
                      <a:pt x="92" y="254"/>
                    </a:lnTo>
                    <a:lnTo>
                      <a:pt x="90" y="245"/>
                    </a:lnTo>
                    <a:lnTo>
                      <a:pt x="83" y="249"/>
                    </a:lnTo>
                    <a:lnTo>
                      <a:pt x="79" y="256"/>
                    </a:lnTo>
                    <a:lnTo>
                      <a:pt x="75" y="263"/>
                    </a:lnTo>
                    <a:lnTo>
                      <a:pt x="73" y="270"/>
                    </a:lnTo>
                    <a:lnTo>
                      <a:pt x="69" y="276"/>
                    </a:lnTo>
                    <a:lnTo>
                      <a:pt x="64" y="280"/>
                    </a:lnTo>
                    <a:lnTo>
                      <a:pt x="54" y="283"/>
                    </a:lnTo>
                    <a:lnTo>
                      <a:pt x="42" y="282"/>
                    </a:lnTo>
                    <a:lnTo>
                      <a:pt x="39" y="268"/>
                    </a:lnTo>
                    <a:lnTo>
                      <a:pt x="42" y="255"/>
                    </a:lnTo>
                    <a:lnTo>
                      <a:pt x="45" y="242"/>
                    </a:lnTo>
                    <a:lnTo>
                      <a:pt x="51" y="231"/>
                    </a:lnTo>
                    <a:lnTo>
                      <a:pt x="66" y="217"/>
                    </a:lnTo>
                    <a:lnTo>
                      <a:pt x="84" y="208"/>
                    </a:lnTo>
                    <a:lnTo>
                      <a:pt x="103" y="202"/>
                    </a:lnTo>
                    <a:lnTo>
                      <a:pt x="123" y="200"/>
                    </a:lnTo>
                    <a:lnTo>
                      <a:pt x="143" y="201"/>
                    </a:lnTo>
                    <a:lnTo>
                      <a:pt x="164" y="203"/>
                    </a:lnTo>
                    <a:lnTo>
                      <a:pt x="184" y="208"/>
                    </a:lnTo>
                    <a:lnTo>
                      <a:pt x="203" y="211"/>
                    </a:lnTo>
                    <a:lnTo>
                      <a:pt x="218" y="211"/>
                    </a:lnTo>
                    <a:lnTo>
                      <a:pt x="233" y="214"/>
                    </a:lnTo>
                    <a:lnTo>
                      <a:pt x="249" y="217"/>
                    </a:lnTo>
                    <a:lnTo>
                      <a:pt x="264" y="220"/>
                    </a:lnTo>
                    <a:lnTo>
                      <a:pt x="280" y="225"/>
                    </a:lnTo>
                    <a:lnTo>
                      <a:pt x="295" y="228"/>
                    </a:lnTo>
                    <a:lnTo>
                      <a:pt x="311" y="232"/>
                    </a:lnTo>
                    <a:lnTo>
                      <a:pt x="326" y="234"/>
                    </a:lnTo>
                    <a:lnTo>
                      <a:pt x="342" y="238"/>
                    </a:lnTo>
                    <a:lnTo>
                      <a:pt x="358" y="241"/>
                    </a:lnTo>
                    <a:lnTo>
                      <a:pt x="374" y="243"/>
                    </a:lnTo>
                    <a:lnTo>
                      <a:pt x="391" y="247"/>
                    </a:lnTo>
                    <a:lnTo>
                      <a:pt x="407" y="249"/>
                    </a:lnTo>
                    <a:lnTo>
                      <a:pt x="424" y="252"/>
                    </a:lnTo>
                    <a:lnTo>
                      <a:pt x="440" y="255"/>
                    </a:lnTo>
                    <a:lnTo>
                      <a:pt x="457" y="257"/>
                    </a:lnTo>
                    <a:lnTo>
                      <a:pt x="474" y="260"/>
                    </a:lnTo>
                    <a:lnTo>
                      <a:pt x="490" y="262"/>
                    </a:lnTo>
                    <a:lnTo>
                      <a:pt x="507" y="264"/>
                    </a:lnTo>
                    <a:lnTo>
                      <a:pt x="523" y="268"/>
                    </a:lnTo>
                    <a:lnTo>
                      <a:pt x="539" y="271"/>
                    </a:lnTo>
                    <a:lnTo>
                      <a:pt x="555" y="273"/>
                    </a:lnTo>
                    <a:lnTo>
                      <a:pt x="571" y="278"/>
                    </a:lnTo>
                    <a:lnTo>
                      <a:pt x="588" y="282"/>
                    </a:lnTo>
                    <a:lnTo>
                      <a:pt x="600" y="283"/>
                    </a:lnTo>
                    <a:lnTo>
                      <a:pt x="612" y="285"/>
                    </a:lnTo>
                    <a:lnTo>
                      <a:pt x="623" y="288"/>
                    </a:lnTo>
                    <a:lnTo>
                      <a:pt x="634" y="291"/>
                    </a:lnTo>
                    <a:lnTo>
                      <a:pt x="644" y="294"/>
                    </a:lnTo>
                    <a:lnTo>
                      <a:pt x="655" y="296"/>
                    </a:lnTo>
                    <a:lnTo>
                      <a:pt x="667" y="299"/>
                    </a:lnTo>
                    <a:lnTo>
                      <a:pt x="678" y="301"/>
                    </a:lnTo>
                    <a:lnTo>
                      <a:pt x="681" y="299"/>
                    </a:lnTo>
                    <a:lnTo>
                      <a:pt x="687" y="307"/>
                    </a:lnTo>
                    <a:lnTo>
                      <a:pt x="691" y="317"/>
                    </a:lnTo>
                    <a:lnTo>
                      <a:pt x="697" y="324"/>
                    </a:lnTo>
                    <a:lnTo>
                      <a:pt x="706" y="322"/>
                    </a:lnTo>
                    <a:lnTo>
                      <a:pt x="703" y="300"/>
                    </a:lnTo>
                    <a:lnTo>
                      <a:pt x="708" y="278"/>
                    </a:lnTo>
                    <a:lnTo>
                      <a:pt x="716" y="256"/>
                    </a:lnTo>
                    <a:lnTo>
                      <a:pt x="723" y="234"/>
                    </a:lnTo>
                    <a:lnTo>
                      <a:pt x="733" y="222"/>
                    </a:lnTo>
                    <a:lnTo>
                      <a:pt x="736" y="207"/>
                    </a:lnTo>
                    <a:lnTo>
                      <a:pt x="740" y="190"/>
                    </a:lnTo>
                    <a:lnTo>
                      <a:pt x="748" y="175"/>
                    </a:lnTo>
                    <a:lnTo>
                      <a:pt x="749" y="172"/>
                    </a:lnTo>
                    <a:lnTo>
                      <a:pt x="748" y="170"/>
                    </a:lnTo>
                    <a:lnTo>
                      <a:pt x="745" y="169"/>
                    </a:lnTo>
                    <a:lnTo>
                      <a:pt x="743" y="167"/>
                    </a:lnTo>
                    <a:lnTo>
                      <a:pt x="735" y="177"/>
                    </a:lnTo>
                    <a:lnTo>
                      <a:pt x="728" y="189"/>
                    </a:lnTo>
                    <a:lnTo>
                      <a:pt x="720" y="203"/>
                    </a:lnTo>
                    <a:lnTo>
                      <a:pt x="710" y="214"/>
                    </a:lnTo>
                    <a:lnTo>
                      <a:pt x="705" y="223"/>
                    </a:lnTo>
                    <a:lnTo>
                      <a:pt x="700" y="232"/>
                    </a:lnTo>
                    <a:lnTo>
                      <a:pt x="697" y="241"/>
                    </a:lnTo>
                    <a:lnTo>
                      <a:pt x="692" y="250"/>
                    </a:lnTo>
                    <a:lnTo>
                      <a:pt x="689" y="258"/>
                    </a:lnTo>
                    <a:lnTo>
                      <a:pt x="683" y="267"/>
                    </a:lnTo>
                    <a:lnTo>
                      <a:pt x="677" y="275"/>
                    </a:lnTo>
                    <a:lnTo>
                      <a:pt x="670" y="282"/>
                    </a:lnTo>
                    <a:lnTo>
                      <a:pt x="675" y="261"/>
                    </a:lnTo>
                    <a:lnTo>
                      <a:pt x="677" y="239"/>
                    </a:lnTo>
                    <a:lnTo>
                      <a:pt x="677" y="218"/>
                    </a:lnTo>
                    <a:lnTo>
                      <a:pt x="673" y="197"/>
                    </a:lnTo>
                    <a:lnTo>
                      <a:pt x="670" y="197"/>
                    </a:lnTo>
                    <a:lnTo>
                      <a:pt x="668" y="208"/>
                    </a:lnTo>
                    <a:lnTo>
                      <a:pt x="666" y="218"/>
                    </a:lnTo>
                    <a:lnTo>
                      <a:pt x="661" y="228"/>
                    </a:lnTo>
                    <a:lnTo>
                      <a:pt x="657" y="238"/>
                    </a:lnTo>
                    <a:lnTo>
                      <a:pt x="652" y="247"/>
                    </a:lnTo>
                    <a:lnTo>
                      <a:pt x="646" y="255"/>
                    </a:lnTo>
                    <a:lnTo>
                      <a:pt x="640" y="264"/>
                    </a:lnTo>
                    <a:lnTo>
                      <a:pt x="635" y="272"/>
                    </a:lnTo>
                    <a:lnTo>
                      <a:pt x="634" y="253"/>
                    </a:lnTo>
                    <a:lnTo>
                      <a:pt x="636" y="231"/>
                    </a:lnTo>
                    <a:lnTo>
                      <a:pt x="636" y="210"/>
                    </a:lnTo>
                    <a:lnTo>
                      <a:pt x="629" y="194"/>
                    </a:lnTo>
                    <a:lnTo>
                      <a:pt x="623" y="203"/>
                    </a:lnTo>
                    <a:lnTo>
                      <a:pt x="620" y="212"/>
                    </a:lnTo>
                    <a:lnTo>
                      <a:pt x="617" y="223"/>
                    </a:lnTo>
                    <a:lnTo>
                      <a:pt x="613" y="233"/>
                    </a:lnTo>
                    <a:lnTo>
                      <a:pt x="608" y="240"/>
                    </a:lnTo>
                    <a:lnTo>
                      <a:pt x="605" y="246"/>
                    </a:lnTo>
                    <a:lnTo>
                      <a:pt x="599" y="253"/>
                    </a:lnTo>
                    <a:lnTo>
                      <a:pt x="593" y="258"/>
                    </a:lnTo>
                    <a:lnTo>
                      <a:pt x="591" y="245"/>
                    </a:lnTo>
                    <a:lnTo>
                      <a:pt x="594" y="231"/>
                    </a:lnTo>
                    <a:lnTo>
                      <a:pt x="596" y="218"/>
                    </a:lnTo>
                    <a:lnTo>
                      <a:pt x="584" y="210"/>
                    </a:lnTo>
                    <a:lnTo>
                      <a:pt x="577" y="223"/>
                    </a:lnTo>
                    <a:lnTo>
                      <a:pt x="570" y="234"/>
                    </a:lnTo>
                    <a:lnTo>
                      <a:pt x="563" y="247"/>
                    </a:lnTo>
                    <a:lnTo>
                      <a:pt x="556" y="258"/>
                    </a:lnTo>
                    <a:lnTo>
                      <a:pt x="553" y="258"/>
                    </a:lnTo>
                    <a:lnTo>
                      <a:pt x="554" y="234"/>
                    </a:lnTo>
                    <a:lnTo>
                      <a:pt x="558" y="207"/>
                    </a:lnTo>
                    <a:lnTo>
                      <a:pt x="560" y="179"/>
                    </a:lnTo>
                    <a:lnTo>
                      <a:pt x="564" y="154"/>
                    </a:lnTo>
                    <a:lnTo>
                      <a:pt x="563" y="152"/>
                    </a:lnTo>
                    <a:lnTo>
                      <a:pt x="562" y="151"/>
                    </a:lnTo>
                    <a:lnTo>
                      <a:pt x="560" y="151"/>
                    </a:lnTo>
                    <a:lnTo>
                      <a:pt x="559" y="151"/>
                    </a:lnTo>
                    <a:lnTo>
                      <a:pt x="553" y="162"/>
                    </a:lnTo>
                    <a:lnTo>
                      <a:pt x="548" y="172"/>
                    </a:lnTo>
                    <a:lnTo>
                      <a:pt x="543" y="182"/>
                    </a:lnTo>
                    <a:lnTo>
                      <a:pt x="538" y="194"/>
                    </a:lnTo>
                    <a:lnTo>
                      <a:pt x="532" y="204"/>
                    </a:lnTo>
                    <a:lnTo>
                      <a:pt x="526" y="215"/>
                    </a:lnTo>
                    <a:lnTo>
                      <a:pt x="520" y="224"/>
                    </a:lnTo>
                    <a:lnTo>
                      <a:pt x="513" y="233"/>
                    </a:lnTo>
                    <a:lnTo>
                      <a:pt x="512" y="237"/>
                    </a:lnTo>
                    <a:lnTo>
                      <a:pt x="512" y="240"/>
                    </a:lnTo>
                    <a:lnTo>
                      <a:pt x="509" y="243"/>
                    </a:lnTo>
                    <a:lnTo>
                      <a:pt x="506" y="245"/>
                    </a:lnTo>
                    <a:lnTo>
                      <a:pt x="506" y="227"/>
                    </a:lnTo>
                    <a:lnTo>
                      <a:pt x="507" y="210"/>
                    </a:lnTo>
                    <a:lnTo>
                      <a:pt x="510" y="190"/>
                    </a:lnTo>
                    <a:lnTo>
                      <a:pt x="514" y="169"/>
                    </a:lnTo>
                    <a:lnTo>
                      <a:pt x="514" y="166"/>
                    </a:lnTo>
                    <a:lnTo>
                      <a:pt x="515" y="164"/>
                    </a:lnTo>
                    <a:lnTo>
                      <a:pt x="514" y="162"/>
                    </a:lnTo>
                    <a:lnTo>
                      <a:pt x="513" y="159"/>
                    </a:lnTo>
                    <a:lnTo>
                      <a:pt x="505" y="164"/>
                    </a:lnTo>
                    <a:lnTo>
                      <a:pt x="502" y="173"/>
                    </a:lnTo>
                    <a:lnTo>
                      <a:pt x="500" y="184"/>
                    </a:lnTo>
                    <a:lnTo>
                      <a:pt x="493" y="190"/>
                    </a:lnTo>
                    <a:lnTo>
                      <a:pt x="493" y="197"/>
                    </a:lnTo>
                    <a:lnTo>
                      <a:pt x="491" y="204"/>
                    </a:lnTo>
                    <a:lnTo>
                      <a:pt x="487" y="212"/>
                    </a:lnTo>
                    <a:lnTo>
                      <a:pt x="484" y="220"/>
                    </a:lnTo>
                    <a:lnTo>
                      <a:pt x="482" y="230"/>
                    </a:lnTo>
                    <a:lnTo>
                      <a:pt x="471" y="242"/>
                    </a:lnTo>
                    <a:lnTo>
                      <a:pt x="470" y="196"/>
                    </a:lnTo>
                    <a:lnTo>
                      <a:pt x="471" y="196"/>
                    </a:lnTo>
                    <a:lnTo>
                      <a:pt x="474" y="195"/>
                    </a:lnTo>
                    <a:lnTo>
                      <a:pt x="475" y="194"/>
                    </a:lnTo>
                    <a:lnTo>
                      <a:pt x="476" y="192"/>
                    </a:lnTo>
                    <a:lnTo>
                      <a:pt x="472" y="189"/>
                    </a:lnTo>
                    <a:lnTo>
                      <a:pt x="470" y="186"/>
                    </a:lnTo>
                    <a:lnTo>
                      <a:pt x="468" y="184"/>
                    </a:lnTo>
                    <a:lnTo>
                      <a:pt x="464" y="182"/>
                    </a:lnTo>
                    <a:lnTo>
                      <a:pt x="459" y="199"/>
                    </a:lnTo>
                    <a:lnTo>
                      <a:pt x="453" y="215"/>
                    </a:lnTo>
                    <a:lnTo>
                      <a:pt x="446" y="228"/>
                    </a:lnTo>
                    <a:lnTo>
                      <a:pt x="433" y="239"/>
                    </a:lnTo>
                    <a:lnTo>
                      <a:pt x="433" y="202"/>
                    </a:lnTo>
                    <a:lnTo>
                      <a:pt x="436" y="202"/>
                    </a:lnTo>
                    <a:lnTo>
                      <a:pt x="436" y="200"/>
                    </a:lnTo>
                    <a:lnTo>
                      <a:pt x="434" y="196"/>
                    </a:lnTo>
                    <a:lnTo>
                      <a:pt x="432" y="194"/>
                    </a:lnTo>
                    <a:lnTo>
                      <a:pt x="431" y="190"/>
                    </a:lnTo>
                    <a:lnTo>
                      <a:pt x="424" y="197"/>
                    </a:lnTo>
                    <a:lnTo>
                      <a:pt x="419" y="208"/>
                    </a:lnTo>
                    <a:lnTo>
                      <a:pt x="415" y="219"/>
                    </a:lnTo>
                    <a:lnTo>
                      <a:pt x="409" y="230"/>
                    </a:lnTo>
                    <a:lnTo>
                      <a:pt x="409" y="233"/>
                    </a:lnTo>
                    <a:lnTo>
                      <a:pt x="407" y="234"/>
                    </a:lnTo>
                    <a:lnTo>
                      <a:pt x="403" y="237"/>
                    </a:lnTo>
                    <a:lnTo>
                      <a:pt x="400" y="237"/>
                    </a:lnTo>
                    <a:lnTo>
                      <a:pt x="398" y="223"/>
                    </a:lnTo>
                    <a:lnTo>
                      <a:pt x="398" y="209"/>
                    </a:lnTo>
                    <a:lnTo>
                      <a:pt x="399" y="196"/>
                    </a:lnTo>
                    <a:lnTo>
                      <a:pt x="400" y="182"/>
                    </a:lnTo>
                    <a:lnTo>
                      <a:pt x="400" y="171"/>
                    </a:lnTo>
                    <a:lnTo>
                      <a:pt x="399" y="158"/>
                    </a:lnTo>
                    <a:lnTo>
                      <a:pt x="393" y="148"/>
                    </a:lnTo>
                    <a:lnTo>
                      <a:pt x="383" y="136"/>
                    </a:lnTo>
                    <a:lnTo>
                      <a:pt x="377" y="142"/>
                    </a:lnTo>
                    <a:lnTo>
                      <a:pt x="378" y="160"/>
                    </a:lnTo>
                    <a:lnTo>
                      <a:pt x="378" y="181"/>
                    </a:lnTo>
                    <a:lnTo>
                      <a:pt x="373" y="201"/>
                    </a:lnTo>
                    <a:lnTo>
                      <a:pt x="361" y="216"/>
                    </a:lnTo>
                    <a:lnTo>
                      <a:pt x="361" y="200"/>
                    </a:lnTo>
                    <a:lnTo>
                      <a:pt x="362" y="181"/>
                    </a:lnTo>
                    <a:lnTo>
                      <a:pt x="361" y="164"/>
                    </a:lnTo>
                    <a:lnTo>
                      <a:pt x="354" y="148"/>
                    </a:lnTo>
                    <a:lnTo>
                      <a:pt x="348" y="157"/>
                    </a:lnTo>
                    <a:lnTo>
                      <a:pt x="345" y="169"/>
                    </a:lnTo>
                    <a:lnTo>
                      <a:pt x="341" y="181"/>
                    </a:lnTo>
                    <a:lnTo>
                      <a:pt x="339" y="192"/>
                    </a:lnTo>
                    <a:lnTo>
                      <a:pt x="334" y="197"/>
                    </a:lnTo>
                    <a:lnTo>
                      <a:pt x="330" y="203"/>
                    </a:lnTo>
                    <a:lnTo>
                      <a:pt x="326" y="208"/>
                    </a:lnTo>
                    <a:lnTo>
                      <a:pt x="320" y="211"/>
                    </a:lnTo>
                    <a:lnTo>
                      <a:pt x="319" y="199"/>
                    </a:lnTo>
                    <a:lnTo>
                      <a:pt x="319" y="187"/>
                    </a:lnTo>
                    <a:lnTo>
                      <a:pt x="318" y="174"/>
                    </a:lnTo>
                    <a:lnTo>
                      <a:pt x="315" y="163"/>
                    </a:lnTo>
                    <a:lnTo>
                      <a:pt x="309" y="173"/>
                    </a:lnTo>
                    <a:lnTo>
                      <a:pt x="303" y="185"/>
                    </a:lnTo>
                    <a:lnTo>
                      <a:pt x="297" y="195"/>
                    </a:lnTo>
                    <a:lnTo>
                      <a:pt x="290" y="204"/>
                    </a:lnTo>
                    <a:lnTo>
                      <a:pt x="288" y="194"/>
                    </a:lnTo>
                    <a:lnTo>
                      <a:pt x="287" y="182"/>
                    </a:lnTo>
                    <a:lnTo>
                      <a:pt x="285" y="172"/>
                    </a:lnTo>
                    <a:lnTo>
                      <a:pt x="280" y="163"/>
                    </a:lnTo>
                    <a:lnTo>
                      <a:pt x="273" y="174"/>
                    </a:lnTo>
                    <a:lnTo>
                      <a:pt x="267" y="186"/>
                    </a:lnTo>
                    <a:lnTo>
                      <a:pt x="260" y="197"/>
                    </a:lnTo>
                    <a:lnTo>
                      <a:pt x="252" y="205"/>
                    </a:lnTo>
                    <a:lnTo>
                      <a:pt x="254" y="193"/>
                    </a:lnTo>
                    <a:lnTo>
                      <a:pt x="251" y="181"/>
                    </a:lnTo>
                    <a:lnTo>
                      <a:pt x="248" y="171"/>
                    </a:lnTo>
                    <a:lnTo>
                      <a:pt x="242" y="162"/>
                    </a:lnTo>
                    <a:lnTo>
                      <a:pt x="235" y="170"/>
                    </a:lnTo>
                    <a:lnTo>
                      <a:pt x="232" y="179"/>
                    </a:lnTo>
                    <a:lnTo>
                      <a:pt x="228" y="188"/>
                    </a:lnTo>
                    <a:lnTo>
                      <a:pt x="220" y="194"/>
                    </a:lnTo>
                    <a:lnTo>
                      <a:pt x="219" y="186"/>
                    </a:lnTo>
                    <a:lnTo>
                      <a:pt x="218" y="175"/>
                    </a:lnTo>
                    <a:lnTo>
                      <a:pt x="219" y="166"/>
                    </a:lnTo>
                    <a:lnTo>
                      <a:pt x="224" y="157"/>
                    </a:lnTo>
                    <a:lnTo>
                      <a:pt x="224" y="158"/>
                    </a:lnTo>
                    <a:lnTo>
                      <a:pt x="225" y="159"/>
                    </a:lnTo>
                    <a:lnTo>
                      <a:pt x="225" y="160"/>
                    </a:lnTo>
                    <a:lnTo>
                      <a:pt x="226" y="162"/>
                    </a:lnTo>
                    <a:lnTo>
                      <a:pt x="229" y="158"/>
                    </a:lnTo>
                    <a:lnTo>
                      <a:pt x="231" y="154"/>
                    </a:lnTo>
                    <a:lnTo>
                      <a:pt x="231" y="149"/>
                    </a:lnTo>
                    <a:lnTo>
                      <a:pt x="232" y="146"/>
                    </a:lnTo>
                    <a:lnTo>
                      <a:pt x="237" y="142"/>
                    </a:lnTo>
                    <a:lnTo>
                      <a:pt x="243" y="140"/>
                    </a:lnTo>
                    <a:lnTo>
                      <a:pt x="249" y="136"/>
                    </a:lnTo>
                    <a:lnTo>
                      <a:pt x="255" y="134"/>
                    </a:lnTo>
                    <a:lnTo>
                      <a:pt x="260" y="131"/>
                    </a:lnTo>
                    <a:lnTo>
                      <a:pt x="267" y="128"/>
                    </a:lnTo>
                    <a:lnTo>
                      <a:pt x="273" y="125"/>
                    </a:lnTo>
                    <a:lnTo>
                      <a:pt x="280" y="122"/>
                    </a:lnTo>
                    <a:lnTo>
                      <a:pt x="301" y="121"/>
                    </a:lnTo>
                    <a:lnTo>
                      <a:pt x="323" y="120"/>
                    </a:lnTo>
                    <a:lnTo>
                      <a:pt x="343" y="119"/>
                    </a:lnTo>
                    <a:lnTo>
                      <a:pt x="364" y="119"/>
                    </a:lnTo>
                    <a:lnTo>
                      <a:pt x="386" y="118"/>
                    </a:lnTo>
                    <a:lnTo>
                      <a:pt x="407" y="118"/>
                    </a:lnTo>
                    <a:lnTo>
                      <a:pt x="429" y="119"/>
                    </a:lnTo>
                    <a:lnTo>
                      <a:pt x="450" y="119"/>
                    </a:lnTo>
                    <a:lnTo>
                      <a:pt x="471" y="119"/>
                    </a:lnTo>
                    <a:lnTo>
                      <a:pt x="493" y="120"/>
                    </a:lnTo>
                    <a:lnTo>
                      <a:pt x="515" y="120"/>
                    </a:lnTo>
                    <a:lnTo>
                      <a:pt x="537" y="121"/>
                    </a:lnTo>
                    <a:lnTo>
                      <a:pt x="559" y="121"/>
                    </a:lnTo>
                    <a:lnTo>
                      <a:pt x="581" y="122"/>
                    </a:lnTo>
                    <a:lnTo>
                      <a:pt x="602" y="122"/>
                    </a:lnTo>
                    <a:lnTo>
                      <a:pt x="624" y="122"/>
                    </a:lnTo>
                    <a:lnTo>
                      <a:pt x="644" y="126"/>
                    </a:lnTo>
                    <a:lnTo>
                      <a:pt x="662" y="128"/>
                    </a:lnTo>
                    <a:lnTo>
                      <a:pt x="682" y="132"/>
                    </a:lnTo>
                    <a:lnTo>
                      <a:pt x="702" y="134"/>
                    </a:lnTo>
                    <a:lnTo>
                      <a:pt x="721" y="136"/>
                    </a:lnTo>
                    <a:lnTo>
                      <a:pt x="741" y="139"/>
                    </a:lnTo>
                    <a:lnTo>
                      <a:pt x="761" y="141"/>
                    </a:lnTo>
                    <a:lnTo>
                      <a:pt x="781" y="142"/>
                    </a:lnTo>
                    <a:lnTo>
                      <a:pt x="801" y="143"/>
                    </a:lnTo>
                    <a:lnTo>
                      <a:pt x="820" y="146"/>
                    </a:lnTo>
                    <a:lnTo>
                      <a:pt x="841" y="147"/>
                    </a:lnTo>
                    <a:lnTo>
                      <a:pt x="860" y="148"/>
                    </a:lnTo>
                    <a:lnTo>
                      <a:pt x="880" y="148"/>
                    </a:lnTo>
                    <a:lnTo>
                      <a:pt x="900" y="149"/>
                    </a:lnTo>
                    <a:lnTo>
                      <a:pt x="919" y="149"/>
                    </a:lnTo>
                    <a:lnTo>
                      <a:pt x="939" y="149"/>
                    </a:lnTo>
                    <a:lnTo>
                      <a:pt x="938" y="151"/>
                    </a:lnTo>
                    <a:lnTo>
                      <a:pt x="936" y="155"/>
                    </a:lnTo>
                    <a:lnTo>
                      <a:pt x="936" y="158"/>
                    </a:lnTo>
                    <a:lnTo>
                      <a:pt x="936" y="162"/>
                    </a:lnTo>
                    <a:lnTo>
                      <a:pt x="940" y="165"/>
                    </a:lnTo>
                    <a:lnTo>
                      <a:pt x="947" y="158"/>
                    </a:lnTo>
                    <a:lnTo>
                      <a:pt x="955" y="151"/>
                    </a:lnTo>
                    <a:lnTo>
                      <a:pt x="963" y="148"/>
                    </a:lnTo>
                    <a:lnTo>
                      <a:pt x="973" y="148"/>
                    </a:lnTo>
                    <a:lnTo>
                      <a:pt x="972" y="155"/>
                    </a:lnTo>
                    <a:lnTo>
                      <a:pt x="969" y="164"/>
                    </a:lnTo>
                    <a:lnTo>
                      <a:pt x="968" y="172"/>
                    </a:lnTo>
                    <a:lnTo>
                      <a:pt x="971" y="181"/>
                    </a:lnTo>
                    <a:lnTo>
                      <a:pt x="977" y="177"/>
                    </a:lnTo>
                    <a:lnTo>
                      <a:pt x="981" y="170"/>
                    </a:lnTo>
                    <a:lnTo>
                      <a:pt x="986" y="162"/>
                    </a:lnTo>
                    <a:lnTo>
                      <a:pt x="991" y="155"/>
                    </a:lnTo>
                    <a:lnTo>
                      <a:pt x="996" y="148"/>
                    </a:lnTo>
                    <a:lnTo>
                      <a:pt x="1003" y="142"/>
                    </a:lnTo>
                    <a:lnTo>
                      <a:pt x="1011" y="140"/>
                    </a:lnTo>
                    <a:lnTo>
                      <a:pt x="1022" y="140"/>
                    </a:lnTo>
                    <a:lnTo>
                      <a:pt x="1025" y="140"/>
                    </a:lnTo>
                    <a:lnTo>
                      <a:pt x="1021" y="152"/>
                    </a:lnTo>
                    <a:lnTo>
                      <a:pt x="1015" y="165"/>
                    </a:lnTo>
                    <a:lnTo>
                      <a:pt x="1011" y="178"/>
                    </a:lnTo>
                    <a:lnTo>
                      <a:pt x="1014" y="190"/>
                    </a:lnTo>
                    <a:lnTo>
                      <a:pt x="1022" y="184"/>
                    </a:lnTo>
                    <a:lnTo>
                      <a:pt x="1027" y="173"/>
                    </a:lnTo>
                    <a:lnTo>
                      <a:pt x="1031" y="163"/>
                    </a:lnTo>
                    <a:lnTo>
                      <a:pt x="1035" y="151"/>
                    </a:lnTo>
                    <a:lnTo>
                      <a:pt x="1046" y="146"/>
                    </a:lnTo>
                    <a:lnTo>
                      <a:pt x="1052" y="139"/>
                    </a:lnTo>
                    <a:lnTo>
                      <a:pt x="1059" y="132"/>
                    </a:lnTo>
                    <a:lnTo>
                      <a:pt x="1069" y="128"/>
                    </a:lnTo>
                    <a:lnTo>
                      <a:pt x="1065" y="141"/>
                    </a:lnTo>
                    <a:lnTo>
                      <a:pt x="1063" y="155"/>
                    </a:lnTo>
                    <a:lnTo>
                      <a:pt x="1060" y="169"/>
                    </a:lnTo>
                    <a:lnTo>
                      <a:pt x="1055" y="181"/>
                    </a:lnTo>
                    <a:lnTo>
                      <a:pt x="1056" y="185"/>
                    </a:lnTo>
                    <a:lnTo>
                      <a:pt x="1057" y="187"/>
                    </a:lnTo>
                    <a:lnTo>
                      <a:pt x="1059" y="190"/>
                    </a:lnTo>
                    <a:lnTo>
                      <a:pt x="1061" y="194"/>
                    </a:lnTo>
                    <a:lnTo>
                      <a:pt x="1065" y="186"/>
                    </a:lnTo>
                    <a:lnTo>
                      <a:pt x="1070" y="178"/>
                    </a:lnTo>
                    <a:lnTo>
                      <a:pt x="1073" y="169"/>
                    </a:lnTo>
                    <a:lnTo>
                      <a:pt x="1077" y="160"/>
                    </a:lnTo>
                    <a:lnTo>
                      <a:pt x="1080" y="151"/>
                    </a:lnTo>
                    <a:lnTo>
                      <a:pt x="1085" y="143"/>
                    </a:lnTo>
                    <a:lnTo>
                      <a:pt x="1091" y="135"/>
                    </a:lnTo>
                    <a:lnTo>
                      <a:pt x="1098" y="128"/>
                    </a:lnTo>
                    <a:lnTo>
                      <a:pt x="1105" y="122"/>
                    </a:lnTo>
                    <a:lnTo>
                      <a:pt x="1111" y="117"/>
                    </a:lnTo>
                    <a:lnTo>
                      <a:pt x="1117" y="112"/>
                    </a:lnTo>
                    <a:lnTo>
                      <a:pt x="1124" y="106"/>
                    </a:lnTo>
                    <a:lnTo>
                      <a:pt x="1113" y="128"/>
                    </a:lnTo>
                    <a:lnTo>
                      <a:pt x="1107" y="150"/>
                    </a:lnTo>
                    <a:lnTo>
                      <a:pt x="1102" y="173"/>
                    </a:lnTo>
                    <a:lnTo>
                      <a:pt x="1092" y="196"/>
                    </a:lnTo>
                    <a:lnTo>
                      <a:pt x="1093" y="205"/>
                    </a:lnTo>
                    <a:lnTo>
                      <a:pt x="1090" y="214"/>
                    </a:lnTo>
                    <a:lnTo>
                      <a:pt x="1087" y="222"/>
                    </a:lnTo>
                    <a:lnTo>
                      <a:pt x="1088" y="231"/>
                    </a:lnTo>
                    <a:lnTo>
                      <a:pt x="1095" y="219"/>
                    </a:lnTo>
                    <a:lnTo>
                      <a:pt x="1101" y="209"/>
                    </a:lnTo>
                    <a:lnTo>
                      <a:pt x="1107" y="197"/>
                    </a:lnTo>
                    <a:lnTo>
                      <a:pt x="1111" y="185"/>
                    </a:lnTo>
                    <a:lnTo>
                      <a:pt x="1117" y="174"/>
                    </a:lnTo>
                    <a:lnTo>
                      <a:pt x="1124" y="163"/>
                    </a:lnTo>
                    <a:lnTo>
                      <a:pt x="1130" y="152"/>
                    </a:lnTo>
                    <a:lnTo>
                      <a:pt x="1138" y="143"/>
                    </a:lnTo>
                    <a:lnTo>
                      <a:pt x="1139" y="135"/>
                    </a:lnTo>
                    <a:lnTo>
                      <a:pt x="1144" y="125"/>
                    </a:lnTo>
                    <a:lnTo>
                      <a:pt x="1152" y="116"/>
                    </a:lnTo>
                    <a:lnTo>
                      <a:pt x="1160" y="109"/>
                    </a:lnTo>
                    <a:lnTo>
                      <a:pt x="1166" y="107"/>
                    </a:lnTo>
                    <a:lnTo>
                      <a:pt x="1168" y="112"/>
                    </a:lnTo>
                    <a:lnTo>
                      <a:pt x="1164" y="127"/>
                    </a:lnTo>
                    <a:lnTo>
                      <a:pt x="1153" y="154"/>
                    </a:lnTo>
                    <a:lnTo>
                      <a:pt x="1156" y="156"/>
                    </a:lnTo>
                    <a:lnTo>
                      <a:pt x="1147" y="175"/>
                    </a:lnTo>
                    <a:lnTo>
                      <a:pt x="1139" y="196"/>
                    </a:lnTo>
                    <a:lnTo>
                      <a:pt x="1132" y="217"/>
                    </a:lnTo>
                    <a:lnTo>
                      <a:pt x="1125" y="239"/>
                    </a:lnTo>
                    <a:lnTo>
                      <a:pt x="1118" y="261"/>
                    </a:lnTo>
                    <a:lnTo>
                      <a:pt x="1110" y="283"/>
                    </a:lnTo>
                    <a:lnTo>
                      <a:pt x="1102" y="305"/>
                    </a:lnTo>
                    <a:lnTo>
                      <a:pt x="1094" y="326"/>
                    </a:lnTo>
                    <a:lnTo>
                      <a:pt x="1088" y="362"/>
                    </a:lnTo>
                    <a:lnTo>
                      <a:pt x="1080" y="398"/>
                    </a:lnTo>
                    <a:lnTo>
                      <a:pt x="1072" y="435"/>
                    </a:lnTo>
                    <a:lnTo>
                      <a:pt x="1067" y="472"/>
                    </a:lnTo>
                    <a:lnTo>
                      <a:pt x="1069" y="473"/>
                    </a:lnTo>
                    <a:lnTo>
                      <a:pt x="1072" y="474"/>
                    </a:lnTo>
                    <a:lnTo>
                      <a:pt x="1075" y="475"/>
                    </a:lnTo>
                    <a:lnTo>
                      <a:pt x="1078" y="475"/>
                    </a:lnTo>
                    <a:lnTo>
                      <a:pt x="1084" y="450"/>
                    </a:lnTo>
                    <a:lnTo>
                      <a:pt x="1090" y="426"/>
                    </a:lnTo>
                    <a:lnTo>
                      <a:pt x="1095" y="401"/>
                    </a:lnTo>
                    <a:lnTo>
                      <a:pt x="1102" y="376"/>
                    </a:lnTo>
                    <a:lnTo>
                      <a:pt x="1109" y="353"/>
                    </a:lnTo>
                    <a:lnTo>
                      <a:pt x="1116" y="329"/>
                    </a:lnTo>
                    <a:lnTo>
                      <a:pt x="1124" y="305"/>
                    </a:lnTo>
                    <a:lnTo>
                      <a:pt x="1132" y="282"/>
                    </a:lnTo>
                    <a:lnTo>
                      <a:pt x="1146" y="243"/>
                    </a:lnTo>
                    <a:lnTo>
                      <a:pt x="1161" y="210"/>
                    </a:lnTo>
                    <a:lnTo>
                      <a:pt x="1176" y="178"/>
                    </a:lnTo>
                    <a:lnTo>
                      <a:pt x="1190" y="150"/>
                    </a:lnTo>
                    <a:lnTo>
                      <a:pt x="1205" y="125"/>
                    </a:lnTo>
                    <a:lnTo>
                      <a:pt x="1219" y="103"/>
                    </a:lnTo>
                    <a:lnTo>
                      <a:pt x="1232" y="82"/>
                    </a:lnTo>
                    <a:lnTo>
                      <a:pt x="1246" y="65"/>
                    </a:lnTo>
                    <a:lnTo>
                      <a:pt x="1259" y="50"/>
                    </a:lnTo>
                    <a:lnTo>
                      <a:pt x="1270" y="37"/>
                    </a:lnTo>
                    <a:lnTo>
                      <a:pt x="1282" y="27"/>
                    </a:lnTo>
                    <a:lnTo>
                      <a:pt x="1291" y="18"/>
                    </a:lnTo>
                    <a:lnTo>
                      <a:pt x="1300" y="12"/>
                    </a:lnTo>
                    <a:lnTo>
                      <a:pt x="1307" y="6"/>
                    </a:lnTo>
                    <a:lnTo>
                      <a:pt x="1313" y="3"/>
                    </a:lnTo>
                    <a:lnTo>
                      <a:pt x="1318" y="0"/>
                    </a:lnTo>
                    <a:lnTo>
                      <a:pt x="1321" y="3"/>
                    </a:lnTo>
                    <a:lnTo>
                      <a:pt x="1331" y="10"/>
                    </a:lnTo>
                    <a:lnTo>
                      <a:pt x="1348" y="20"/>
                    </a:lnTo>
                    <a:lnTo>
                      <a:pt x="1367" y="30"/>
                    </a:lnTo>
                    <a:lnTo>
                      <a:pt x="1389" y="43"/>
                    </a:lnTo>
                    <a:lnTo>
                      <a:pt x="1413" y="53"/>
                    </a:lnTo>
                    <a:lnTo>
                      <a:pt x="1437" y="63"/>
                    </a:lnTo>
                    <a:lnTo>
                      <a:pt x="1460" y="68"/>
                    </a:lnTo>
                    <a:lnTo>
                      <a:pt x="1468" y="71"/>
                    </a:lnTo>
                    <a:lnTo>
                      <a:pt x="1479" y="74"/>
                    </a:lnTo>
                    <a:lnTo>
                      <a:pt x="1492" y="79"/>
                    </a:lnTo>
                    <a:lnTo>
                      <a:pt x="1505" y="86"/>
                    </a:lnTo>
                    <a:lnTo>
                      <a:pt x="1523" y="94"/>
                    </a:lnTo>
                    <a:lnTo>
                      <a:pt x="1540" y="104"/>
                    </a:lnTo>
                    <a:lnTo>
                      <a:pt x="1558" y="116"/>
                    </a:lnTo>
                    <a:lnTo>
                      <a:pt x="1577" y="128"/>
                    </a:lnTo>
                    <a:lnTo>
                      <a:pt x="1595" y="143"/>
                    </a:lnTo>
                    <a:lnTo>
                      <a:pt x="1614" y="158"/>
                    </a:lnTo>
                    <a:lnTo>
                      <a:pt x="1632" y="177"/>
                    </a:lnTo>
                    <a:lnTo>
                      <a:pt x="1648" y="195"/>
                    </a:lnTo>
                    <a:lnTo>
                      <a:pt x="1664" y="216"/>
                    </a:lnTo>
                    <a:lnTo>
                      <a:pt x="1677" y="238"/>
                    </a:lnTo>
                    <a:lnTo>
                      <a:pt x="1688" y="261"/>
                    </a:lnTo>
                    <a:lnTo>
                      <a:pt x="1696" y="285"/>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940720" y="5562360"/>
                <a:ext cx="88560" cy="219240"/>
              </a:xfrm>
              <a:custGeom>
                <a:avLst/>
                <a:gdLst/>
                <a:ahLst/>
                <a:rect l="l" t="t" r="r" b="b"/>
                <a:pathLst>
                  <a:path w="177" h="435">
                    <a:moveTo>
                      <a:pt x="151" y="77"/>
                    </a:moveTo>
                    <a:lnTo>
                      <a:pt x="153" y="80"/>
                    </a:lnTo>
                    <a:lnTo>
                      <a:pt x="145" y="83"/>
                    </a:lnTo>
                    <a:lnTo>
                      <a:pt x="141" y="91"/>
                    </a:lnTo>
                    <a:lnTo>
                      <a:pt x="136" y="99"/>
                    </a:lnTo>
                    <a:lnTo>
                      <a:pt x="133" y="107"/>
                    </a:lnTo>
                    <a:lnTo>
                      <a:pt x="128" y="128"/>
                    </a:lnTo>
                    <a:lnTo>
                      <a:pt x="118" y="144"/>
                    </a:lnTo>
                    <a:lnTo>
                      <a:pt x="106" y="160"/>
                    </a:lnTo>
                    <a:lnTo>
                      <a:pt x="99" y="180"/>
                    </a:lnTo>
                    <a:lnTo>
                      <a:pt x="92" y="194"/>
                    </a:lnTo>
                    <a:lnTo>
                      <a:pt x="85" y="207"/>
                    </a:lnTo>
                    <a:lnTo>
                      <a:pt x="80" y="222"/>
                    </a:lnTo>
                    <a:lnTo>
                      <a:pt x="74" y="236"/>
                    </a:lnTo>
                    <a:lnTo>
                      <a:pt x="66" y="251"/>
                    </a:lnTo>
                    <a:lnTo>
                      <a:pt x="59" y="266"/>
                    </a:lnTo>
                    <a:lnTo>
                      <a:pt x="54" y="282"/>
                    </a:lnTo>
                    <a:lnTo>
                      <a:pt x="51" y="300"/>
                    </a:lnTo>
                    <a:lnTo>
                      <a:pt x="47" y="316"/>
                    </a:lnTo>
                    <a:lnTo>
                      <a:pt x="43" y="332"/>
                    </a:lnTo>
                    <a:lnTo>
                      <a:pt x="37" y="348"/>
                    </a:lnTo>
                    <a:lnTo>
                      <a:pt x="30" y="363"/>
                    </a:lnTo>
                    <a:lnTo>
                      <a:pt x="29" y="372"/>
                    </a:lnTo>
                    <a:lnTo>
                      <a:pt x="25" y="383"/>
                    </a:lnTo>
                    <a:lnTo>
                      <a:pt x="22" y="394"/>
                    </a:lnTo>
                    <a:lnTo>
                      <a:pt x="20" y="406"/>
                    </a:lnTo>
                    <a:lnTo>
                      <a:pt x="16" y="413"/>
                    </a:lnTo>
                    <a:lnTo>
                      <a:pt x="15" y="420"/>
                    </a:lnTo>
                    <a:lnTo>
                      <a:pt x="14" y="428"/>
                    </a:lnTo>
                    <a:lnTo>
                      <a:pt x="12" y="435"/>
                    </a:lnTo>
                    <a:lnTo>
                      <a:pt x="0" y="432"/>
                    </a:lnTo>
                    <a:lnTo>
                      <a:pt x="4" y="409"/>
                    </a:lnTo>
                    <a:lnTo>
                      <a:pt x="8" y="386"/>
                    </a:lnTo>
                    <a:lnTo>
                      <a:pt x="14" y="364"/>
                    </a:lnTo>
                    <a:lnTo>
                      <a:pt x="21" y="343"/>
                    </a:lnTo>
                    <a:lnTo>
                      <a:pt x="28" y="323"/>
                    </a:lnTo>
                    <a:lnTo>
                      <a:pt x="35" y="301"/>
                    </a:lnTo>
                    <a:lnTo>
                      <a:pt x="42" y="280"/>
                    </a:lnTo>
                    <a:lnTo>
                      <a:pt x="48" y="258"/>
                    </a:lnTo>
                    <a:lnTo>
                      <a:pt x="51" y="241"/>
                    </a:lnTo>
                    <a:lnTo>
                      <a:pt x="57" y="225"/>
                    </a:lnTo>
                    <a:lnTo>
                      <a:pt x="63" y="209"/>
                    </a:lnTo>
                    <a:lnTo>
                      <a:pt x="68" y="192"/>
                    </a:lnTo>
                    <a:lnTo>
                      <a:pt x="80" y="165"/>
                    </a:lnTo>
                    <a:lnTo>
                      <a:pt x="91" y="138"/>
                    </a:lnTo>
                    <a:lnTo>
                      <a:pt x="103" y="113"/>
                    </a:lnTo>
                    <a:lnTo>
                      <a:pt x="115" y="89"/>
                    </a:lnTo>
                    <a:lnTo>
                      <a:pt x="128" y="66"/>
                    </a:lnTo>
                    <a:lnTo>
                      <a:pt x="143" y="43"/>
                    </a:lnTo>
                    <a:lnTo>
                      <a:pt x="159" y="21"/>
                    </a:lnTo>
                    <a:lnTo>
                      <a:pt x="177" y="0"/>
                    </a:lnTo>
                    <a:lnTo>
                      <a:pt x="177" y="5"/>
                    </a:lnTo>
                    <a:lnTo>
                      <a:pt x="174" y="20"/>
                    </a:lnTo>
                    <a:lnTo>
                      <a:pt x="166" y="44"/>
                    </a:lnTo>
                    <a:lnTo>
                      <a:pt x="1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961960" y="5580720"/>
                <a:ext cx="93600" cy="224280"/>
              </a:xfrm>
              <a:custGeom>
                <a:avLst/>
                <a:gdLst/>
                <a:ahLst/>
                <a:rect l="l" t="t" r="r" b="b"/>
                <a:pathLst>
                  <a:path w="184" h="443">
                    <a:moveTo>
                      <a:pt x="184" y="0"/>
                    </a:moveTo>
                    <a:lnTo>
                      <a:pt x="178" y="11"/>
                    </a:lnTo>
                    <a:lnTo>
                      <a:pt x="174" y="18"/>
                    </a:lnTo>
                    <a:lnTo>
                      <a:pt x="171" y="27"/>
                    </a:lnTo>
                    <a:lnTo>
                      <a:pt x="171" y="41"/>
                    </a:lnTo>
                    <a:lnTo>
                      <a:pt x="161" y="55"/>
                    </a:lnTo>
                    <a:lnTo>
                      <a:pt x="153" y="69"/>
                    </a:lnTo>
                    <a:lnTo>
                      <a:pt x="145" y="84"/>
                    </a:lnTo>
                    <a:lnTo>
                      <a:pt x="138" y="99"/>
                    </a:lnTo>
                    <a:lnTo>
                      <a:pt x="131" y="114"/>
                    </a:lnTo>
                    <a:lnTo>
                      <a:pt x="124" y="129"/>
                    </a:lnTo>
                    <a:lnTo>
                      <a:pt x="117" y="144"/>
                    </a:lnTo>
                    <a:lnTo>
                      <a:pt x="109" y="158"/>
                    </a:lnTo>
                    <a:lnTo>
                      <a:pt x="106" y="163"/>
                    </a:lnTo>
                    <a:lnTo>
                      <a:pt x="103" y="169"/>
                    </a:lnTo>
                    <a:lnTo>
                      <a:pt x="101" y="176"/>
                    </a:lnTo>
                    <a:lnTo>
                      <a:pt x="97" y="183"/>
                    </a:lnTo>
                    <a:lnTo>
                      <a:pt x="83" y="214"/>
                    </a:lnTo>
                    <a:lnTo>
                      <a:pt x="70" y="246"/>
                    </a:lnTo>
                    <a:lnTo>
                      <a:pt x="57" y="277"/>
                    </a:lnTo>
                    <a:lnTo>
                      <a:pt x="46" y="310"/>
                    </a:lnTo>
                    <a:lnTo>
                      <a:pt x="34" y="343"/>
                    </a:lnTo>
                    <a:lnTo>
                      <a:pt x="25" y="375"/>
                    </a:lnTo>
                    <a:lnTo>
                      <a:pt x="17" y="409"/>
                    </a:lnTo>
                    <a:lnTo>
                      <a:pt x="10" y="442"/>
                    </a:lnTo>
                    <a:lnTo>
                      <a:pt x="8" y="443"/>
                    </a:lnTo>
                    <a:lnTo>
                      <a:pt x="6" y="443"/>
                    </a:lnTo>
                    <a:lnTo>
                      <a:pt x="2" y="442"/>
                    </a:lnTo>
                    <a:lnTo>
                      <a:pt x="0" y="441"/>
                    </a:lnTo>
                    <a:lnTo>
                      <a:pt x="3" y="402"/>
                    </a:lnTo>
                    <a:lnTo>
                      <a:pt x="13" y="364"/>
                    </a:lnTo>
                    <a:lnTo>
                      <a:pt x="24" y="326"/>
                    </a:lnTo>
                    <a:lnTo>
                      <a:pt x="29" y="288"/>
                    </a:lnTo>
                    <a:lnTo>
                      <a:pt x="36" y="277"/>
                    </a:lnTo>
                    <a:lnTo>
                      <a:pt x="40" y="266"/>
                    </a:lnTo>
                    <a:lnTo>
                      <a:pt x="42" y="254"/>
                    </a:lnTo>
                    <a:lnTo>
                      <a:pt x="47" y="243"/>
                    </a:lnTo>
                    <a:lnTo>
                      <a:pt x="59" y="218"/>
                    </a:lnTo>
                    <a:lnTo>
                      <a:pt x="71" y="192"/>
                    </a:lnTo>
                    <a:lnTo>
                      <a:pt x="84" y="167"/>
                    </a:lnTo>
                    <a:lnTo>
                      <a:pt x="97" y="141"/>
                    </a:lnTo>
                    <a:lnTo>
                      <a:pt x="110" y="115"/>
                    </a:lnTo>
                    <a:lnTo>
                      <a:pt x="124" y="90"/>
                    </a:lnTo>
                    <a:lnTo>
                      <a:pt x="138" y="64"/>
                    </a:lnTo>
                    <a:lnTo>
                      <a:pt x="153" y="40"/>
                    </a:lnTo>
                    <a:lnTo>
                      <a:pt x="162" y="27"/>
                    </a:lnTo>
                    <a:lnTo>
                      <a:pt x="167" y="16"/>
                    </a:lnTo>
                    <a:lnTo>
                      <a:pt x="174" y="8"/>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983200" y="5600880"/>
                <a:ext cx="94680" cy="208080"/>
              </a:xfrm>
              <a:custGeom>
                <a:avLst/>
                <a:gdLst/>
                <a:ahLst/>
                <a:rect l="l" t="t" r="r" b="b"/>
                <a:pathLst>
                  <a:path w="188" h="412">
                    <a:moveTo>
                      <a:pt x="188" y="1"/>
                    </a:moveTo>
                    <a:lnTo>
                      <a:pt x="175" y="17"/>
                    </a:lnTo>
                    <a:lnTo>
                      <a:pt x="165" y="32"/>
                    </a:lnTo>
                    <a:lnTo>
                      <a:pt x="156" y="48"/>
                    </a:lnTo>
                    <a:lnTo>
                      <a:pt x="148" y="65"/>
                    </a:lnTo>
                    <a:lnTo>
                      <a:pt x="140" y="82"/>
                    </a:lnTo>
                    <a:lnTo>
                      <a:pt x="132" y="98"/>
                    </a:lnTo>
                    <a:lnTo>
                      <a:pt x="122" y="114"/>
                    </a:lnTo>
                    <a:lnTo>
                      <a:pt x="112" y="131"/>
                    </a:lnTo>
                    <a:lnTo>
                      <a:pt x="111" y="137"/>
                    </a:lnTo>
                    <a:lnTo>
                      <a:pt x="107" y="144"/>
                    </a:lnTo>
                    <a:lnTo>
                      <a:pt x="106" y="151"/>
                    </a:lnTo>
                    <a:lnTo>
                      <a:pt x="106" y="157"/>
                    </a:lnTo>
                    <a:lnTo>
                      <a:pt x="98" y="171"/>
                    </a:lnTo>
                    <a:lnTo>
                      <a:pt x="90" y="186"/>
                    </a:lnTo>
                    <a:lnTo>
                      <a:pt x="83" y="199"/>
                    </a:lnTo>
                    <a:lnTo>
                      <a:pt x="76" y="214"/>
                    </a:lnTo>
                    <a:lnTo>
                      <a:pt x="69" y="231"/>
                    </a:lnTo>
                    <a:lnTo>
                      <a:pt x="62" y="246"/>
                    </a:lnTo>
                    <a:lnTo>
                      <a:pt x="56" y="262"/>
                    </a:lnTo>
                    <a:lnTo>
                      <a:pt x="50" y="277"/>
                    </a:lnTo>
                    <a:lnTo>
                      <a:pt x="45" y="293"/>
                    </a:lnTo>
                    <a:lnTo>
                      <a:pt x="41" y="309"/>
                    </a:lnTo>
                    <a:lnTo>
                      <a:pt x="35" y="325"/>
                    </a:lnTo>
                    <a:lnTo>
                      <a:pt x="30" y="341"/>
                    </a:lnTo>
                    <a:lnTo>
                      <a:pt x="24" y="356"/>
                    </a:lnTo>
                    <a:lnTo>
                      <a:pt x="21" y="372"/>
                    </a:lnTo>
                    <a:lnTo>
                      <a:pt x="16" y="390"/>
                    </a:lnTo>
                    <a:lnTo>
                      <a:pt x="14" y="406"/>
                    </a:lnTo>
                    <a:lnTo>
                      <a:pt x="11" y="408"/>
                    </a:lnTo>
                    <a:lnTo>
                      <a:pt x="7" y="410"/>
                    </a:lnTo>
                    <a:lnTo>
                      <a:pt x="4" y="412"/>
                    </a:lnTo>
                    <a:lnTo>
                      <a:pt x="0" y="409"/>
                    </a:lnTo>
                    <a:lnTo>
                      <a:pt x="7" y="383"/>
                    </a:lnTo>
                    <a:lnTo>
                      <a:pt x="15" y="355"/>
                    </a:lnTo>
                    <a:lnTo>
                      <a:pt x="22" y="327"/>
                    </a:lnTo>
                    <a:lnTo>
                      <a:pt x="30" y="300"/>
                    </a:lnTo>
                    <a:lnTo>
                      <a:pt x="38" y="273"/>
                    </a:lnTo>
                    <a:lnTo>
                      <a:pt x="46" y="246"/>
                    </a:lnTo>
                    <a:lnTo>
                      <a:pt x="56" y="218"/>
                    </a:lnTo>
                    <a:lnTo>
                      <a:pt x="66" y="191"/>
                    </a:lnTo>
                    <a:lnTo>
                      <a:pt x="76" y="165"/>
                    </a:lnTo>
                    <a:lnTo>
                      <a:pt x="88" y="140"/>
                    </a:lnTo>
                    <a:lnTo>
                      <a:pt x="100" y="114"/>
                    </a:lnTo>
                    <a:lnTo>
                      <a:pt x="114" y="90"/>
                    </a:lnTo>
                    <a:lnTo>
                      <a:pt x="129" y="66"/>
                    </a:lnTo>
                    <a:lnTo>
                      <a:pt x="147" y="43"/>
                    </a:lnTo>
                    <a:lnTo>
                      <a:pt x="165" y="21"/>
                    </a:lnTo>
                    <a:lnTo>
                      <a:pt x="186" y="0"/>
                    </a:lnTo>
                    <a:lnTo>
                      <a:pt x="18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27760" y="5528880"/>
                <a:ext cx="102960" cy="207000"/>
              </a:xfrm>
              <a:custGeom>
                <a:avLst/>
                <a:gdLst/>
                <a:ahLst/>
                <a:rect l="l" t="t" r="r" b="b"/>
                <a:pathLst>
                  <a:path w="204" h="412">
                    <a:moveTo>
                      <a:pt x="204" y="8"/>
                    </a:moveTo>
                    <a:lnTo>
                      <a:pt x="193" y="20"/>
                    </a:lnTo>
                    <a:lnTo>
                      <a:pt x="184" y="32"/>
                    </a:lnTo>
                    <a:lnTo>
                      <a:pt x="174" y="45"/>
                    </a:lnTo>
                    <a:lnTo>
                      <a:pt x="163" y="59"/>
                    </a:lnTo>
                    <a:lnTo>
                      <a:pt x="152" y="74"/>
                    </a:lnTo>
                    <a:lnTo>
                      <a:pt x="140" y="91"/>
                    </a:lnTo>
                    <a:lnTo>
                      <a:pt x="128" y="110"/>
                    </a:lnTo>
                    <a:lnTo>
                      <a:pt x="113" y="132"/>
                    </a:lnTo>
                    <a:lnTo>
                      <a:pt x="110" y="137"/>
                    </a:lnTo>
                    <a:lnTo>
                      <a:pt x="108" y="143"/>
                    </a:lnTo>
                    <a:lnTo>
                      <a:pt x="106" y="150"/>
                    </a:lnTo>
                    <a:lnTo>
                      <a:pt x="107" y="156"/>
                    </a:lnTo>
                    <a:lnTo>
                      <a:pt x="99" y="171"/>
                    </a:lnTo>
                    <a:lnTo>
                      <a:pt x="91" y="185"/>
                    </a:lnTo>
                    <a:lnTo>
                      <a:pt x="83" y="200"/>
                    </a:lnTo>
                    <a:lnTo>
                      <a:pt x="76" y="215"/>
                    </a:lnTo>
                    <a:lnTo>
                      <a:pt x="69" y="231"/>
                    </a:lnTo>
                    <a:lnTo>
                      <a:pt x="62" y="246"/>
                    </a:lnTo>
                    <a:lnTo>
                      <a:pt x="56" y="262"/>
                    </a:lnTo>
                    <a:lnTo>
                      <a:pt x="50" y="277"/>
                    </a:lnTo>
                    <a:lnTo>
                      <a:pt x="46" y="293"/>
                    </a:lnTo>
                    <a:lnTo>
                      <a:pt x="40" y="309"/>
                    </a:lnTo>
                    <a:lnTo>
                      <a:pt x="35" y="325"/>
                    </a:lnTo>
                    <a:lnTo>
                      <a:pt x="30" y="341"/>
                    </a:lnTo>
                    <a:lnTo>
                      <a:pt x="25" y="356"/>
                    </a:lnTo>
                    <a:lnTo>
                      <a:pt x="20" y="372"/>
                    </a:lnTo>
                    <a:lnTo>
                      <a:pt x="17" y="390"/>
                    </a:lnTo>
                    <a:lnTo>
                      <a:pt x="14" y="406"/>
                    </a:lnTo>
                    <a:lnTo>
                      <a:pt x="11" y="409"/>
                    </a:lnTo>
                    <a:lnTo>
                      <a:pt x="8" y="412"/>
                    </a:lnTo>
                    <a:lnTo>
                      <a:pt x="3" y="412"/>
                    </a:lnTo>
                    <a:lnTo>
                      <a:pt x="0" y="410"/>
                    </a:lnTo>
                    <a:lnTo>
                      <a:pt x="8" y="383"/>
                    </a:lnTo>
                    <a:lnTo>
                      <a:pt x="15" y="356"/>
                    </a:lnTo>
                    <a:lnTo>
                      <a:pt x="23" y="329"/>
                    </a:lnTo>
                    <a:lnTo>
                      <a:pt x="31" y="301"/>
                    </a:lnTo>
                    <a:lnTo>
                      <a:pt x="39" y="273"/>
                    </a:lnTo>
                    <a:lnTo>
                      <a:pt x="47" y="246"/>
                    </a:lnTo>
                    <a:lnTo>
                      <a:pt x="56" y="219"/>
                    </a:lnTo>
                    <a:lnTo>
                      <a:pt x="65" y="191"/>
                    </a:lnTo>
                    <a:lnTo>
                      <a:pt x="77" y="165"/>
                    </a:lnTo>
                    <a:lnTo>
                      <a:pt x="88" y="140"/>
                    </a:lnTo>
                    <a:lnTo>
                      <a:pt x="101" y="114"/>
                    </a:lnTo>
                    <a:lnTo>
                      <a:pt x="115" y="90"/>
                    </a:lnTo>
                    <a:lnTo>
                      <a:pt x="130" y="66"/>
                    </a:lnTo>
                    <a:lnTo>
                      <a:pt x="147" y="43"/>
                    </a:lnTo>
                    <a:lnTo>
                      <a:pt x="166" y="21"/>
                    </a:lnTo>
                    <a:lnTo>
                      <a:pt x="186" y="0"/>
                    </a:lnTo>
                    <a:lnTo>
                      <a:pt x="20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006600" y="5629320"/>
                <a:ext cx="81720" cy="181800"/>
              </a:xfrm>
              <a:custGeom>
                <a:avLst/>
                <a:gdLst/>
                <a:ahLst/>
                <a:rect l="l" t="t" r="r" b="b"/>
                <a:pathLst>
                  <a:path w="162" h="359">
                    <a:moveTo>
                      <a:pt x="113" y="92"/>
                    </a:moveTo>
                    <a:lnTo>
                      <a:pt x="106" y="111"/>
                    </a:lnTo>
                    <a:lnTo>
                      <a:pt x="98" y="131"/>
                    </a:lnTo>
                    <a:lnTo>
                      <a:pt x="89" y="151"/>
                    </a:lnTo>
                    <a:lnTo>
                      <a:pt x="80" y="169"/>
                    </a:lnTo>
                    <a:lnTo>
                      <a:pt x="72" y="189"/>
                    </a:lnTo>
                    <a:lnTo>
                      <a:pt x="64" y="208"/>
                    </a:lnTo>
                    <a:lnTo>
                      <a:pt x="57" y="228"/>
                    </a:lnTo>
                    <a:lnTo>
                      <a:pt x="51" y="248"/>
                    </a:lnTo>
                    <a:lnTo>
                      <a:pt x="43" y="259"/>
                    </a:lnTo>
                    <a:lnTo>
                      <a:pt x="40" y="272"/>
                    </a:lnTo>
                    <a:lnTo>
                      <a:pt x="36" y="285"/>
                    </a:lnTo>
                    <a:lnTo>
                      <a:pt x="29" y="297"/>
                    </a:lnTo>
                    <a:lnTo>
                      <a:pt x="25" y="314"/>
                    </a:lnTo>
                    <a:lnTo>
                      <a:pt x="21" y="329"/>
                    </a:lnTo>
                    <a:lnTo>
                      <a:pt x="16" y="343"/>
                    </a:lnTo>
                    <a:lnTo>
                      <a:pt x="12" y="359"/>
                    </a:lnTo>
                    <a:lnTo>
                      <a:pt x="0" y="358"/>
                    </a:lnTo>
                    <a:lnTo>
                      <a:pt x="0" y="345"/>
                    </a:lnTo>
                    <a:lnTo>
                      <a:pt x="4" y="334"/>
                    </a:lnTo>
                    <a:lnTo>
                      <a:pt x="7" y="321"/>
                    </a:lnTo>
                    <a:lnTo>
                      <a:pt x="10" y="310"/>
                    </a:lnTo>
                    <a:lnTo>
                      <a:pt x="14" y="303"/>
                    </a:lnTo>
                    <a:lnTo>
                      <a:pt x="16" y="295"/>
                    </a:lnTo>
                    <a:lnTo>
                      <a:pt x="19" y="287"/>
                    </a:lnTo>
                    <a:lnTo>
                      <a:pt x="23" y="280"/>
                    </a:lnTo>
                    <a:lnTo>
                      <a:pt x="33" y="243"/>
                    </a:lnTo>
                    <a:lnTo>
                      <a:pt x="45" y="206"/>
                    </a:lnTo>
                    <a:lnTo>
                      <a:pt x="60" y="170"/>
                    </a:lnTo>
                    <a:lnTo>
                      <a:pt x="78" y="134"/>
                    </a:lnTo>
                    <a:lnTo>
                      <a:pt x="97" y="100"/>
                    </a:lnTo>
                    <a:lnTo>
                      <a:pt x="118" y="65"/>
                    </a:lnTo>
                    <a:lnTo>
                      <a:pt x="139" y="32"/>
                    </a:lnTo>
                    <a:lnTo>
                      <a:pt x="162" y="0"/>
                    </a:lnTo>
                    <a:lnTo>
                      <a:pt x="157" y="10"/>
                    </a:lnTo>
                    <a:lnTo>
                      <a:pt x="151" y="21"/>
                    </a:lnTo>
                    <a:lnTo>
                      <a:pt x="144" y="33"/>
                    </a:lnTo>
                    <a:lnTo>
                      <a:pt x="137" y="43"/>
                    </a:lnTo>
                    <a:lnTo>
                      <a:pt x="131" y="56"/>
                    </a:lnTo>
                    <a:lnTo>
                      <a:pt x="124" y="68"/>
                    </a:lnTo>
                    <a:lnTo>
                      <a:pt x="118" y="79"/>
                    </a:lnTo>
                    <a:lnTo>
                      <a:pt x="113"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719680" y="5617800"/>
                <a:ext cx="34200" cy="63360"/>
              </a:xfrm>
              <a:custGeom>
                <a:avLst/>
                <a:gdLst/>
                <a:ahLst/>
                <a:rect l="l" t="t" r="r" b="b"/>
                <a:pathLst>
                  <a:path w="68" h="124">
                    <a:moveTo>
                      <a:pt x="68" y="1"/>
                    </a:moveTo>
                    <a:lnTo>
                      <a:pt x="62" y="13"/>
                    </a:lnTo>
                    <a:lnTo>
                      <a:pt x="57" y="26"/>
                    </a:lnTo>
                    <a:lnTo>
                      <a:pt x="51" y="39"/>
                    </a:lnTo>
                    <a:lnTo>
                      <a:pt x="46" y="51"/>
                    </a:lnTo>
                    <a:lnTo>
                      <a:pt x="40" y="64"/>
                    </a:lnTo>
                    <a:lnTo>
                      <a:pt x="34" y="77"/>
                    </a:lnTo>
                    <a:lnTo>
                      <a:pt x="30" y="90"/>
                    </a:lnTo>
                    <a:lnTo>
                      <a:pt x="25" y="102"/>
                    </a:lnTo>
                    <a:lnTo>
                      <a:pt x="17" y="107"/>
                    </a:lnTo>
                    <a:lnTo>
                      <a:pt x="13" y="117"/>
                    </a:lnTo>
                    <a:lnTo>
                      <a:pt x="9" y="124"/>
                    </a:lnTo>
                    <a:lnTo>
                      <a:pt x="0" y="122"/>
                    </a:lnTo>
                    <a:lnTo>
                      <a:pt x="4" y="106"/>
                    </a:lnTo>
                    <a:lnTo>
                      <a:pt x="10" y="88"/>
                    </a:lnTo>
                    <a:lnTo>
                      <a:pt x="17" y="73"/>
                    </a:lnTo>
                    <a:lnTo>
                      <a:pt x="25" y="57"/>
                    </a:lnTo>
                    <a:lnTo>
                      <a:pt x="33" y="42"/>
                    </a:lnTo>
                    <a:lnTo>
                      <a:pt x="42" y="28"/>
                    </a:lnTo>
                    <a:lnTo>
                      <a:pt x="51" y="13"/>
                    </a:lnTo>
                    <a:lnTo>
                      <a:pt x="60" y="0"/>
                    </a:lnTo>
                    <a:lnTo>
                      <a:pt x="62" y="0"/>
                    </a:lnTo>
                    <a:lnTo>
                      <a:pt x="64" y="0"/>
                    </a:lnTo>
                    <a:lnTo>
                      <a:pt x="65" y="0"/>
                    </a:lnTo>
                    <a:lnTo>
                      <a:pt x="68"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6080400" y="5663520"/>
                <a:ext cx="79560" cy="180720"/>
              </a:xfrm>
              <a:custGeom>
                <a:avLst/>
                <a:gdLst/>
                <a:ahLst/>
                <a:rect l="l" t="t" r="r" b="b"/>
                <a:pathLst>
                  <a:path w="158" h="357">
                    <a:moveTo>
                      <a:pt x="158" y="4"/>
                    </a:moveTo>
                    <a:lnTo>
                      <a:pt x="154" y="15"/>
                    </a:lnTo>
                    <a:lnTo>
                      <a:pt x="149" y="25"/>
                    </a:lnTo>
                    <a:lnTo>
                      <a:pt x="143" y="36"/>
                    </a:lnTo>
                    <a:lnTo>
                      <a:pt x="138" y="47"/>
                    </a:lnTo>
                    <a:lnTo>
                      <a:pt x="132" y="57"/>
                    </a:lnTo>
                    <a:lnTo>
                      <a:pt x="127" y="68"/>
                    </a:lnTo>
                    <a:lnTo>
                      <a:pt x="125" y="78"/>
                    </a:lnTo>
                    <a:lnTo>
                      <a:pt x="123" y="89"/>
                    </a:lnTo>
                    <a:lnTo>
                      <a:pt x="110" y="115"/>
                    </a:lnTo>
                    <a:lnTo>
                      <a:pt x="97" y="140"/>
                    </a:lnTo>
                    <a:lnTo>
                      <a:pt x="86" y="164"/>
                    </a:lnTo>
                    <a:lnTo>
                      <a:pt x="74" y="190"/>
                    </a:lnTo>
                    <a:lnTo>
                      <a:pt x="63" y="215"/>
                    </a:lnTo>
                    <a:lnTo>
                      <a:pt x="51" y="240"/>
                    </a:lnTo>
                    <a:lnTo>
                      <a:pt x="41" y="266"/>
                    </a:lnTo>
                    <a:lnTo>
                      <a:pt x="32" y="292"/>
                    </a:lnTo>
                    <a:lnTo>
                      <a:pt x="25" y="307"/>
                    </a:lnTo>
                    <a:lnTo>
                      <a:pt x="22" y="325"/>
                    </a:lnTo>
                    <a:lnTo>
                      <a:pt x="19" y="340"/>
                    </a:lnTo>
                    <a:lnTo>
                      <a:pt x="7" y="350"/>
                    </a:lnTo>
                    <a:lnTo>
                      <a:pt x="7" y="352"/>
                    </a:lnTo>
                    <a:lnTo>
                      <a:pt x="6" y="355"/>
                    </a:lnTo>
                    <a:lnTo>
                      <a:pt x="3" y="356"/>
                    </a:lnTo>
                    <a:lnTo>
                      <a:pt x="0" y="357"/>
                    </a:lnTo>
                    <a:lnTo>
                      <a:pt x="9" y="310"/>
                    </a:lnTo>
                    <a:lnTo>
                      <a:pt x="22" y="263"/>
                    </a:lnTo>
                    <a:lnTo>
                      <a:pt x="41" y="219"/>
                    </a:lnTo>
                    <a:lnTo>
                      <a:pt x="62" y="175"/>
                    </a:lnTo>
                    <a:lnTo>
                      <a:pt x="83" y="131"/>
                    </a:lnTo>
                    <a:lnTo>
                      <a:pt x="108" y="87"/>
                    </a:lnTo>
                    <a:lnTo>
                      <a:pt x="131" y="43"/>
                    </a:lnTo>
                    <a:lnTo>
                      <a:pt x="154" y="0"/>
                    </a:lnTo>
                    <a:lnTo>
                      <a:pt x="1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053760" y="5663520"/>
                <a:ext cx="75600" cy="175680"/>
              </a:xfrm>
              <a:custGeom>
                <a:avLst/>
                <a:gdLst/>
                <a:ahLst/>
                <a:rect l="l" t="t" r="r" b="b"/>
                <a:pathLst>
                  <a:path w="151" h="350">
                    <a:moveTo>
                      <a:pt x="151" y="3"/>
                    </a:moveTo>
                    <a:lnTo>
                      <a:pt x="146" y="13"/>
                    </a:lnTo>
                    <a:lnTo>
                      <a:pt x="141" y="23"/>
                    </a:lnTo>
                    <a:lnTo>
                      <a:pt x="134" y="34"/>
                    </a:lnTo>
                    <a:lnTo>
                      <a:pt x="129" y="44"/>
                    </a:lnTo>
                    <a:lnTo>
                      <a:pt x="123" y="53"/>
                    </a:lnTo>
                    <a:lnTo>
                      <a:pt x="117" y="64"/>
                    </a:lnTo>
                    <a:lnTo>
                      <a:pt x="114" y="74"/>
                    </a:lnTo>
                    <a:lnTo>
                      <a:pt x="111" y="86"/>
                    </a:lnTo>
                    <a:lnTo>
                      <a:pt x="94" y="113"/>
                    </a:lnTo>
                    <a:lnTo>
                      <a:pt x="78" y="142"/>
                    </a:lnTo>
                    <a:lnTo>
                      <a:pt x="65" y="172"/>
                    </a:lnTo>
                    <a:lnTo>
                      <a:pt x="53" y="203"/>
                    </a:lnTo>
                    <a:lnTo>
                      <a:pt x="42" y="234"/>
                    </a:lnTo>
                    <a:lnTo>
                      <a:pt x="33" y="265"/>
                    </a:lnTo>
                    <a:lnTo>
                      <a:pt x="24" y="298"/>
                    </a:lnTo>
                    <a:lnTo>
                      <a:pt x="15" y="329"/>
                    </a:lnTo>
                    <a:lnTo>
                      <a:pt x="10" y="333"/>
                    </a:lnTo>
                    <a:lnTo>
                      <a:pt x="8" y="340"/>
                    </a:lnTo>
                    <a:lnTo>
                      <a:pt x="5" y="346"/>
                    </a:lnTo>
                    <a:lnTo>
                      <a:pt x="0" y="350"/>
                    </a:lnTo>
                    <a:lnTo>
                      <a:pt x="2" y="324"/>
                    </a:lnTo>
                    <a:lnTo>
                      <a:pt x="7" y="299"/>
                    </a:lnTo>
                    <a:lnTo>
                      <a:pt x="12" y="275"/>
                    </a:lnTo>
                    <a:lnTo>
                      <a:pt x="20" y="252"/>
                    </a:lnTo>
                    <a:lnTo>
                      <a:pt x="30" y="227"/>
                    </a:lnTo>
                    <a:lnTo>
                      <a:pt x="39" y="204"/>
                    </a:lnTo>
                    <a:lnTo>
                      <a:pt x="49" y="181"/>
                    </a:lnTo>
                    <a:lnTo>
                      <a:pt x="58" y="157"/>
                    </a:lnTo>
                    <a:lnTo>
                      <a:pt x="69" y="139"/>
                    </a:lnTo>
                    <a:lnTo>
                      <a:pt x="79" y="119"/>
                    </a:lnTo>
                    <a:lnTo>
                      <a:pt x="89" y="98"/>
                    </a:lnTo>
                    <a:lnTo>
                      <a:pt x="100" y="79"/>
                    </a:lnTo>
                    <a:lnTo>
                      <a:pt x="111" y="59"/>
                    </a:lnTo>
                    <a:lnTo>
                      <a:pt x="122" y="38"/>
                    </a:lnTo>
                    <a:lnTo>
                      <a:pt x="133" y="19"/>
                    </a:lnTo>
                    <a:lnTo>
                      <a:pt x="145" y="0"/>
                    </a:lnTo>
                    <a:lnTo>
                      <a:pt x="146" y="0"/>
                    </a:lnTo>
                    <a:lnTo>
                      <a:pt x="148" y="0"/>
                    </a:lnTo>
                    <a:lnTo>
                      <a:pt x="149" y="0"/>
                    </a:lnTo>
                    <a:lnTo>
                      <a:pt x="15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029640" y="5664600"/>
                <a:ext cx="66600" cy="154440"/>
              </a:xfrm>
              <a:custGeom>
                <a:avLst/>
                <a:gdLst/>
                <a:ahLst/>
                <a:rect l="l" t="t" r="r" b="b"/>
                <a:pathLst>
                  <a:path w="133" h="306">
                    <a:moveTo>
                      <a:pt x="133" y="0"/>
                    </a:moveTo>
                    <a:lnTo>
                      <a:pt x="114" y="35"/>
                    </a:lnTo>
                    <a:lnTo>
                      <a:pt x="97" y="72"/>
                    </a:lnTo>
                    <a:lnTo>
                      <a:pt x="80" y="109"/>
                    </a:lnTo>
                    <a:lnTo>
                      <a:pt x="65" y="147"/>
                    </a:lnTo>
                    <a:lnTo>
                      <a:pt x="50" y="185"/>
                    </a:lnTo>
                    <a:lnTo>
                      <a:pt x="36" y="223"/>
                    </a:lnTo>
                    <a:lnTo>
                      <a:pt x="23" y="261"/>
                    </a:lnTo>
                    <a:lnTo>
                      <a:pt x="12" y="301"/>
                    </a:lnTo>
                    <a:lnTo>
                      <a:pt x="10" y="303"/>
                    </a:lnTo>
                    <a:lnTo>
                      <a:pt x="7" y="305"/>
                    </a:lnTo>
                    <a:lnTo>
                      <a:pt x="5" y="306"/>
                    </a:lnTo>
                    <a:lnTo>
                      <a:pt x="2" y="306"/>
                    </a:lnTo>
                    <a:lnTo>
                      <a:pt x="0" y="295"/>
                    </a:lnTo>
                    <a:lnTo>
                      <a:pt x="3" y="283"/>
                    </a:lnTo>
                    <a:lnTo>
                      <a:pt x="5" y="273"/>
                    </a:lnTo>
                    <a:lnTo>
                      <a:pt x="3" y="265"/>
                    </a:lnTo>
                    <a:lnTo>
                      <a:pt x="15" y="238"/>
                    </a:lnTo>
                    <a:lnTo>
                      <a:pt x="26" y="211"/>
                    </a:lnTo>
                    <a:lnTo>
                      <a:pt x="35" y="182"/>
                    </a:lnTo>
                    <a:lnTo>
                      <a:pt x="44" y="153"/>
                    </a:lnTo>
                    <a:lnTo>
                      <a:pt x="55" y="125"/>
                    </a:lnTo>
                    <a:lnTo>
                      <a:pt x="66" y="98"/>
                    </a:lnTo>
                    <a:lnTo>
                      <a:pt x="81" y="72"/>
                    </a:lnTo>
                    <a:lnTo>
                      <a:pt x="99" y="49"/>
                    </a:lnTo>
                    <a:lnTo>
                      <a:pt x="127" y="0"/>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107400" y="5693760"/>
                <a:ext cx="65520" cy="151560"/>
              </a:xfrm>
              <a:custGeom>
                <a:avLst/>
                <a:gdLst/>
                <a:ahLst/>
                <a:rect l="l" t="t" r="r" b="b"/>
                <a:pathLst>
                  <a:path w="129" h="301">
                    <a:moveTo>
                      <a:pt x="129" y="3"/>
                    </a:moveTo>
                    <a:lnTo>
                      <a:pt x="122" y="26"/>
                    </a:lnTo>
                    <a:lnTo>
                      <a:pt x="113" y="49"/>
                    </a:lnTo>
                    <a:lnTo>
                      <a:pt x="102" y="71"/>
                    </a:lnTo>
                    <a:lnTo>
                      <a:pt x="92" y="93"/>
                    </a:lnTo>
                    <a:lnTo>
                      <a:pt x="82" y="114"/>
                    </a:lnTo>
                    <a:lnTo>
                      <a:pt x="71" y="136"/>
                    </a:lnTo>
                    <a:lnTo>
                      <a:pt x="63" y="159"/>
                    </a:lnTo>
                    <a:lnTo>
                      <a:pt x="56" y="182"/>
                    </a:lnTo>
                    <a:lnTo>
                      <a:pt x="47" y="195"/>
                    </a:lnTo>
                    <a:lnTo>
                      <a:pt x="40" y="210"/>
                    </a:lnTo>
                    <a:lnTo>
                      <a:pt x="34" y="225"/>
                    </a:lnTo>
                    <a:lnTo>
                      <a:pt x="30" y="240"/>
                    </a:lnTo>
                    <a:lnTo>
                      <a:pt x="24" y="256"/>
                    </a:lnTo>
                    <a:lnTo>
                      <a:pt x="18" y="271"/>
                    </a:lnTo>
                    <a:lnTo>
                      <a:pt x="10" y="286"/>
                    </a:lnTo>
                    <a:lnTo>
                      <a:pt x="1" y="299"/>
                    </a:lnTo>
                    <a:lnTo>
                      <a:pt x="0" y="301"/>
                    </a:lnTo>
                    <a:lnTo>
                      <a:pt x="4" y="275"/>
                    </a:lnTo>
                    <a:lnTo>
                      <a:pt x="12" y="248"/>
                    </a:lnTo>
                    <a:lnTo>
                      <a:pt x="20" y="222"/>
                    </a:lnTo>
                    <a:lnTo>
                      <a:pt x="29" y="194"/>
                    </a:lnTo>
                    <a:lnTo>
                      <a:pt x="39" y="170"/>
                    </a:lnTo>
                    <a:lnTo>
                      <a:pt x="50" y="146"/>
                    </a:lnTo>
                    <a:lnTo>
                      <a:pt x="63" y="121"/>
                    </a:lnTo>
                    <a:lnTo>
                      <a:pt x="76" y="97"/>
                    </a:lnTo>
                    <a:lnTo>
                      <a:pt x="87" y="73"/>
                    </a:lnTo>
                    <a:lnTo>
                      <a:pt x="100" y="49"/>
                    </a:lnTo>
                    <a:lnTo>
                      <a:pt x="111" y="25"/>
                    </a:lnTo>
                    <a:lnTo>
                      <a:pt x="123" y="0"/>
                    </a:lnTo>
                    <a:lnTo>
                      <a:pt x="1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768280" y="5664600"/>
                <a:ext cx="14760" cy="31320"/>
              </a:xfrm>
              <a:custGeom>
                <a:avLst/>
                <a:gdLst/>
                <a:ahLst/>
                <a:rect l="l" t="t" r="r" b="b"/>
                <a:pathLst>
                  <a:path w="31" h="62">
                    <a:moveTo>
                      <a:pt x="31" y="2"/>
                    </a:moveTo>
                    <a:lnTo>
                      <a:pt x="24" y="17"/>
                    </a:lnTo>
                    <a:lnTo>
                      <a:pt x="19" y="32"/>
                    </a:lnTo>
                    <a:lnTo>
                      <a:pt x="12" y="47"/>
                    </a:lnTo>
                    <a:lnTo>
                      <a:pt x="6" y="62"/>
                    </a:lnTo>
                    <a:lnTo>
                      <a:pt x="0" y="62"/>
                    </a:lnTo>
                    <a:lnTo>
                      <a:pt x="4" y="45"/>
                    </a:lnTo>
                    <a:lnTo>
                      <a:pt x="9" y="28"/>
                    </a:lnTo>
                    <a:lnTo>
                      <a:pt x="16" y="14"/>
                    </a:lnTo>
                    <a:lnTo>
                      <a:pt x="25" y="0"/>
                    </a:lnTo>
                    <a:lnTo>
                      <a:pt x="31"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53" name=""/>
              <p:cNvSpPr/>
              <p:nvPr/>
            </p:nvSpPr>
            <p:spPr>
              <a:xfrm>
                <a:off x="5745960" y="5666400"/>
                <a:ext cx="11880" cy="29160"/>
              </a:xfrm>
              <a:custGeom>
                <a:avLst/>
                <a:gdLst/>
                <a:ahLst/>
                <a:rect l="l" t="t" r="r" b="b"/>
                <a:pathLst>
                  <a:path w="25" h="58">
                    <a:moveTo>
                      <a:pt x="25" y="4"/>
                    </a:moveTo>
                    <a:lnTo>
                      <a:pt x="0" y="58"/>
                    </a:lnTo>
                    <a:lnTo>
                      <a:pt x="0" y="43"/>
                    </a:lnTo>
                    <a:lnTo>
                      <a:pt x="4" y="27"/>
                    </a:lnTo>
                    <a:lnTo>
                      <a:pt x="12" y="12"/>
                    </a:lnTo>
                    <a:lnTo>
                      <a:pt x="20" y="0"/>
                    </a:lnTo>
                    <a:lnTo>
                      <a:pt x="25" y="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4" name=""/>
              <p:cNvSpPr/>
              <p:nvPr/>
            </p:nvSpPr>
            <p:spPr>
              <a:xfrm>
                <a:off x="5873040" y="5677560"/>
                <a:ext cx="19800" cy="87480"/>
              </a:xfrm>
              <a:custGeom>
                <a:avLst/>
                <a:gdLst/>
                <a:ahLst/>
                <a:rect l="l" t="t" r="r" b="b"/>
                <a:pathLst>
                  <a:path w="39" h="174">
                    <a:moveTo>
                      <a:pt x="39" y="3"/>
                    </a:moveTo>
                    <a:lnTo>
                      <a:pt x="31" y="46"/>
                    </a:lnTo>
                    <a:lnTo>
                      <a:pt x="23" y="89"/>
                    </a:lnTo>
                    <a:lnTo>
                      <a:pt x="13" y="133"/>
                    </a:lnTo>
                    <a:lnTo>
                      <a:pt x="7" y="174"/>
                    </a:lnTo>
                    <a:lnTo>
                      <a:pt x="0" y="174"/>
                    </a:lnTo>
                    <a:lnTo>
                      <a:pt x="2" y="152"/>
                    </a:lnTo>
                    <a:lnTo>
                      <a:pt x="4" y="129"/>
                    </a:lnTo>
                    <a:lnTo>
                      <a:pt x="8" y="107"/>
                    </a:lnTo>
                    <a:lnTo>
                      <a:pt x="12" y="84"/>
                    </a:lnTo>
                    <a:lnTo>
                      <a:pt x="17" y="62"/>
                    </a:lnTo>
                    <a:lnTo>
                      <a:pt x="23" y="40"/>
                    </a:lnTo>
                    <a:lnTo>
                      <a:pt x="28" y="20"/>
                    </a:lnTo>
                    <a:lnTo>
                      <a:pt x="35" y="0"/>
                    </a:lnTo>
                    <a:lnTo>
                      <a:pt x="3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5" name=""/>
              <p:cNvSpPr/>
              <p:nvPr/>
            </p:nvSpPr>
            <p:spPr>
              <a:xfrm>
                <a:off x="5848920" y="5681520"/>
                <a:ext cx="16920" cy="85680"/>
              </a:xfrm>
              <a:custGeom>
                <a:avLst/>
                <a:gdLst/>
                <a:ahLst/>
                <a:rect l="l" t="t" r="r" b="b"/>
                <a:pathLst>
                  <a:path w="34" h="170">
                    <a:moveTo>
                      <a:pt x="34" y="0"/>
                    </a:moveTo>
                    <a:lnTo>
                      <a:pt x="26" y="41"/>
                    </a:lnTo>
                    <a:lnTo>
                      <a:pt x="19" y="82"/>
                    </a:lnTo>
                    <a:lnTo>
                      <a:pt x="13" y="125"/>
                    </a:lnTo>
                    <a:lnTo>
                      <a:pt x="7" y="167"/>
                    </a:lnTo>
                    <a:lnTo>
                      <a:pt x="0" y="170"/>
                    </a:lnTo>
                    <a:lnTo>
                      <a:pt x="0" y="126"/>
                    </a:lnTo>
                    <a:lnTo>
                      <a:pt x="7" y="83"/>
                    </a:lnTo>
                    <a:lnTo>
                      <a:pt x="18" y="41"/>
                    </a:lnTo>
                    <a:lnTo>
                      <a:pt x="29" y="0"/>
                    </a:lnTo>
                    <a:lnTo>
                      <a:pt x="3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 name=""/>
              <p:cNvSpPr/>
              <p:nvPr/>
            </p:nvSpPr>
            <p:spPr>
              <a:xfrm>
                <a:off x="5822640" y="5692680"/>
                <a:ext cx="11880" cy="78480"/>
              </a:xfrm>
              <a:custGeom>
                <a:avLst/>
                <a:gdLst/>
                <a:ahLst/>
                <a:rect l="l" t="t" r="r" b="b"/>
                <a:pathLst>
                  <a:path w="25" h="157">
                    <a:moveTo>
                      <a:pt x="25" y="0"/>
                    </a:moveTo>
                    <a:lnTo>
                      <a:pt x="21" y="39"/>
                    </a:lnTo>
                    <a:lnTo>
                      <a:pt x="15" y="77"/>
                    </a:lnTo>
                    <a:lnTo>
                      <a:pt x="10" y="117"/>
                    </a:lnTo>
                    <a:lnTo>
                      <a:pt x="5" y="157"/>
                    </a:lnTo>
                    <a:lnTo>
                      <a:pt x="2" y="157"/>
                    </a:lnTo>
                    <a:lnTo>
                      <a:pt x="0" y="117"/>
                    </a:lnTo>
                    <a:lnTo>
                      <a:pt x="5" y="77"/>
                    </a:lnTo>
                    <a:lnTo>
                      <a:pt x="13" y="38"/>
                    </a:lnTo>
                    <a:lnTo>
                      <a:pt x="19" y="0"/>
                    </a:lnTo>
                    <a:lnTo>
                      <a:pt x="25"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7" name=""/>
              <p:cNvSpPr/>
              <p:nvPr/>
            </p:nvSpPr>
            <p:spPr>
              <a:xfrm>
                <a:off x="6135480" y="5692680"/>
                <a:ext cx="56520" cy="158400"/>
              </a:xfrm>
              <a:custGeom>
                <a:avLst/>
                <a:gdLst/>
                <a:ahLst/>
                <a:rect l="l" t="t" r="r" b="b"/>
                <a:pathLst>
                  <a:path w="112" h="315">
                    <a:moveTo>
                      <a:pt x="94" y="69"/>
                    </a:moveTo>
                    <a:lnTo>
                      <a:pt x="93" y="72"/>
                    </a:lnTo>
                    <a:lnTo>
                      <a:pt x="91" y="76"/>
                    </a:lnTo>
                    <a:lnTo>
                      <a:pt x="89" y="81"/>
                    </a:lnTo>
                    <a:lnTo>
                      <a:pt x="89" y="83"/>
                    </a:lnTo>
                    <a:lnTo>
                      <a:pt x="76" y="111"/>
                    </a:lnTo>
                    <a:lnTo>
                      <a:pt x="63" y="140"/>
                    </a:lnTo>
                    <a:lnTo>
                      <a:pt x="52" y="167"/>
                    </a:lnTo>
                    <a:lnTo>
                      <a:pt x="41" y="196"/>
                    </a:lnTo>
                    <a:lnTo>
                      <a:pt x="30" y="225"/>
                    </a:lnTo>
                    <a:lnTo>
                      <a:pt x="20" y="255"/>
                    </a:lnTo>
                    <a:lnTo>
                      <a:pt x="10" y="285"/>
                    </a:lnTo>
                    <a:lnTo>
                      <a:pt x="0" y="315"/>
                    </a:lnTo>
                    <a:lnTo>
                      <a:pt x="7" y="276"/>
                    </a:lnTo>
                    <a:lnTo>
                      <a:pt x="17" y="236"/>
                    </a:lnTo>
                    <a:lnTo>
                      <a:pt x="30" y="197"/>
                    </a:lnTo>
                    <a:lnTo>
                      <a:pt x="46" y="159"/>
                    </a:lnTo>
                    <a:lnTo>
                      <a:pt x="62" y="121"/>
                    </a:lnTo>
                    <a:lnTo>
                      <a:pt x="78" y="83"/>
                    </a:lnTo>
                    <a:lnTo>
                      <a:pt x="93" y="45"/>
                    </a:lnTo>
                    <a:lnTo>
                      <a:pt x="106" y="6"/>
                    </a:lnTo>
                    <a:lnTo>
                      <a:pt x="112" y="0"/>
                    </a:lnTo>
                    <a:lnTo>
                      <a:pt x="109" y="17"/>
                    </a:lnTo>
                    <a:lnTo>
                      <a:pt x="106" y="36"/>
                    </a:lnTo>
                    <a:lnTo>
                      <a:pt x="100" y="53"/>
                    </a:lnTo>
                    <a:lnTo>
                      <a:pt x="9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161040" y="5702760"/>
                <a:ext cx="89640" cy="293760"/>
              </a:xfrm>
              <a:custGeom>
                <a:avLst/>
                <a:gdLst/>
                <a:ahLst/>
                <a:rect l="l" t="t" r="r" b="b"/>
                <a:pathLst>
                  <a:path w="177" h="582">
                    <a:moveTo>
                      <a:pt x="177" y="82"/>
                    </a:moveTo>
                    <a:lnTo>
                      <a:pt x="174" y="97"/>
                    </a:lnTo>
                    <a:lnTo>
                      <a:pt x="170" y="112"/>
                    </a:lnTo>
                    <a:lnTo>
                      <a:pt x="166" y="126"/>
                    </a:lnTo>
                    <a:lnTo>
                      <a:pt x="162" y="141"/>
                    </a:lnTo>
                    <a:lnTo>
                      <a:pt x="157" y="154"/>
                    </a:lnTo>
                    <a:lnTo>
                      <a:pt x="152" y="169"/>
                    </a:lnTo>
                    <a:lnTo>
                      <a:pt x="146" y="183"/>
                    </a:lnTo>
                    <a:lnTo>
                      <a:pt x="138" y="196"/>
                    </a:lnTo>
                    <a:lnTo>
                      <a:pt x="130" y="222"/>
                    </a:lnTo>
                    <a:lnTo>
                      <a:pt x="119" y="248"/>
                    </a:lnTo>
                    <a:lnTo>
                      <a:pt x="109" y="274"/>
                    </a:lnTo>
                    <a:lnTo>
                      <a:pt x="106" y="303"/>
                    </a:lnTo>
                    <a:lnTo>
                      <a:pt x="98" y="335"/>
                    </a:lnTo>
                    <a:lnTo>
                      <a:pt x="90" y="366"/>
                    </a:lnTo>
                    <a:lnTo>
                      <a:pt x="79" y="398"/>
                    </a:lnTo>
                    <a:lnTo>
                      <a:pt x="68" y="429"/>
                    </a:lnTo>
                    <a:lnTo>
                      <a:pt x="56" y="460"/>
                    </a:lnTo>
                    <a:lnTo>
                      <a:pt x="45" y="491"/>
                    </a:lnTo>
                    <a:lnTo>
                      <a:pt x="33" y="522"/>
                    </a:lnTo>
                    <a:lnTo>
                      <a:pt x="22" y="553"/>
                    </a:lnTo>
                    <a:lnTo>
                      <a:pt x="17" y="561"/>
                    </a:lnTo>
                    <a:lnTo>
                      <a:pt x="12" y="569"/>
                    </a:lnTo>
                    <a:lnTo>
                      <a:pt x="7" y="577"/>
                    </a:lnTo>
                    <a:lnTo>
                      <a:pt x="0" y="582"/>
                    </a:lnTo>
                    <a:lnTo>
                      <a:pt x="3" y="561"/>
                    </a:lnTo>
                    <a:lnTo>
                      <a:pt x="9" y="535"/>
                    </a:lnTo>
                    <a:lnTo>
                      <a:pt x="16" y="505"/>
                    </a:lnTo>
                    <a:lnTo>
                      <a:pt x="25" y="475"/>
                    </a:lnTo>
                    <a:lnTo>
                      <a:pt x="32" y="446"/>
                    </a:lnTo>
                    <a:lnTo>
                      <a:pt x="39" y="422"/>
                    </a:lnTo>
                    <a:lnTo>
                      <a:pt x="43" y="406"/>
                    </a:lnTo>
                    <a:lnTo>
                      <a:pt x="46" y="400"/>
                    </a:lnTo>
                    <a:lnTo>
                      <a:pt x="54" y="355"/>
                    </a:lnTo>
                    <a:lnTo>
                      <a:pt x="64" y="312"/>
                    </a:lnTo>
                    <a:lnTo>
                      <a:pt x="77" y="268"/>
                    </a:lnTo>
                    <a:lnTo>
                      <a:pt x="92" y="226"/>
                    </a:lnTo>
                    <a:lnTo>
                      <a:pt x="108" y="183"/>
                    </a:lnTo>
                    <a:lnTo>
                      <a:pt x="124" y="141"/>
                    </a:lnTo>
                    <a:lnTo>
                      <a:pt x="139" y="98"/>
                    </a:lnTo>
                    <a:lnTo>
                      <a:pt x="152" y="54"/>
                    </a:lnTo>
                    <a:lnTo>
                      <a:pt x="164" y="0"/>
                    </a:lnTo>
                    <a:lnTo>
                      <a:pt x="168" y="21"/>
                    </a:lnTo>
                    <a:lnTo>
                      <a:pt x="172" y="41"/>
                    </a:lnTo>
                    <a:lnTo>
                      <a:pt x="175" y="62"/>
                    </a:lnTo>
                    <a:lnTo>
                      <a:pt x="177" y="82"/>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793480" y="5713920"/>
                <a:ext cx="9720" cy="52560"/>
              </a:xfrm>
              <a:custGeom>
                <a:avLst/>
                <a:gdLst/>
                <a:ahLst/>
                <a:rect l="l" t="t" r="r" b="b"/>
                <a:pathLst>
                  <a:path w="19" h="102">
                    <a:moveTo>
                      <a:pt x="19" y="3"/>
                    </a:moveTo>
                    <a:lnTo>
                      <a:pt x="7" y="102"/>
                    </a:lnTo>
                    <a:lnTo>
                      <a:pt x="0" y="102"/>
                    </a:lnTo>
                    <a:lnTo>
                      <a:pt x="1" y="75"/>
                    </a:lnTo>
                    <a:lnTo>
                      <a:pt x="5" y="49"/>
                    </a:lnTo>
                    <a:lnTo>
                      <a:pt x="10" y="24"/>
                    </a:lnTo>
                    <a:lnTo>
                      <a:pt x="16" y="0"/>
                    </a:lnTo>
                    <a:lnTo>
                      <a:pt x="19"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0" name=""/>
              <p:cNvSpPr/>
              <p:nvPr/>
            </p:nvSpPr>
            <p:spPr>
              <a:xfrm>
                <a:off x="5929920" y="5689800"/>
                <a:ext cx="12960" cy="51480"/>
              </a:xfrm>
              <a:custGeom>
                <a:avLst/>
                <a:gdLst/>
                <a:ahLst/>
                <a:rect l="l" t="t" r="r" b="b"/>
                <a:pathLst>
                  <a:path w="26" h="102">
                    <a:moveTo>
                      <a:pt x="26" y="4"/>
                    </a:moveTo>
                    <a:lnTo>
                      <a:pt x="6" y="102"/>
                    </a:lnTo>
                    <a:lnTo>
                      <a:pt x="0" y="101"/>
                    </a:lnTo>
                    <a:lnTo>
                      <a:pt x="3" y="74"/>
                    </a:lnTo>
                    <a:lnTo>
                      <a:pt x="8" y="49"/>
                    </a:lnTo>
                    <a:lnTo>
                      <a:pt x="14" y="23"/>
                    </a:lnTo>
                    <a:lnTo>
                      <a:pt x="22" y="0"/>
                    </a:lnTo>
                    <a:lnTo>
                      <a:pt x="26" y="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61" name=""/>
              <p:cNvSpPr/>
              <p:nvPr/>
            </p:nvSpPr>
            <p:spPr>
              <a:xfrm>
                <a:off x="6186240" y="5731200"/>
                <a:ext cx="83520" cy="274680"/>
              </a:xfrm>
              <a:custGeom>
                <a:avLst/>
                <a:gdLst/>
                <a:ahLst/>
                <a:rect l="l" t="t" r="r" b="b"/>
                <a:pathLst>
                  <a:path w="167" h="545">
                    <a:moveTo>
                      <a:pt x="145" y="145"/>
                    </a:moveTo>
                    <a:lnTo>
                      <a:pt x="144" y="153"/>
                    </a:lnTo>
                    <a:lnTo>
                      <a:pt x="139" y="163"/>
                    </a:lnTo>
                    <a:lnTo>
                      <a:pt x="135" y="173"/>
                    </a:lnTo>
                    <a:lnTo>
                      <a:pt x="132" y="183"/>
                    </a:lnTo>
                    <a:lnTo>
                      <a:pt x="131" y="193"/>
                    </a:lnTo>
                    <a:lnTo>
                      <a:pt x="128" y="202"/>
                    </a:lnTo>
                    <a:lnTo>
                      <a:pt x="123" y="210"/>
                    </a:lnTo>
                    <a:lnTo>
                      <a:pt x="118" y="217"/>
                    </a:lnTo>
                    <a:lnTo>
                      <a:pt x="114" y="239"/>
                    </a:lnTo>
                    <a:lnTo>
                      <a:pt x="107" y="258"/>
                    </a:lnTo>
                    <a:lnTo>
                      <a:pt x="100" y="278"/>
                    </a:lnTo>
                    <a:lnTo>
                      <a:pt x="100" y="297"/>
                    </a:lnTo>
                    <a:lnTo>
                      <a:pt x="90" y="327"/>
                    </a:lnTo>
                    <a:lnTo>
                      <a:pt x="81" y="357"/>
                    </a:lnTo>
                    <a:lnTo>
                      <a:pt x="71" y="387"/>
                    </a:lnTo>
                    <a:lnTo>
                      <a:pt x="62" y="417"/>
                    </a:lnTo>
                    <a:lnTo>
                      <a:pt x="52" y="447"/>
                    </a:lnTo>
                    <a:lnTo>
                      <a:pt x="42" y="477"/>
                    </a:lnTo>
                    <a:lnTo>
                      <a:pt x="30" y="506"/>
                    </a:lnTo>
                    <a:lnTo>
                      <a:pt x="16" y="534"/>
                    </a:lnTo>
                    <a:lnTo>
                      <a:pt x="13" y="538"/>
                    </a:lnTo>
                    <a:lnTo>
                      <a:pt x="9" y="542"/>
                    </a:lnTo>
                    <a:lnTo>
                      <a:pt x="5" y="544"/>
                    </a:lnTo>
                    <a:lnTo>
                      <a:pt x="0" y="545"/>
                    </a:lnTo>
                    <a:lnTo>
                      <a:pt x="4" y="528"/>
                    </a:lnTo>
                    <a:lnTo>
                      <a:pt x="8" y="511"/>
                    </a:lnTo>
                    <a:lnTo>
                      <a:pt x="13" y="493"/>
                    </a:lnTo>
                    <a:lnTo>
                      <a:pt x="17" y="476"/>
                    </a:lnTo>
                    <a:lnTo>
                      <a:pt x="23" y="459"/>
                    </a:lnTo>
                    <a:lnTo>
                      <a:pt x="28" y="443"/>
                    </a:lnTo>
                    <a:lnTo>
                      <a:pt x="33" y="425"/>
                    </a:lnTo>
                    <a:lnTo>
                      <a:pt x="38" y="408"/>
                    </a:lnTo>
                    <a:lnTo>
                      <a:pt x="45" y="394"/>
                    </a:lnTo>
                    <a:lnTo>
                      <a:pt x="51" y="379"/>
                    </a:lnTo>
                    <a:lnTo>
                      <a:pt x="55" y="364"/>
                    </a:lnTo>
                    <a:lnTo>
                      <a:pt x="59" y="349"/>
                    </a:lnTo>
                    <a:lnTo>
                      <a:pt x="63" y="333"/>
                    </a:lnTo>
                    <a:lnTo>
                      <a:pt x="67" y="317"/>
                    </a:lnTo>
                    <a:lnTo>
                      <a:pt x="70" y="302"/>
                    </a:lnTo>
                    <a:lnTo>
                      <a:pt x="75" y="286"/>
                    </a:lnTo>
                    <a:lnTo>
                      <a:pt x="78" y="257"/>
                    </a:lnTo>
                    <a:lnTo>
                      <a:pt x="84" y="231"/>
                    </a:lnTo>
                    <a:lnTo>
                      <a:pt x="91" y="204"/>
                    </a:lnTo>
                    <a:lnTo>
                      <a:pt x="100" y="178"/>
                    </a:lnTo>
                    <a:lnTo>
                      <a:pt x="109" y="152"/>
                    </a:lnTo>
                    <a:lnTo>
                      <a:pt x="119" y="127"/>
                    </a:lnTo>
                    <a:lnTo>
                      <a:pt x="127" y="102"/>
                    </a:lnTo>
                    <a:lnTo>
                      <a:pt x="135" y="76"/>
                    </a:lnTo>
                    <a:lnTo>
                      <a:pt x="143" y="58"/>
                    </a:lnTo>
                    <a:lnTo>
                      <a:pt x="146" y="38"/>
                    </a:lnTo>
                    <a:lnTo>
                      <a:pt x="151" y="19"/>
                    </a:lnTo>
                    <a:lnTo>
                      <a:pt x="158" y="0"/>
                    </a:lnTo>
                    <a:lnTo>
                      <a:pt x="167" y="36"/>
                    </a:lnTo>
                    <a:lnTo>
                      <a:pt x="167" y="73"/>
                    </a:lnTo>
                    <a:lnTo>
                      <a:pt x="158" y="110"/>
                    </a:lnTo>
                    <a:lnTo>
                      <a:pt x="145" y="145"/>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722920" y="5740200"/>
                <a:ext cx="9720" cy="34200"/>
              </a:xfrm>
              <a:custGeom>
                <a:avLst/>
                <a:gdLst/>
                <a:ahLst/>
                <a:rect l="l" t="t" r="r" b="b"/>
                <a:pathLst>
                  <a:path w="20" h="67">
                    <a:moveTo>
                      <a:pt x="18" y="0"/>
                    </a:moveTo>
                    <a:lnTo>
                      <a:pt x="19" y="16"/>
                    </a:lnTo>
                    <a:lnTo>
                      <a:pt x="20" y="33"/>
                    </a:lnTo>
                    <a:lnTo>
                      <a:pt x="19" y="50"/>
                    </a:lnTo>
                    <a:lnTo>
                      <a:pt x="15" y="67"/>
                    </a:lnTo>
                    <a:lnTo>
                      <a:pt x="3" y="57"/>
                    </a:lnTo>
                    <a:lnTo>
                      <a:pt x="0" y="43"/>
                    </a:lnTo>
                    <a:lnTo>
                      <a:pt x="3" y="27"/>
                    </a:lnTo>
                    <a:lnTo>
                      <a:pt x="4" y="11"/>
                    </a:lnTo>
                    <a:lnTo>
                      <a:pt x="8" y="9"/>
                    </a:lnTo>
                    <a:lnTo>
                      <a:pt x="11" y="5"/>
                    </a:lnTo>
                    <a:lnTo>
                      <a:pt x="13" y="1"/>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3" name=""/>
              <p:cNvSpPr/>
              <p:nvPr/>
            </p:nvSpPr>
            <p:spPr>
              <a:xfrm>
                <a:off x="5748840" y="5743080"/>
                <a:ext cx="6120" cy="31320"/>
              </a:xfrm>
              <a:custGeom>
                <a:avLst/>
                <a:gdLst/>
                <a:ahLst/>
                <a:rect l="l" t="t" r="r" b="b"/>
                <a:pathLst>
                  <a:path w="13" h="63">
                    <a:moveTo>
                      <a:pt x="11" y="0"/>
                    </a:moveTo>
                    <a:lnTo>
                      <a:pt x="12" y="16"/>
                    </a:lnTo>
                    <a:lnTo>
                      <a:pt x="13" y="33"/>
                    </a:lnTo>
                    <a:lnTo>
                      <a:pt x="12" y="49"/>
                    </a:lnTo>
                    <a:lnTo>
                      <a:pt x="8" y="63"/>
                    </a:lnTo>
                    <a:lnTo>
                      <a:pt x="1" y="46"/>
                    </a:lnTo>
                    <a:lnTo>
                      <a:pt x="0" y="31"/>
                    </a:lnTo>
                    <a:lnTo>
                      <a:pt x="4" y="15"/>
                    </a:lnTo>
                    <a:lnTo>
                      <a:pt x="5" y="0"/>
                    </a:lnTo>
                    <a:lnTo>
                      <a:pt x="1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4" name=""/>
              <p:cNvSpPr/>
              <p:nvPr/>
            </p:nvSpPr>
            <p:spPr>
              <a:xfrm>
                <a:off x="6212520" y="5744520"/>
                <a:ext cx="80280" cy="277560"/>
              </a:xfrm>
              <a:custGeom>
                <a:avLst/>
                <a:gdLst/>
                <a:ahLst/>
                <a:rect l="l" t="t" r="r" b="b"/>
                <a:pathLst>
                  <a:path w="160" h="548">
                    <a:moveTo>
                      <a:pt x="153" y="80"/>
                    </a:moveTo>
                    <a:lnTo>
                      <a:pt x="145" y="106"/>
                    </a:lnTo>
                    <a:lnTo>
                      <a:pt x="138" y="131"/>
                    </a:lnTo>
                    <a:lnTo>
                      <a:pt x="132" y="158"/>
                    </a:lnTo>
                    <a:lnTo>
                      <a:pt x="128" y="184"/>
                    </a:lnTo>
                    <a:lnTo>
                      <a:pt x="121" y="211"/>
                    </a:lnTo>
                    <a:lnTo>
                      <a:pt x="114" y="236"/>
                    </a:lnTo>
                    <a:lnTo>
                      <a:pt x="105" y="261"/>
                    </a:lnTo>
                    <a:lnTo>
                      <a:pt x="92" y="286"/>
                    </a:lnTo>
                    <a:lnTo>
                      <a:pt x="89" y="310"/>
                    </a:lnTo>
                    <a:lnTo>
                      <a:pt x="83" y="334"/>
                    </a:lnTo>
                    <a:lnTo>
                      <a:pt x="75" y="358"/>
                    </a:lnTo>
                    <a:lnTo>
                      <a:pt x="66" y="382"/>
                    </a:lnTo>
                    <a:lnTo>
                      <a:pt x="56" y="405"/>
                    </a:lnTo>
                    <a:lnTo>
                      <a:pt x="46" y="430"/>
                    </a:lnTo>
                    <a:lnTo>
                      <a:pt x="38" y="454"/>
                    </a:lnTo>
                    <a:lnTo>
                      <a:pt x="31" y="479"/>
                    </a:lnTo>
                    <a:lnTo>
                      <a:pt x="23" y="495"/>
                    </a:lnTo>
                    <a:lnTo>
                      <a:pt x="16" y="514"/>
                    </a:lnTo>
                    <a:lnTo>
                      <a:pt x="10" y="532"/>
                    </a:lnTo>
                    <a:lnTo>
                      <a:pt x="1" y="548"/>
                    </a:lnTo>
                    <a:lnTo>
                      <a:pt x="0" y="531"/>
                    </a:lnTo>
                    <a:lnTo>
                      <a:pt x="1" y="514"/>
                    </a:lnTo>
                    <a:lnTo>
                      <a:pt x="6" y="498"/>
                    </a:lnTo>
                    <a:lnTo>
                      <a:pt x="10" y="480"/>
                    </a:lnTo>
                    <a:lnTo>
                      <a:pt x="16" y="464"/>
                    </a:lnTo>
                    <a:lnTo>
                      <a:pt x="22" y="448"/>
                    </a:lnTo>
                    <a:lnTo>
                      <a:pt x="27" y="433"/>
                    </a:lnTo>
                    <a:lnTo>
                      <a:pt x="30" y="417"/>
                    </a:lnTo>
                    <a:lnTo>
                      <a:pt x="40" y="390"/>
                    </a:lnTo>
                    <a:lnTo>
                      <a:pt x="50" y="362"/>
                    </a:lnTo>
                    <a:lnTo>
                      <a:pt x="58" y="334"/>
                    </a:lnTo>
                    <a:lnTo>
                      <a:pt x="65" y="304"/>
                    </a:lnTo>
                    <a:lnTo>
                      <a:pt x="71" y="275"/>
                    </a:lnTo>
                    <a:lnTo>
                      <a:pt x="78" y="246"/>
                    </a:lnTo>
                    <a:lnTo>
                      <a:pt x="85" y="218"/>
                    </a:lnTo>
                    <a:lnTo>
                      <a:pt x="92" y="189"/>
                    </a:lnTo>
                    <a:lnTo>
                      <a:pt x="96" y="173"/>
                    </a:lnTo>
                    <a:lnTo>
                      <a:pt x="101" y="156"/>
                    </a:lnTo>
                    <a:lnTo>
                      <a:pt x="106" y="140"/>
                    </a:lnTo>
                    <a:lnTo>
                      <a:pt x="105" y="124"/>
                    </a:lnTo>
                    <a:lnTo>
                      <a:pt x="107" y="121"/>
                    </a:lnTo>
                    <a:lnTo>
                      <a:pt x="108" y="117"/>
                    </a:lnTo>
                    <a:lnTo>
                      <a:pt x="111" y="115"/>
                    </a:lnTo>
                    <a:lnTo>
                      <a:pt x="114" y="114"/>
                    </a:lnTo>
                    <a:lnTo>
                      <a:pt x="126" y="86"/>
                    </a:lnTo>
                    <a:lnTo>
                      <a:pt x="132" y="57"/>
                    </a:lnTo>
                    <a:lnTo>
                      <a:pt x="138" y="30"/>
                    </a:lnTo>
                    <a:lnTo>
                      <a:pt x="146" y="2"/>
                    </a:lnTo>
                    <a:lnTo>
                      <a:pt x="147" y="0"/>
                    </a:lnTo>
                    <a:lnTo>
                      <a:pt x="157" y="17"/>
                    </a:lnTo>
                    <a:lnTo>
                      <a:pt x="160" y="38"/>
                    </a:lnTo>
                    <a:lnTo>
                      <a:pt x="159" y="60"/>
                    </a:lnTo>
                    <a:lnTo>
                      <a:pt x="153" y="80"/>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69360" y="5759640"/>
                <a:ext cx="3600" cy="5760"/>
              </a:xfrm>
              <a:custGeom>
                <a:avLst/>
                <a:gdLst/>
                <a:ahLst/>
                <a:rect l="l" t="t" r="r" b="b"/>
                <a:pathLst>
                  <a:path w="6" h="11">
                    <a:moveTo>
                      <a:pt x="6" y="3"/>
                    </a:moveTo>
                    <a:lnTo>
                      <a:pt x="6" y="5"/>
                    </a:lnTo>
                    <a:lnTo>
                      <a:pt x="6" y="8"/>
                    </a:lnTo>
                    <a:lnTo>
                      <a:pt x="5" y="10"/>
                    </a:lnTo>
                    <a:lnTo>
                      <a:pt x="4" y="11"/>
                    </a:lnTo>
                    <a:lnTo>
                      <a:pt x="0" y="0"/>
                    </a:lnTo>
                    <a:lnTo>
                      <a:pt x="2" y="0"/>
                    </a:lnTo>
                    <a:lnTo>
                      <a:pt x="4" y="0"/>
                    </a:lnTo>
                    <a:lnTo>
                      <a:pt x="5" y="1"/>
                    </a:lnTo>
                    <a:lnTo>
                      <a:pt x="6"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6" name=""/>
              <p:cNvSpPr/>
              <p:nvPr/>
            </p:nvSpPr>
            <p:spPr>
              <a:xfrm>
                <a:off x="6033600" y="5550480"/>
                <a:ext cx="3960" cy="5040"/>
              </a:xfrm>
              <a:custGeom>
                <a:avLst/>
                <a:gdLst/>
                <a:ahLst/>
                <a:rect l="l" t="t" r="r" b="b"/>
                <a:pathLst>
                  <a:path w="7" h="10">
                    <a:moveTo>
                      <a:pt x="7" y="2"/>
                    </a:moveTo>
                    <a:lnTo>
                      <a:pt x="7" y="4"/>
                    </a:lnTo>
                    <a:lnTo>
                      <a:pt x="7" y="7"/>
                    </a:lnTo>
                    <a:lnTo>
                      <a:pt x="6" y="9"/>
                    </a:lnTo>
                    <a:lnTo>
                      <a:pt x="5" y="10"/>
                    </a:lnTo>
                    <a:lnTo>
                      <a:pt x="0" y="0"/>
                    </a:lnTo>
                    <a:lnTo>
                      <a:pt x="3" y="0"/>
                    </a:lnTo>
                    <a:lnTo>
                      <a:pt x="5" y="0"/>
                    </a:lnTo>
                    <a:lnTo>
                      <a:pt x="6" y="1"/>
                    </a:lnTo>
                    <a:lnTo>
                      <a:pt x="7"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 name=""/>
              <p:cNvSpPr/>
              <p:nvPr/>
            </p:nvSpPr>
            <p:spPr>
              <a:xfrm>
                <a:off x="5462280" y="5765400"/>
                <a:ext cx="299880" cy="167400"/>
              </a:xfrm>
              <a:custGeom>
                <a:avLst/>
                <a:gdLst/>
                <a:ahLst/>
                <a:rect l="l" t="t" r="r" b="b"/>
                <a:pathLst>
                  <a:path w="595" h="332">
                    <a:moveTo>
                      <a:pt x="133" y="5"/>
                    </a:moveTo>
                    <a:lnTo>
                      <a:pt x="145" y="8"/>
                    </a:lnTo>
                    <a:lnTo>
                      <a:pt x="158" y="12"/>
                    </a:lnTo>
                    <a:lnTo>
                      <a:pt x="171" y="15"/>
                    </a:lnTo>
                    <a:lnTo>
                      <a:pt x="183" y="19"/>
                    </a:lnTo>
                    <a:lnTo>
                      <a:pt x="197" y="22"/>
                    </a:lnTo>
                    <a:lnTo>
                      <a:pt x="210" y="25"/>
                    </a:lnTo>
                    <a:lnTo>
                      <a:pt x="223" y="29"/>
                    </a:lnTo>
                    <a:lnTo>
                      <a:pt x="235" y="32"/>
                    </a:lnTo>
                    <a:lnTo>
                      <a:pt x="248" y="37"/>
                    </a:lnTo>
                    <a:lnTo>
                      <a:pt x="261" y="40"/>
                    </a:lnTo>
                    <a:lnTo>
                      <a:pt x="273" y="45"/>
                    </a:lnTo>
                    <a:lnTo>
                      <a:pt x="285" y="50"/>
                    </a:lnTo>
                    <a:lnTo>
                      <a:pt x="297" y="53"/>
                    </a:lnTo>
                    <a:lnTo>
                      <a:pt x="309" y="58"/>
                    </a:lnTo>
                    <a:lnTo>
                      <a:pt x="322" y="63"/>
                    </a:lnTo>
                    <a:lnTo>
                      <a:pt x="333" y="68"/>
                    </a:lnTo>
                    <a:lnTo>
                      <a:pt x="353" y="70"/>
                    </a:lnTo>
                    <a:lnTo>
                      <a:pt x="370" y="75"/>
                    </a:lnTo>
                    <a:lnTo>
                      <a:pt x="388" y="82"/>
                    </a:lnTo>
                    <a:lnTo>
                      <a:pt x="405" y="90"/>
                    </a:lnTo>
                    <a:lnTo>
                      <a:pt x="422" y="98"/>
                    </a:lnTo>
                    <a:lnTo>
                      <a:pt x="439" y="105"/>
                    </a:lnTo>
                    <a:lnTo>
                      <a:pt x="456" y="111"/>
                    </a:lnTo>
                    <a:lnTo>
                      <a:pt x="475" y="114"/>
                    </a:lnTo>
                    <a:lnTo>
                      <a:pt x="484" y="116"/>
                    </a:lnTo>
                    <a:lnTo>
                      <a:pt x="494" y="118"/>
                    </a:lnTo>
                    <a:lnTo>
                      <a:pt x="505" y="118"/>
                    </a:lnTo>
                    <a:lnTo>
                      <a:pt x="515" y="118"/>
                    </a:lnTo>
                    <a:lnTo>
                      <a:pt x="525" y="119"/>
                    </a:lnTo>
                    <a:lnTo>
                      <a:pt x="534" y="121"/>
                    </a:lnTo>
                    <a:lnTo>
                      <a:pt x="540" y="127"/>
                    </a:lnTo>
                    <a:lnTo>
                      <a:pt x="545" y="135"/>
                    </a:lnTo>
                    <a:lnTo>
                      <a:pt x="552" y="143"/>
                    </a:lnTo>
                    <a:lnTo>
                      <a:pt x="552" y="152"/>
                    </a:lnTo>
                    <a:lnTo>
                      <a:pt x="552" y="161"/>
                    </a:lnTo>
                    <a:lnTo>
                      <a:pt x="558" y="170"/>
                    </a:lnTo>
                    <a:lnTo>
                      <a:pt x="560" y="159"/>
                    </a:lnTo>
                    <a:lnTo>
                      <a:pt x="559" y="149"/>
                    </a:lnTo>
                    <a:lnTo>
                      <a:pt x="557" y="140"/>
                    </a:lnTo>
                    <a:lnTo>
                      <a:pt x="555" y="129"/>
                    </a:lnTo>
                    <a:lnTo>
                      <a:pt x="567" y="131"/>
                    </a:lnTo>
                    <a:lnTo>
                      <a:pt x="575" y="137"/>
                    </a:lnTo>
                    <a:lnTo>
                      <a:pt x="581" y="145"/>
                    </a:lnTo>
                    <a:lnTo>
                      <a:pt x="584" y="155"/>
                    </a:lnTo>
                    <a:lnTo>
                      <a:pt x="586" y="165"/>
                    </a:lnTo>
                    <a:lnTo>
                      <a:pt x="588" y="176"/>
                    </a:lnTo>
                    <a:lnTo>
                      <a:pt x="590" y="187"/>
                    </a:lnTo>
                    <a:lnTo>
                      <a:pt x="593" y="197"/>
                    </a:lnTo>
                    <a:lnTo>
                      <a:pt x="593" y="199"/>
                    </a:lnTo>
                    <a:lnTo>
                      <a:pt x="592" y="203"/>
                    </a:lnTo>
                    <a:lnTo>
                      <a:pt x="593" y="206"/>
                    </a:lnTo>
                    <a:lnTo>
                      <a:pt x="595" y="209"/>
                    </a:lnTo>
                    <a:lnTo>
                      <a:pt x="589" y="213"/>
                    </a:lnTo>
                    <a:lnTo>
                      <a:pt x="589" y="243"/>
                    </a:lnTo>
                    <a:lnTo>
                      <a:pt x="582" y="272"/>
                    </a:lnTo>
                    <a:lnTo>
                      <a:pt x="572" y="300"/>
                    </a:lnTo>
                    <a:lnTo>
                      <a:pt x="563" y="327"/>
                    </a:lnTo>
                    <a:lnTo>
                      <a:pt x="561" y="329"/>
                    </a:lnTo>
                    <a:lnTo>
                      <a:pt x="560" y="331"/>
                    </a:lnTo>
                    <a:lnTo>
                      <a:pt x="558" y="332"/>
                    </a:lnTo>
                    <a:lnTo>
                      <a:pt x="554" y="332"/>
                    </a:lnTo>
                    <a:lnTo>
                      <a:pt x="557" y="299"/>
                    </a:lnTo>
                    <a:lnTo>
                      <a:pt x="560" y="263"/>
                    </a:lnTo>
                    <a:lnTo>
                      <a:pt x="562" y="227"/>
                    </a:lnTo>
                    <a:lnTo>
                      <a:pt x="561" y="193"/>
                    </a:lnTo>
                    <a:lnTo>
                      <a:pt x="560" y="193"/>
                    </a:lnTo>
                    <a:lnTo>
                      <a:pt x="560" y="193"/>
                    </a:lnTo>
                    <a:lnTo>
                      <a:pt x="559" y="193"/>
                    </a:lnTo>
                    <a:lnTo>
                      <a:pt x="558" y="191"/>
                    </a:lnTo>
                    <a:lnTo>
                      <a:pt x="551" y="205"/>
                    </a:lnTo>
                    <a:lnTo>
                      <a:pt x="548" y="221"/>
                    </a:lnTo>
                    <a:lnTo>
                      <a:pt x="546" y="236"/>
                    </a:lnTo>
                    <a:lnTo>
                      <a:pt x="540" y="251"/>
                    </a:lnTo>
                    <a:lnTo>
                      <a:pt x="540" y="259"/>
                    </a:lnTo>
                    <a:lnTo>
                      <a:pt x="539" y="269"/>
                    </a:lnTo>
                    <a:lnTo>
                      <a:pt x="536" y="277"/>
                    </a:lnTo>
                    <a:lnTo>
                      <a:pt x="531" y="284"/>
                    </a:lnTo>
                    <a:lnTo>
                      <a:pt x="532" y="286"/>
                    </a:lnTo>
                    <a:lnTo>
                      <a:pt x="524" y="292"/>
                    </a:lnTo>
                    <a:lnTo>
                      <a:pt x="519" y="300"/>
                    </a:lnTo>
                    <a:lnTo>
                      <a:pt x="514" y="309"/>
                    </a:lnTo>
                    <a:lnTo>
                      <a:pt x="507" y="317"/>
                    </a:lnTo>
                    <a:lnTo>
                      <a:pt x="514" y="282"/>
                    </a:lnTo>
                    <a:lnTo>
                      <a:pt x="519" y="250"/>
                    </a:lnTo>
                    <a:lnTo>
                      <a:pt x="519" y="217"/>
                    </a:lnTo>
                    <a:lnTo>
                      <a:pt x="512" y="183"/>
                    </a:lnTo>
                    <a:lnTo>
                      <a:pt x="509" y="201"/>
                    </a:lnTo>
                    <a:lnTo>
                      <a:pt x="506" y="218"/>
                    </a:lnTo>
                    <a:lnTo>
                      <a:pt x="502" y="235"/>
                    </a:lnTo>
                    <a:lnTo>
                      <a:pt x="498" y="252"/>
                    </a:lnTo>
                    <a:lnTo>
                      <a:pt x="492" y="269"/>
                    </a:lnTo>
                    <a:lnTo>
                      <a:pt x="485" y="285"/>
                    </a:lnTo>
                    <a:lnTo>
                      <a:pt x="478" y="300"/>
                    </a:lnTo>
                    <a:lnTo>
                      <a:pt x="469" y="315"/>
                    </a:lnTo>
                    <a:lnTo>
                      <a:pt x="463" y="315"/>
                    </a:lnTo>
                    <a:lnTo>
                      <a:pt x="467" y="301"/>
                    </a:lnTo>
                    <a:lnTo>
                      <a:pt x="471" y="288"/>
                    </a:lnTo>
                    <a:lnTo>
                      <a:pt x="474" y="276"/>
                    </a:lnTo>
                    <a:lnTo>
                      <a:pt x="472" y="261"/>
                    </a:lnTo>
                    <a:lnTo>
                      <a:pt x="474" y="238"/>
                    </a:lnTo>
                    <a:lnTo>
                      <a:pt x="476" y="216"/>
                    </a:lnTo>
                    <a:lnTo>
                      <a:pt x="477" y="195"/>
                    </a:lnTo>
                    <a:lnTo>
                      <a:pt x="475" y="175"/>
                    </a:lnTo>
                    <a:lnTo>
                      <a:pt x="469" y="183"/>
                    </a:lnTo>
                    <a:lnTo>
                      <a:pt x="468" y="193"/>
                    </a:lnTo>
                    <a:lnTo>
                      <a:pt x="467" y="203"/>
                    </a:lnTo>
                    <a:lnTo>
                      <a:pt x="464" y="212"/>
                    </a:lnTo>
                    <a:lnTo>
                      <a:pt x="462" y="225"/>
                    </a:lnTo>
                    <a:lnTo>
                      <a:pt x="460" y="236"/>
                    </a:lnTo>
                    <a:lnTo>
                      <a:pt x="456" y="248"/>
                    </a:lnTo>
                    <a:lnTo>
                      <a:pt x="452" y="259"/>
                    </a:lnTo>
                    <a:lnTo>
                      <a:pt x="446" y="270"/>
                    </a:lnTo>
                    <a:lnTo>
                      <a:pt x="439" y="280"/>
                    </a:lnTo>
                    <a:lnTo>
                      <a:pt x="432" y="289"/>
                    </a:lnTo>
                    <a:lnTo>
                      <a:pt x="423" y="297"/>
                    </a:lnTo>
                    <a:lnTo>
                      <a:pt x="424" y="284"/>
                    </a:lnTo>
                    <a:lnTo>
                      <a:pt x="426" y="271"/>
                    </a:lnTo>
                    <a:lnTo>
                      <a:pt x="430" y="258"/>
                    </a:lnTo>
                    <a:lnTo>
                      <a:pt x="436" y="246"/>
                    </a:lnTo>
                    <a:lnTo>
                      <a:pt x="434" y="243"/>
                    </a:lnTo>
                    <a:lnTo>
                      <a:pt x="437" y="231"/>
                    </a:lnTo>
                    <a:lnTo>
                      <a:pt x="439" y="214"/>
                    </a:lnTo>
                    <a:lnTo>
                      <a:pt x="440" y="198"/>
                    </a:lnTo>
                    <a:lnTo>
                      <a:pt x="440" y="183"/>
                    </a:lnTo>
                    <a:lnTo>
                      <a:pt x="433" y="190"/>
                    </a:lnTo>
                    <a:lnTo>
                      <a:pt x="430" y="201"/>
                    </a:lnTo>
                    <a:lnTo>
                      <a:pt x="428" y="211"/>
                    </a:lnTo>
                    <a:lnTo>
                      <a:pt x="426" y="221"/>
                    </a:lnTo>
                    <a:lnTo>
                      <a:pt x="422" y="229"/>
                    </a:lnTo>
                    <a:lnTo>
                      <a:pt x="418" y="239"/>
                    </a:lnTo>
                    <a:lnTo>
                      <a:pt x="415" y="250"/>
                    </a:lnTo>
                    <a:lnTo>
                      <a:pt x="409" y="259"/>
                    </a:lnTo>
                    <a:lnTo>
                      <a:pt x="403" y="266"/>
                    </a:lnTo>
                    <a:lnTo>
                      <a:pt x="400" y="273"/>
                    </a:lnTo>
                    <a:lnTo>
                      <a:pt x="395" y="279"/>
                    </a:lnTo>
                    <a:lnTo>
                      <a:pt x="387" y="278"/>
                    </a:lnTo>
                    <a:lnTo>
                      <a:pt x="398" y="249"/>
                    </a:lnTo>
                    <a:lnTo>
                      <a:pt x="406" y="219"/>
                    </a:lnTo>
                    <a:lnTo>
                      <a:pt x="410" y="189"/>
                    </a:lnTo>
                    <a:lnTo>
                      <a:pt x="416" y="160"/>
                    </a:lnTo>
                    <a:lnTo>
                      <a:pt x="416" y="145"/>
                    </a:lnTo>
                    <a:lnTo>
                      <a:pt x="417" y="130"/>
                    </a:lnTo>
                    <a:lnTo>
                      <a:pt x="415" y="116"/>
                    </a:lnTo>
                    <a:lnTo>
                      <a:pt x="407" y="106"/>
                    </a:lnTo>
                    <a:lnTo>
                      <a:pt x="399" y="121"/>
                    </a:lnTo>
                    <a:lnTo>
                      <a:pt x="396" y="141"/>
                    </a:lnTo>
                    <a:lnTo>
                      <a:pt x="395" y="160"/>
                    </a:lnTo>
                    <a:lnTo>
                      <a:pt x="392" y="179"/>
                    </a:lnTo>
                    <a:lnTo>
                      <a:pt x="387" y="183"/>
                    </a:lnTo>
                    <a:lnTo>
                      <a:pt x="387" y="188"/>
                    </a:lnTo>
                    <a:lnTo>
                      <a:pt x="387" y="193"/>
                    </a:lnTo>
                    <a:lnTo>
                      <a:pt x="386" y="197"/>
                    </a:lnTo>
                    <a:lnTo>
                      <a:pt x="379" y="210"/>
                    </a:lnTo>
                    <a:lnTo>
                      <a:pt x="373" y="224"/>
                    </a:lnTo>
                    <a:lnTo>
                      <a:pt x="367" y="236"/>
                    </a:lnTo>
                    <a:lnTo>
                      <a:pt x="356" y="247"/>
                    </a:lnTo>
                    <a:lnTo>
                      <a:pt x="358" y="250"/>
                    </a:lnTo>
                    <a:lnTo>
                      <a:pt x="357" y="251"/>
                    </a:lnTo>
                    <a:lnTo>
                      <a:pt x="355" y="254"/>
                    </a:lnTo>
                    <a:lnTo>
                      <a:pt x="355" y="257"/>
                    </a:lnTo>
                    <a:lnTo>
                      <a:pt x="350" y="261"/>
                    </a:lnTo>
                    <a:lnTo>
                      <a:pt x="357" y="226"/>
                    </a:lnTo>
                    <a:lnTo>
                      <a:pt x="367" y="191"/>
                    </a:lnTo>
                    <a:lnTo>
                      <a:pt x="371" y="156"/>
                    </a:lnTo>
                    <a:lnTo>
                      <a:pt x="368" y="120"/>
                    </a:lnTo>
                    <a:lnTo>
                      <a:pt x="367" y="118"/>
                    </a:lnTo>
                    <a:lnTo>
                      <a:pt x="365" y="116"/>
                    </a:lnTo>
                    <a:lnTo>
                      <a:pt x="364" y="115"/>
                    </a:lnTo>
                    <a:lnTo>
                      <a:pt x="362" y="115"/>
                    </a:lnTo>
                    <a:lnTo>
                      <a:pt x="358" y="122"/>
                    </a:lnTo>
                    <a:lnTo>
                      <a:pt x="357" y="131"/>
                    </a:lnTo>
                    <a:lnTo>
                      <a:pt x="356" y="140"/>
                    </a:lnTo>
                    <a:lnTo>
                      <a:pt x="355" y="149"/>
                    </a:lnTo>
                    <a:lnTo>
                      <a:pt x="353" y="161"/>
                    </a:lnTo>
                    <a:lnTo>
                      <a:pt x="348" y="173"/>
                    </a:lnTo>
                    <a:lnTo>
                      <a:pt x="344" y="183"/>
                    </a:lnTo>
                    <a:lnTo>
                      <a:pt x="338" y="194"/>
                    </a:lnTo>
                    <a:lnTo>
                      <a:pt x="332" y="204"/>
                    </a:lnTo>
                    <a:lnTo>
                      <a:pt x="326" y="214"/>
                    </a:lnTo>
                    <a:lnTo>
                      <a:pt x="322" y="226"/>
                    </a:lnTo>
                    <a:lnTo>
                      <a:pt x="318" y="238"/>
                    </a:lnTo>
                    <a:lnTo>
                      <a:pt x="315" y="224"/>
                    </a:lnTo>
                    <a:lnTo>
                      <a:pt x="316" y="208"/>
                    </a:lnTo>
                    <a:lnTo>
                      <a:pt x="319" y="193"/>
                    </a:lnTo>
                    <a:lnTo>
                      <a:pt x="326" y="179"/>
                    </a:lnTo>
                    <a:lnTo>
                      <a:pt x="326" y="166"/>
                    </a:lnTo>
                    <a:lnTo>
                      <a:pt x="329" y="153"/>
                    </a:lnTo>
                    <a:lnTo>
                      <a:pt x="331" y="142"/>
                    </a:lnTo>
                    <a:lnTo>
                      <a:pt x="333" y="129"/>
                    </a:lnTo>
                    <a:lnTo>
                      <a:pt x="329" y="126"/>
                    </a:lnTo>
                    <a:lnTo>
                      <a:pt x="326" y="121"/>
                    </a:lnTo>
                    <a:lnTo>
                      <a:pt x="325" y="115"/>
                    </a:lnTo>
                    <a:lnTo>
                      <a:pt x="324" y="110"/>
                    </a:lnTo>
                    <a:lnTo>
                      <a:pt x="316" y="127"/>
                    </a:lnTo>
                    <a:lnTo>
                      <a:pt x="311" y="146"/>
                    </a:lnTo>
                    <a:lnTo>
                      <a:pt x="307" y="166"/>
                    </a:lnTo>
                    <a:lnTo>
                      <a:pt x="299" y="183"/>
                    </a:lnTo>
                    <a:lnTo>
                      <a:pt x="293" y="194"/>
                    </a:lnTo>
                    <a:lnTo>
                      <a:pt x="287" y="206"/>
                    </a:lnTo>
                    <a:lnTo>
                      <a:pt x="281" y="218"/>
                    </a:lnTo>
                    <a:lnTo>
                      <a:pt x="271" y="226"/>
                    </a:lnTo>
                    <a:lnTo>
                      <a:pt x="268" y="221"/>
                    </a:lnTo>
                    <a:lnTo>
                      <a:pt x="274" y="197"/>
                    </a:lnTo>
                    <a:lnTo>
                      <a:pt x="282" y="174"/>
                    </a:lnTo>
                    <a:lnTo>
                      <a:pt x="286" y="151"/>
                    </a:lnTo>
                    <a:lnTo>
                      <a:pt x="281" y="127"/>
                    </a:lnTo>
                    <a:lnTo>
                      <a:pt x="276" y="135"/>
                    </a:lnTo>
                    <a:lnTo>
                      <a:pt x="271" y="143"/>
                    </a:lnTo>
                    <a:lnTo>
                      <a:pt x="266" y="151"/>
                    </a:lnTo>
                    <a:lnTo>
                      <a:pt x="262" y="159"/>
                    </a:lnTo>
                    <a:lnTo>
                      <a:pt x="257" y="168"/>
                    </a:lnTo>
                    <a:lnTo>
                      <a:pt x="254" y="176"/>
                    </a:lnTo>
                    <a:lnTo>
                      <a:pt x="249" y="184"/>
                    </a:lnTo>
                    <a:lnTo>
                      <a:pt x="244" y="193"/>
                    </a:lnTo>
                    <a:lnTo>
                      <a:pt x="238" y="193"/>
                    </a:lnTo>
                    <a:lnTo>
                      <a:pt x="236" y="198"/>
                    </a:lnTo>
                    <a:lnTo>
                      <a:pt x="235" y="203"/>
                    </a:lnTo>
                    <a:lnTo>
                      <a:pt x="230" y="203"/>
                    </a:lnTo>
                    <a:lnTo>
                      <a:pt x="236" y="180"/>
                    </a:lnTo>
                    <a:lnTo>
                      <a:pt x="243" y="155"/>
                    </a:lnTo>
                    <a:lnTo>
                      <a:pt x="249" y="129"/>
                    </a:lnTo>
                    <a:lnTo>
                      <a:pt x="254" y="104"/>
                    </a:lnTo>
                    <a:lnTo>
                      <a:pt x="249" y="98"/>
                    </a:lnTo>
                    <a:lnTo>
                      <a:pt x="241" y="110"/>
                    </a:lnTo>
                    <a:lnTo>
                      <a:pt x="233" y="122"/>
                    </a:lnTo>
                    <a:lnTo>
                      <a:pt x="225" y="134"/>
                    </a:lnTo>
                    <a:lnTo>
                      <a:pt x="217" y="144"/>
                    </a:lnTo>
                    <a:lnTo>
                      <a:pt x="215" y="156"/>
                    </a:lnTo>
                    <a:lnTo>
                      <a:pt x="209" y="165"/>
                    </a:lnTo>
                    <a:lnTo>
                      <a:pt x="202" y="173"/>
                    </a:lnTo>
                    <a:lnTo>
                      <a:pt x="196" y="183"/>
                    </a:lnTo>
                    <a:lnTo>
                      <a:pt x="188" y="179"/>
                    </a:lnTo>
                    <a:lnTo>
                      <a:pt x="194" y="164"/>
                    </a:lnTo>
                    <a:lnTo>
                      <a:pt x="201" y="148"/>
                    </a:lnTo>
                    <a:lnTo>
                      <a:pt x="208" y="131"/>
                    </a:lnTo>
                    <a:lnTo>
                      <a:pt x="215" y="114"/>
                    </a:lnTo>
                    <a:lnTo>
                      <a:pt x="220" y="98"/>
                    </a:lnTo>
                    <a:lnTo>
                      <a:pt x="224" y="81"/>
                    </a:lnTo>
                    <a:lnTo>
                      <a:pt x="224" y="65"/>
                    </a:lnTo>
                    <a:lnTo>
                      <a:pt x="221" y="47"/>
                    </a:lnTo>
                    <a:lnTo>
                      <a:pt x="211" y="40"/>
                    </a:lnTo>
                    <a:lnTo>
                      <a:pt x="204" y="58"/>
                    </a:lnTo>
                    <a:lnTo>
                      <a:pt x="202" y="77"/>
                    </a:lnTo>
                    <a:lnTo>
                      <a:pt x="198" y="95"/>
                    </a:lnTo>
                    <a:lnTo>
                      <a:pt x="188" y="106"/>
                    </a:lnTo>
                    <a:lnTo>
                      <a:pt x="190" y="107"/>
                    </a:lnTo>
                    <a:lnTo>
                      <a:pt x="186" y="122"/>
                    </a:lnTo>
                    <a:lnTo>
                      <a:pt x="180" y="138"/>
                    </a:lnTo>
                    <a:lnTo>
                      <a:pt x="172" y="152"/>
                    </a:lnTo>
                    <a:lnTo>
                      <a:pt x="159" y="163"/>
                    </a:lnTo>
                    <a:lnTo>
                      <a:pt x="155" y="158"/>
                    </a:lnTo>
                    <a:lnTo>
                      <a:pt x="165" y="134"/>
                    </a:lnTo>
                    <a:lnTo>
                      <a:pt x="175" y="111"/>
                    </a:lnTo>
                    <a:lnTo>
                      <a:pt x="182" y="89"/>
                    </a:lnTo>
                    <a:lnTo>
                      <a:pt x="182" y="65"/>
                    </a:lnTo>
                    <a:lnTo>
                      <a:pt x="175" y="74"/>
                    </a:lnTo>
                    <a:lnTo>
                      <a:pt x="168" y="83"/>
                    </a:lnTo>
                    <a:lnTo>
                      <a:pt x="164" y="92"/>
                    </a:lnTo>
                    <a:lnTo>
                      <a:pt x="158" y="103"/>
                    </a:lnTo>
                    <a:lnTo>
                      <a:pt x="154" y="112"/>
                    </a:lnTo>
                    <a:lnTo>
                      <a:pt x="148" y="121"/>
                    </a:lnTo>
                    <a:lnTo>
                      <a:pt x="141" y="130"/>
                    </a:lnTo>
                    <a:lnTo>
                      <a:pt x="133" y="138"/>
                    </a:lnTo>
                    <a:lnTo>
                      <a:pt x="134" y="130"/>
                    </a:lnTo>
                    <a:lnTo>
                      <a:pt x="135" y="120"/>
                    </a:lnTo>
                    <a:lnTo>
                      <a:pt x="137" y="111"/>
                    </a:lnTo>
                    <a:lnTo>
                      <a:pt x="140" y="102"/>
                    </a:lnTo>
                    <a:lnTo>
                      <a:pt x="141" y="88"/>
                    </a:lnTo>
                    <a:lnTo>
                      <a:pt x="144" y="74"/>
                    </a:lnTo>
                    <a:lnTo>
                      <a:pt x="145" y="61"/>
                    </a:lnTo>
                    <a:lnTo>
                      <a:pt x="142" y="48"/>
                    </a:lnTo>
                    <a:lnTo>
                      <a:pt x="137" y="58"/>
                    </a:lnTo>
                    <a:lnTo>
                      <a:pt x="134" y="67"/>
                    </a:lnTo>
                    <a:lnTo>
                      <a:pt x="129" y="75"/>
                    </a:lnTo>
                    <a:lnTo>
                      <a:pt x="125" y="84"/>
                    </a:lnTo>
                    <a:lnTo>
                      <a:pt x="120" y="92"/>
                    </a:lnTo>
                    <a:lnTo>
                      <a:pt x="114" y="100"/>
                    </a:lnTo>
                    <a:lnTo>
                      <a:pt x="109" y="108"/>
                    </a:lnTo>
                    <a:lnTo>
                      <a:pt x="103" y="116"/>
                    </a:lnTo>
                    <a:lnTo>
                      <a:pt x="97" y="105"/>
                    </a:lnTo>
                    <a:lnTo>
                      <a:pt x="99" y="91"/>
                    </a:lnTo>
                    <a:lnTo>
                      <a:pt x="104" y="76"/>
                    </a:lnTo>
                    <a:lnTo>
                      <a:pt x="106" y="62"/>
                    </a:lnTo>
                    <a:lnTo>
                      <a:pt x="105" y="59"/>
                    </a:lnTo>
                    <a:lnTo>
                      <a:pt x="104" y="54"/>
                    </a:lnTo>
                    <a:lnTo>
                      <a:pt x="103" y="51"/>
                    </a:lnTo>
                    <a:lnTo>
                      <a:pt x="101" y="47"/>
                    </a:lnTo>
                    <a:lnTo>
                      <a:pt x="98" y="58"/>
                    </a:lnTo>
                    <a:lnTo>
                      <a:pt x="95" y="69"/>
                    </a:lnTo>
                    <a:lnTo>
                      <a:pt x="90" y="78"/>
                    </a:lnTo>
                    <a:lnTo>
                      <a:pt x="82" y="88"/>
                    </a:lnTo>
                    <a:lnTo>
                      <a:pt x="83" y="95"/>
                    </a:lnTo>
                    <a:lnTo>
                      <a:pt x="80" y="99"/>
                    </a:lnTo>
                    <a:lnTo>
                      <a:pt x="74" y="103"/>
                    </a:lnTo>
                    <a:lnTo>
                      <a:pt x="71" y="107"/>
                    </a:lnTo>
                    <a:lnTo>
                      <a:pt x="67" y="106"/>
                    </a:lnTo>
                    <a:lnTo>
                      <a:pt x="65" y="105"/>
                    </a:lnTo>
                    <a:lnTo>
                      <a:pt x="61" y="105"/>
                    </a:lnTo>
                    <a:lnTo>
                      <a:pt x="58" y="104"/>
                    </a:lnTo>
                    <a:lnTo>
                      <a:pt x="61" y="92"/>
                    </a:lnTo>
                    <a:lnTo>
                      <a:pt x="65" y="80"/>
                    </a:lnTo>
                    <a:lnTo>
                      <a:pt x="67" y="67"/>
                    </a:lnTo>
                    <a:lnTo>
                      <a:pt x="66" y="57"/>
                    </a:lnTo>
                    <a:lnTo>
                      <a:pt x="60" y="54"/>
                    </a:lnTo>
                    <a:lnTo>
                      <a:pt x="54" y="65"/>
                    </a:lnTo>
                    <a:lnTo>
                      <a:pt x="50" y="76"/>
                    </a:lnTo>
                    <a:lnTo>
                      <a:pt x="43" y="85"/>
                    </a:lnTo>
                    <a:lnTo>
                      <a:pt x="31" y="90"/>
                    </a:lnTo>
                    <a:lnTo>
                      <a:pt x="29" y="89"/>
                    </a:lnTo>
                    <a:lnTo>
                      <a:pt x="27" y="87"/>
                    </a:lnTo>
                    <a:lnTo>
                      <a:pt x="25" y="84"/>
                    </a:lnTo>
                    <a:lnTo>
                      <a:pt x="22" y="82"/>
                    </a:lnTo>
                    <a:lnTo>
                      <a:pt x="22" y="72"/>
                    </a:lnTo>
                    <a:lnTo>
                      <a:pt x="22" y="61"/>
                    </a:lnTo>
                    <a:lnTo>
                      <a:pt x="25" y="51"/>
                    </a:lnTo>
                    <a:lnTo>
                      <a:pt x="28" y="40"/>
                    </a:lnTo>
                    <a:lnTo>
                      <a:pt x="20" y="43"/>
                    </a:lnTo>
                    <a:lnTo>
                      <a:pt x="15" y="51"/>
                    </a:lnTo>
                    <a:lnTo>
                      <a:pt x="12" y="61"/>
                    </a:lnTo>
                    <a:lnTo>
                      <a:pt x="8" y="68"/>
                    </a:lnTo>
                    <a:lnTo>
                      <a:pt x="7" y="67"/>
                    </a:lnTo>
                    <a:lnTo>
                      <a:pt x="5" y="65"/>
                    </a:lnTo>
                    <a:lnTo>
                      <a:pt x="4" y="62"/>
                    </a:lnTo>
                    <a:lnTo>
                      <a:pt x="4" y="60"/>
                    </a:lnTo>
                    <a:lnTo>
                      <a:pt x="8" y="57"/>
                    </a:lnTo>
                    <a:lnTo>
                      <a:pt x="1" y="53"/>
                    </a:lnTo>
                    <a:lnTo>
                      <a:pt x="0" y="43"/>
                    </a:lnTo>
                    <a:lnTo>
                      <a:pt x="1" y="30"/>
                    </a:lnTo>
                    <a:lnTo>
                      <a:pt x="3" y="21"/>
                    </a:lnTo>
                    <a:lnTo>
                      <a:pt x="16" y="9"/>
                    </a:lnTo>
                    <a:lnTo>
                      <a:pt x="30" y="2"/>
                    </a:lnTo>
                    <a:lnTo>
                      <a:pt x="46" y="0"/>
                    </a:lnTo>
                    <a:lnTo>
                      <a:pt x="63" y="0"/>
                    </a:lnTo>
                    <a:lnTo>
                      <a:pt x="80" y="2"/>
                    </a:lnTo>
                    <a:lnTo>
                      <a:pt x="98" y="5"/>
                    </a:lnTo>
                    <a:lnTo>
                      <a:pt x="116" y="6"/>
                    </a:lnTo>
                    <a:lnTo>
                      <a:pt x="133" y="5"/>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354720" y="5784840"/>
                <a:ext cx="18000" cy="46440"/>
              </a:xfrm>
              <a:custGeom>
                <a:avLst/>
                <a:gdLst/>
                <a:ahLst/>
                <a:rect l="l" t="t" r="r" b="b"/>
                <a:pathLst>
                  <a:path w="37" h="91">
                    <a:moveTo>
                      <a:pt x="33" y="35"/>
                    </a:moveTo>
                    <a:lnTo>
                      <a:pt x="20" y="48"/>
                    </a:lnTo>
                    <a:lnTo>
                      <a:pt x="14" y="63"/>
                    </a:lnTo>
                    <a:lnTo>
                      <a:pt x="9" y="79"/>
                    </a:lnTo>
                    <a:lnTo>
                      <a:pt x="0" y="91"/>
                    </a:lnTo>
                    <a:lnTo>
                      <a:pt x="1" y="74"/>
                    </a:lnTo>
                    <a:lnTo>
                      <a:pt x="6" y="56"/>
                    </a:lnTo>
                    <a:lnTo>
                      <a:pt x="8" y="38"/>
                    </a:lnTo>
                    <a:lnTo>
                      <a:pt x="6" y="21"/>
                    </a:lnTo>
                    <a:lnTo>
                      <a:pt x="10" y="0"/>
                    </a:lnTo>
                    <a:lnTo>
                      <a:pt x="15" y="4"/>
                    </a:lnTo>
                    <a:lnTo>
                      <a:pt x="21" y="6"/>
                    </a:lnTo>
                    <a:lnTo>
                      <a:pt x="27" y="9"/>
                    </a:lnTo>
                    <a:lnTo>
                      <a:pt x="31" y="13"/>
                    </a:lnTo>
                    <a:lnTo>
                      <a:pt x="35" y="16"/>
                    </a:lnTo>
                    <a:lnTo>
                      <a:pt x="37" y="22"/>
                    </a:lnTo>
                    <a:lnTo>
                      <a:pt x="37" y="28"/>
                    </a:lnTo>
                    <a:lnTo>
                      <a:pt x="33" y="35"/>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9" name=""/>
              <p:cNvSpPr/>
              <p:nvPr/>
            </p:nvSpPr>
            <p:spPr>
              <a:xfrm>
                <a:off x="6378120" y="5797800"/>
                <a:ext cx="12960" cy="40320"/>
              </a:xfrm>
              <a:custGeom>
                <a:avLst/>
                <a:gdLst/>
                <a:ahLst/>
                <a:rect l="l" t="t" r="r" b="b"/>
                <a:pathLst>
                  <a:path w="27" h="79">
                    <a:moveTo>
                      <a:pt x="27" y="11"/>
                    </a:moveTo>
                    <a:lnTo>
                      <a:pt x="0" y="79"/>
                    </a:lnTo>
                    <a:lnTo>
                      <a:pt x="1" y="62"/>
                    </a:lnTo>
                    <a:lnTo>
                      <a:pt x="4" y="41"/>
                    </a:lnTo>
                    <a:lnTo>
                      <a:pt x="5" y="20"/>
                    </a:lnTo>
                    <a:lnTo>
                      <a:pt x="2" y="0"/>
                    </a:lnTo>
                    <a:lnTo>
                      <a:pt x="9" y="3"/>
                    </a:lnTo>
                    <a:lnTo>
                      <a:pt x="15" y="8"/>
                    </a:lnTo>
                    <a:lnTo>
                      <a:pt x="22" y="11"/>
                    </a:lnTo>
                    <a:lnTo>
                      <a:pt x="27" y="1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70" name=""/>
              <p:cNvSpPr/>
              <p:nvPr/>
            </p:nvSpPr>
            <p:spPr>
              <a:xfrm>
                <a:off x="6394320" y="5811840"/>
                <a:ext cx="11880" cy="35280"/>
              </a:xfrm>
              <a:custGeom>
                <a:avLst/>
                <a:gdLst/>
                <a:ahLst/>
                <a:rect l="l" t="t" r="r" b="b"/>
                <a:pathLst>
                  <a:path w="24" h="71">
                    <a:moveTo>
                      <a:pt x="0" y="71"/>
                    </a:moveTo>
                    <a:lnTo>
                      <a:pt x="0" y="52"/>
                    </a:lnTo>
                    <a:lnTo>
                      <a:pt x="3" y="35"/>
                    </a:lnTo>
                    <a:lnTo>
                      <a:pt x="6" y="19"/>
                    </a:lnTo>
                    <a:lnTo>
                      <a:pt x="9" y="3"/>
                    </a:lnTo>
                    <a:lnTo>
                      <a:pt x="13" y="0"/>
                    </a:lnTo>
                    <a:lnTo>
                      <a:pt x="17" y="0"/>
                    </a:lnTo>
                    <a:lnTo>
                      <a:pt x="20" y="4"/>
                    </a:lnTo>
                    <a:lnTo>
                      <a:pt x="24" y="8"/>
                    </a:lnTo>
                    <a:lnTo>
                      <a:pt x="0" y="7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1" name=""/>
              <p:cNvSpPr/>
              <p:nvPr/>
            </p:nvSpPr>
            <p:spPr>
              <a:xfrm>
                <a:off x="5717880" y="5828400"/>
                <a:ext cx="5760" cy="8640"/>
              </a:xfrm>
              <a:custGeom>
                <a:avLst/>
                <a:gdLst/>
                <a:ahLst/>
                <a:rect l="l" t="t" r="r" b="b"/>
                <a:pathLst>
                  <a:path w="13" h="18">
                    <a:moveTo>
                      <a:pt x="13" y="16"/>
                    </a:moveTo>
                    <a:lnTo>
                      <a:pt x="10" y="17"/>
                    </a:lnTo>
                    <a:lnTo>
                      <a:pt x="9" y="18"/>
                    </a:lnTo>
                    <a:lnTo>
                      <a:pt x="7" y="18"/>
                    </a:lnTo>
                    <a:lnTo>
                      <a:pt x="5" y="18"/>
                    </a:lnTo>
                    <a:lnTo>
                      <a:pt x="1" y="13"/>
                    </a:lnTo>
                    <a:lnTo>
                      <a:pt x="0" y="9"/>
                    </a:lnTo>
                    <a:lnTo>
                      <a:pt x="1" y="3"/>
                    </a:lnTo>
                    <a:lnTo>
                      <a:pt x="5" y="0"/>
                    </a:lnTo>
                    <a:lnTo>
                      <a:pt x="8" y="3"/>
                    </a:lnTo>
                    <a:lnTo>
                      <a:pt x="10" y="6"/>
                    </a:lnTo>
                    <a:lnTo>
                      <a:pt x="13" y="11"/>
                    </a:lnTo>
                    <a:lnTo>
                      <a:pt x="13" y="1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 name=""/>
              <p:cNvSpPr/>
              <p:nvPr/>
            </p:nvSpPr>
            <p:spPr>
              <a:xfrm>
                <a:off x="5762160" y="5843520"/>
                <a:ext cx="19800" cy="91800"/>
              </a:xfrm>
              <a:custGeom>
                <a:avLst/>
                <a:gdLst/>
                <a:ahLst/>
                <a:rect l="l" t="t" r="r" b="b"/>
                <a:pathLst>
                  <a:path w="40" h="181">
                    <a:moveTo>
                      <a:pt x="31" y="23"/>
                    </a:moveTo>
                    <a:lnTo>
                      <a:pt x="35" y="30"/>
                    </a:lnTo>
                    <a:lnTo>
                      <a:pt x="39" y="38"/>
                    </a:lnTo>
                    <a:lnTo>
                      <a:pt x="40" y="46"/>
                    </a:lnTo>
                    <a:lnTo>
                      <a:pt x="34" y="53"/>
                    </a:lnTo>
                    <a:lnTo>
                      <a:pt x="35" y="84"/>
                    </a:lnTo>
                    <a:lnTo>
                      <a:pt x="31" y="116"/>
                    </a:lnTo>
                    <a:lnTo>
                      <a:pt x="21" y="147"/>
                    </a:lnTo>
                    <a:lnTo>
                      <a:pt x="9" y="176"/>
                    </a:lnTo>
                    <a:lnTo>
                      <a:pt x="0" y="181"/>
                    </a:lnTo>
                    <a:lnTo>
                      <a:pt x="8" y="137"/>
                    </a:lnTo>
                    <a:lnTo>
                      <a:pt x="12" y="92"/>
                    </a:lnTo>
                    <a:lnTo>
                      <a:pt x="13" y="46"/>
                    </a:lnTo>
                    <a:lnTo>
                      <a:pt x="9" y="0"/>
                    </a:lnTo>
                    <a:lnTo>
                      <a:pt x="17" y="4"/>
                    </a:lnTo>
                    <a:lnTo>
                      <a:pt x="25" y="10"/>
                    </a:lnTo>
                    <a:lnTo>
                      <a:pt x="31" y="16"/>
                    </a:lnTo>
                    <a:lnTo>
                      <a:pt x="31" y="23"/>
                    </a:lnTo>
                    <a:close/>
                  </a:path>
                </a:pathLst>
              </a:custGeom>
              <a:solidFill>
                <a:srgbClr val="ddc6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5786280" y="5860440"/>
                <a:ext cx="13680" cy="76680"/>
              </a:xfrm>
              <a:custGeom>
                <a:avLst/>
                <a:gdLst/>
                <a:ahLst/>
                <a:rect l="l" t="t" r="r" b="b"/>
                <a:pathLst>
                  <a:path w="28" h="151">
                    <a:moveTo>
                      <a:pt x="28" y="70"/>
                    </a:moveTo>
                    <a:lnTo>
                      <a:pt x="23" y="88"/>
                    </a:lnTo>
                    <a:lnTo>
                      <a:pt x="18" y="106"/>
                    </a:lnTo>
                    <a:lnTo>
                      <a:pt x="13" y="125"/>
                    </a:lnTo>
                    <a:lnTo>
                      <a:pt x="2" y="140"/>
                    </a:lnTo>
                    <a:lnTo>
                      <a:pt x="0" y="151"/>
                    </a:lnTo>
                    <a:lnTo>
                      <a:pt x="5" y="114"/>
                    </a:lnTo>
                    <a:lnTo>
                      <a:pt x="7" y="76"/>
                    </a:lnTo>
                    <a:lnTo>
                      <a:pt x="6" y="37"/>
                    </a:lnTo>
                    <a:lnTo>
                      <a:pt x="6" y="0"/>
                    </a:lnTo>
                    <a:lnTo>
                      <a:pt x="15" y="15"/>
                    </a:lnTo>
                    <a:lnTo>
                      <a:pt x="21" y="34"/>
                    </a:lnTo>
                    <a:lnTo>
                      <a:pt x="24" y="52"/>
                    </a:lnTo>
                    <a:lnTo>
                      <a:pt x="28" y="70"/>
                    </a:lnTo>
                    <a:close/>
                  </a:path>
                </a:pathLst>
              </a:custGeom>
              <a:solidFill>
                <a:srgbClr val="ddc6b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4" name=""/>
              <p:cNvSpPr/>
              <p:nvPr/>
            </p:nvSpPr>
            <p:spPr>
              <a:xfrm>
                <a:off x="6335640" y="6008040"/>
                <a:ext cx="54360" cy="117000"/>
              </a:xfrm>
              <a:custGeom>
                <a:avLst/>
                <a:gdLst/>
                <a:ahLst/>
                <a:rect l="l" t="t" r="r" b="b"/>
                <a:pathLst>
                  <a:path w="107" h="232">
                    <a:moveTo>
                      <a:pt x="107" y="0"/>
                    </a:moveTo>
                    <a:lnTo>
                      <a:pt x="104" y="18"/>
                    </a:lnTo>
                    <a:lnTo>
                      <a:pt x="98" y="36"/>
                    </a:lnTo>
                    <a:lnTo>
                      <a:pt x="92" y="53"/>
                    </a:lnTo>
                    <a:lnTo>
                      <a:pt x="85" y="71"/>
                    </a:lnTo>
                    <a:lnTo>
                      <a:pt x="78" y="89"/>
                    </a:lnTo>
                    <a:lnTo>
                      <a:pt x="72" y="106"/>
                    </a:lnTo>
                    <a:lnTo>
                      <a:pt x="65" y="124"/>
                    </a:lnTo>
                    <a:lnTo>
                      <a:pt x="59" y="143"/>
                    </a:lnTo>
                    <a:lnTo>
                      <a:pt x="57" y="159"/>
                    </a:lnTo>
                    <a:lnTo>
                      <a:pt x="51" y="173"/>
                    </a:lnTo>
                    <a:lnTo>
                      <a:pt x="45" y="188"/>
                    </a:lnTo>
                    <a:lnTo>
                      <a:pt x="42" y="203"/>
                    </a:lnTo>
                    <a:lnTo>
                      <a:pt x="37" y="213"/>
                    </a:lnTo>
                    <a:lnTo>
                      <a:pt x="32" y="223"/>
                    </a:lnTo>
                    <a:lnTo>
                      <a:pt x="26" y="232"/>
                    </a:lnTo>
                    <a:lnTo>
                      <a:pt x="15" y="232"/>
                    </a:lnTo>
                    <a:lnTo>
                      <a:pt x="17" y="228"/>
                    </a:lnTo>
                    <a:lnTo>
                      <a:pt x="17" y="226"/>
                    </a:lnTo>
                    <a:lnTo>
                      <a:pt x="15" y="222"/>
                    </a:lnTo>
                    <a:lnTo>
                      <a:pt x="13" y="220"/>
                    </a:lnTo>
                    <a:lnTo>
                      <a:pt x="9" y="217"/>
                    </a:lnTo>
                    <a:lnTo>
                      <a:pt x="7" y="215"/>
                    </a:lnTo>
                    <a:lnTo>
                      <a:pt x="4" y="214"/>
                    </a:lnTo>
                    <a:lnTo>
                      <a:pt x="0" y="211"/>
                    </a:lnTo>
                    <a:lnTo>
                      <a:pt x="6" y="195"/>
                    </a:lnTo>
                    <a:lnTo>
                      <a:pt x="15" y="180"/>
                    </a:lnTo>
                    <a:lnTo>
                      <a:pt x="26" y="165"/>
                    </a:lnTo>
                    <a:lnTo>
                      <a:pt x="34" y="151"/>
                    </a:lnTo>
                    <a:lnTo>
                      <a:pt x="44" y="131"/>
                    </a:lnTo>
                    <a:lnTo>
                      <a:pt x="53" y="113"/>
                    </a:lnTo>
                    <a:lnTo>
                      <a:pt x="62" y="93"/>
                    </a:lnTo>
                    <a:lnTo>
                      <a:pt x="70" y="75"/>
                    </a:lnTo>
                    <a:lnTo>
                      <a:pt x="78" y="55"/>
                    </a:lnTo>
                    <a:lnTo>
                      <a:pt x="88" y="37"/>
                    </a:lnTo>
                    <a:lnTo>
                      <a:pt x="97" y="18"/>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354720" y="6050520"/>
                <a:ext cx="46440" cy="92520"/>
              </a:xfrm>
              <a:custGeom>
                <a:avLst/>
                <a:gdLst/>
                <a:ahLst/>
                <a:rect l="l" t="t" r="r" b="b"/>
                <a:pathLst>
                  <a:path w="91" h="184">
                    <a:moveTo>
                      <a:pt x="81" y="33"/>
                    </a:moveTo>
                    <a:lnTo>
                      <a:pt x="75" y="53"/>
                    </a:lnTo>
                    <a:lnTo>
                      <a:pt x="68" y="71"/>
                    </a:lnTo>
                    <a:lnTo>
                      <a:pt x="61" y="90"/>
                    </a:lnTo>
                    <a:lnTo>
                      <a:pt x="53" y="108"/>
                    </a:lnTo>
                    <a:lnTo>
                      <a:pt x="45" y="128"/>
                    </a:lnTo>
                    <a:lnTo>
                      <a:pt x="37" y="146"/>
                    </a:lnTo>
                    <a:lnTo>
                      <a:pt x="30" y="165"/>
                    </a:lnTo>
                    <a:lnTo>
                      <a:pt x="23" y="184"/>
                    </a:lnTo>
                    <a:lnTo>
                      <a:pt x="14" y="176"/>
                    </a:lnTo>
                    <a:lnTo>
                      <a:pt x="5" y="169"/>
                    </a:lnTo>
                    <a:lnTo>
                      <a:pt x="0" y="161"/>
                    </a:lnTo>
                    <a:lnTo>
                      <a:pt x="4" y="151"/>
                    </a:lnTo>
                    <a:lnTo>
                      <a:pt x="11" y="145"/>
                    </a:lnTo>
                    <a:lnTo>
                      <a:pt x="16" y="137"/>
                    </a:lnTo>
                    <a:lnTo>
                      <a:pt x="22" y="127"/>
                    </a:lnTo>
                    <a:lnTo>
                      <a:pt x="29" y="116"/>
                    </a:lnTo>
                    <a:lnTo>
                      <a:pt x="37" y="101"/>
                    </a:lnTo>
                    <a:lnTo>
                      <a:pt x="46" y="87"/>
                    </a:lnTo>
                    <a:lnTo>
                      <a:pt x="54" y="74"/>
                    </a:lnTo>
                    <a:lnTo>
                      <a:pt x="62" y="60"/>
                    </a:lnTo>
                    <a:lnTo>
                      <a:pt x="70" y="45"/>
                    </a:lnTo>
                    <a:lnTo>
                      <a:pt x="77" y="31"/>
                    </a:lnTo>
                    <a:lnTo>
                      <a:pt x="84" y="16"/>
                    </a:lnTo>
                    <a:lnTo>
                      <a:pt x="91" y="0"/>
                    </a:lnTo>
                    <a:lnTo>
                      <a:pt x="90" y="8"/>
                    </a:lnTo>
                    <a:lnTo>
                      <a:pt x="88" y="16"/>
                    </a:lnTo>
                    <a:lnTo>
                      <a:pt x="84" y="24"/>
                    </a:lnTo>
                    <a:lnTo>
                      <a:pt x="81" y="33"/>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76" name=""/>
              <p:cNvSpPr/>
              <p:nvPr/>
            </p:nvSpPr>
            <p:spPr>
              <a:xfrm>
                <a:off x="6382080" y="6085800"/>
                <a:ext cx="28080" cy="70560"/>
              </a:xfrm>
              <a:custGeom>
                <a:avLst/>
                <a:gdLst/>
                <a:ahLst/>
                <a:rect l="l" t="t" r="r" b="b"/>
                <a:pathLst>
                  <a:path w="57" h="142">
                    <a:moveTo>
                      <a:pt x="49" y="22"/>
                    </a:moveTo>
                    <a:lnTo>
                      <a:pt x="40" y="46"/>
                    </a:lnTo>
                    <a:lnTo>
                      <a:pt x="31" y="71"/>
                    </a:lnTo>
                    <a:lnTo>
                      <a:pt x="23" y="96"/>
                    </a:lnTo>
                    <a:lnTo>
                      <a:pt x="19" y="121"/>
                    </a:lnTo>
                    <a:lnTo>
                      <a:pt x="15" y="128"/>
                    </a:lnTo>
                    <a:lnTo>
                      <a:pt x="13" y="136"/>
                    </a:lnTo>
                    <a:lnTo>
                      <a:pt x="8" y="142"/>
                    </a:lnTo>
                    <a:lnTo>
                      <a:pt x="0" y="142"/>
                    </a:lnTo>
                    <a:lnTo>
                      <a:pt x="2" y="131"/>
                    </a:lnTo>
                    <a:lnTo>
                      <a:pt x="6" y="120"/>
                    </a:lnTo>
                    <a:lnTo>
                      <a:pt x="9" y="110"/>
                    </a:lnTo>
                    <a:lnTo>
                      <a:pt x="8" y="99"/>
                    </a:lnTo>
                    <a:lnTo>
                      <a:pt x="57" y="0"/>
                    </a:lnTo>
                    <a:lnTo>
                      <a:pt x="57" y="5"/>
                    </a:lnTo>
                    <a:lnTo>
                      <a:pt x="54" y="10"/>
                    </a:lnTo>
                    <a:lnTo>
                      <a:pt x="51" y="16"/>
                    </a:lnTo>
                    <a:lnTo>
                      <a:pt x="49" y="2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77" name=""/>
              <p:cNvSpPr/>
              <p:nvPr/>
            </p:nvSpPr>
            <p:spPr>
              <a:xfrm>
                <a:off x="6403320" y="6134400"/>
                <a:ext cx="14760" cy="32040"/>
              </a:xfrm>
              <a:custGeom>
                <a:avLst/>
                <a:gdLst/>
                <a:ahLst/>
                <a:rect l="l" t="t" r="r" b="b"/>
                <a:pathLst>
                  <a:path w="30" h="64">
                    <a:moveTo>
                      <a:pt x="30" y="4"/>
                    </a:moveTo>
                    <a:lnTo>
                      <a:pt x="25" y="21"/>
                    </a:lnTo>
                    <a:lnTo>
                      <a:pt x="20" y="37"/>
                    </a:lnTo>
                    <a:lnTo>
                      <a:pt x="14" y="52"/>
                    </a:lnTo>
                    <a:lnTo>
                      <a:pt x="4" y="64"/>
                    </a:lnTo>
                    <a:lnTo>
                      <a:pt x="0" y="60"/>
                    </a:lnTo>
                    <a:lnTo>
                      <a:pt x="4" y="44"/>
                    </a:lnTo>
                    <a:lnTo>
                      <a:pt x="11" y="29"/>
                    </a:lnTo>
                    <a:lnTo>
                      <a:pt x="18" y="14"/>
                    </a:lnTo>
                    <a:lnTo>
                      <a:pt x="25" y="0"/>
                    </a:lnTo>
                    <a:lnTo>
                      <a:pt x="30"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 name=""/>
              <p:cNvSpPr/>
              <p:nvPr/>
            </p:nvSpPr>
            <p:spPr>
              <a:xfrm>
                <a:off x="5874120" y="5448240"/>
                <a:ext cx="68400" cy="88560"/>
              </a:xfrm>
              <a:custGeom>
                <a:avLst/>
                <a:gdLst/>
                <a:ahLst/>
                <a:rect l="l" t="t" r="r" b="b"/>
                <a:pathLst>
                  <a:path w="136" h="175">
                    <a:moveTo>
                      <a:pt x="29" y="32"/>
                    </a:moveTo>
                    <a:lnTo>
                      <a:pt x="32" y="23"/>
                    </a:lnTo>
                    <a:lnTo>
                      <a:pt x="37" y="14"/>
                    </a:lnTo>
                    <a:lnTo>
                      <a:pt x="44" y="7"/>
                    </a:lnTo>
                    <a:lnTo>
                      <a:pt x="51" y="0"/>
                    </a:lnTo>
                    <a:lnTo>
                      <a:pt x="54" y="4"/>
                    </a:lnTo>
                    <a:lnTo>
                      <a:pt x="54" y="8"/>
                    </a:lnTo>
                    <a:lnTo>
                      <a:pt x="53" y="15"/>
                    </a:lnTo>
                    <a:lnTo>
                      <a:pt x="55" y="20"/>
                    </a:lnTo>
                    <a:lnTo>
                      <a:pt x="55" y="29"/>
                    </a:lnTo>
                    <a:lnTo>
                      <a:pt x="53" y="40"/>
                    </a:lnTo>
                    <a:lnTo>
                      <a:pt x="53" y="51"/>
                    </a:lnTo>
                    <a:lnTo>
                      <a:pt x="61" y="55"/>
                    </a:lnTo>
                    <a:lnTo>
                      <a:pt x="68" y="50"/>
                    </a:lnTo>
                    <a:lnTo>
                      <a:pt x="70" y="43"/>
                    </a:lnTo>
                    <a:lnTo>
                      <a:pt x="73" y="36"/>
                    </a:lnTo>
                    <a:lnTo>
                      <a:pt x="78" y="31"/>
                    </a:lnTo>
                    <a:lnTo>
                      <a:pt x="85" y="9"/>
                    </a:lnTo>
                    <a:lnTo>
                      <a:pt x="92" y="10"/>
                    </a:lnTo>
                    <a:lnTo>
                      <a:pt x="93" y="15"/>
                    </a:lnTo>
                    <a:lnTo>
                      <a:pt x="92" y="21"/>
                    </a:lnTo>
                    <a:lnTo>
                      <a:pt x="94" y="25"/>
                    </a:lnTo>
                    <a:lnTo>
                      <a:pt x="93" y="40"/>
                    </a:lnTo>
                    <a:lnTo>
                      <a:pt x="93" y="54"/>
                    </a:lnTo>
                    <a:lnTo>
                      <a:pt x="94" y="69"/>
                    </a:lnTo>
                    <a:lnTo>
                      <a:pt x="94" y="84"/>
                    </a:lnTo>
                    <a:lnTo>
                      <a:pt x="100" y="78"/>
                    </a:lnTo>
                    <a:lnTo>
                      <a:pt x="106" y="72"/>
                    </a:lnTo>
                    <a:lnTo>
                      <a:pt x="109" y="63"/>
                    </a:lnTo>
                    <a:lnTo>
                      <a:pt x="114" y="57"/>
                    </a:lnTo>
                    <a:lnTo>
                      <a:pt x="117" y="48"/>
                    </a:lnTo>
                    <a:lnTo>
                      <a:pt x="121" y="40"/>
                    </a:lnTo>
                    <a:lnTo>
                      <a:pt x="125" y="35"/>
                    </a:lnTo>
                    <a:lnTo>
                      <a:pt x="130" y="29"/>
                    </a:lnTo>
                    <a:lnTo>
                      <a:pt x="134" y="39"/>
                    </a:lnTo>
                    <a:lnTo>
                      <a:pt x="136" y="52"/>
                    </a:lnTo>
                    <a:lnTo>
                      <a:pt x="135" y="66"/>
                    </a:lnTo>
                    <a:lnTo>
                      <a:pt x="131" y="80"/>
                    </a:lnTo>
                    <a:lnTo>
                      <a:pt x="132" y="89"/>
                    </a:lnTo>
                    <a:lnTo>
                      <a:pt x="128" y="100"/>
                    </a:lnTo>
                    <a:lnTo>
                      <a:pt x="120" y="115"/>
                    </a:lnTo>
                    <a:lnTo>
                      <a:pt x="109" y="130"/>
                    </a:lnTo>
                    <a:lnTo>
                      <a:pt x="98" y="145"/>
                    </a:lnTo>
                    <a:lnTo>
                      <a:pt x="86" y="158"/>
                    </a:lnTo>
                    <a:lnTo>
                      <a:pt x="77" y="170"/>
                    </a:lnTo>
                    <a:lnTo>
                      <a:pt x="70" y="175"/>
                    </a:lnTo>
                    <a:lnTo>
                      <a:pt x="74" y="163"/>
                    </a:lnTo>
                    <a:lnTo>
                      <a:pt x="76" y="145"/>
                    </a:lnTo>
                    <a:lnTo>
                      <a:pt x="77" y="128"/>
                    </a:lnTo>
                    <a:lnTo>
                      <a:pt x="78" y="114"/>
                    </a:lnTo>
                    <a:lnTo>
                      <a:pt x="73" y="115"/>
                    </a:lnTo>
                    <a:lnTo>
                      <a:pt x="67" y="118"/>
                    </a:lnTo>
                    <a:lnTo>
                      <a:pt x="61" y="121"/>
                    </a:lnTo>
                    <a:lnTo>
                      <a:pt x="54" y="127"/>
                    </a:lnTo>
                    <a:lnTo>
                      <a:pt x="52" y="133"/>
                    </a:lnTo>
                    <a:lnTo>
                      <a:pt x="46" y="138"/>
                    </a:lnTo>
                    <a:lnTo>
                      <a:pt x="39" y="143"/>
                    </a:lnTo>
                    <a:lnTo>
                      <a:pt x="33" y="146"/>
                    </a:lnTo>
                    <a:lnTo>
                      <a:pt x="36" y="125"/>
                    </a:lnTo>
                    <a:lnTo>
                      <a:pt x="38" y="110"/>
                    </a:lnTo>
                    <a:lnTo>
                      <a:pt x="38" y="99"/>
                    </a:lnTo>
                    <a:lnTo>
                      <a:pt x="37" y="93"/>
                    </a:lnTo>
                    <a:lnTo>
                      <a:pt x="31" y="99"/>
                    </a:lnTo>
                    <a:lnTo>
                      <a:pt x="22" y="106"/>
                    </a:lnTo>
                    <a:lnTo>
                      <a:pt x="13" y="112"/>
                    </a:lnTo>
                    <a:lnTo>
                      <a:pt x="9" y="119"/>
                    </a:lnTo>
                    <a:lnTo>
                      <a:pt x="0" y="103"/>
                    </a:lnTo>
                    <a:lnTo>
                      <a:pt x="3" y="83"/>
                    </a:lnTo>
                    <a:lnTo>
                      <a:pt x="11" y="62"/>
                    </a:lnTo>
                    <a:lnTo>
                      <a:pt x="20" y="44"/>
                    </a:lnTo>
                    <a:lnTo>
                      <a:pt x="29" y="32"/>
                    </a:lnTo>
                    <a:close/>
                  </a:path>
                </a:pathLst>
              </a:custGeom>
              <a:solidFill>
                <a:srgbClr val="ddc6b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9" name=""/>
              <p:cNvSpPr/>
              <p:nvPr/>
            </p:nvSpPr>
            <p:spPr>
              <a:xfrm>
                <a:off x="5925600" y="5476680"/>
                <a:ext cx="38160" cy="67320"/>
              </a:xfrm>
              <a:custGeom>
                <a:avLst/>
                <a:gdLst/>
                <a:ahLst/>
                <a:rect l="l" t="t" r="r" b="b"/>
                <a:pathLst>
                  <a:path w="77" h="133">
                    <a:moveTo>
                      <a:pt x="44" y="46"/>
                    </a:moveTo>
                    <a:lnTo>
                      <a:pt x="51" y="34"/>
                    </a:lnTo>
                    <a:lnTo>
                      <a:pt x="53" y="20"/>
                    </a:lnTo>
                    <a:lnTo>
                      <a:pt x="57" y="8"/>
                    </a:lnTo>
                    <a:lnTo>
                      <a:pt x="67" y="0"/>
                    </a:lnTo>
                    <a:lnTo>
                      <a:pt x="74" y="15"/>
                    </a:lnTo>
                    <a:lnTo>
                      <a:pt x="77" y="30"/>
                    </a:lnTo>
                    <a:lnTo>
                      <a:pt x="77" y="43"/>
                    </a:lnTo>
                    <a:lnTo>
                      <a:pt x="76" y="56"/>
                    </a:lnTo>
                    <a:lnTo>
                      <a:pt x="72" y="70"/>
                    </a:lnTo>
                    <a:lnTo>
                      <a:pt x="63" y="83"/>
                    </a:lnTo>
                    <a:lnTo>
                      <a:pt x="53" y="95"/>
                    </a:lnTo>
                    <a:lnTo>
                      <a:pt x="40" y="109"/>
                    </a:lnTo>
                    <a:lnTo>
                      <a:pt x="0" y="133"/>
                    </a:lnTo>
                    <a:lnTo>
                      <a:pt x="6" y="123"/>
                    </a:lnTo>
                    <a:lnTo>
                      <a:pt x="12" y="113"/>
                    </a:lnTo>
                    <a:lnTo>
                      <a:pt x="16" y="101"/>
                    </a:lnTo>
                    <a:lnTo>
                      <a:pt x="22" y="89"/>
                    </a:lnTo>
                    <a:lnTo>
                      <a:pt x="27" y="78"/>
                    </a:lnTo>
                    <a:lnTo>
                      <a:pt x="31" y="66"/>
                    </a:lnTo>
                    <a:lnTo>
                      <a:pt x="37" y="56"/>
                    </a:lnTo>
                    <a:lnTo>
                      <a:pt x="44" y="46"/>
                    </a:lnTo>
                    <a:close/>
                  </a:path>
                </a:pathLst>
              </a:custGeom>
              <a:solidFill>
                <a:srgbClr val="ddc6b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a:off x="5950080" y="5491800"/>
                <a:ext cx="31320" cy="63360"/>
              </a:xfrm>
              <a:custGeom>
                <a:avLst/>
                <a:gdLst/>
                <a:ahLst/>
                <a:rect l="l" t="t" r="r" b="b"/>
                <a:pathLst>
                  <a:path w="62" h="127">
                    <a:moveTo>
                      <a:pt x="57" y="0"/>
                    </a:moveTo>
                    <a:lnTo>
                      <a:pt x="62" y="27"/>
                    </a:lnTo>
                    <a:lnTo>
                      <a:pt x="59" y="50"/>
                    </a:lnTo>
                    <a:lnTo>
                      <a:pt x="51" y="71"/>
                    </a:lnTo>
                    <a:lnTo>
                      <a:pt x="40" y="89"/>
                    </a:lnTo>
                    <a:lnTo>
                      <a:pt x="27" y="103"/>
                    </a:lnTo>
                    <a:lnTo>
                      <a:pt x="14" y="114"/>
                    </a:lnTo>
                    <a:lnTo>
                      <a:pt x="5" y="123"/>
                    </a:lnTo>
                    <a:lnTo>
                      <a:pt x="1" y="127"/>
                    </a:lnTo>
                    <a:lnTo>
                      <a:pt x="0" y="125"/>
                    </a:lnTo>
                    <a:lnTo>
                      <a:pt x="9" y="111"/>
                    </a:lnTo>
                    <a:lnTo>
                      <a:pt x="17" y="96"/>
                    </a:lnTo>
                    <a:lnTo>
                      <a:pt x="24" y="80"/>
                    </a:lnTo>
                    <a:lnTo>
                      <a:pt x="31" y="63"/>
                    </a:lnTo>
                    <a:lnTo>
                      <a:pt x="38" y="45"/>
                    </a:lnTo>
                    <a:lnTo>
                      <a:pt x="43" y="29"/>
                    </a:lnTo>
                    <a:lnTo>
                      <a:pt x="50" y="14"/>
                    </a:lnTo>
                    <a:lnTo>
                      <a:pt x="57" y="0"/>
                    </a:lnTo>
                    <a:close/>
                  </a:path>
                </a:pathLst>
              </a:custGeom>
              <a:solidFill>
                <a:srgbClr val="ddc6b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1" name=""/>
              <p:cNvSpPr/>
              <p:nvPr/>
            </p:nvSpPr>
            <p:spPr>
              <a:xfrm>
                <a:off x="5967000" y="5513760"/>
                <a:ext cx="29880" cy="51480"/>
              </a:xfrm>
              <a:custGeom>
                <a:avLst/>
                <a:gdLst/>
                <a:ahLst/>
                <a:rect l="l" t="t" r="r" b="b"/>
                <a:pathLst>
                  <a:path w="60" h="102">
                    <a:moveTo>
                      <a:pt x="54" y="0"/>
                    </a:moveTo>
                    <a:lnTo>
                      <a:pt x="58" y="8"/>
                    </a:lnTo>
                    <a:lnTo>
                      <a:pt x="60" y="18"/>
                    </a:lnTo>
                    <a:lnTo>
                      <a:pt x="60" y="27"/>
                    </a:lnTo>
                    <a:lnTo>
                      <a:pt x="59" y="37"/>
                    </a:lnTo>
                    <a:lnTo>
                      <a:pt x="54" y="46"/>
                    </a:lnTo>
                    <a:lnTo>
                      <a:pt x="48" y="56"/>
                    </a:lnTo>
                    <a:lnTo>
                      <a:pt x="42" y="65"/>
                    </a:lnTo>
                    <a:lnTo>
                      <a:pt x="33" y="74"/>
                    </a:lnTo>
                    <a:lnTo>
                      <a:pt x="24" y="83"/>
                    </a:lnTo>
                    <a:lnTo>
                      <a:pt x="16" y="91"/>
                    </a:lnTo>
                    <a:lnTo>
                      <a:pt x="7" y="97"/>
                    </a:lnTo>
                    <a:lnTo>
                      <a:pt x="0" y="102"/>
                    </a:lnTo>
                    <a:lnTo>
                      <a:pt x="2" y="96"/>
                    </a:lnTo>
                    <a:lnTo>
                      <a:pt x="7" y="88"/>
                    </a:lnTo>
                    <a:lnTo>
                      <a:pt x="13" y="78"/>
                    </a:lnTo>
                    <a:lnTo>
                      <a:pt x="20" y="66"/>
                    </a:lnTo>
                    <a:lnTo>
                      <a:pt x="25" y="54"/>
                    </a:lnTo>
                    <a:lnTo>
                      <a:pt x="30" y="43"/>
                    </a:lnTo>
                    <a:lnTo>
                      <a:pt x="33" y="34"/>
                    </a:lnTo>
                    <a:lnTo>
                      <a:pt x="33" y="26"/>
                    </a:lnTo>
                    <a:lnTo>
                      <a:pt x="37" y="20"/>
                    </a:lnTo>
                    <a:lnTo>
                      <a:pt x="43" y="13"/>
                    </a:lnTo>
                    <a:lnTo>
                      <a:pt x="48" y="5"/>
                    </a:lnTo>
                    <a:lnTo>
                      <a:pt x="54" y="0"/>
                    </a:lnTo>
                    <a:close/>
                  </a:path>
                </a:pathLst>
              </a:custGeom>
              <a:solidFill>
                <a:srgbClr val="ddc6ba"/>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82" name=""/>
              <p:cNvSpPr/>
              <p:nvPr/>
            </p:nvSpPr>
            <p:spPr>
              <a:xfrm>
                <a:off x="5861880" y="5441400"/>
                <a:ext cx="23040" cy="43200"/>
              </a:xfrm>
              <a:custGeom>
                <a:avLst/>
                <a:gdLst/>
                <a:ahLst/>
                <a:rect l="l" t="t" r="r" b="b"/>
                <a:pathLst>
                  <a:path w="46" h="87">
                    <a:moveTo>
                      <a:pt x="0" y="87"/>
                    </a:moveTo>
                    <a:lnTo>
                      <a:pt x="0" y="84"/>
                    </a:lnTo>
                    <a:lnTo>
                      <a:pt x="1" y="77"/>
                    </a:lnTo>
                    <a:lnTo>
                      <a:pt x="2" y="66"/>
                    </a:lnTo>
                    <a:lnTo>
                      <a:pt x="6" y="53"/>
                    </a:lnTo>
                    <a:lnTo>
                      <a:pt x="11" y="39"/>
                    </a:lnTo>
                    <a:lnTo>
                      <a:pt x="19" y="24"/>
                    </a:lnTo>
                    <a:lnTo>
                      <a:pt x="31" y="12"/>
                    </a:lnTo>
                    <a:lnTo>
                      <a:pt x="46" y="0"/>
                    </a:lnTo>
                    <a:lnTo>
                      <a:pt x="45" y="4"/>
                    </a:lnTo>
                    <a:lnTo>
                      <a:pt x="42" y="12"/>
                    </a:lnTo>
                    <a:lnTo>
                      <a:pt x="38" y="23"/>
                    </a:lnTo>
                    <a:lnTo>
                      <a:pt x="32" y="37"/>
                    </a:lnTo>
                    <a:lnTo>
                      <a:pt x="25" y="52"/>
                    </a:lnTo>
                    <a:lnTo>
                      <a:pt x="18" y="66"/>
                    </a:lnTo>
                    <a:lnTo>
                      <a:pt x="9" y="79"/>
                    </a:lnTo>
                    <a:lnTo>
                      <a:pt x="0" y="87"/>
                    </a:lnTo>
                    <a:close/>
                  </a:path>
                </a:pathLst>
              </a:custGeom>
              <a:solidFill>
                <a:srgbClr val="ddc6b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sp>
        <p:nvSpPr>
          <p:cNvPr id="483" name=""/>
          <p:cNvSpPr/>
          <p:nvPr/>
        </p:nvSpPr>
        <p:spPr>
          <a:xfrm>
            <a:off x="787320" y="1600200"/>
            <a:ext cx="7567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duration of sensory memory varies for the different sens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81C6530-A00D-437F-B665-3386F0B3510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ing Memory</a:t>
            </a:r>
            <a:endParaRPr b="0" lang="en-US" sz="4000" spc="-1" strike="noStrike">
              <a:solidFill>
                <a:srgbClr val="000000"/>
              </a:solidFill>
              <a:latin typeface="Times New Roman"/>
            </a:endParaRPr>
          </a:p>
        </p:txBody>
      </p:sp>
      <p:sp>
        <p:nvSpPr>
          <p:cNvPr id="485" name=""/>
          <p:cNvSpPr/>
          <p:nvPr/>
        </p:nvSpPr>
        <p:spPr>
          <a:xfrm>
            <a:off x="2133720" y="2043000"/>
            <a:ext cx="120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Sens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486" name=""/>
          <p:cNvSpPr/>
          <p:nvPr/>
        </p:nvSpPr>
        <p:spPr>
          <a:xfrm>
            <a:off x="3949200" y="2043000"/>
            <a:ext cx="124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487" name=""/>
          <p:cNvSpPr/>
          <p:nvPr/>
        </p:nvSpPr>
        <p:spPr>
          <a:xfrm>
            <a:off x="5746680" y="204300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Long-te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488" name=""/>
          <p:cNvSpPr/>
          <p:nvPr/>
        </p:nvSpPr>
        <p:spPr>
          <a:xfrm>
            <a:off x="205740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878280" y="2743200"/>
            <a:ext cx="1371600" cy="1828800"/>
          </a:xfrm>
          <a:prstGeom prst="rect">
            <a:avLst/>
          </a:prstGeom>
          <a:solidFill>
            <a:srgbClr val="1389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4668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876920" y="297180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492" name=""/>
          <p:cNvSpPr/>
          <p:nvPr/>
        </p:nvSpPr>
        <p:spPr>
          <a:xfrm flipH="1">
            <a:off x="4723560" y="3914640"/>
            <a:ext cx="1295640" cy="457200"/>
          </a:xfrm>
          <a:custGeom>
            <a:avLst/>
            <a:gdLst>
              <a:gd name="textAreaLeft" fmla="*/ -360 w 1295640"/>
              <a:gd name="textAreaRight" fmla="*/ 129564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Retrieval</a:t>
            </a:r>
            <a:endParaRPr b="0" lang="en-US" sz="1800" spc="-1" strike="noStrike">
              <a:solidFill>
                <a:srgbClr val="000000"/>
              </a:solidFill>
              <a:latin typeface="Times New Roman"/>
            </a:endParaRPr>
          </a:p>
        </p:txBody>
      </p:sp>
      <p:sp>
        <p:nvSpPr>
          <p:cNvPr id="493" name=""/>
          <p:cNvSpPr/>
          <p:nvPr/>
        </p:nvSpPr>
        <p:spPr>
          <a:xfrm flipH="1" rot="16200000">
            <a:off x="4248000" y="4591080"/>
            <a:ext cx="648000" cy="457200"/>
          </a:xfrm>
          <a:custGeom>
            <a:avLst/>
            <a:gdLst>
              <a:gd name="textAreaLeft" fmla="*/ 0 w 648000"/>
              <a:gd name="textAreaRight" fmla="*/ 648000 w 648000"/>
              <a:gd name="textAreaTop" fmla="*/ 0 h 457200"/>
              <a:gd name="textAreaBottom" fmla="*/ 457560 h 457200"/>
            </a:gdLst>
            <a:ahLst/>
            <a:rect l="textAreaLeft" t="textAreaTop" r="textAreaRight" b="textAreaBottom"/>
            <a:pathLst>
              <a:path w="21600" h="21600">
                <a:moveTo>
                  <a:pt x="0" y="0"/>
                </a:moveTo>
                <a:lnTo>
                  <a:pt x="13817" y="0"/>
                </a:lnTo>
                <a:lnTo>
                  <a:pt x="21600" y="10800"/>
                </a:lnTo>
                <a:lnTo>
                  <a:pt x="13817"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090960" y="391464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495" name=""/>
          <p:cNvSpPr/>
          <p:nvPr/>
        </p:nvSpPr>
        <p:spPr>
          <a:xfrm>
            <a:off x="609480" y="3429000"/>
            <a:ext cx="1295640" cy="457200"/>
          </a:xfrm>
          <a:custGeom>
            <a:avLst/>
            <a:gdLst>
              <a:gd name="textAreaLeft" fmla="*/ 0 w 1295640"/>
              <a:gd name="textAreaRight" fmla="*/ 129600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Events</a:t>
            </a:r>
            <a:endParaRPr b="0" lang="en-US" sz="2000" spc="-1" strike="noStrike">
              <a:solidFill>
                <a:srgbClr val="000000"/>
              </a:solidFill>
              <a:latin typeface="Times New Roman"/>
            </a:endParaRPr>
          </a:p>
        </p:txBody>
      </p:sp>
      <p:sp>
        <p:nvSpPr>
          <p:cNvPr id="496" name=""/>
          <p:cNvSpPr/>
          <p:nvPr/>
        </p:nvSpPr>
        <p:spPr>
          <a:xfrm>
            <a:off x="3920400" y="518148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Palatino Linotype"/>
              </a:rPr>
              <a:t>Retrie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9594DA4-7232-4810-AA43-E8443E5D13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6672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ing Memory</a:t>
            </a:r>
            <a:endParaRPr b="0" lang="en-US" sz="4000" spc="-1" strike="noStrike">
              <a:solidFill>
                <a:srgbClr val="000000"/>
              </a:solidFill>
              <a:latin typeface="Times New Roman"/>
            </a:endParaRPr>
          </a:p>
        </p:txBody>
      </p:sp>
      <p:sp>
        <p:nvSpPr>
          <p:cNvPr id="498" name="PlaceHolder 2"/>
          <p:cNvSpPr>
            <a:spLocks noGrp="1"/>
          </p:cNvSpPr>
          <p:nvPr>
            <p:ph/>
          </p:nvPr>
        </p:nvSpPr>
        <p:spPr>
          <a:xfrm>
            <a:off x="595080" y="1600200"/>
            <a:ext cx="7924680" cy="2209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orking memory, the new name for short-term memory, has a limited capacity (7±2) and a short duration (20 seconds). </a:t>
            </a:r>
            <a:endParaRPr b="0" lang="en-US" sz="2800" spc="-1" strike="noStrike">
              <a:solidFill>
                <a:srgbClr val="000000"/>
              </a:solidFill>
              <a:latin typeface="Times New Roman"/>
            </a:endParaRPr>
          </a:p>
        </p:txBody>
      </p:sp>
      <p:pic>
        <p:nvPicPr>
          <p:cNvPr id="499" name="" descr=""/>
          <p:cNvPicPr/>
          <p:nvPr/>
        </p:nvPicPr>
        <p:blipFill>
          <a:blip r:embed="rId1"/>
          <a:stretch/>
        </p:blipFill>
        <p:spPr>
          <a:xfrm>
            <a:off x="3083040" y="2971800"/>
            <a:ext cx="2948040" cy="2523960"/>
          </a:xfrm>
          <a:prstGeom prst="rect">
            <a:avLst/>
          </a:prstGeom>
          <a:ln w="0">
            <a:noFill/>
          </a:ln>
        </p:spPr>
      </p:pic>
      <p:sp>
        <p:nvSpPr>
          <p:cNvPr id="500" name=""/>
          <p:cNvSpPr/>
          <p:nvPr/>
        </p:nvSpPr>
        <p:spPr>
          <a:xfrm>
            <a:off x="457200" y="5638680"/>
            <a:ext cx="8229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r George Hamilton observed that he could accurately remember 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 7 beans thrown on the floor. If there were more beans, he guess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F77956-9857-41A1-81F4-903270FB4C3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apacity</a:t>
            </a:r>
            <a:endParaRPr b="0" lang="en-US" sz="4000" spc="-1" strike="noStrike">
              <a:solidFill>
                <a:srgbClr val="000000"/>
              </a:solidFill>
              <a:latin typeface="Times New Roman"/>
            </a:endParaRPr>
          </a:p>
        </p:txBody>
      </p:sp>
      <p:sp>
        <p:nvSpPr>
          <p:cNvPr id="502" name=""/>
          <p:cNvSpPr/>
          <p:nvPr/>
        </p:nvSpPr>
        <p:spPr>
          <a:xfrm>
            <a:off x="1004760" y="4968720"/>
            <a:ext cx="34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ou should be able 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call 7±2 letters.</a:t>
            </a:r>
            <a:endParaRPr b="0" lang="en-US" sz="2400" spc="-1" strike="noStrike">
              <a:solidFill>
                <a:srgbClr val="000000"/>
              </a:solidFill>
              <a:latin typeface="Times New Roman"/>
            </a:endParaRPr>
          </a:p>
        </p:txBody>
      </p:sp>
      <p:pic>
        <p:nvPicPr>
          <p:cNvPr id="503" name="" descr=""/>
          <p:cNvPicPr/>
          <p:nvPr/>
        </p:nvPicPr>
        <p:blipFill>
          <a:blip r:embed="rId1"/>
          <a:srcRect l="14566" t="11795" r="14471" b="15272"/>
          <a:stretch/>
        </p:blipFill>
        <p:spPr>
          <a:xfrm>
            <a:off x="5715000" y="1600200"/>
            <a:ext cx="2954160" cy="4267080"/>
          </a:xfrm>
          <a:prstGeom prst="rect">
            <a:avLst/>
          </a:prstGeom>
          <a:ln w="0">
            <a:noFill/>
          </a:ln>
        </p:spPr>
      </p:pic>
      <p:sp>
        <p:nvSpPr>
          <p:cNvPr id="504" name=""/>
          <p:cNvSpPr/>
          <p:nvPr/>
        </p:nvSpPr>
        <p:spPr>
          <a:xfrm>
            <a:off x="457200" y="1676520"/>
            <a:ext cx="4724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The Magical Number Seven, Plus or Minus Two: Some Limits on Our Capacity for Processing Information</a:t>
            </a:r>
            <a:r>
              <a:rPr b="0" lang="en-US" sz="2400" spc="-1" strike="noStrike">
                <a:solidFill>
                  <a:srgbClr val="000000"/>
                </a:solidFill>
                <a:latin typeface="Palatino Linotype"/>
              </a:rPr>
              <a:t> (1956).</a:t>
            </a:r>
            <a:endParaRPr b="0" lang="en-US" sz="2400" spc="-1" strike="noStrike">
              <a:solidFill>
                <a:srgbClr val="000000"/>
              </a:solidFill>
              <a:latin typeface="Times New Roman"/>
            </a:endParaRPr>
          </a:p>
        </p:txBody>
      </p:sp>
      <p:sp>
        <p:nvSpPr>
          <p:cNvPr id="505" name=""/>
          <p:cNvSpPr/>
          <p:nvPr/>
        </p:nvSpPr>
        <p:spPr>
          <a:xfrm>
            <a:off x="6281280" y="592452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eorge Miller</a:t>
            </a:r>
            <a:endParaRPr b="0" lang="en-US" sz="2000" spc="-1" strike="noStrike">
              <a:solidFill>
                <a:srgbClr val="000000"/>
              </a:solidFill>
              <a:latin typeface="Times New Roman"/>
            </a:endParaRPr>
          </a:p>
        </p:txBody>
      </p:sp>
      <p:sp>
        <p:nvSpPr>
          <p:cNvPr id="506" name=""/>
          <p:cNvSpPr/>
          <p:nvPr/>
        </p:nvSpPr>
        <p:spPr>
          <a:xfrm>
            <a:off x="685800" y="4205160"/>
            <a:ext cx="409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 U T G I K T L R S Y P</a:t>
            </a:r>
            <a:endParaRPr b="0" lang="en-US" sz="2800" spc="-1" strike="noStrike">
              <a:solidFill>
                <a:srgbClr val="000000"/>
              </a:solidFill>
              <a:latin typeface="Times New Roman"/>
            </a:endParaRPr>
          </a:p>
        </p:txBody>
      </p:sp>
      <p:sp>
        <p:nvSpPr>
          <p:cNvPr id="507" name=""/>
          <p:cNvSpPr/>
          <p:nvPr/>
        </p:nvSpPr>
        <p:spPr>
          <a:xfrm>
            <a:off x="2134080" y="3486240"/>
            <a:ext cx="122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ad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5E311C-9601-403F-8C73-8BE9E4A7FAC5}" type="slidenum">
              <a:t>37</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07"/>
                                        </p:tgtEl>
                                        <p:attrNameLst>
                                          <p:attrName>style.visibility</p:attrName>
                                        </p:attrNameLst>
                                      </p:cBhvr>
                                      <p:to>
                                        <p:strVal val="visible"/>
                                      </p:to>
                                    </p:set>
                                    <p:animEffect filter="dissolve" transition="in">
                                      <p:cBhvr additive="repl">
                                        <p:cTn id="65" dur="500"/>
                                        <p:tgtEl>
                                          <p:spTgt spid="50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6"/>
                                        </p:tgtEl>
                                        <p:attrNameLst>
                                          <p:attrName>style.visibility</p:attrName>
                                        </p:attrNameLst>
                                      </p:cBhvr>
                                      <p:to>
                                        <p:strVal val="visible"/>
                                      </p:to>
                                    </p:set>
                                  </p:childTnLst>
                                </p:cTn>
                              </p:par>
                            </p:childTnLst>
                          </p:cTn>
                        </p:par>
                        <p:par>
                          <p:cTn id="70" fill="hold">
                            <p:stCondLst>
                              <p:cond delay="0"/>
                            </p:stCondLst>
                            <p:childTnLst>
                              <p:par>
                                <p:cTn id="71" nodeType="afterEffect" fill="hold" presetClass="exit" presetID="1">
                                  <p:stCondLst>
                                    <p:cond delay="2000"/>
                                  </p:stCondLst>
                                  <p:childTnLst>
                                    <p:set>
                                      <p:cBhvr>
                                        <p:cTn id="72" dur="1" fill="hold">
                                          <p:stCondLst>
                                            <p:cond delay="0"/>
                                          </p:stCondLst>
                                        </p:cTn>
                                        <p:tgtEl>
                                          <p:spTgt spid="506"/>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502"/>
                                        </p:tgtEl>
                                        <p:attrNameLst>
                                          <p:attrName>style.visibility</p:attrName>
                                        </p:attrNameLst>
                                      </p:cBhvr>
                                      <p:to>
                                        <p:strVal val="visible"/>
                                      </p:to>
                                    </p:set>
                                    <p:animEffect filter="dissolve" transition="in">
                                      <p:cBhvr additive="repl">
                                        <p:cTn id="77"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unking</a:t>
            </a:r>
            <a:endParaRPr b="0" lang="en-US" sz="4000" spc="-1" strike="noStrike">
              <a:solidFill>
                <a:srgbClr val="000000"/>
              </a:solidFill>
              <a:latin typeface="Times New Roman"/>
            </a:endParaRPr>
          </a:p>
        </p:txBody>
      </p:sp>
      <p:sp>
        <p:nvSpPr>
          <p:cNvPr id="509" name="PlaceHolder 2"/>
          <p:cNvSpPr>
            <a:spLocks noGrp="1"/>
          </p:cNvSpPr>
          <p:nvPr>
            <p:ph/>
          </p:nvPr>
        </p:nvSpPr>
        <p:spPr>
          <a:xfrm>
            <a:off x="1995120" y="3047760"/>
            <a:ext cx="5119560" cy="609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B-I-T-W-A-C-I-A-I-B-M </a:t>
            </a:r>
            <a:endParaRPr b="0" lang="en-US" sz="3200" spc="-1" strike="noStrike">
              <a:solidFill>
                <a:srgbClr val="000000"/>
              </a:solidFill>
              <a:latin typeface="Times New Roman"/>
            </a:endParaRPr>
          </a:p>
        </p:txBody>
      </p:sp>
      <p:sp>
        <p:nvSpPr>
          <p:cNvPr id="510" name=""/>
          <p:cNvSpPr/>
          <p:nvPr/>
        </p:nvSpPr>
        <p:spPr>
          <a:xfrm>
            <a:off x="80028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capacity of the working memory may be increased by “chunking.”</a:t>
            </a:r>
            <a:endParaRPr b="0" lang="en-US" sz="2800" spc="-1" strike="noStrike">
              <a:solidFill>
                <a:srgbClr val="000000"/>
              </a:solidFill>
              <a:latin typeface="Times New Roman"/>
            </a:endParaRPr>
          </a:p>
        </p:txBody>
      </p:sp>
      <p:sp>
        <p:nvSpPr>
          <p:cNvPr id="511" name=""/>
          <p:cNvSpPr/>
          <p:nvPr/>
        </p:nvSpPr>
        <p:spPr>
          <a:xfrm>
            <a:off x="2114640" y="4191120"/>
            <a:ext cx="487656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BI    TWA    CIA    IBM</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4 chunk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DB497E-A5DC-40A8-87D3-ACD514BF8D26}" type="slidenum">
              <a:t>38</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509">
                                            <p:txEl>
                                              <p:pRg st="0" end="0"/>
                                            </p:txEl>
                                          </p:spTgt>
                                        </p:tgtEl>
                                        <p:attrNameLst>
                                          <p:attrName>style.visibility</p:attrName>
                                        </p:attrNameLst>
                                      </p:cBhvr>
                                      <p:to>
                                        <p:strVal val="visible"/>
                                      </p:to>
                                    </p:set>
                                    <p:animEffect filter="dissolve" transition="in">
                                      <p:cBhvr additive="repl">
                                        <p:cTn id="84" dur="500"/>
                                        <p:tgtEl>
                                          <p:spTgt spid="509">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11"/>
                                        </p:tgtEl>
                                        <p:attrNameLst>
                                          <p:attrName>style.visibility</p:attrName>
                                        </p:attrNameLst>
                                      </p:cBhvr>
                                      <p:to>
                                        <p:strVal val="visible"/>
                                      </p:to>
                                    </p:set>
                                    <p:animEffect filter="dissolve" transition="in">
                                      <p:cBhvr additive="repl">
                                        <p:cTn id="89"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uration</a:t>
            </a:r>
            <a:endParaRPr b="0" lang="en-US" sz="4000" spc="-1" strike="noStrike">
              <a:solidFill>
                <a:srgbClr val="000000"/>
              </a:solidFill>
              <a:latin typeface="Times New Roman"/>
            </a:endParaRPr>
          </a:p>
        </p:txBody>
      </p:sp>
      <p:sp>
        <p:nvSpPr>
          <p:cNvPr id="513" name="PlaceHolder 2"/>
          <p:cNvSpPr>
            <a:spLocks noGrp="1"/>
          </p:cNvSpPr>
          <p:nvPr>
            <p:ph/>
          </p:nvPr>
        </p:nvSpPr>
        <p:spPr>
          <a:xfrm>
            <a:off x="599760" y="1585800"/>
            <a:ext cx="7924680" cy="13096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terson and Peterson (1959) measured the duration of working memory by manipulating rehearsal.</a:t>
            </a:r>
            <a:endParaRPr b="0" lang="en-US" sz="2800" spc="-1" strike="noStrike">
              <a:solidFill>
                <a:srgbClr val="000000"/>
              </a:solidFill>
              <a:latin typeface="Times New Roman"/>
            </a:endParaRPr>
          </a:p>
        </p:txBody>
      </p:sp>
      <p:pic>
        <p:nvPicPr>
          <p:cNvPr id="514" name="" descr=""/>
          <p:cNvPicPr/>
          <p:nvPr/>
        </p:nvPicPr>
        <p:blipFill>
          <a:blip r:embed="rId1"/>
          <a:stretch/>
        </p:blipFill>
        <p:spPr>
          <a:xfrm>
            <a:off x="6624720" y="4375080"/>
            <a:ext cx="1195200" cy="1139760"/>
          </a:xfrm>
          <a:prstGeom prst="rect">
            <a:avLst/>
          </a:prstGeom>
          <a:ln w="0">
            <a:noFill/>
          </a:ln>
        </p:spPr>
      </p:pic>
      <p:sp>
        <p:nvSpPr>
          <p:cNvPr id="515" name="">
            <a:hlinkClick r:id="rId2"/>
          </p:cNvPr>
          <p:cNvSpPr/>
          <p:nvPr/>
        </p:nvSpPr>
        <p:spPr>
          <a:xfrm>
            <a:off x="380880" y="4670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9488"/>
                </a:moveTo>
                <a:lnTo>
                  <a:pt x="8224" y="9488"/>
                </a:lnTo>
                <a:lnTo>
                  <a:pt x="12645" y="4875"/>
                </a:lnTo>
                <a:lnTo>
                  <a:pt x="12645" y="18888"/>
                </a:lnTo>
                <a:lnTo>
                  <a:pt x="8224" y="14275"/>
                </a:lnTo>
                <a:lnTo>
                  <a:pt x="3794" y="14275"/>
                </a:lnTo>
                <a:close/>
              </a:path>
              <a:path fill="darken" w="21600" h="23762">
                <a:moveTo>
                  <a:pt x="14299" y="11881"/>
                </a:moveTo>
                <a:lnTo>
                  <a:pt x="17806" y="11881"/>
                </a:lnTo>
              </a:path>
              <a:path fill="darken" w="21600" h="23762">
                <a:moveTo>
                  <a:pt x="14299" y="9488"/>
                </a:moveTo>
                <a:lnTo>
                  <a:pt x="17806" y="6720"/>
                </a:lnTo>
              </a:path>
              <a:path fill="darken" w="21600" h="23762">
                <a:moveTo>
                  <a:pt x="14299" y="14275"/>
                </a:moveTo>
                <a:lnTo>
                  <a:pt x="17806" y="17042"/>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7386480" y="3559320"/>
            <a:ext cx="1067040" cy="457200"/>
          </a:xfrm>
          <a:prstGeom prst="wedgeRectCallout">
            <a:avLst>
              <a:gd name="adj1" fmla="val -56694"/>
              <a:gd name="adj2" fmla="val 179166"/>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CH??</a:t>
            </a:r>
            <a:endParaRPr b="0" lang="en-US" sz="2000" spc="-1" strike="noStrike">
              <a:solidFill>
                <a:srgbClr val="000000"/>
              </a:solidFill>
              <a:latin typeface="Times New Roman"/>
            </a:endParaRPr>
          </a:p>
        </p:txBody>
      </p:sp>
      <p:sp>
        <p:nvSpPr>
          <p:cNvPr id="517" name=""/>
          <p:cNvSpPr/>
          <p:nvPr/>
        </p:nvSpPr>
        <p:spPr>
          <a:xfrm>
            <a:off x="1247760" y="5791320"/>
            <a:ext cx="6629400" cy="76176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duration of the working memory is about 20 sec.</a:t>
            </a:r>
            <a:endParaRPr b="0" lang="en-US" sz="2400" spc="-1" strike="noStrike">
              <a:solidFill>
                <a:srgbClr val="000000"/>
              </a:solidFill>
              <a:latin typeface="Times New Roman"/>
            </a:endParaRPr>
          </a:p>
        </p:txBody>
      </p:sp>
      <p:pic>
        <p:nvPicPr>
          <p:cNvPr id="518" name="" descr=""/>
          <p:cNvPicPr/>
          <p:nvPr/>
        </p:nvPicPr>
        <p:blipFill>
          <a:blip r:embed="rId3"/>
          <a:stretch/>
        </p:blipFill>
        <p:spPr>
          <a:xfrm>
            <a:off x="3987720" y="4405320"/>
            <a:ext cx="1195560" cy="1139760"/>
          </a:xfrm>
          <a:prstGeom prst="rect">
            <a:avLst/>
          </a:prstGeom>
          <a:ln w="0">
            <a:noFill/>
          </a:ln>
        </p:spPr>
      </p:pic>
      <p:pic>
        <p:nvPicPr>
          <p:cNvPr id="519" name="" descr=""/>
          <p:cNvPicPr/>
          <p:nvPr/>
        </p:nvPicPr>
        <p:blipFill>
          <a:blip r:embed="rId4"/>
          <a:stretch/>
        </p:blipFill>
        <p:spPr>
          <a:xfrm>
            <a:off x="1433520" y="4394160"/>
            <a:ext cx="1195560" cy="1139760"/>
          </a:xfrm>
          <a:prstGeom prst="rect">
            <a:avLst/>
          </a:prstGeom>
          <a:ln w="0">
            <a:noFill/>
          </a:ln>
        </p:spPr>
      </p:pic>
      <p:sp>
        <p:nvSpPr>
          <p:cNvPr id="520" name=""/>
          <p:cNvSpPr/>
          <p:nvPr/>
        </p:nvSpPr>
        <p:spPr>
          <a:xfrm>
            <a:off x="1066680" y="3048120"/>
            <a:ext cx="1371600" cy="1241280"/>
          </a:xfrm>
          <a:prstGeom prst="wedgeRectCallout">
            <a:avLst>
              <a:gd name="adj1" fmla="val -46180"/>
              <a:gd name="adj2" fmla="val 98083"/>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CHJ</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MK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HIJ</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547</a:t>
            </a:r>
            <a:endParaRPr b="0" lang="en-US" sz="2000" spc="-1" strike="noStrike">
              <a:solidFill>
                <a:srgbClr val="000000"/>
              </a:solidFill>
              <a:latin typeface="Times New Roman"/>
            </a:endParaRPr>
          </a:p>
        </p:txBody>
      </p:sp>
      <p:sp>
        <p:nvSpPr>
          <p:cNvPr id="521" name=""/>
          <p:cNvSpPr/>
          <p:nvPr/>
        </p:nvSpPr>
        <p:spPr>
          <a:xfrm>
            <a:off x="4572000" y="3124080"/>
            <a:ext cx="1371600" cy="1241640"/>
          </a:xfrm>
          <a:prstGeom prst="wedgeRectCallout">
            <a:avLst>
              <a:gd name="adj1" fmla="val -49421"/>
              <a:gd name="adj2" fmla="val 66750"/>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54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54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541</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72A3C5-81EE-41CF-89DF-77A518D5A2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604880" y="1595520"/>
            <a:ext cx="589608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torage: Retaining Information</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nsory Memor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orking/Short-Term Memor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ng-Term Memor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oring Memories in the Brai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A174A1F-AFA9-4B2A-9984-4C10ECB6189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80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ing Memory Duration</a:t>
            </a:r>
            <a:endParaRPr b="0" lang="en-US" sz="4000" spc="-1" strike="noStrike">
              <a:solidFill>
                <a:srgbClr val="000000"/>
              </a:solidFill>
              <a:latin typeface="Times New Roman"/>
            </a:endParaRPr>
          </a:p>
        </p:txBody>
      </p:sp>
      <p:pic>
        <p:nvPicPr>
          <p:cNvPr id="523" name="" descr=""/>
          <p:cNvPicPr/>
          <p:nvPr/>
        </p:nvPicPr>
        <p:blipFill>
          <a:blip r:embed="rId1"/>
          <a:stretch/>
        </p:blipFill>
        <p:spPr>
          <a:xfrm>
            <a:off x="1590840" y="1447920"/>
            <a:ext cx="5543280" cy="4773600"/>
          </a:xfrm>
          <a:prstGeom prst="rect">
            <a:avLst/>
          </a:prstGeom>
          <a:ln w="0">
            <a:noFill/>
          </a:ln>
        </p:spPr>
      </p:pic>
      <p:sp>
        <p:nvSpPr>
          <p:cNvPr id="3" name="PlaceHolder 2"/>
          <p:cNvSpPr>
            <a:spLocks noGrp="1"/>
          </p:cNvSpPr>
          <p:nvPr>
            <p:ph type="sldNum" idx="3"/>
          </p:nvPr>
        </p:nvSpPr>
        <p:spPr/>
        <p:txBody>
          <a:bodyPr/>
          <a:p>
            <a:fld id="{7446A02D-35D1-4E4E-B834-BCA48A1E94C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ng-Term Memory</a:t>
            </a:r>
            <a:endParaRPr b="0" lang="en-US" sz="4000" spc="-1" strike="noStrike">
              <a:solidFill>
                <a:srgbClr val="000000"/>
              </a:solidFill>
              <a:latin typeface="Times New Roman"/>
            </a:endParaRPr>
          </a:p>
        </p:txBody>
      </p:sp>
      <p:sp>
        <p:nvSpPr>
          <p:cNvPr id="525" name=""/>
          <p:cNvSpPr/>
          <p:nvPr/>
        </p:nvSpPr>
        <p:spPr>
          <a:xfrm>
            <a:off x="2133720" y="2043000"/>
            <a:ext cx="120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Sens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526" name=""/>
          <p:cNvSpPr/>
          <p:nvPr/>
        </p:nvSpPr>
        <p:spPr>
          <a:xfrm>
            <a:off x="3949200" y="2043000"/>
            <a:ext cx="124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Palatino Linotype"/>
              </a:rPr>
              <a:t>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Palatino Linotype"/>
              </a:rPr>
              <a:t>Memory</a:t>
            </a:r>
            <a:endParaRPr b="0" lang="en-US" sz="2000" spc="-1" strike="noStrike">
              <a:solidFill>
                <a:srgbClr val="000000"/>
              </a:solidFill>
              <a:latin typeface="Times New Roman"/>
            </a:endParaRPr>
          </a:p>
        </p:txBody>
      </p:sp>
      <p:sp>
        <p:nvSpPr>
          <p:cNvPr id="527" name=""/>
          <p:cNvSpPr/>
          <p:nvPr/>
        </p:nvSpPr>
        <p:spPr>
          <a:xfrm>
            <a:off x="5746680" y="204300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ong-te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528" name=""/>
          <p:cNvSpPr/>
          <p:nvPr/>
        </p:nvSpPr>
        <p:spPr>
          <a:xfrm>
            <a:off x="205740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87828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46680" y="2743200"/>
            <a:ext cx="1371600" cy="1828800"/>
          </a:xfrm>
          <a:prstGeom prst="rect">
            <a:avLst/>
          </a:prstGeom>
          <a:solidFill>
            <a:srgbClr val="1389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876920" y="297180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532" name=""/>
          <p:cNvSpPr/>
          <p:nvPr/>
        </p:nvSpPr>
        <p:spPr>
          <a:xfrm flipH="1">
            <a:off x="4723560" y="3914640"/>
            <a:ext cx="1295640" cy="457200"/>
          </a:xfrm>
          <a:custGeom>
            <a:avLst/>
            <a:gdLst>
              <a:gd name="textAreaLeft" fmla="*/ -360 w 1295640"/>
              <a:gd name="textAreaRight" fmla="*/ 129564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Retrieval</a:t>
            </a:r>
            <a:endParaRPr b="0" lang="en-US" sz="1800" spc="-1" strike="noStrike">
              <a:solidFill>
                <a:srgbClr val="000000"/>
              </a:solidFill>
              <a:latin typeface="Times New Roman"/>
            </a:endParaRPr>
          </a:p>
        </p:txBody>
      </p:sp>
      <p:sp>
        <p:nvSpPr>
          <p:cNvPr id="533" name=""/>
          <p:cNvSpPr/>
          <p:nvPr/>
        </p:nvSpPr>
        <p:spPr>
          <a:xfrm flipH="1" rot="16200000">
            <a:off x="4248000" y="4591080"/>
            <a:ext cx="648000" cy="457200"/>
          </a:xfrm>
          <a:custGeom>
            <a:avLst/>
            <a:gdLst>
              <a:gd name="textAreaLeft" fmla="*/ 0 w 648000"/>
              <a:gd name="textAreaRight" fmla="*/ 648000 w 648000"/>
              <a:gd name="textAreaTop" fmla="*/ 0 h 457200"/>
              <a:gd name="textAreaBottom" fmla="*/ 457560 h 457200"/>
            </a:gdLst>
            <a:ahLst/>
            <a:rect l="textAreaLeft" t="textAreaTop" r="textAreaRight" b="textAreaBottom"/>
            <a:pathLst>
              <a:path w="21600" h="21600">
                <a:moveTo>
                  <a:pt x="0" y="0"/>
                </a:moveTo>
                <a:lnTo>
                  <a:pt x="13817" y="0"/>
                </a:lnTo>
                <a:lnTo>
                  <a:pt x="21600" y="10800"/>
                </a:lnTo>
                <a:lnTo>
                  <a:pt x="13817"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090960" y="391464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535" name=""/>
          <p:cNvSpPr/>
          <p:nvPr/>
        </p:nvSpPr>
        <p:spPr>
          <a:xfrm>
            <a:off x="609480" y="3429000"/>
            <a:ext cx="1295640" cy="457200"/>
          </a:xfrm>
          <a:custGeom>
            <a:avLst/>
            <a:gdLst>
              <a:gd name="textAreaLeft" fmla="*/ 0 w 1295640"/>
              <a:gd name="textAreaRight" fmla="*/ 129600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Events</a:t>
            </a:r>
            <a:endParaRPr b="0" lang="en-US" sz="2000" spc="-1" strike="noStrike">
              <a:solidFill>
                <a:srgbClr val="000000"/>
              </a:solidFill>
              <a:latin typeface="Times New Roman"/>
            </a:endParaRPr>
          </a:p>
        </p:txBody>
      </p:sp>
      <p:sp>
        <p:nvSpPr>
          <p:cNvPr id="536" name=""/>
          <p:cNvSpPr/>
          <p:nvPr/>
        </p:nvSpPr>
        <p:spPr>
          <a:xfrm>
            <a:off x="3920400" y="518148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Palatino Linotype"/>
              </a:rPr>
              <a:t>Retrie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468125A-ABF3-405E-BC63-C7F16A8788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ng-Term Memory</a:t>
            </a:r>
            <a:endParaRPr b="0" lang="en-US" sz="4000" spc="-1" strike="noStrike">
              <a:solidFill>
                <a:srgbClr val="000000"/>
              </a:solidFill>
              <a:latin typeface="Times New Roman"/>
            </a:endParaRPr>
          </a:p>
        </p:txBody>
      </p:sp>
      <p:sp>
        <p:nvSpPr>
          <p:cNvPr id="538" name="PlaceHolder 2"/>
          <p:cNvSpPr>
            <a:spLocks noGrp="1"/>
          </p:cNvSpPr>
          <p:nvPr>
            <p:ph/>
          </p:nvPr>
        </p:nvSpPr>
        <p:spPr>
          <a:xfrm>
            <a:off x="556920" y="1585800"/>
            <a:ext cx="8001000" cy="9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ssentially unlimited capacity store. </a:t>
            </a:r>
            <a:endParaRPr b="0" lang="en-US" sz="2800" spc="-1" strike="noStrike">
              <a:solidFill>
                <a:srgbClr val="000000"/>
              </a:solidFill>
              <a:latin typeface="Times New Roman"/>
            </a:endParaRPr>
          </a:p>
        </p:txBody>
      </p:sp>
      <p:pic>
        <p:nvPicPr>
          <p:cNvPr id="539" name="" descr=""/>
          <p:cNvPicPr/>
          <p:nvPr/>
        </p:nvPicPr>
        <p:blipFill>
          <a:blip r:embed="rId1"/>
          <a:stretch/>
        </p:blipFill>
        <p:spPr>
          <a:xfrm>
            <a:off x="2514600" y="2743200"/>
            <a:ext cx="3962520" cy="2664000"/>
          </a:xfrm>
          <a:prstGeom prst="rect">
            <a:avLst/>
          </a:prstGeom>
          <a:ln w="0">
            <a:noFill/>
          </a:ln>
        </p:spPr>
      </p:pic>
      <p:sp>
        <p:nvSpPr>
          <p:cNvPr id="540" name=""/>
          <p:cNvSpPr/>
          <p:nvPr/>
        </p:nvSpPr>
        <p:spPr>
          <a:xfrm>
            <a:off x="1445400" y="5638680"/>
            <a:ext cx="6083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Clark’s nutcracker can locate 6,000 cache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uried pine seeds during winter and spring.</a:t>
            </a:r>
            <a:endParaRPr b="0" lang="en-US" sz="2000" spc="-1" strike="noStrike">
              <a:solidFill>
                <a:srgbClr val="000000"/>
              </a:solidFill>
              <a:latin typeface="Times New Roman"/>
            </a:endParaRPr>
          </a:p>
        </p:txBody>
      </p:sp>
      <p:sp>
        <p:nvSpPr>
          <p:cNvPr id="541" name=""/>
          <p:cNvSpPr/>
          <p:nvPr/>
        </p:nvSpPr>
        <p:spPr>
          <a:xfrm rot="5400000">
            <a:off x="5733360" y="440172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J. Erwin/ Photo Researcher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B6CD0577-5D44-4D10-A78F-704E14A079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Feats</a:t>
            </a:r>
            <a:endParaRPr b="0" lang="en-US" sz="4000" spc="-1" strike="noStrike">
              <a:solidFill>
                <a:srgbClr val="000000"/>
              </a:solidFill>
              <a:latin typeface="Times New Roman"/>
            </a:endParaRPr>
          </a:p>
        </p:txBody>
      </p:sp>
      <p:pic>
        <p:nvPicPr>
          <p:cNvPr id="543" name="" descr=""/>
          <p:cNvPicPr/>
          <p:nvPr/>
        </p:nvPicPr>
        <p:blipFill>
          <a:blip r:embed="rId1"/>
          <a:stretch/>
        </p:blipFill>
        <p:spPr>
          <a:xfrm>
            <a:off x="976320" y="1371600"/>
            <a:ext cx="7157880" cy="4884840"/>
          </a:xfrm>
          <a:prstGeom prst="rect">
            <a:avLst/>
          </a:prstGeom>
          <a:ln w="0">
            <a:noFill/>
          </a:ln>
        </p:spPr>
      </p:pic>
      <p:sp>
        <p:nvSpPr>
          <p:cNvPr id="3" name="PlaceHolder 2"/>
          <p:cNvSpPr>
            <a:spLocks noGrp="1"/>
          </p:cNvSpPr>
          <p:nvPr>
            <p:ph type="sldNum" idx="3"/>
          </p:nvPr>
        </p:nvSpPr>
        <p:spPr/>
        <p:txBody>
          <a:bodyPr/>
          <a:p>
            <a:fld id="{0AF765C1-F31A-49C9-95F5-D7F2D9E4D79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Stores</a:t>
            </a:r>
            <a:endParaRPr b="0" lang="en-US" sz="4000" spc="-1" strike="noStrike">
              <a:solidFill>
                <a:srgbClr val="000000"/>
              </a:solidFill>
              <a:latin typeface="Times New Roman"/>
            </a:endParaRPr>
          </a:p>
        </p:txBody>
      </p:sp>
      <p:graphicFrame>
        <p:nvGraphicFramePr>
          <p:cNvPr id="545" name=""/>
          <p:cNvGraphicFramePr/>
          <p:nvPr/>
        </p:nvGraphicFramePr>
        <p:xfrm>
          <a:off x="609480" y="1828800"/>
          <a:ext cx="7925040" cy="4216320"/>
        </p:xfrm>
        <a:graphic>
          <a:graphicData uri="http://schemas.openxmlformats.org/drawingml/2006/table">
            <a:tbl>
              <a:tblPr/>
              <a:tblGrid>
                <a:gridCol w="1981440"/>
                <a:gridCol w="1981080"/>
                <a:gridCol w="1981080"/>
                <a:gridCol w="1981440"/>
              </a:tblGrid>
              <a:tr h="1068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Featur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nsory</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Memor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Working Memor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LTM</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dc6ff"/>
                    </a:solidFill>
                  </a:tcPr>
                </a:tc>
              </a:tr>
              <a:tr h="10476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ncoding</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p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onemi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mantic</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a3f"/>
                    </a:solidFill>
                  </a:tcPr>
                </a:tc>
              </a:tr>
              <a:tr h="10508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apacity</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Unlimited</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7±2 Chunk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Very Larg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a3f"/>
                    </a:solidFill>
                  </a:tcPr>
                </a:tc>
              </a:tr>
              <a:tr h="10494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urat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0.25 se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20 se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ear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da3f"/>
                    </a:solidFill>
                  </a:tcPr>
                </a:tc>
              </a:tr>
            </a:tbl>
          </a:graphicData>
        </a:graphic>
      </p:graphicFrame>
      <p:sp>
        <p:nvSpPr>
          <p:cNvPr id="3" name="PlaceHolder 2"/>
          <p:cNvSpPr>
            <a:spLocks noGrp="1"/>
          </p:cNvSpPr>
          <p:nvPr>
            <p:ph type="sldNum" idx="3"/>
          </p:nvPr>
        </p:nvSpPr>
        <p:spPr/>
        <p:txBody>
          <a:bodyPr/>
          <a:p>
            <a:fld id="{B3A69600-52A7-433C-B9F9-2F4A02DAA0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oring Memories in the Brain</a:t>
            </a:r>
            <a:endParaRPr b="0" lang="en-US" sz="4000" spc="-1" strike="noStrike">
              <a:solidFill>
                <a:srgbClr val="000000"/>
              </a:solidFill>
              <a:latin typeface="Times New Roman"/>
            </a:endParaRPr>
          </a:p>
        </p:txBody>
      </p:sp>
      <p:sp>
        <p:nvSpPr>
          <p:cNvPr id="547" name="PlaceHolder 2"/>
          <p:cNvSpPr>
            <a:spLocks noGrp="1"/>
          </p:cNvSpPr>
          <p:nvPr>
            <p:ph/>
          </p:nvPr>
        </p:nvSpPr>
        <p:spPr>
          <a:xfrm>
            <a:off x="671400" y="1599840"/>
            <a:ext cx="7786800" cy="4876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ftus and Loftus (1980) reviewed previous research data showing, through brain stimulation, that memories were etched into the brain and found that only a handful of brain stimulated patients reported flashback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Using rats, Lashley (1950) suggested that even after removing parts of the brain, the animals retain partial memory of the maz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807FF5-42C4-4C57-ACD4-691B0CAB094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ynaptic Changes</a:t>
            </a:r>
            <a:endParaRPr b="0" lang="en-US" sz="4000" spc="-1" strike="noStrike">
              <a:solidFill>
                <a:srgbClr val="000000"/>
              </a:solidFill>
              <a:latin typeface="Times New Roman"/>
            </a:endParaRPr>
          </a:p>
        </p:txBody>
      </p:sp>
      <p:sp>
        <p:nvSpPr>
          <p:cNvPr id="549" name="PlaceHolder 2"/>
          <p:cNvSpPr>
            <a:spLocks noGrp="1"/>
          </p:cNvSpPr>
          <p:nvPr>
            <p:ph/>
          </p:nvPr>
        </p:nvSpPr>
        <p:spPr>
          <a:xfrm>
            <a:off x="671400" y="1676520"/>
            <a:ext cx="7772400" cy="12952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i="1" lang="en-US" sz="2800" spc="-1" strike="noStrike">
                <a:solidFill>
                  <a:srgbClr val="000000"/>
                </a:solidFill>
                <a:latin typeface="Palatino Linotype"/>
              </a:rPr>
              <a:t>Aplysia,</a:t>
            </a:r>
            <a:r>
              <a:rPr b="0" lang="en-US" sz="2800" spc="-1" strike="noStrike">
                <a:solidFill>
                  <a:srgbClr val="000000"/>
                </a:solidFill>
                <a:latin typeface="Palatino Linotype"/>
              </a:rPr>
              <a:t> Kandel and Schwartz (1982) showed that serotonin release from neurons increased after conditioning.</a:t>
            </a:r>
            <a:endParaRPr b="0" lang="en-US" sz="2800" spc="-1" strike="noStrike">
              <a:solidFill>
                <a:srgbClr val="000000"/>
              </a:solidFill>
              <a:latin typeface="Times New Roman"/>
            </a:endParaRPr>
          </a:p>
        </p:txBody>
      </p:sp>
      <p:pic>
        <p:nvPicPr>
          <p:cNvPr id="550" name="" descr=""/>
          <p:cNvPicPr/>
          <p:nvPr/>
        </p:nvPicPr>
        <p:blipFill>
          <a:blip r:embed="rId1"/>
          <a:stretch/>
        </p:blipFill>
        <p:spPr>
          <a:xfrm>
            <a:off x="2162160" y="3110040"/>
            <a:ext cx="4800600" cy="3176640"/>
          </a:xfrm>
          <a:prstGeom prst="rect">
            <a:avLst/>
          </a:prstGeom>
          <a:ln w="0">
            <a:noFill/>
          </a:ln>
        </p:spPr>
      </p:pic>
      <p:sp>
        <p:nvSpPr>
          <p:cNvPr id="551" name=""/>
          <p:cNvSpPr/>
          <p:nvPr/>
        </p:nvSpPr>
        <p:spPr>
          <a:xfrm rot="5400000">
            <a:off x="6184080" y="5291640"/>
            <a:ext cx="183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Scientific America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C291308C-85EA-4511-9A0F-3AFD9E2B80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ynaptic Changes</a:t>
            </a:r>
            <a:endParaRPr b="0" lang="en-US" sz="4000" spc="-1" strike="noStrike">
              <a:solidFill>
                <a:srgbClr val="000000"/>
              </a:solidFill>
              <a:latin typeface="Times New Roman"/>
            </a:endParaRPr>
          </a:p>
        </p:txBody>
      </p:sp>
      <p:sp>
        <p:nvSpPr>
          <p:cNvPr id="553" name="PlaceHolder 2"/>
          <p:cNvSpPr>
            <a:spLocks noGrp="1"/>
          </p:cNvSpPr>
          <p:nvPr>
            <p:ph/>
          </p:nvPr>
        </p:nvSpPr>
        <p:spPr>
          <a:xfrm>
            <a:off x="380880" y="1600200"/>
            <a:ext cx="4191120" cy="449568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Long-Term Potentiation (LTP)</a:t>
            </a:r>
            <a:r>
              <a:rPr b="0" lang="en-US" sz="2800" spc="-1" strike="noStrike">
                <a:solidFill>
                  <a:srgbClr val="6600cc"/>
                </a:solidFill>
                <a:latin typeface="Palatino Linotype"/>
              </a:rPr>
              <a:t> </a:t>
            </a:r>
            <a:r>
              <a:rPr b="0" lang="en-US" sz="2800" spc="-1" strike="noStrike">
                <a:solidFill>
                  <a:srgbClr val="000000"/>
                </a:solidFill>
                <a:latin typeface="Palatino Linotype"/>
              </a:rPr>
              <a:t>refers to synaptic enhancement after learning (Lynch, 2002). An increase in neurotransmitter release or receptors on the receiving neuron indicates strengthening of synapses.</a:t>
            </a:r>
            <a:endParaRPr b="0" lang="en-US" sz="2800" spc="-1" strike="noStrike">
              <a:solidFill>
                <a:srgbClr val="000000"/>
              </a:solidFill>
              <a:latin typeface="Times New Roman"/>
            </a:endParaRPr>
          </a:p>
        </p:txBody>
      </p:sp>
      <p:pic>
        <p:nvPicPr>
          <p:cNvPr id="554" name="" descr=""/>
          <p:cNvPicPr/>
          <p:nvPr/>
        </p:nvPicPr>
        <p:blipFill>
          <a:blip r:embed="rId1"/>
          <a:stretch/>
        </p:blipFill>
        <p:spPr>
          <a:xfrm>
            <a:off x="5418000" y="1600200"/>
            <a:ext cx="2967120" cy="4572000"/>
          </a:xfrm>
          <a:prstGeom prst="rect">
            <a:avLst/>
          </a:prstGeom>
          <a:ln w="0">
            <a:noFill/>
          </a:ln>
        </p:spPr>
      </p:pic>
      <p:sp>
        <p:nvSpPr>
          <p:cNvPr id="555" name=""/>
          <p:cNvSpPr/>
          <p:nvPr/>
        </p:nvSpPr>
        <p:spPr>
          <a:xfrm rot="5400000">
            <a:off x="6258960" y="3859560"/>
            <a:ext cx="4470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th Photos: From N. Toni et al., Nature, 402, Nov. 25 1999. Courtesy of Dominique Muller</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0B878C55-BEB8-4D46-AC81-86DA561662D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ress Hormones &amp; Memory</a:t>
            </a:r>
            <a:endParaRPr b="0" lang="en-US" sz="4000" spc="-1" strike="noStrike">
              <a:solidFill>
                <a:srgbClr val="000000"/>
              </a:solidFill>
              <a:latin typeface="Times New Roman"/>
            </a:endParaRPr>
          </a:p>
        </p:txBody>
      </p:sp>
      <p:sp>
        <p:nvSpPr>
          <p:cNvPr id="557" name="PlaceHolder 2"/>
          <p:cNvSpPr>
            <a:spLocks noGrp="1"/>
          </p:cNvSpPr>
          <p:nvPr>
            <p:ph/>
          </p:nvPr>
        </p:nvSpPr>
        <p:spPr>
          <a:xfrm>
            <a:off x="633240" y="1371600"/>
            <a:ext cx="782496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eightened emotions (stress-related or otherwise) make for stronger memories. </a:t>
            </a:r>
            <a:r>
              <a:rPr b="0" lang="en-US" sz="2800" spc="-1" strike="noStrike">
                <a:solidFill>
                  <a:srgbClr val="0000ff"/>
                </a:solidFill>
                <a:latin typeface="Palatino Linotype"/>
              </a:rPr>
              <a:t>Flashbulb memories</a:t>
            </a:r>
            <a:r>
              <a:rPr b="0" lang="en-US" sz="2800" spc="-1" strike="noStrike">
                <a:solidFill>
                  <a:srgbClr val="000000"/>
                </a:solidFill>
                <a:latin typeface="Palatino Linotype"/>
              </a:rPr>
              <a:t> are clear memories of emotionally significant moments or events</a:t>
            </a:r>
            <a:endParaRPr b="0" lang="en-US" sz="2800" spc="-1" strike="noStrike">
              <a:solidFill>
                <a:srgbClr val="000000"/>
              </a:solidFill>
              <a:latin typeface="Times New Roman"/>
            </a:endParaRPr>
          </a:p>
        </p:txBody>
      </p:sp>
      <p:pic>
        <p:nvPicPr>
          <p:cNvPr id="558" name="" descr=""/>
          <p:cNvPicPr/>
          <p:nvPr/>
        </p:nvPicPr>
        <p:blipFill>
          <a:blip r:embed="rId1"/>
          <a:stretch/>
        </p:blipFill>
        <p:spPr>
          <a:xfrm>
            <a:off x="2133720" y="3276720"/>
            <a:ext cx="4876560" cy="3147840"/>
          </a:xfrm>
          <a:prstGeom prst="rect">
            <a:avLst/>
          </a:prstGeom>
          <a:ln w="0">
            <a:noFill/>
          </a:ln>
        </p:spPr>
      </p:pic>
      <p:sp>
        <p:nvSpPr>
          <p:cNvPr id="559" name=""/>
          <p:cNvSpPr/>
          <p:nvPr/>
        </p:nvSpPr>
        <p:spPr>
          <a:xfrm rot="5400000">
            <a:off x="6311520" y="5498640"/>
            <a:ext cx="163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ott Barbour/ Getty Imag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99F7A7E1-DEA9-4D40-98ED-0B3174C92D6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Storing Implicit &amp; Explicit Memories</a:t>
            </a:r>
            <a:endParaRPr b="0" lang="en-US" sz="3600" spc="-1" strike="noStrike">
              <a:solidFill>
                <a:srgbClr val="000000"/>
              </a:solidFill>
              <a:latin typeface="Times New Roman"/>
            </a:endParaRPr>
          </a:p>
        </p:txBody>
      </p:sp>
      <p:sp>
        <p:nvSpPr>
          <p:cNvPr id="561" name="PlaceHolder 2"/>
          <p:cNvSpPr>
            <a:spLocks noGrp="1"/>
          </p:cNvSpPr>
          <p:nvPr>
            <p:ph/>
          </p:nvPr>
        </p:nvSpPr>
        <p:spPr>
          <a:xfrm>
            <a:off x="556920" y="1580760"/>
            <a:ext cx="8001000" cy="184788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Explicit Memory</a:t>
            </a:r>
            <a:r>
              <a:rPr b="0" lang="en-US" sz="2400" spc="-1" strike="noStrike">
                <a:solidFill>
                  <a:srgbClr val="6600cc"/>
                </a:solidFill>
                <a:latin typeface="Palatino Linotype"/>
              </a:rPr>
              <a:t> </a:t>
            </a:r>
            <a:r>
              <a:rPr b="0" lang="en-US" sz="2400" spc="-1" strike="noStrike">
                <a:solidFill>
                  <a:srgbClr val="000000"/>
                </a:solidFill>
                <a:latin typeface="Palatino Linotype"/>
              </a:rPr>
              <a:t>refers to facts and experiences that one can consciously know and declare. </a:t>
            </a:r>
            <a:r>
              <a:rPr b="0" lang="en-US" sz="2400" spc="-1" strike="noStrike">
                <a:solidFill>
                  <a:srgbClr val="0000ff"/>
                </a:solidFill>
                <a:latin typeface="Palatino Linotype"/>
              </a:rPr>
              <a:t>Implicit memory</a:t>
            </a:r>
            <a:r>
              <a:rPr b="0" lang="en-US" sz="2400" spc="-1" strike="noStrike">
                <a:solidFill>
                  <a:srgbClr val="000000"/>
                </a:solidFill>
                <a:latin typeface="Palatino Linotype"/>
              </a:rPr>
              <a:t> involves learning an action while the individual does not know or declare what she knows.</a:t>
            </a:r>
            <a:endParaRPr b="0" lang="en-US" sz="2400" spc="-1" strike="noStrike">
              <a:solidFill>
                <a:srgbClr val="000000"/>
              </a:solidFill>
              <a:latin typeface="Times New Roman"/>
            </a:endParaRPr>
          </a:p>
        </p:txBody>
      </p:sp>
      <p:pic>
        <p:nvPicPr>
          <p:cNvPr id="562" name="" descr=""/>
          <p:cNvPicPr/>
          <p:nvPr/>
        </p:nvPicPr>
        <p:blipFill>
          <a:blip r:embed="rId1"/>
          <a:stretch/>
        </p:blipFill>
        <p:spPr>
          <a:xfrm>
            <a:off x="638280" y="3154320"/>
            <a:ext cx="7848360" cy="3132360"/>
          </a:xfrm>
          <a:prstGeom prst="rect">
            <a:avLst/>
          </a:prstGeom>
          <a:ln w="0">
            <a:noFill/>
          </a:ln>
        </p:spPr>
      </p:pic>
      <p:sp>
        <p:nvSpPr>
          <p:cNvPr id="4" name="PlaceHolder 3"/>
          <p:cNvSpPr>
            <a:spLocks noGrp="1"/>
          </p:cNvSpPr>
          <p:nvPr>
            <p:ph type="sldNum" idx="3"/>
          </p:nvPr>
        </p:nvSpPr>
        <p:spPr/>
        <p:txBody>
          <a:bodyPr/>
          <a:p>
            <a:fld id="{E1173A62-83B6-4840-A881-C8FAD83327B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a:t>
            </a:r>
            <a:endParaRPr b="0" lang="en-US" sz="4000" spc="-1" strike="noStrike">
              <a:solidFill>
                <a:srgbClr val="000000"/>
              </a:solidFill>
              <a:latin typeface="Times New Roman"/>
            </a:endParaRPr>
          </a:p>
        </p:txBody>
      </p:sp>
      <p:sp>
        <p:nvSpPr>
          <p:cNvPr id="57" name="PlaceHolder 2"/>
          <p:cNvSpPr>
            <a:spLocks noGrp="1"/>
          </p:cNvSpPr>
          <p:nvPr>
            <p:ph/>
          </p:nvPr>
        </p:nvSpPr>
        <p:spPr>
          <a:xfrm>
            <a:off x="1590840" y="1595520"/>
            <a:ext cx="593856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Retrieval: Getting Information Out</a:t>
            </a:r>
            <a:endParaRPr b="0" lang="en-US" sz="3600" spc="-1" strike="noStrike">
              <a:solidFill>
                <a:srgbClr val="000000"/>
              </a:solidFill>
              <a:latin typeface="Times New Roman"/>
            </a:endParaRPr>
          </a:p>
          <a:p>
            <a:pPr>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r>
              <a:rPr b="0" lang="en-US" sz="2800" spc="-1" strike="noStrike">
                <a:solidFill>
                  <a:srgbClr val="000000"/>
                </a:solidFill>
                <a:latin typeface="Palatino Linotype"/>
              </a:rPr>
              <a:t>Retrieval Cues</a:t>
            </a:r>
            <a:endParaRPr b="0" lang="en-US" sz="2800" spc="-1" strike="noStrike">
              <a:solidFill>
                <a:srgbClr val="000000"/>
              </a:solidFill>
              <a:latin typeface="Times New Roman"/>
            </a:endParaRPr>
          </a:p>
          <a:p>
            <a:pPr indent="0">
              <a:lnSpc>
                <a:spcPct val="1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Forgetting</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ncoding Failure</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orage Deca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trieval Failu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7467BC-8443-4A55-B197-BD5415E470C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685800" y="262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ppocampus</a:t>
            </a:r>
            <a:endParaRPr b="0" lang="en-US" sz="4000" spc="-1" strike="noStrike">
              <a:solidFill>
                <a:srgbClr val="000000"/>
              </a:solidFill>
              <a:latin typeface="Times New Roman"/>
            </a:endParaRPr>
          </a:p>
        </p:txBody>
      </p:sp>
      <p:pic>
        <p:nvPicPr>
          <p:cNvPr id="564" name="" descr=""/>
          <p:cNvPicPr/>
          <p:nvPr/>
        </p:nvPicPr>
        <p:blipFill>
          <a:blip r:embed="rId1"/>
          <a:stretch/>
        </p:blipFill>
        <p:spPr>
          <a:xfrm>
            <a:off x="2565360" y="2914560"/>
            <a:ext cx="3987720" cy="3522600"/>
          </a:xfrm>
          <a:prstGeom prst="rect">
            <a:avLst/>
          </a:prstGeom>
          <a:ln w="0">
            <a:noFill/>
          </a:ln>
        </p:spPr>
      </p:pic>
      <p:sp>
        <p:nvSpPr>
          <p:cNvPr id="565" name=""/>
          <p:cNvSpPr/>
          <p:nvPr/>
        </p:nvSpPr>
        <p:spPr>
          <a:xfrm>
            <a:off x="248400" y="1649520"/>
            <a:ext cx="8623800" cy="863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Hippocampus </a:t>
            </a:r>
            <a:r>
              <a:rPr b="0" lang="en-US" sz="2800" spc="-1" strike="noStrike">
                <a:solidFill>
                  <a:srgbClr val="000000"/>
                </a:solidFill>
                <a:latin typeface="Palatino Linotype"/>
              </a:rPr>
              <a:t>– a neural center in the limbic</a:t>
            </a:r>
            <a:endParaRPr b="0" lang="en-US" sz="2800" spc="-1" strike="noStrike">
              <a:solidFill>
                <a:srgbClr val="000000"/>
              </a:solidFill>
              <a:latin typeface="Times New Roman"/>
            </a:endParaRPr>
          </a:p>
          <a:p>
            <a:pPr marL="457200" indent="-457200"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ystem that processes explicit memories.</a:t>
            </a:r>
            <a:endParaRPr b="0" lang="en-US" sz="2800" spc="-1" strike="noStrike">
              <a:solidFill>
                <a:srgbClr val="000000"/>
              </a:solidFill>
              <a:latin typeface="Times New Roman"/>
            </a:endParaRPr>
          </a:p>
        </p:txBody>
      </p:sp>
      <p:sp>
        <p:nvSpPr>
          <p:cNvPr id="566" name=""/>
          <p:cNvSpPr/>
          <p:nvPr/>
        </p:nvSpPr>
        <p:spPr>
          <a:xfrm rot="5400000">
            <a:off x="5730840" y="5394600"/>
            <a:ext cx="188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idenfield &amp; Nicolson archives</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79768875-B2A5-4207-BCD3-22CAA169A2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809880" y="4191120"/>
            <a:ext cx="4572000" cy="457200"/>
          </a:xfrm>
          <a:prstGeom prst="roundRect">
            <a:avLst>
              <a:gd name="adj" fmla="val 16667"/>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095880" y="4191120"/>
            <a:ext cx="2286000" cy="457200"/>
          </a:xfrm>
          <a:prstGeom prst="roundRect">
            <a:avLst>
              <a:gd name="adj" fmla="val 16667"/>
            </a:avLst>
          </a:prstGeom>
          <a:solidFill>
            <a:srgbClr val="ffa5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No New Memories</a:t>
            </a:r>
            <a:endParaRPr b="0" lang="en-US" sz="1800" spc="-1" strike="noStrike">
              <a:solidFill>
                <a:srgbClr val="000000"/>
              </a:solidFill>
              <a:latin typeface="Times New Roman"/>
            </a:endParaRPr>
          </a:p>
        </p:txBody>
      </p:sp>
      <p:sp>
        <p:nvSpPr>
          <p:cNvPr id="56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nterograde Amnesia</a:t>
            </a:r>
            <a:endParaRPr b="0" lang="en-US" sz="4000" spc="-1" strike="noStrike">
              <a:solidFill>
                <a:srgbClr val="000000"/>
              </a:solidFill>
              <a:latin typeface="Times New Roman"/>
            </a:endParaRPr>
          </a:p>
        </p:txBody>
      </p:sp>
      <p:sp>
        <p:nvSpPr>
          <p:cNvPr id="570" name="PlaceHolder 2"/>
          <p:cNvSpPr>
            <a:spLocks noGrp="1"/>
          </p:cNvSpPr>
          <p:nvPr>
            <p:ph/>
          </p:nvPr>
        </p:nvSpPr>
        <p:spPr>
          <a:xfrm>
            <a:off x="1219320" y="3885840"/>
            <a:ext cx="2133360" cy="114300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nterograde</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mnesia</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M)</a:t>
            </a:r>
            <a:endParaRPr b="0" lang="en-US" sz="2400" spc="-1" strike="noStrike">
              <a:solidFill>
                <a:srgbClr val="000000"/>
              </a:solidFill>
              <a:latin typeface="Times New Roman"/>
            </a:endParaRPr>
          </a:p>
        </p:txBody>
      </p:sp>
      <p:sp>
        <p:nvSpPr>
          <p:cNvPr id="571" name=""/>
          <p:cNvSpPr/>
          <p:nvPr/>
        </p:nvSpPr>
        <p:spPr>
          <a:xfrm>
            <a:off x="5562000" y="516744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Surgery</a:t>
            </a:r>
            <a:endParaRPr b="0" lang="en-US" sz="1800" spc="-1" strike="noStrike">
              <a:solidFill>
                <a:srgbClr val="000000"/>
              </a:solidFill>
              <a:latin typeface="Times New Roman"/>
            </a:endParaRPr>
          </a:p>
        </p:txBody>
      </p:sp>
      <p:sp>
        <p:nvSpPr>
          <p:cNvPr id="572" name=""/>
          <p:cNvSpPr/>
          <p:nvPr/>
        </p:nvSpPr>
        <p:spPr>
          <a:xfrm>
            <a:off x="366840" y="1589040"/>
            <a:ext cx="8381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fter losing his hippocampus in surgery, patient Henry M. (HM) remembered everything before the operation but cannot make new memories. We call this </a:t>
            </a:r>
            <a:r>
              <a:rPr b="0" lang="en-US" sz="2800" spc="-1" strike="noStrike">
                <a:solidFill>
                  <a:srgbClr val="0000ff"/>
                </a:solidFill>
                <a:latin typeface="Palatino Linotype"/>
              </a:rPr>
              <a:t>anterograde amnesia</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cxnSp>
        <p:nvCxnSpPr>
          <p:cNvPr id="573" name=""/>
          <p:cNvCxnSpPr>
            <a:stCxn id="571" idx="0"/>
            <a:endCxn id="574" idx="0"/>
          </p:cNvCxnSpPr>
          <p:nvPr/>
        </p:nvCxnSpPr>
        <p:spPr>
          <a:xfrm flipV="1">
            <a:off x="6109920" y="4671720"/>
            <a:ext cx="1080" cy="496080"/>
          </a:xfrm>
          <a:prstGeom prst="straightConnector1">
            <a:avLst/>
          </a:prstGeom>
          <a:ln w="38160">
            <a:solidFill>
              <a:srgbClr val="000000"/>
            </a:solidFill>
            <a:miter/>
            <a:tailEnd len="med" type="triangle" w="med"/>
          </a:ln>
        </p:spPr>
      </p:cxnSp>
      <p:sp>
        <p:nvSpPr>
          <p:cNvPr id="575" name=""/>
          <p:cNvSpPr/>
          <p:nvPr/>
        </p:nvSpPr>
        <p:spPr>
          <a:xfrm>
            <a:off x="4042800" y="4238640"/>
            <a:ext cx="189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Memory Intact</a:t>
            </a:r>
            <a:endParaRPr b="0" lang="en-US" sz="1800" spc="-1" strike="noStrike">
              <a:solidFill>
                <a:srgbClr val="000000"/>
              </a:solidFill>
              <a:latin typeface="Times New Roman"/>
            </a:endParaRPr>
          </a:p>
        </p:txBody>
      </p:sp>
      <p:sp>
        <p:nvSpPr>
          <p:cNvPr id="576" name=""/>
          <p:cNvSpPr/>
          <p:nvPr/>
        </p:nvSpPr>
        <p:spPr>
          <a:xfrm>
            <a:off x="6110280" y="4191120"/>
            <a:ext cx="0" cy="4572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B36E90-E360-4992-9E90-736F2626DE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mplicit Memory</a:t>
            </a:r>
            <a:endParaRPr b="0" lang="en-US" sz="4000" spc="-1" strike="noStrike">
              <a:solidFill>
                <a:srgbClr val="000000"/>
              </a:solidFill>
              <a:latin typeface="Times New Roman"/>
            </a:endParaRPr>
          </a:p>
        </p:txBody>
      </p:sp>
      <p:sp>
        <p:nvSpPr>
          <p:cNvPr id="578" name="PlaceHolder 2"/>
          <p:cNvSpPr>
            <a:spLocks noGrp="1"/>
          </p:cNvSpPr>
          <p:nvPr>
            <p:ph/>
          </p:nvPr>
        </p:nvSpPr>
        <p:spPr>
          <a:xfrm>
            <a:off x="561600" y="5562360"/>
            <a:ext cx="8001000" cy="1066680"/>
          </a:xfrm>
          <a:prstGeom prst="rect">
            <a:avLst/>
          </a:prstGeom>
          <a:noFill/>
          <a:ln w="0">
            <a:noFill/>
          </a:ln>
        </p:spPr>
        <p:txBody>
          <a:bodyPr lIns="90000" rIns="90000" tIns="46800" bIns="4680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M learned the Tower of Hanoi (game) after his surgery. Each time he plays it, he is unable to remember the fact that he has already played the game.</a:t>
            </a:r>
            <a:endParaRPr b="0" lang="en-US" sz="2000" spc="-1" strike="noStrike">
              <a:solidFill>
                <a:srgbClr val="000000"/>
              </a:solidFill>
              <a:latin typeface="Times New Roman"/>
            </a:endParaRPr>
          </a:p>
        </p:txBody>
      </p:sp>
      <p:sp>
        <p:nvSpPr>
          <p:cNvPr id="579" name=""/>
          <p:cNvSpPr/>
          <p:nvPr/>
        </p:nvSpPr>
        <p:spPr>
          <a:xfrm>
            <a:off x="604800" y="1600200"/>
            <a:ext cx="7904520" cy="12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M is unable to make new memories that are</a:t>
            </a:r>
            <a:endParaRPr b="0" lang="en-US" sz="28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clarative (explicit), but he can form new</a:t>
            </a:r>
            <a:endParaRPr b="0" lang="en-US" sz="28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ies that are procedural (implicit).</a:t>
            </a:r>
            <a:endParaRPr b="0" lang="en-US" sz="2800" spc="-1" strike="noStrike">
              <a:solidFill>
                <a:srgbClr val="000000"/>
              </a:solidFill>
              <a:latin typeface="Times New Roman"/>
            </a:endParaRPr>
          </a:p>
        </p:txBody>
      </p:sp>
      <p:grpSp>
        <p:nvGrpSpPr>
          <p:cNvPr id="580" name=""/>
          <p:cNvGrpSpPr/>
          <p:nvPr/>
        </p:nvGrpSpPr>
        <p:grpSpPr>
          <a:xfrm>
            <a:off x="2523960" y="2971800"/>
            <a:ext cx="4038840" cy="2548800"/>
            <a:chOff x="2523960" y="2971800"/>
            <a:chExt cx="4038840" cy="2548800"/>
          </a:xfrm>
        </p:grpSpPr>
        <p:sp>
          <p:nvSpPr>
            <p:cNvPr id="581" name=""/>
            <p:cNvSpPr/>
            <p:nvPr/>
          </p:nvSpPr>
          <p:spPr>
            <a:xfrm>
              <a:off x="2523960" y="5181480"/>
              <a:ext cx="403884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133800" y="2971800"/>
              <a:ext cx="152280" cy="2209680"/>
            </a:xfrm>
            <a:custGeom>
              <a:avLst/>
              <a:gdLst>
                <a:gd name="textAreaLeft" fmla="*/ 7200 w 152280"/>
                <a:gd name="textAreaRight" fmla="*/ 145080 w 152280"/>
                <a:gd name="textAreaTop" fmla="*/ 7200 h 2209680"/>
                <a:gd name="textAreaBottom" fmla="*/ 2202480 h 2209680"/>
              </a:gdLst>
              <a:ahLst/>
              <a:rect l="textAreaLeft" t="textAreaTop" r="textAreaRight" b="textAreaBottom"/>
              <a:pathLst>
                <a:path w="21600" h="312742">
                  <a:moveTo>
                    <a:pt x="3600" y="0"/>
                  </a:moveTo>
                  <a:arcTo wR="3600" hR="3600" stAng="16200000" swAng="-5400000"/>
                  <a:lnTo>
                    <a:pt x="0" y="309142"/>
                  </a:lnTo>
                  <a:arcTo wR="3600" hR="3600" stAng="10800000" swAng="-5400000"/>
                  <a:lnTo>
                    <a:pt x="18000" y="312742"/>
                  </a:lnTo>
                  <a:arcTo wR="3600" hR="3600" stAng="5400000" swAng="-5400000"/>
                  <a:lnTo>
                    <a:pt x="21600" y="3600"/>
                  </a:lnTo>
                  <a:arcTo wR="3600" hR="3600" stAng="0" swAng="-5400000"/>
                  <a:close/>
                </a:path>
              </a:pathLst>
            </a:cu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500720" y="2971800"/>
              <a:ext cx="152280" cy="2209680"/>
            </a:xfrm>
            <a:custGeom>
              <a:avLst/>
              <a:gdLst>
                <a:gd name="textAreaLeft" fmla="*/ 7200 w 152280"/>
                <a:gd name="textAreaRight" fmla="*/ 145080 w 152280"/>
                <a:gd name="textAreaTop" fmla="*/ 7200 h 2209680"/>
                <a:gd name="textAreaBottom" fmla="*/ 2202480 h 2209680"/>
              </a:gdLst>
              <a:ahLst/>
              <a:rect l="textAreaLeft" t="textAreaTop" r="textAreaRight" b="textAreaBottom"/>
              <a:pathLst>
                <a:path w="21600" h="312742">
                  <a:moveTo>
                    <a:pt x="3600" y="0"/>
                  </a:moveTo>
                  <a:arcTo wR="3600" hR="3600" stAng="16200000" swAng="-5400000"/>
                  <a:lnTo>
                    <a:pt x="0" y="309142"/>
                  </a:lnTo>
                  <a:arcTo wR="3600" hR="3600" stAng="10800000" swAng="-5400000"/>
                  <a:lnTo>
                    <a:pt x="18000" y="312742"/>
                  </a:lnTo>
                  <a:arcTo wR="3600" hR="3600" stAng="5400000" swAng="-5400000"/>
                  <a:lnTo>
                    <a:pt x="21600" y="3600"/>
                  </a:lnTo>
                  <a:arcTo wR="3600" hR="3600" stAng="0" swAng="-5400000"/>
                  <a:close/>
                </a:path>
              </a:pathLst>
            </a:cu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800680" y="2971800"/>
              <a:ext cx="152280" cy="2209680"/>
            </a:xfrm>
            <a:custGeom>
              <a:avLst/>
              <a:gdLst>
                <a:gd name="textAreaLeft" fmla="*/ 7200 w 152280"/>
                <a:gd name="textAreaRight" fmla="*/ 145080 w 152280"/>
                <a:gd name="textAreaTop" fmla="*/ 7200 h 2209680"/>
                <a:gd name="textAreaBottom" fmla="*/ 2202480 h 2209680"/>
              </a:gdLst>
              <a:ahLst/>
              <a:rect l="textAreaLeft" t="textAreaTop" r="textAreaRight" b="textAreaBottom"/>
              <a:pathLst>
                <a:path w="21600" h="312742">
                  <a:moveTo>
                    <a:pt x="3600" y="0"/>
                  </a:moveTo>
                  <a:arcTo wR="3600" hR="3600" stAng="16200000" swAng="-5400000"/>
                  <a:lnTo>
                    <a:pt x="0" y="309142"/>
                  </a:lnTo>
                  <a:arcTo wR="3600" hR="3600" stAng="10800000" swAng="-5400000"/>
                  <a:lnTo>
                    <a:pt x="18000" y="312742"/>
                  </a:lnTo>
                  <a:arcTo wR="3600" hR="3600" stAng="5400000" swAng="-5400000"/>
                  <a:lnTo>
                    <a:pt x="21600" y="3600"/>
                  </a:lnTo>
                  <a:arcTo wR="3600" hR="3600" stAng="0" swAng="-5400000"/>
                  <a:close/>
                </a:path>
              </a:pathLst>
            </a:cu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681280" y="4952880"/>
              <a:ext cx="1066680" cy="22860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752560" y="4724280"/>
              <a:ext cx="914400" cy="228600"/>
            </a:xfrm>
            <a:prstGeom prst="roundRect">
              <a:avLst>
                <a:gd name="adj" fmla="val 16667"/>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828880" y="4481640"/>
              <a:ext cx="762120" cy="2286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905200" y="4253040"/>
              <a:ext cx="609480" cy="228600"/>
            </a:xfrm>
            <a:prstGeom prst="roundRect">
              <a:avLst>
                <a:gd name="adj" fmla="val 16667"/>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721840" y="51814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Palatino Linotype"/>
                </a:rPr>
                <a:t>C</a:t>
              </a:r>
              <a:endParaRPr b="0" lang="en-US" sz="1600" spc="-1" strike="noStrike">
                <a:solidFill>
                  <a:srgbClr val="000000"/>
                </a:solidFill>
                <a:latin typeface="Times New Roman"/>
              </a:endParaRPr>
            </a:p>
          </p:txBody>
        </p:sp>
        <p:sp>
          <p:nvSpPr>
            <p:cNvPr id="590" name=""/>
            <p:cNvSpPr/>
            <p:nvPr/>
          </p:nvSpPr>
          <p:spPr>
            <a:xfrm>
              <a:off x="4401720" y="5183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Palatino Linotype"/>
                </a:rPr>
                <a:t>B</a:t>
              </a:r>
              <a:endParaRPr b="0" lang="en-US" sz="1600" spc="-1" strike="noStrike">
                <a:solidFill>
                  <a:srgbClr val="000000"/>
                </a:solidFill>
                <a:latin typeface="Times New Roman"/>
              </a:endParaRPr>
            </a:p>
          </p:txBody>
        </p:sp>
        <p:sp>
          <p:nvSpPr>
            <p:cNvPr id="591" name=""/>
            <p:cNvSpPr/>
            <p:nvPr/>
          </p:nvSpPr>
          <p:spPr>
            <a:xfrm>
              <a:off x="3024360" y="5178600"/>
              <a:ext cx="3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Palatino Linotype"/>
                </a:rPr>
                <a:t>A</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DE692028-A728-4B0F-B61D-922DBA1A7E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714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erebellum</a:t>
            </a:r>
            <a:endParaRPr b="0" lang="en-US" sz="4000" spc="-1" strike="noStrike">
              <a:solidFill>
                <a:srgbClr val="000000"/>
              </a:solidFill>
              <a:latin typeface="Times New Roman"/>
            </a:endParaRPr>
          </a:p>
        </p:txBody>
      </p:sp>
      <p:sp>
        <p:nvSpPr>
          <p:cNvPr id="593" name=""/>
          <p:cNvSpPr/>
          <p:nvPr/>
        </p:nvSpPr>
        <p:spPr>
          <a:xfrm>
            <a:off x="120960" y="1295280"/>
            <a:ext cx="8876880" cy="863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erebellum </a:t>
            </a:r>
            <a:r>
              <a:rPr b="0" lang="en-US" sz="2800" spc="-1" strike="noStrike">
                <a:solidFill>
                  <a:srgbClr val="000000"/>
                </a:solidFill>
                <a:latin typeface="Palatino Linotype"/>
              </a:rPr>
              <a:t>– a neural center in the hindbrain</a:t>
            </a:r>
            <a:endParaRPr b="0" lang="en-US" sz="2800" spc="-1" strike="noStrike">
              <a:solidFill>
                <a:srgbClr val="000000"/>
              </a:solidFill>
              <a:latin typeface="Times New Roman"/>
            </a:endParaRPr>
          </a:p>
          <a:p>
            <a:pPr marL="457200" indent="-457200"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r>
              <a:rPr b="0" lang="en-US" sz="2800" spc="-1" strike="noStrike">
                <a:solidFill>
                  <a:srgbClr val="000000"/>
                </a:solidFill>
                <a:latin typeface="Palatino Linotype"/>
              </a:rPr>
              <a:t>that processes implicit memories.</a:t>
            </a:r>
            <a:endParaRPr b="0" lang="en-US" sz="2800" spc="-1" strike="noStrike">
              <a:solidFill>
                <a:srgbClr val="000000"/>
              </a:solidFill>
              <a:latin typeface="Times New Roman"/>
            </a:endParaRPr>
          </a:p>
        </p:txBody>
      </p:sp>
      <p:pic>
        <p:nvPicPr>
          <p:cNvPr id="594" name="" descr=""/>
          <p:cNvPicPr/>
          <p:nvPr/>
        </p:nvPicPr>
        <p:blipFill>
          <a:blip r:embed="rId1"/>
          <a:stretch/>
        </p:blipFill>
        <p:spPr>
          <a:xfrm>
            <a:off x="2590920" y="2209680"/>
            <a:ext cx="3767040" cy="4572000"/>
          </a:xfrm>
          <a:prstGeom prst="rect">
            <a:avLst/>
          </a:prstGeom>
          <a:ln w="0">
            <a:noFill/>
          </a:ln>
        </p:spPr>
      </p:pic>
      <p:sp>
        <p:nvSpPr>
          <p:cNvPr id="2" name="PlaceHolder 1"/>
          <p:cNvSpPr>
            <a:spLocks noGrp="1"/>
          </p:cNvSpPr>
          <p:nvPr>
            <p:ph type="sldNum" idx="3"/>
          </p:nvPr>
        </p:nvSpPr>
        <p:spPr/>
        <p:txBody>
          <a:bodyPr/>
          <a:p>
            <a:fld id="{551059B9-C50D-42C9-80DA-164994E9B7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Retrieval: Getting Information Out</a:t>
            </a:r>
            <a:endParaRPr b="0" lang="en-US" sz="3600" spc="-1" strike="noStrike">
              <a:solidFill>
                <a:srgbClr val="000000"/>
              </a:solidFill>
              <a:latin typeface="Times New Roman"/>
            </a:endParaRPr>
          </a:p>
        </p:txBody>
      </p:sp>
      <p:sp>
        <p:nvSpPr>
          <p:cNvPr id="596" name=""/>
          <p:cNvSpPr/>
          <p:nvPr/>
        </p:nvSpPr>
        <p:spPr>
          <a:xfrm>
            <a:off x="976320" y="1600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trieval refers to getting information out of the memory store.</a:t>
            </a:r>
            <a:endParaRPr b="0" lang="en-US" sz="2800" spc="-1" strike="noStrike">
              <a:solidFill>
                <a:srgbClr val="000000"/>
              </a:solidFill>
              <a:latin typeface="Times New Roman"/>
            </a:endParaRPr>
          </a:p>
        </p:txBody>
      </p:sp>
      <p:pic>
        <p:nvPicPr>
          <p:cNvPr id="597" name="" descr=""/>
          <p:cNvPicPr/>
          <p:nvPr/>
        </p:nvPicPr>
        <p:blipFill>
          <a:blip r:embed="rId1"/>
          <a:stretch/>
        </p:blipFill>
        <p:spPr>
          <a:xfrm>
            <a:off x="1920960" y="2971800"/>
            <a:ext cx="5300640" cy="3211560"/>
          </a:xfrm>
          <a:prstGeom prst="rect">
            <a:avLst/>
          </a:prstGeom>
          <a:ln w="0">
            <a:noFill/>
          </a:ln>
        </p:spPr>
      </p:pic>
      <p:sp>
        <p:nvSpPr>
          <p:cNvPr id="598" name=""/>
          <p:cNvSpPr/>
          <p:nvPr/>
        </p:nvSpPr>
        <p:spPr>
          <a:xfrm rot="5400000">
            <a:off x="6544080" y="534276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anky’s Yearbook Archive</a:t>
            </a:r>
            <a:endParaRPr b="0" lang="en-US" sz="1000" spc="-1" strike="noStrike">
              <a:solidFill>
                <a:srgbClr val="000000"/>
              </a:solidFill>
              <a:latin typeface="Times New Roman"/>
            </a:endParaRPr>
          </a:p>
        </p:txBody>
      </p:sp>
      <p:sp>
        <p:nvSpPr>
          <p:cNvPr id="599" name=""/>
          <p:cNvSpPr/>
          <p:nvPr/>
        </p:nvSpPr>
        <p:spPr>
          <a:xfrm rot="5400000">
            <a:off x="3724920" y="534276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anky’s Yearbook Archive</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006347EC-0488-44B5-9DAB-D64420322A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Memory</a:t>
            </a:r>
            <a:endParaRPr b="0" lang="en-US" sz="4000" spc="-1" strike="noStrike">
              <a:solidFill>
                <a:srgbClr val="000000"/>
              </a:solidFill>
              <a:latin typeface="Times New Roman"/>
            </a:endParaRPr>
          </a:p>
        </p:txBody>
      </p:sp>
      <p:sp>
        <p:nvSpPr>
          <p:cNvPr id="601" name=""/>
          <p:cNvSpPr/>
          <p:nvPr/>
        </p:nvSpPr>
        <p:spPr>
          <a:xfrm>
            <a:off x="62856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lang="en-US" sz="2800" spc="-1" strike="noStrike">
                <a:solidFill>
                  <a:srgbClr val="0000ff"/>
                </a:solidFill>
                <a:latin typeface="Palatino Linotype"/>
              </a:rPr>
              <a:t>recognition, </a:t>
            </a:r>
            <a:r>
              <a:rPr b="0" lang="en-US" sz="2800" spc="-1" strike="noStrike">
                <a:solidFill>
                  <a:srgbClr val="000000"/>
                </a:solidFill>
                <a:latin typeface="Palatino Linotype"/>
              </a:rPr>
              <a:t>the person must identify an item amongst other choices. (A multiple-choice test requires recognition.)</a:t>
            </a:r>
            <a:endParaRPr b="0" lang="en-US" sz="2800" spc="-1" strike="noStrike">
              <a:solidFill>
                <a:srgbClr val="000000"/>
              </a:solidFill>
              <a:latin typeface="Times New Roman"/>
            </a:endParaRPr>
          </a:p>
        </p:txBody>
      </p:sp>
      <p:sp>
        <p:nvSpPr>
          <p:cNvPr id="602" name=""/>
          <p:cNvSpPr/>
          <p:nvPr/>
        </p:nvSpPr>
        <p:spPr>
          <a:xfrm>
            <a:off x="1981080" y="3519360"/>
            <a:ext cx="5143680" cy="31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ame the capital of France.</a:t>
            </a:r>
            <a:endParaRPr b="0" lang="en-US" sz="2800" spc="-1" strike="noStrike">
              <a:solidFill>
                <a:srgbClr val="000000"/>
              </a:solidFill>
              <a:latin typeface="Times New Roman"/>
            </a:endParaRPr>
          </a:p>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38320" indent="-457200">
              <a:lnSpc>
                <a:spcPct val="100000"/>
              </a:lnSpc>
              <a:buClr>
                <a:srgbClr val="000000"/>
              </a:buClr>
              <a:buFont typeface="Palatino Linotype"/>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russels</a:t>
            </a:r>
            <a:endParaRPr b="0" lang="en-US" sz="2800" spc="-1" strike="noStrike">
              <a:solidFill>
                <a:srgbClr val="000000"/>
              </a:solidFill>
              <a:latin typeface="Times New Roman"/>
            </a:endParaRPr>
          </a:p>
          <a:p>
            <a:pPr lvl="1" marL="1138320" indent="-457200">
              <a:lnSpc>
                <a:spcPct val="100000"/>
              </a:lnSpc>
              <a:buClr>
                <a:srgbClr val="000000"/>
              </a:buClr>
              <a:buFont typeface="Palatino Linotype"/>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ome</a:t>
            </a:r>
            <a:endParaRPr b="0" lang="en-US" sz="2800" spc="-1" strike="noStrike">
              <a:solidFill>
                <a:srgbClr val="000000"/>
              </a:solidFill>
              <a:latin typeface="Times New Roman"/>
            </a:endParaRPr>
          </a:p>
          <a:p>
            <a:pPr lvl="1" marL="1138320" indent="-457200">
              <a:lnSpc>
                <a:spcPct val="100000"/>
              </a:lnSpc>
              <a:buClr>
                <a:srgbClr val="000000"/>
              </a:buClr>
              <a:buFont typeface="Palatino Linotype"/>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ndon</a:t>
            </a:r>
            <a:endParaRPr b="0" lang="en-US" sz="2800" spc="-1" strike="noStrike">
              <a:solidFill>
                <a:srgbClr val="000000"/>
              </a:solidFill>
              <a:latin typeface="Times New Roman"/>
            </a:endParaRPr>
          </a:p>
          <a:p>
            <a:pPr lvl="1" marL="1138320" indent="-457200">
              <a:lnSpc>
                <a:spcPct val="100000"/>
              </a:lnSpc>
              <a:buClr>
                <a:srgbClr val="000000"/>
              </a:buClr>
              <a:buFont typeface="Palatino Linotype"/>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ari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059F9E5-0F16-4994-BF01-05F87E979C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Memory</a:t>
            </a:r>
            <a:endParaRPr b="0" lang="en-US" sz="4000" spc="-1" strike="noStrike">
              <a:solidFill>
                <a:srgbClr val="000000"/>
              </a:solidFill>
              <a:latin typeface="Times New Roman"/>
            </a:endParaRPr>
          </a:p>
        </p:txBody>
      </p:sp>
      <p:sp>
        <p:nvSpPr>
          <p:cNvPr id="604" name=""/>
          <p:cNvSpPr/>
          <p:nvPr/>
        </p:nvSpPr>
        <p:spPr>
          <a:xfrm>
            <a:off x="62856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lang="en-US" sz="2800" spc="-1" strike="noStrike">
                <a:solidFill>
                  <a:srgbClr val="0000ff"/>
                </a:solidFill>
                <a:latin typeface="Palatino Linotype"/>
              </a:rPr>
              <a:t>recall</a:t>
            </a:r>
            <a:r>
              <a:rPr b="0" lang="en-US" sz="2800" spc="-1" strike="noStrike">
                <a:solidFill>
                  <a:srgbClr val="000000"/>
                </a:solidFill>
                <a:latin typeface="Palatino Linotype"/>
              </a:rPr>
              <a:t>,</a:t>
            </a:r>
            <a:r>
              <a:rPr b="0" lang="en-US" sz="2800" spc="-1" strike="noStrike">
                <a:solidFill>
                  <a:srgbClr val="0000ff"/>
                </a:solidFill>
                <a:latin typeface="Palatino Linotype"/>
              </a:rPr>
              <a:t> </a:t>
            </a:r>
            <a:r>
              <a:rPr b="0" lang="en-US" sz="2800" spc="-1" strike="noStrike">
                <a:solidFill>
                  <a:srgbClr val="000000"/>
                </a:solidFill>
                <a:latin typeface="Palatino Linotype"/>
              </a:rPr>
              <a:t>the person must retrieve information using effort. (A fill-in-the blank test requires recall.)</a:t>
            </a:r>
            <a:endParaRPr b="0" lang="en-US" sz="2800" spc="-1" strike="noStrike">
              <a:solidFill>
                <a:srgbClr val="000000"/>
              </a:solidFill>
              <a:latin typeface="Times New Roman"/>
            </a:endParaRPr>
          </a:p>
        </p:txBody>
      </p:sp>
      <p:sp>
        <p:nvSpPr>
          <p:cNvPr id="605" name=""/>
          <p:cNvSpPr/>
          <p:nvPr/>
        </p:nvSpPr>
        <p:spPr>
          <a:xfrm>
            <a:off x="1376280" y="3505320"/>
            <a:ext cx="63626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capital of France is ______.</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4D993B3-27E3-420B-AADE-85513F8C2F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Memory</a:t>
            </a:r>
            <a:endParaRPr b="0" lang="en-US" sz="4000" spc="-1" strike="noStrike">
              <a:solidFill>
                <a:srgbClr val="000000"/>
              </a:solidFill>
              <a:latin typeface="Times New Roman"/>
            </a:endParaRPr>
          </a:p>
        </p:txBody>
      </p:sp>
      <p:sp>
        <p:nvSpPr>
          <p:cNvPr id="607" name=""/>
          <p:cNvSpPr/>
          <p:nvPr/>
        </p:nvSpPr>
        <p:spPr>
          <a:xfrm>
            <a:off x="62856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lang="en-US" sz="2800" spc="-1" strike="noStrike">
                <a:solidFill>
                  <a:srgbClr val="0000ff"/>
                </a:solidFill>
                <a:latin typeface="Palatino Linotype"/>
              </a:rPr>
              <a:t>relearning</a:t>
            </a:r>
            <a:r>
              <a:rPr b="0" lang="en-US" sz="2800" spc="-1" strike="noStrike">
                <a:solidFill>
                  <a:srgbClr val="000000"/>
                </a:solidFill>
                <a:latin typeface="Palatino Linotype"/>
              </a:rPr>
              <a:t>,</a:t>
            </a:r>
            <a:r>
              <a:rPr b="0" lang="en-US" sz="2800" spc="-1" strike="noStrike">
                <a:solidFill>
                  <a:srgbClr val="0000ff"/>
                </a:solidFill>
                <a:latin typeface="Palatino Linotype"/>
              </a:rPr>
              <a:t> </a:t>
            </a:r>
            <a:r>
              <a:rPr b="0" lang="en-US" sz="2800" spc="-1" strike="noStrike">
                <a:solidFill>
                  <a:srgbClr val="000000"/>
                </a:solidFill>
                <a:latin typeface="Palatino Linotype"/>
              </a:rPr>
              <a:t>the individual shows how much time (or effort) is saved when learning material for the second time.</a:t>
            </a:r>
            <a:endParaRPr b="0" lang="en-US" sz="2800" spc="-1" strike="noStrike">
              <a:solidFill>
                <a:srgbClr val="000000"/>
              </a:solidFill>
              <a:latin typeface="Times New Roman"/>
            </a:endParaRPr>
          </a:p>
        </p:txBody>
      </p:sp>
      <p:sp>
        <p:nvSpPr>
          <p:cNvPr id="608" name=""/>
          <p:cNvSpPr/>
          <p:nvPr/>
        </p:nvSpPr>
        <p:spPr>
          <a:xfrm>
            <a:off x="914400" y="3048120"/>
            <a:ext cx="1219320" cy="2895480"/>
          </a:xfrm>
          <a:prstGeom prst="rect">
            <a:avLst/>
          </a:prstGeom>
          <a:solidFill>
            <a:srgbClr val="ff99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rPr>
              <a:t>L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J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g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r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K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l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o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ing</a:t>
            </a:r>
            <a:endParaRPr b="0" lang="en-US" sz="2000" spc="-1" strike="noStrike">
              <a:solidFill>
                <a:srgbClr val="000000"/>
              </a:solidFill>
              <a:latin typeface="Times New Roman"/>
            </a:endParaRPr>
          </a:p>
        </p:txBody>
      </p:sp>
      <p:sp>
        <p:nvSpPr>
          <p:cNvPr id="609" name=""/>
          <p:cNvSpPr/>
          <p:nvPr/>
        </p:nvSpPr>
        <p:spPr>
          <a:xfrm>
            <a:off x="535680" y="5943600"/>
            <a:ext cx="2067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t took </a:t>
            </a:r>
            <a:r>
              <a:rPr b="0" lang="en-US" sz="2000" spc="-1" strike="noStrike">
                <a:solidFill>
                  <a:srgbClr val="0000ff"/>
                </a:solidFill>
                <a:latin typeface="Palatino Linotype"/>
              </a:rPr>
              <a:t>10</a:t>
            </a:r>
            <a:r>
              <a:rPr b="0" lang="en-US" sz="2000" spc="-1" strike="noStrike">
                <a:solidFill>
                  <a:srgbClr val="000000"/>
                </a:solidFill>
                <a:latin typeface="Palatino Linotype"/>
              </a:rPr>
              <a:t> tri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 learn this list</a:t>
            </a:r>
            <a:endParaRPr b="0" lang="en-US" sz="2000" spc="-1" strike="noStrike">
              <a:solidFill>
                <a:srgbClr val="000000"/>
              </a:solidFill>
              <a:latin typeface="Times New Roman"/>
            </a:endParaRPr>
          </a:p>
        </p:txBody>
      </p:sp>
      <p:sp>
        <p:nvSpPr>
          <p:cNvPr id="610" name=""/>
          <p:cNvSpPr/>
          <p:nvPr/>
        </p:nvSpPr>
        <p:spPr>
          <a:xfrm>
            <a:off x="3948120" y="3048120"/>
            <a:ext cx="1219320" cy="2895480"/>
          </a:xfrm>
          <a:prstGeom prst="rect">
            <a:avLst/>
          </a:prstGeom>
          <a:solidFill>
            <a:srgbClr val="ff99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rPr>
              <a:t>L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J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g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r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K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l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o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ing</a:t>
            </a:r>
            <a:endParaRPr b="0" lang="en-US" sz="2000" spc="-1" strike="noStrike">
              <a:solidFill>
                <a:srgbClr val="000000"/>
              </a:solidFill>
              <a:latin typeface="Times New Roman"/>
            </a:endParaRPr>
          </a:p>
        </p:txBody>
      </p:sp>
      <p:sp>
        <p:nvSpPr>
          <p:cNvPr id="611" name=""/>
          <p:cNvSpPr/>
          <p:nvPr/>
        </p:nvSpPr>
        <p:spPr>
          <a:xfrm>
            <a:off x="3598920" y="5943600"/>
            <a:ext cx="2008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t took </a:t>
            </a:r>
            <a:r>
              <a:rPr b="0" lang="en-US" sz="2000" spc="-1" strike="noStrike">
                <a:solidFill>
                  <a:srgbClr val="0000ff"/>
                </a:solidFill>
                <a:latin typeface="Palatino Linotype"/>
              </a:rPr>
              <a:t>5</a:t>
            </a:r>
            <a:r>
              <a:rPr b="0" lang="en-US" sz="2000" spc="-1" strike="noStrike">
                <a:solidFill>
                  <a:srgbClr val="000000"/>
                </a:solidFill>
                <a:latin typeface="Palatino Linotype"/>
              </a:rPr>
              <a:t> tri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 learn the list</a:t>
            </a:r>
            <a:endParaRPr b="0" lang="en-US" sz="2000" spc="-1" strike="noStrike">
              <a:solidFill>
                <a:srgbClr val="000000"/>
              </a:solidFill>
              <a:latin typeface="Times New Roman"/>
            </a:endParaRPr>
          </a:p>
        </p:txBody>
      </p:sp>
      <p:sp>
        <p:nvSpPr>
          <p:cNvPr id="612" name=""/>
          <p:cNvSpPr/>
          <p:nvPr/>
        </p:nvSpPr>
        <p:spPr>
          <a:xfrm>
            <a:off x="2452680" y="3962520"/>
            <a:ext cx="1219320" cy="914400"/>
          </a:xfrm>
          <a:prstGeom prst="rightArrow">
            <a:avLst>
              <a:gd name="adj1" fmla="val 50000"/>
              <a:gd name="adj2" fmla="val 33337"/>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day later</a:t>
            </a:r>
            <a:endParaRPr b="0" lang="en-US" sz="1600" spc="-1" strike="noStrike">
              <a:solidFill>
                <a:srgbClr val="000000"/>
              </a:solidFill>
              <a:latin typeface="Times New Roman"/>
            </a:endParaRPr>
          </a:p>
        </p:txBody>
      </p:sp>
      <p:sp>
        <p:nvSpPr>
          <p:cNvPr id="613" name=""/>
          <p:cNvSpPr/>
          <p:nvPr/>
        </p:nvSpPr>
        <p:spPr>
          <a:xfrm>
            <a:off x="5163480" y="4052880"/>
            <a:ext cx="91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Saving</a:t>
            </a:r>
            <a:endParaRPr b="0" lang="en-US" sz="1800" spc="-1" strike="noStrike">
              <a:solidFill>
                <a:srgbClr val="000000"/>
              </a:solidFill>
              <a:latin typeface="Times New Roman"/>
            </a:endParaRPr>
          </a:p>
        </p:txBody>
      </p:sp>
      <p:sp>
        <p:nvSpPr>
          <p:cNvPr id="614" name=""/>
          <p:cNvSpPr/>
          <p:nvPr/>
        </p:nvSpPr>
        <p:spPr>
          <a:xfrm>
            <a:off x="6140880" y="358308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Origi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rials</a:t>
            </a:r>
            <a:endParaRPr b="0" lang="en-US" sz="1800" spc="-1" strike="noStrike">
              <a:solidFill>
                <a:srgbClr val="000000"/>
              </a:solidFill>
              <a:latin typeface="Times New Roman"/>
            </a:endParaRPr>
          </a:p>
        </p:txBody>
      </p:sp>
      <p:sp>
        <p:nvSpPr>
          <p:cNvPr id="615" name=""/>
          <p:cNvSpPr/>
          <p:nvPr/>
        </p:nvSpPr>
        <p:spPr>
          <a:xfrm>
            <a:off x="7195680" y="35812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lear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rials</a:t>
            </a:r>
            <a:endParaRPr b="0" lang="en-US" sz="1800" spc="-1" strike="noStrike">
              <a:solidFill>
                <a:srgbClr val="000000"/>
              </a:solidFill>
              <a:latin typeface="Times New Roman"/>
            </a:endParaRPr>
          </a:p>
        </p:txBody>
      </p:sp>
      <p:sp>
        <p:nvSpPr>
          <p:cNvPr id="616" name=""/>
          <p:cNvSpPr/>
          <p:nvPr/>
        </p:nvSpPr>
        <p:spPr>
          <a:xfrm>
            <a:off x="6667200" y="430056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lear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rials</a:t>
            </a:r>
            <a:endParaRPr b="0" lang="en-US" sz="1800" spc="-1" strike="noStrike">
              <a:solidFill>
                <a:srgbClr val="000000"/>
              </a:solidFill>
              <a:latin typeface="Times New Roman"/>
            </a:endParaRPr>
          </a:p>
        </p:txBody>
      </p:sp>
      <p:sp>
        <p:nvSpPr>
          <p:cNvPr id="617" name=""/>
          <p:cNvSpPr/>
          <p:nvPr/>
        </p:nvSpPr>
        <p:spPr>
          <a:xfrm>
            <a:off x="6324480" y="4267080"/>
            <a:ext cx="198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162920" y="40384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019920" y="41911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019920" y="42670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019920" y="52578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019920" y="53341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67600" y="530064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657840" y="515304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271560" y="4962600"/>
            <a:ext cx="43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a:t>
            </a:r>
            <a:endParaRPr b="0" lang="en-US" sz="1800" spc="-1" strike="noStrike">
              <a:solidFill>
                <a:srgbClr val="000000"/>
              </a:solidFill>
              <a:latin typeface="Times New Roman"/>
            </a:endParaRPr>
          </a:p>
        </p:txBody>
      </p:sp>
      <p:sp>
        <p:nvSpPr>
          <p:cNvPr id="626" name=""/>
          <p:cNvSpPr/>
          <p:nvPr/>
        </p:nvSpPr>
        <p:spPr>
          <a:xfrm>
            <a:off x="6791040" y="496728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a:t>
            </a:r>
            <a:endParaRPr b="0" lang="en-US" sz="1800" spc="-1" strike="noStrike">
              <a:solidFill>
                <a:srgbClr val="000000"/>
              </a:solidFill>
              <a:latin typeface="Times New Roman"/>
            </a:endParaRPr>
          </a:p>
        </p:txBody>
      </p:sp>
      <p:sp>
        <p:nvSpPr>
          <p:cNvPr id="627" name=""/>
          <p:cNvSpPr/>
          <p:nvPr/>
        </p:nvSpPr>
        <p:spPr>
          <a:xfrm>
            <a:off x="6522120" y="5267160"/>
            <a:ext cx="43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a:t>
            </a:r>
            <a:endParaRPr b="0" lang="en-US" sz="1800" spc="-1" strike="noStrike">
              <a:solidFill>
                <a:srgbClr val="000000"/>
              </a:solidFill>
              <a:latin typeface="Times New Roman"/>
            </a:endParaRPr>
          </a:p>
        </p:txBody>
      </p:sp>
      <p:sp>
        <p:nvSpPr>
          <p:cNvPr id="628" name=""/>
          <p:cNvSpPr/>
          <p:nvPr/>
        </p:nvSpPr>
        <p:spPr>
          <a:xfrm>
            <a:off x="6019920" y="60768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019920" y="61531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73280" y="590076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0%</a:t>
            </a:r>
            <a:endParaRPr b="0" lang="en-US" sz="1800" spc="-1" strike="noStrike">
              <a:solidFill>
                <a:srgbClr val="000000"/>
              </a:solidFill>
              <a:latin typeface="Times New Roman"/>
            </a:endParaRPr>
          </a:p>
        </p:txBody>
      </p:sp>
      <p:sp>
        <p:nvSpPr>
          <p:cNvPr id="631" name=""/>
          <p:cNvSpPr/>
          <p:nvPr/>
        </p:nvSpPr>
        <p:spPr>
          <a:xfrm>
            <a:off x="8236080" y="4067280"/>
            <a:ext cx="7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X 100</a:t>
            </a:r>
            <a:endParaRPr b="0" lang="en-US" sz="1800" spc="-1" strike="noStrike">
              <a:solidFill>
                <a:srgbClr val="000000"/>
              </a:solidFill>
              <a:latin typeface="Times New Roman"/>
            </a:endParaRPr>
          </a:p>
        </p:txBody>
      </p:sp>
      <p:sp>
        <p:nvSpPr>
          <p:cNvPr id="632" name=""/>
          <p:cNvSpPr/>
          <p:nvPr/>
        </p:nvSpPr>
        <p:spPr>
          <a:xfrm>
            <a:off x="7121520" y="5091120"/>
            <a:ext cx="7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X 100</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E1325F8-F20D-49E6-9A37-DA006E1D264F}" type="slidenum">
              <a:t>57</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610"/>
                                        </p:tgtEl>
                                        <p:attrNameLst>
                                          <p:attrName>style.visibility</p:attrName>
                                        </p:attrNameLst>
                                      </p:cBhvr>
                                      <p:to>
                                        <p:strVal val="visible"/>
                                      </p:to>
                                    </p:set>
                                    <p:animEffect filter="dissolve" transition="in">
                                      <p:cBhvr additive="repl">
                                        <p:cTn id="96" dur="500"/>
                                        <p:tgtEl>
                                          <p:spTgt spid="610"/>
                                        </p:tgtEl>
                                      </p:cBhvr>
                                    </p:animEffect>
                                  </p:childTnLst>
                                </p:cTn>
                              </p:par>
                              <p:par>
                                <p:cTn id="97" nodeType="withEffect" fill="hold" presetClass="entr" presetID="9">
                                  <p:stCondLst>
                                    <p:cond delay="0"/>
                                  </p:stCondLst>
                                  <p:childTnLst>
                                    <p:set>
                                      <p:cBhvr>
                                        <p:cTn id="98" dur="1" fill="hold">
                                          <p:stCondLst>
                                            <p:cond delay="0"/>
                                          </p:stCondLst>
                                        </p:cTn>
                                        <p:tgtEl>
                                          <p:spTgt spid="612"/>
                                        </p:tgtEl>
                                        <p:attrNameLst>
                                          <p:attrName>style.visibility</p:attrName>
                                        </p:attrNameLst>
                                      </p:cBhvr>
                                      <p:to>
                                        <p:strVal val="visible"/>
                                      </p:to>
                                    </p:set>
                                    <p:animEffect filter="dissolve" transition="in">
                                      <p:cBhvr additive="repl">
                                        <p:cTn id="99" dur="500"/>
                                        <p:tgtEl>
                                          <p:spTgt spid="612"/>
                                        </p:tgtEl>
                                      </p:cBhvr>
                                    </p:animEffect>
                                  </p:childTnLst>
                                </p:cTn>
                              </p:par>
                              <p:par>
                                <p:cTn id="100" nodeType="withEffect" fill="hold" presetClass="entr" presetID="9">
                                  <p:stCondLst>
                                    <p:cond delay="0"/>
                                  </p:stCondLst>
                                  <p:childTnLst>
                                    <p:set>
                                      <p:cBhvr>
                                        <p:cTn id="101" dur="1" fill="hold">
                                          <p:stCondLst>
                                            <p:cond delay="0"/>
                                          </p:stCondLst>
                                        </p:cTn>
                                        <p:tgtEl>
                                          <p:spTgt spid="611"/>
                                        </p:tgtEl>
                                        <p:attrNameLst>
                                          <p:attrName>style.visibility</p:attrName>
                                        </p:attrNameLst>
                                      </p:cBhvr>
                                      <p:to>
                                        <p:strVal val="visible"/>
                                      </p:to>
                                    </p:set>
                                    <p:animEffect filter="dissolve" transition="in">
                                      <p:cBhvr additive="repl">
                                        <p:cTn id="102" dur="500"/>
                                        <p:tgtEl>
                                          <p:spTgt spid="61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614"/>
                                        </p:tgtEl>
                                        <p:attrNameLst>
                                          <p:attrName>style.visibility</p:attrName>
                                        </p:attrNameLst>
                                      </p:cBhvr>
                                      <p:to>
                                        <p:strVal val="visible"/>
                                      </p:to>
                                    </p:set>
                                    <p:animEffect filter="dissolve" transition="in">
                                      <p:cBhvr additive="repl">
                                        <p:cTn id="107" dur="500"/>
                                        <p:tgtEl>
                                          <p:spTgt spid="614"/>
                                        </p:tgtEl>
                                      </p:cBhvr>
                                    </p:animEffect>
                                  </p:childTnLst>
                                </p:cTn>
                              </p:par>
                              <p:par>
                                <p:cTn id="108" nodeType="withEffect" fill="hold" presetClass="entr" presetID="9">
                                  <p:stCondLst>
                                    <p:cond delay="0"/>
                                  </p:stCondLst>
                                  <p:childTnLst>
                                    <p:set>
                                      <p:cBhvr>
                                        <p:cTn id="109" dur="1" fill="hold">
                                          <p:stCondLst>
                                            <p:cond delay="0"/>
                                          </p:stCondLst>
                                        </p:cTn>
                                        <p:tgtEl>
                                          <p:spTgt spid="615"/>
                                        </p:tgtEl>
                                        <p:attrNameLst>
                                          <p:attrName>style.visibility</p:attrName>
                                        </p:attrNameLst>
                                      </p:cBhvr>
                                      <p:to>
                                        <p:strVal val="visible"/>
                                      </p:to>
                                    </p:set>
                                    <p:animEffect filter="dissolve" transition="in">
                                      <p:cBhvr additive="repl">
                                        <p:cTn id="110" dur="500"/>
                                        <p:tgtEl>
                                          <p:spTgt spid="615"/>
                                        </p:tgtEl>
                                      </p:cBhvr>
                                    </p:animEffect>
                                  </p:childTnLst>
                                </p:cTn>
                              </p:par>
                              <p:par>
                                <p:cTn id="111" nodeType="withEffect" fill="hold" presetClass="entr" presetID="9">
                                  <p:stCondLst>
                                    <p:cond delay="0"/>
                                  </p:stCondLst>
                                  <p:childTnLst>
                                    <p:set>
                                      <p:cBhvr>
                                        <p:cTn id="112" dur="1" fill="hold">
                                          <p:stCondLst>
                                            <p:cond delay="0"/>
                                          </p:stCondLst>
                                        </p:cTn>
                                        <p:tgtEl>
                                          <p:spTgt spid="616"/>
                                        </p:tgtEl>
                                        <p:attrNameLst>
                                          <p:attrName>style.visibility</p:attrName>
                                        </p:attrNameLst>
                                      </p:cBhvr>
                                      <p:to>
                                        <p:strVal val="visible"/>
                                      </p:to>
                                    </p:set>
                                    <p:animEffect filter="dissolve" transition="in">
                                      <p:cBhvr additive="repl">
                                        <p:cTn id="113" dur="500"/>
                                        <p:tgtEl>
                                          <p:spTgt spid="616"/>
                                        </p:tgtEl>
                                      </p:cBhvr>
                                    </p:animEffect>
                                  </p:childTnLst>
                                </p:cTn>
                              </p:par>
                              <p:par>
                                <p:cTn id="114" nodeType="withEffect" fill="hold" presetClass="entr" presetID="9">
                                  <p:stCondLst>
                                    <p:cond delay="0"/>
                                  </p:stCondLst>
                                  <p:childTnLst>
                                    <p:set>
                                      <p:cBhvr>
                                        <p:cTn id="115" dur="1" fill="hold">
                                          <p:stCondLst>
                                            <p:cond delay="0"/>
                                          </p:stCondLst>
                                        </p:cTn>
                                        <p:tgtEl>
                                          <p:spTgt spid="617"/>
                                        </p:tgtEl>
                                        <p:attrNameLst>
                                          <p:attrName>style.visibility</p:attrName>
                                        </p:attrNameLst>
                                      </p:cBhvr>
                                      <p:to>
                                        <p:strVal val="visible"/>
                                      </p:to>
                                    </p:set>
                                    <p:animEffect filter="dissolve" transition="in">
                                      <p:cBhvr additive="repl">
                                        <p:cTn id="116" dur="500"/>
                                        <p:tgtEl>
                                          <p:spTgt spid="617"/>
                                        </p:tgtEl>
                                      </p:cBhvr>
                                    </p:animEffect>
                                  </p:childTnLst>
                                </p:cTn>
                              </p:par>
                              <p:par>
                                <p:cTn id="117" nodeType="withEffect" fill="hold" presetClass="entr" presetID="9">
                                  <p:stCondLst>
                                    <p:cond delay="0"/>
                                  </p:stCondLst>
                                  <p:childTnLst>
                                    <p:set>
                                      <p:cBhvr>
                                        <p:cTn id="118" dur="1" fill="hold">
                                          <p:stCondLst>
                                            <p:cond delay="0"/>
                                          </p:stCondLst>
                                        </p:cTn>
                                        <p:tgtEl>
                                          <p:spTgt spid="618"/>
                                        </p:tgtEl>
                                        <p:attrNameLst>
                                          <p:attrName>style.visibility</p:attrName>
                                        </p:attrNameLst>
                                      </p:cBhvr>
                                      <p:to>
                                        <p:strVal val="visible"/>
                                      </p:to>
                                    </p:set>
                                    <p:animEffect filter="dissolve" transition="in">
                                      <p:cBhvr additive="repl">
                                        <p:cTn id="119" dur="500"/>
                                        <p:tgtEl>
                                          <p:spTgt spid="618"/>
                                        </p:tgtEl>
                                      </p:cBhvr>
                                    </p:animEffect>
                                  </p:childTnLst>
                                </p:cTn>
                              </p:par>
                              <p:par>
                                <p:cTn id="120" nodeType="withEffect" fill="hold" presetClass="entr" presetID="9">
                                  <p:stCondLst>
                                    <p:cond delay="0"/>
                                  </p:stCondLst>
                                  <p:childTnLst>
                                    <p:set>
                                      <p:cBhvr>
                                        <p:cTn id="121" dur="1" fill="hold">
                                          <p:stCondLst>
                                            <p:cond delay="0"/>
                                          </p:stCondLst>
                                        </p:cTn>
                                        <p:tgtEl>
                                          <p:spTgt spid="619"/>
                                        </p:tgtEl>
                                        <p:attrNameLst>
                                          <p:attrName>style.visibility</p:attrName>
                                        </p:attrNameLst>
                                      </p:cBhvr>
                                      <p:to>
                                        <p:strVal val="visible"/>
                                      </p:to>
                                    </p:set>
                                    <p:animEffect filter="dissolve" transition="in">
                                      <p:cBhvr additive="repl">
                                        <p:cTn id="122" dur="500"/>
                                        <p:tgtEl>
                                          <p:spTgt spid="619"/>
                                        </p:tgtEl>
                                      </p:cBhvr>
                                    </p:animEffect>
                                  </p:childTnLst>
                                </p:cTn>
                              </p:par>
                              <p:par>
                                <p:cTn id="123" nodeType="withEffect" fill="hold" presetClass="entr" presetID="9">
                                  <p:stCondLst>
                                    <p:cond delay="0"/>
                                  </p:stCondLst>
                                  <p:childTnLst>
                                    <p:set>
                                      <p:cBhvr>
                                        <p:cTn id="124" dur="1" fill="hold">
                                          <p:stCondLst>
                                            <p:cond delay="0"/>
                                          </p:stCondLst>
                                        </p:cTn>
                                        <p:tgtEl>
                                          <p:spTgt spid="620"/>
                                        </p:tgtEl>
                                        <p:attrNameLst>
                                          <p:attrName>style.visibility</p:attrName>
                                        </p:attrNameLst>
                                      </p:cBhvr>
                                      <p:to>
                                        <p:strVal val="visible"/>
                                      </p:to>
                                    </p:set>
                                    <p:animEffect filter="dissolve" transition="in">
                                      <p:cBhvr additive="repl">
                                        <p:cTn id="125" dur="500"/>
                                        <p:tgtEl>
                                          <p:spTgt spid="620"/>
                                        </p:tgtEl>
                                      </p:cBhvr>
                                    </p:animEffect>
                                  </p:childTnLst>
                                </p:cTn>
                              </p:par>
                              <p:par>
                                <p:cTn id="126" nodeType="withEffect" fill="hold" presetClass="entr" presetID="9">
                                  <p:stCondLst>
                                    <p:cond delay="0"/>
                                  </p:stCondLst>
                                  <p:childTnLst>
                                    <p:set>
                                      <p:cBhvr>
                                        <p:cTn id="127" dur="1" fill="hold">
                                          <p:stCondLst>
                                            <p:cond delay="0"/>
                                          </p:stCondLst>
                                        </p:cTn>
                                        <p:tgtEl>
                                          <p:spTgt spid="621"/>
                                        </p:tgtEl>
                                        <p:attrNameLst>
                                          <p:attrName>style.visibility</p:attrName>
                                        </p:attrNameLst>
                                      </p:cBhvr>
                                      <p:to>
                                        <p:strVal val="visible"/>
                                      </p:to>
                                    </p:set>
                                    <p:animEffect filter="dissolve" transition="in">
                                      <p:cBhvr additive="repl">
                                        <p:cTn id="128" dur="500"/>
                                        <p:tgtEl>
                                          <p:spTgt spid="621"/>
                                        </p:tgtEl>
                                      </p:cBhvr>
                                    </p:animEffect>
                                  </p:childTnLst>
                                </p:cTn>
                              </p:par>
                              <p:par>
                                <p:cTn id="129" nodeType="withEffect" fill="hold" presetClass="entr" presetID="9">
                                  <p:stCondLst>
                                    <p:cond delay="0"/>
                                  </p:stCondLst>
                                  <p:childTnLst>
                                    <p:set>
                                      <p:cBhvr>
                                        <p:cTn id="130" dur="1" fill="hold">
                                          <p:stCondLst>
                                            <p:cond delay="0"/>
                                          </p:stCondLst>
                                        </p:cTn>
                                        <p:tgtEl>
                                          <p:spTgt spid="622"/>
                                        </p:tgtEl>
                                        <p:attrNameLst>
                                          <p:attrName>style.visibility</p:attrName>
                                        </p:attrNameLst>
                                      </p:cBhvr>
                                      <p:to>
                                        <p:strVal val="visible"/>
                                      </p:to>
                                    </p:set>
                                    <p:animEffect filter="dissolve" transition="in">
                                      <p:cBhvr additive="repl">
                                        <p:cTn id="131" dur="500"/>
                                        <p:tgtEl>
                                          <p:spTgt spid="622"/>
                                        </p:tgtEl>
                                      </p:cBhvr>
                                    </p:animEffect>
                                  </p:childTnLst>
                                </p:cTn>
                              </p:par>
                              <p:par>
                                <p:cTn id="132" nodeType="withEffect" fill="hold" presetClass="entr" presetID="9">
                                  <p:stCondLst>
                                    <p:cond delay="0"/>
                                  </p:stCondLst>
                                  <p:childTnLst>
                                    <p:set>
                                      <p:cBhvr>
                                        <p:cTn id="133" dur="1" fill="hold">
                                          <p:stCondLst>
                                            <p:cond delay="0"/>
                                          </p:stCondLst>
                                        </p:cTn>
                                        <p:tgtEl>
                                          <p:spTgt spid="623"/>
                                        </p:tgtEl>
                                        <p:attrNameLst>
                                          <p:attrName>style.visibility</p:attrName>
                                        </p:attrNameLst>
                                      </p:cBhvr>
                                      <p:to>
                                        <p:strVal val="visible"/>
                                      </p:to>
                                    </p:set>
                                    <p:animEffect filter="dissolve" transition="in">
                                      <p:cBhvr additive="repl">
                                        <p:cTn id="134" dur="500"/>
                                        <p:tgtEl>
                                          <p:spTgt spid="623"/>
                                        </p:tgtEl>
                                      </p:cBhvr>
                                    </p:animEffect>
                                  </p:childTnLst>
                                </p:cTn>
                              </p:par>
                              <p:par>
                                <p:cTn id="135" nodeType="withEffect" fill="hold" presetClass="entr" presetID="9">
                                  <p:stCondLst>
                                    <p:cond delay="0"/>
                                  </p:stCondLst>
                                  <p:childTnLst>
                                    <p:set>
                                      <p:cBhvr>
                                        <p:cTn id="136" dur="1" fill="hold">
                                          <p:stCondLst>
                                            <p:cond delay="0"/>
                                          </p:stCondLst>
                                        </p:cTn>
                                        <p:tgtEl>
                                          <p:spTgt spid="624"/>
                                        </p:tgtEl>
                                        <p:attrNameLst>
                                          <p:attrName>style.visibility</p:attrName>
                                        </p:attrNameLst>
                                      </p:cBhvr>
                                      <p:to>
                                        <p:strVal val="visible"/>
                                      </p:to>
                                    </p:set>
                                    <p:animEffect filter="dissolve" transition="in">
                                      <p:cBhvr additive="repl">
                                        <p:cTn id="137" dur="500"/>
                                        <p:tgtEl>
                                          <p:spTgt spid="624"/>
                                        </p:tgtEl>
                                      </p:cBhvr>
                                    </p:animEffect>
                                  </p:childTnLst>
                                </p:cTn>
                              </p:par>
                              <p:par>
                                <p:cTn id="138" nodeType="withEffect" fill="hold" presetClass="entr" presetID="9">
                                  <p:stCondLst>
                                    <p:cond delay="0"/>
                                  </p:stCondLst>
                                  <p:childTnLst>
                                    <p:set>
                                      <p:cBhvr>
                                        <p:cTn id="139" dur="1" fill="hold">
                                          <p:stCondLst>
                                            <p:cond delay="0"/>
                                          </p:stCondLst>
                                        </p:cTn>
                                        <p:tgtEl>
                                          <p:spTgt spid="625"/>
                                        </p:tgtEl>
                                        <p:attrNameLst>
                                          <p:attrName>style.visibility</p:attrName>
                                        </p:attrNameLst>
                                      </p:cBhvr>
                                      <p:to>
                                        <p:strVal val="visible"/>
                                      </p:to>
                                    </p:set>
                                    <p:animEffect filter="dissolve" transition="in">
                                      <p:cBhvr additive="repl">
                                        <p:cTn id="140" dur="500"/>
                                        <p:tgtEl>
                                          <p:spTgt spid="625"/>
                                        </p:tgtEl>
                                      </p:cBhvr>
                                    </p:animEffect>
                                  </p:childTnLst>
                                </p:cTn>
                              </p:par>
                              <p:par>
                                <p:cTn id="141" nodeType="withEffect" fill="hold" presetClass="entr" presetID="9">
                                  <p:stCondLst>
                                    <p:cond delay="0"/>
                                  </p:stCondLst>
                                  <p:childTnLst>
                                    <p:set>
                                      <p:cBhvr>
                                        <p:cTn id="142" dur="1" fill="hold">
                                          <p:stCondLst>
                                            <p:cond delay="0"/>
                                          </p:stCondLst>
                                        </p:cTn>
                                        <p:tgtEl>
                                          <p:spTgt spid="626"/>
                                        </p:tgtEl>
                                        <p:attrNameLst>
                                          <p:attrName>style.visibility</p:attrName>
                                        </p:attrNameLst>
                                      </p:cBhvr>
                                      <p:to>
                                        <p:strVal val="visible"/>
                                      </p:to>
                                    </p:set>
                                    <p:animEffect filter="dissolve" transition="in">
                                      <p:cBhvr additive="repl">
                                        <p:cTn id="143" dur="500"/>
                                        <p:tgtEl>
                                          <p:spTgt spid="626"/>
                                        </p:tgtEl>
                                      </p:cBhvr>
                                    </p:animEffect>
                                  </p:childTnLst>
                                </p:cTn>
                              </p:par>
                              <p:par>
                                <p:cTn id="144" nodeType="withEffect" fill="hold" presetClass="entr" presetID="9">
                                  <p:stCondLst>
                                    <p:cond delay="0"/>
                                  </p:stCondLst>
                                  <p:childTnLst>
                                    <p:set>
                                      <p:cBhvr>
                                        <p:cTn id="145" dur="1" fill="hold">
                                          <p:stCondLst>
                                            <p:cond delay="0"/>
                                          </p:stCondLst>
                                        </p:cTn>
                                        <p:tgtEl>
                                          <p:spTgt spid="627"/>
                                        </p:tgtEl>
                                        <p:attrNameLst>
                                          <p:attrName>style.visibility</p:attrName>
                                        </p:attrNameLst>
                                      </p:cBhvr>
                                      <p:to>
                                        <p:strVal val="visible"/>
                                      </p:to>
                                    </p:set>
                                    <p:animEffect filter="dissolve" transition="in">
                                      <p:cBhvr additive="repl">
                                        <p:cTn id="146" dur="500"/>
                                        <p:tgtEl>
                                          <p:spTgt spid="627"/>
                                        </p:tgtEl>
                                      </p:cBhvr>
                                    </p:animEffect>
                                  </p:childTnLst>
                                </p:cTn>
                              </p:par>
                              <p:par>
                                <p:cTn id="147" nodeType="withEffect" fill="hold" presetClass="entr" presetID="9">
                                  <p:stCondLst>
                                    <p:cond delay="0"/>
                                  </p:stCondLst>
                                  <p:childTnLst>
                                    <p:set>
                                      <p:cBhvr>
                                        <p:cTn id="148" dur="1" fill="hold">
                                          <p:stCondLst>
                                            <p:cond delay="0"/>
                                          </p:stCondLst>
                                        </p:cTn>
                                        <p:tgtEl>
                                          <p:spTgt spid="628"/>
                                        </p:tgtEl>
                                        <p:attrNameLst>
                                          <p:attrName>style.visibility</p:attrName>
                                        </p:attrNameLst>
                                      </p:cBhvr>
                                      <p:to>
                                        <p:strVal val="visible"/>
                                      </p:to>
                                    </p:set>
                                    <p:animEffect filter="dissolve" transition="in">
                                      <p:cBhvr additive="repl">
                                        <p:cTn id="149" dur="500"/>
                                        <p:tgtEl>
                                          <p:spTgt spid="628"/>
                                        </p:tgtEl>
                                      </p:cBhvr>
                                    </p:animEffect>
                                  </p:childTnLst>
                                </p:cTn>
                              </p:par>
                              <p:par>
                                <p:cTn id="150" nodeType="withEffect" fill="hold" presetClass="entr" presetID="9">
                                  <p:stCondLst>
                                    <p:cond delay="0"/>
                                  </p:stCondLst>
                                  <p:childTnLst>
                                    <p:set>
                                      <p:cBhvr>
                                        <p:cTn id="151" dur="1" fill="hold">
                                          <p:stCondLst>
                                            <p:cond delay="0"/>
                                          </p:stCondLst>
                                        </p:cTn>
                                        <p:tgtEl>
                                          <p:spTgt spid="629"/>
                                        </p:tgtEl>
                                        <p:attrNameLst>
                                          <p:attrName>style.visibility</p:attrName>
                                        </p:attrNameLst>
                                      </p:cBhvr>
                                      <p:to>
                                        <p:strVal val="visible"/>
                                      </p:to>
                                    </p:set>
                                    <p:animEffect filter="dissolve" transition="in">
                                      <p:cBhvr additive="repl">
                                        <p:cTn id="152" dur="500"/>
                                        <p:tgtEl>
                                          <p:spTgt spid="629"/>
                                        </p:tgtEl>
                                      </p:cBhvr>
                                    </p:animEffect>
                                  </p:childTnLst>
                                </p:cTn>
                              </p:par>
                              <p:par>
                                <p:cTn id="153" nodeType="withEffect" fill="hold" presetClass="entr" presetID="9">
                                  <p:stCondLst>
                                    <p:cond delay="0"/>
                                  </p:stCondLst>
                                  <p:childTnLst>
                                    <p:set>
                                      <p:cBhvr>
                                        <p:cTn id="154" dur="1" fill="hold">
                                          <p:stCondLst>
                                            <p:cond delay="0"/>
                                          </p:stCondLst>
                                        </p:cTn>
                                        <p:tgtEl>
                                          <p:spTgt spid="630"/>
                                        </p:tgtEl>
                                        <p:attrNameLst>
                                          <p:attrName>style.visibility</p:attrName>
                                        </p:attrNameLst>
                                      </p:cBhvr>
                                      <p:to>
                                        <p:strVal val="visible"/>
                                      </p:to>
                                    </p:set>
                                    <p:animEffect filter="dissolve" transition="in">
                                      <p:cBhvr additive="repl">
                                        <p:cTn id="155" dur="500"/>
                                        <p:tgtEl>
                                          <p:spTgt spid="630"/>
                                        </p:tgtEl>
                                      </p:cBhvr>
                                    </p:animEffect>
                                  </p:childTnLst>
                                </p:cTn>
                              </p:par>
                              <p:par>
                                <p:cTn id="156" nodeType="withEffect" fill="hold" presetClass="entr" presetID="9">
                                  <p:stCondLst>
                                    <p:cond delay="0"/>
                                  </p:stCondLst>
                                  <p:childTnLst>
                                    <p:set>
                                      <p:cBhvr>
                                        <p:cTn id="157" dur="1" fill="hold">
                                          <p:stCondLst>
                                            <p:cond delay="0"/>
                                          </p:stCondLst>
                                        </p:cTn>
                                        <p:tgtEl>
                                          <p:spTgt spid="631"/>
                                        </p:tgtEl>
                                        <p:attrNameLst>
                                          <p:attrName>style.visibility</p:attrName>
                                        </p:attrNameLst>
                                      </p:cBhvr>
                                      <p:to>
                                        <p:strVal val="visible"/>
                                      </p:to>
                                    </p:set>
                                    <p:animEffect filter="dissolve" transition="in">
                                      <p:cBhvr additive="repl">
                                        <p:cTn id="158" dur="500"/>
                                        <p:tgtEl>
                                          <p:spTgt spid="631"/>
                                        </p:tgtEl>
                                      </p:cBhvr>
                                    </p:animEffect>
                                  </p:childTnLst>
                                </p:cTn>
                              </p:par>
                              <p:par>
                                <p:cTn id="159" nodeType="withEffect" fill="hold" presetClass="entr" presetID="9">
                                  <p:stCondLst>
                                    <p:cond delay="0"/>
                                  </p:stCondLst>
                                  <p:childTnLst>
                                    <p:set>
                                      <p:cBhvr>
                                        <p:cTn id="160" dur="1" fill="hold">
                                          <p:stCondLst>
                                            <p:cond delay="0"/>
                                          </p:stCondLst>
                                        </p:cTn>
                                        <p:tgtEl>
                                          <p:spTgt spid="632"/>
                                        </p:tgtEl>
                                        <p:attrNameLst>
                                          <p:attrName>style.visibility</p:attrName>
                                        </p:attrNameLst>
                                      </p:cBhvr>
                                      <p:to>
                                        <p:strVal val="visible"/>
                                      </p:to>
                                    </p:set>
                                    <p:animEffect filter="dissolve" transition="in">
                                      <p:cBhvr additive="repl">
                                        <p:cTn id="161" dur="500"/>
                                        <p:tgtEl>
                                          <p:spTgt spid="632"/>
                                        </p:tgtEl>
                                      </p:cBhvr>
                                    </p:animEffect>
                                  </p:childTnLst>
                                </p:cTn>
                              </p:par>
                              <p:par>
                                <p:cTn id="162" nodeType="withEffect" fill="hold" presetClass="entr" presetID="9">
                                  <p:stCondLst>
                                    <p:cond delay="0"/>
                                  </p:stCondLst>
                                  <p:childTnLst>
                                    <p:set>
                                      <p:cBhvr>
                                        <p:cTn id="163" dur="1" fill="hold">
                                          <p:stCondLst>
                                            <p:cond delay="0"/>
                                          </p:stCondLst>
                                        </p:cTn>
                                        <p:tgtEl>
                                          <p:spTgt spid="613"/>
                                        </p:tgtEl>
                                        <p:attrNameLst>
                                          <p:attrName>style.visibility</p:attrName>
                                        </p:attrNameLst>
                                      </p:cBhvr>
                                      <p:to>
                                        <p:strVal val="visible"/>
                                      </p:to>
                                    </p:set>
                                    <p:animEffect filter="dissolve" transition="in">
                                      <p:cBhvr additive="repl">
                                        <p:cTn id="164"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rieval Cues</a:t>
            </a:r>
            <a:endParaRPr b="0" lang="en-US" sz="4000" spc="-1" strike="noStrike">
              <a:solidFill>
                <a:srgbClr val="000000"/>
              </a:solidFill>
              <a:latin typeface="Times New Roman"/>
            </a:endParaRPr>
          </a:p>
        </p:txBody>
      </p:sp>
      <p:sp>
        <p:nvSpPr>
          <p:cNvPr id="634" name=""/>
          <p:cNvSpPr/>
          <p:nvPr/>
        </p:nvSpPr>
        <p:spPr>
          <a:xfrm>
            <a:off x="628560" y="1585800"/>
            <a:ext cx="784872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ies are held in storage by a web of associations. These associations are like anchors that help retrieve memory.</a:t>
            </a:r>
            <a:endParaRPr b="0" lang="en-US" sz="2800" spc="-1" strike="noStrike">
              <a:solidFill>
                <a:srgbClr val="000000"/>
              </a:solidFill>
              <a:latin typeface="Times New Roman"/>
            </a:endParaRPr>
          </a:p>
        </p:txBody>
      </p:sp>
      <p:sp>
        <p:nvSpPr>
          <p:cNvPr id="635" name=""/>
          <p:cNvSpPr/>
          <p:nvPr/>
        </p:nvSpPr>
        <p:spPr>
          <a:xfrm>
            <a:off x="3837240" y="3946680"/>
            <a:ext cx="144576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re Truck</a:t>
            </a:r>
            <a:endParaRPr b="0" lang="en-US" sz="2000" spc="-1" strike="noStrike">
              <a:solidFill>
                <a:srgbClr val="000000"/>
              </a:solidFill>
              <a:latin typeface="Times New Roman"/>
            </a:endParaRPr>
          </a:p>
        </p:txBody>
      </p:sp>
      <p:sp>
        <p:nvSpPr>
          <p:cNvPr id="636" name=""/>
          <p:cNvSpPr/>
          <p:nvPr/>
        </p:nvSpPr>
        <p:spPr>
          <a:xfrm>
            <a:off x="4545360" y="4937040"/>
            <a:ext cx="82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ruck</a:t>
            </a:r>
            <a:endParaRPr b="0" lang="en-US" sz="2000" spc="-1" strike="noStrike">
              <a:solidFill>
                <a:srgbClr val="000000"/>
              </a:solidFill>
              <a:latin typeface="Times New Roman"/>
            </a:endParaRPr>
          </a:p>
        </p:txBody>
      </p:sp>
      <p:cxnSp>
        <p:nvCxnSpPr>
          <p:cNvPr id="637" name=""/>
          <p:cNvCxnSpPr>
            <a:stCxn id="636" idx="0"/>
            <a:endCxn id="635" idx="2"/>
          </p:cNvCxnSpPr>
          <p:nvPr/>
        </p:nvCxnSpPr>
        <p:spPr>
          <a:xfrm flipH="1" flipV="1">
            <a:off x="4560120" y="4342680"/>
            <a:ext cx="399240" cy="594360"/>
          </a:xfrm>
          <a:prstGeom prst="straightConnector1">
            <a:avLst/>
          </a:prstGeom>
          <a:ln w="9360">
            <a:solidFill>
              <a:srgbClr val="000000"/>
            </a:solidFill>
            <a:miter/>
            <a:tailEnd len="med" type="triangle" w="med"/>
          </a:ln>
        </p:spPr>
      </p:cxnSp>
      <p:sp>
        <p:nvSpPr>
          <p:cNvPr id="638" name=""/>
          <p:cNvSpPr/>
          <p:nvPr/>
        </p:nvSpPr>
        <p:spPr>
          <a:xfrm>
            <a:off x="4784760" y="5546880"/>
            <a:ext cx="59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d</a:t>
            </a:r>
            <a:endParaRPr b="0" lang="en-US" sz="2000" spc="-1" strike="noStrike">
              <a:solidFill>
                <a:srgbClr val="000000"/>
              </a:solidFill>
              <a:latin typeface="Times New Roman"/>
            </a:endParaRPr>
          </a:p>
        </p:txBody>
      </p:sp>
      <p:cxnSp>
        <p:nvCxnSpPr>
          <p:cNvPr id="639" name=""/>
          <p:cNvCxnSpPr>
            <a:stCxn id="638" idx="0"/>
            <a:endCxn id="636" idx="2"/>
          </p:cNvCxnSpPr>
          <p:nvPr/>
        </p:nvCxnSpPr>
        <p:spPr>
          <a:xfrm flipH="1" flipV="1">
            <a:off x="4959000" y="5333400"/>
            <a:ext cx="123120" cy="213480"/>
          </a:xfrm>
          <a:prstGeom prst="straightConnector1">
            <a:avLst/>
          </a:prstGeom>
          <a:ln w="9360">
            <a:solidFill>
              <a:srgbClr val="000000"/>
            </a:solidFill>
            <a:miter/>
            <a:tailEnd len="med" type="triangle" w="med"/>
          </a:ln>
        </p:spPr>
      </p:cxnSp>
      <p:sp>
        <p:nvSpPr>
          <p:cNvPr id="640" name=""/>
          <p:cNvSpPr/>
          <p:nvPr/>
        </p:nvSpPr>
        <p:spPr>
          <a:xfrm>
            <a:off x="2773800" y="41752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ire</a:t>
            </a:r>
            <a:endParaRPr b="0" lang="en-US" sz="2000" spc="-1" strike="noStrike">
              <a:solidFill>
                <a:srgbClr val="000000"/>
              </a:solidFill>
              <a:latin typeface="Times New Roman"/>
            </a:endParaRPr>
          </a:p>
        </p:txBody>
      </p:sp>
      <p:cxnSp>
        <p:nvCxnSpPr>
          <p:cNvPr id="641" name=""/>
          <p:cNvCxnSpPr>
            <a:stCxn id="640" idx="3"/>
            <a:endCxn id="635" idx="1"/>
          </p:cNvCxnSpPr>
          <p:nvPr/>
        </p:nvCxnSpPr>
        <p:spPr>
          <a:xfrm flipV="1">
            <a:off x="3359160" y="4144320"/>
            <a:ext cx="527760" cy="229320"/>
          </a:xfrm>
          <a:prstGeom prst="straightConnector1">
            <a:avLst/>
          </a:prstGeom>
          <a:ln w="9360">
            <a:solidFill>
              <a:srgbClr val="000000"/>
            </a:solidFill>
            <a:miter/>
            <a:tailEnd len="med" type="triangle" w="med"/>
          </a:ln>
        </p:spPr>
      </p:cxnSp>
      <p:sp>
        <p:nvSpPr>
          <p:cNvPr id="642" name=""/>
          <p:cNvSpPr/>
          <p:nvPr/>
        </p:nvSpPr>
        <p:spPr>
          <a:xfrm>
            <a:off x="3481560" y="5089680"/>
            <a:ext cx="711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at</a:t>
            </a:r>
            <a:endParaRPr b="0" lang="en-US" sz="2000" spc="-1" strike="noStrike">
              <a:solidFill>
                <a:srgbClr val="000000"/>
              </a:solidFill>
              <a:latin typeface="Times New Roman"/>
            </a:endParaRPr>
          </a:p>
        </p:txBody>
      </p:sp>
      <p:cxnSp>
        <p:nvCxnSpPr>
          <p:cNvPr id="643" name=""/>
          <p:cNvCxnSpPr>
            <a:stCxn id="642" idx="0"/>
            <a:endCxn id="640" idx="2"/>
          </p:cNvCxnSpPr>
          <p:nvPr/>
        </p:nvCxnSpPr>
        <p:spPr>
          <a:xfrm flipH="1" flipV="1">
            <a:off x="3076200" y="4571640"/>
            <a:ext cx="761040" cy="518400"/>
          </a:xfrm>
          <a:prstGeom prst="straightConnector1">
            <a:avLst/>
          </a:prstGeom>
          <a:ln w="9360">
            <a:solidFill>
              <a:srgbClr val="000000"/>
            </a:solidFill>
            <a:miter/>
            <a:tailEnd len="med" type="triangle" w="med"/>
          </a:ln>
        </p:spPr>
      </p:cxnSp>
      <p:sp>
        <p:nvSpPr>
          <p:cNvPr id="644" name=""/>
          <p:cNvSpPr/>
          <p:nvPr/>
        </p:nvSpPr>
        <p:spPr>
          <a:xfrm>
            <a:off x="2413800" y="493704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moke</a:t>
            </a:r>
            <a:endParaRPr b="0" lang="en-US" sz="2000" spc="-1" strike="noStrike">
              <a:solidFill>
                <a:srgbClr val="000000"/>
              </a:solidFill>
              <a:latin typeface="Times New Roman"/>
            </a:endParaRPr>
          </a:p>
        </p:txBody>
      </p:sp>
      <p:cxnSp>
        <p:nvCxnSpPr>
          <p:cNvPr id="645" name=""/>
          <p:cNvCxnSpPr>
            <a:stCxn id="644" idx="0"/>
            <a:endCxn id="640" idx="2"/>
          </p:cNvCxnSpPr>
          <p:nvPr/>
        </p:nvCxnSpPr>
        <p:spPr>
          <a:xfrm flipV="1">
            <a:off x="2897280" y="4571640"/>
            <a:ext cx="180000" cy="365760"/>
          </a:xfrm>
          <a:prstGeom prst="straightConnector1">
            <a:avLst/>
          </a:prstGeom>
          <a:ln w="9360">
            <a:solidFill>
              <a:srgbClr val="000000"/>
            </a:solidFill>
            <a:miter/>
            <a:tailEnd len="med" type="triangle" w="med"/>
          </a:ln>
        </p:spPr>
      </p:cxnSp>
      <p:sp>
        <p:nvSpPr>
          <p:cNvPr id="646" name=""/>
          <p:cNvSpPr/>
          <p:nvPr/>
        </p:nvSpPr>
        <p:spPr>
          <a:xfrm>
            <a:off x="2358360" y="3367080"/>
            <a:ext cx="82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mell</a:t>
            </a:r>
            <a:endParaRPr b="0" lang="en-US" sz="2000" spc="-1" strike="noStrike">
              <a:solidFill>
                <a:srgbClr val="000000"/>
              </a:solidFill>
              <a:latin typeface="Times New Roman"/>
            </a:endParaRPr>
          </a:p>
        </p:txBody>
      </p:sp>
      <p:cxnSp>
        <p:nvCxnSpPr>
          <p:cNvPr id="647" name=""/>
          <p:cNvCxnSpPr>
            <a:stCxn id="646" idx="2"/>
            <a:endCxn id="640" idx="0"/>
          </p:cNvCxnSpPr>
          <p:nvPr/>
        </p:nvCxnSpPr>
        <p:spPr>
          <a:xfrm>
            <a:off x="2773440" y="3763440"/>
            <a:ext cx="303840" cy="412200"/>
          </a:xfrm>
          <a:prstGeom prst="straightConnector1">
            <a:avLst/>
          </a:prstGeom>
          <a:ln w="9360">
            <a:solidFill>
              <a:srgbClr val="000000"/>
            </a:solidFill>
            <a:miter/>
            <a:tailEnd len="med" type="triangle" w="med"/>
          </a:ln>
        </p:spPr>
      </p:cxnSp>
      <p:sp>
        <p:nvSpPr>
          <p:cNvPr id="648" name=""/>
          <p:cNvSpPr/>
          <p:nvPr/>
        </p:nvSpPr>
        <p:spPr>
          <a:xfrm>
            <a:off x="5847480" y="3168720"/>
            <a:ext cx="88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ater</a:t>
            </a:r>
            <a:endParaRPr b="0" lang="en-US" sz="2000" spc="-1" strike="noStrike">
              <a:solidFill>
                <a:srgbClr val="000000"/>
              </a:solidFill>
              <a:latin typeface="Times New Roman"/>
            </a:endParaRPr>
          </a:p>
        </p:txBody>
      </p:sp>
      <p:sp>
        <p:nvSpPr>
          <p:cNvPr id="649" name=""/>
          <p:cNvSpPr/>
          <p:nvPr/>
        </p:nvSpPr>
        <p:spPr>
          <a:xfrm>
            <a:off x="5532480" y="3794040"/>
            <a:ext cx="73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se</a:t>
            </a:r>
            <a:endParaRPr b="0" lang="en-US" sz="2000" spc="-1" strike="noStrike">
              <a:solidFill>
                <a:srgbClr val="000000"/>
              </a:solidFill>
              <a:latin typeface="Times New Roman"/>
            </a:endParaRPr>
          </a:p>
        </p:txBody>
      </p:sp>
      <p:cxnSp>
        <p:nvCxnSpPr>
          <p:cNvPr id="650" name=""/>
          <p:cNvCxnSpPr>
            <a:stCxn id="648" idx="2"/>
            <a:endCxn id="649" idx="0"/>
          </p:cNvCxnSpPr>
          <p:nvPr/>
        </p:nvCxnSpPr>
        <p:spPr>
          <a:xfrm flipH="1">
            <a:off x="5901480" y="3565080"/>
            <a:ext cx="391320" cy="229320"/>
          </a:xfrm>
          <a:prstGeom prst="straightConnector1">
            <a:avLst/>
          </a:prstGeom>
          <a:ln w="9360">
            <a:solidFill>
              <a:srgbClr val="000000"/>
            </a:solidFill>
            <a:miter/>
            <a:tailEnd len="med" type="triangle" w="med"/>
          </a:ln>
        </p:spPr>
      </p:cxnSp>
      <p:cxnSp>
        <p:nvCxnSpPr>
          <p:cNvPr id="651" name=""/>
          <p:cNvCxnSpPr>
            <a:stCxn id="649" idx="1"/>
            <a:endCxn id="635" idx="3"/>
          </p:cNvCxnSpPr>
          <p:nvPr/>
        </p:nvCxnSpPr>
        <p:spPr>
          <a:xfrm flipH="1">
            <a:off x="5234040" y="3992400"/>
            <a:ext cx="317880" cy="153360"/>
          </a:xfrm>
          <a:prstGeom prst="straightConnector1">
            <a:avLst/>
          </a:prstGeom>
          <a:ln w="9360">
            <a:solidFill>
              <a:srgbClr val="000000"/>
            </a:solidFill>
            <a:miter/>
            <a:tailEnd len="med" type="triangle" w="med"/>
          </a:ln>
        </p:spPr>
      </p:cxnSp>
      <p:sp>
        <p:nvSpPr>
          <p:cNvPr id="3" name="PlaceHolder 2"/>
          <p:cNvSpPr>
            <a:spLocks noGrp="1"/>
          </p:cNvSpPr>
          <p:nvPr>
            <p:ph type="sldNum" idx="3"/>
          </p:nvPr>
        </p:nvSpPr>
        <p:spPr/>
        <p:txBody>
          <a:bodyPr/>
          <a:p>
            <a:fld id="{439A0EB3-C24A-4BD2-9889-2FE9127EF9E0}" type="slidenum">
              <a:t>58</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637"/>
                                        </p:tgtEl>
                                        <p:attrNameLst>
                                          <p:attrName>style.visibility</p:attrName>
                                        </p:attrNameLst>
                                      </p:cBhvr>
                                      <p:to>
                                        <p:strVal val="visible"/>
                                      </p:to>
                                    </p:set>
                                    <p:animEffect filter="dissolve" transition="in">
                                      <p:cBhvr additive="repl">
                                        <p:cTn id="171" dur="500"/>
                                        <p:tgtEl>
                                          <p:spTgt spid="637"/>
                                        </p:tgtEl>
                                      </p:cBhvr>
                                    </p:animEffect>
                                  </p:childTnLst>
                                </p:cTn>
                              </p:par>
                              <p:par>
                                <p:cTn id="172" nodeType="withEffect" fill="hold" presetClass="entr" presetID="9">
                                  <p:stCondLst>
                                    <p:cond delay="0"/>
                                  </p:stCondLst>
                                  <p:childTnLst>
                                    <p:set>
                                      <p:cBhvr>
                                        <p:cTn id="173" dur="1" fill="hold">
                                          <p:stCondLst>
                                            <p:cond delay="0"/>
                                          </p:stCondLst>
                                        </p:cTn>
                                        <p:tgtEl>
                                          <p:spTgt spid="639"/>
                                        </p:tgtEl>
                                        <p:attrNameLst>
                                          <p:attrName>style.visibility</p:attrName>
                                        </p:attrNameLst>
                                      </p:cBhvr>
                                      <p:to>
                                        <p:strVal val="visible"/>
                                      </p:to>
                                    </p:set>
                                    <p:animEffect filter="dissolve" transition="in">
                                      <p:cBhvr additive="repl">
                                        <p:cTn id="174" dur="500"/>
                                        <p:tgtEl>
                                          <p:spTgt spid="639"/>
                                        </p:tgtEl>
                                      </p:cBhvr>
                                    </p:animEffect>
                                  </p:childTnLst>
                                </p:cTn>
                              </p:par>
                              <p:par>
                                <p:cTn id="175" nodeType="withEffect" fill="hold" presetClass="entr" presetID="9">
                                  <p:stCondLst>
                                    <p:cond delay="0"/>
                                  </p:stCondLst>
                                  <p:childTnLst>
                                    <p:set>
                                      <p:cBhvr>
                                        <p:cTn id="176" dur="1" fill="hold">
                                          <p:stCondLst>
                                            <p:cond delay="0"/>
                                          </p:stCondLst>
                                        </p:cTn>
                                        <p:tgtEl>
                                          <p:spTgt spid="638"/>
                                        </p:tgtEl>
                                        <p:attrNameLst>
                                          <p:attrName>style.visibility</p:attrName>
                                        </p:attrNameLst>
                                      </p:cBhvr>
                                      <p:to>
                                        <p:strVal val="visible"/>
                                      </p:to>
                                    </p:set>
                                    <p:animEffect filter="dissolve" transition="in">
                                      <p:cBhvr additive="repl">
                                        <p:cTn id="177" dur="500"/>
                                        <p:tgtEl>
                                          <p:spTgt spid="638"/>
                                        </p:tgtEl>
                                      </p:cBhvr>
                                    </p:animEffect>
                                  </p:childTnLst>
                                </p:cTn>
                              </p:par>
                              <p:par>
                                <p:cTn id="178" nodeType="withEffect" fill="hold" presetClass="entr" presetID="9">
                                  <p:stCondLst>
                                    <p:cond delay="0"/>
                                  </p:stCondLst>
                                  <p:childTnLst>
                                    <p:set>
                                      <p:cBhvr>
                                        <p:cTn id="179" dur="1" fill="hold">
                                          <p:stCondLst>
                                            <p:cond delay="0"/>
                                          </p:stCondLst>
                                        </p:cTn>
                                        <p:tgtEl>
                                          <p:spTgt spid="636"/>
                                        </p:tgtEl>
                                        <p:attrNameLst>
                                          <p:attrName>style.visibility</p:attrName>
                                        </p:attrNameLst>
                                      </p:cBhvr>
                                      <p:to>
                                        <p:strVal val="visible"/>
                                      </p:to>
                                    </p:set>
                                    <p:animEffect filter="dissolve" transition="in">
                                      <p:cBhvr additive="repl">
                                        <p:cTn id="180" dur="500"/>
                                        <p:tgtEl>
                                          <p:spTgt spid="636"/>
                                        </p:tgtEl>
                                      </p:cBhvr>
                                    </p:animEffect>
                                  </p:childTnLst>
                                </p:cTn>
                              </p:par>
                            </p:childTnLst>
                          </p:cTn>
                        </p:par>
                        <p:par>
                          <p:cTn id="181" fill="hold">
                            <p:stCondLst>
                              <p:cond delay="500"/>
                            </p:stCondLst>
                            <p:childTnLst>
                              <p:par>
                                <p:cTn id="182" nodeType="afterEffect" fill="hold" presetClass="entr" presetID="9">
                                  <p:stCondLst>
                                    <p:cond delay="0"/>
                                  </p:stCondLst>
                                  <p:childTnLst>
                                    <p:set>
                                      <p:cBhvr>
                                        <p:cTn id="183" dur="1" fill="hold">
                                          <p:stCondLst>
                                            <p:cond delay="0"/>
                                          </p:stCondLst>
                                        </p:cTn>
                                        <p:tgtEl>
                                          <p:spTgt spid="648"/>
                                        </p:tgtEl>
                                        <p:attrNameLst>
                                          <p:attrName>style.visibility</p:attrName>
                                        </p:attrNameLst>
                                      </p:cBhvr>
                                      <p:to>
                                        <p:strVal val="visible"/>
                                      </p:to>
                                    </p:set>
                                    <p:animEffect filter="dissolve" transition="in">
                                      <p:cBhvr additive="repl">
                                        <p:cTn id="184" dur="500"/>
                                        <p:tgtEl>
                                          <p:spTgt spid="648"/>
                                        </p:tgtEl>
                                      </p:cBhvr>
                                    </p:animEffect>
                                  </p:childTnLst>
                                </p:cTn>
                              </p:par>
                              <p:par>
                                <p:cTn id="185" nodeType="withEffect" fill="hold" presetClass="entr" presetID="9">
                                  <p:stCondLst>
                                    <p:cond delay="0"/>
                                  </p:stCondLst>
                                  <p:childTnLst>
                                    <p:set>
                                      <p:cBhvr>
                                        <p:cTn id="186" dur="1" fill="hold">
                                          <p:stCondLst>
                                            <p:cond delay="0"/>
                                          </p:stCondLst>
                                        </p:cTn>
                                        <p:tgtEl>
                                          <p:spTgt spid="649"/>
                                        </p:tgtEl>
                                        <p:attrNameLst>
                                          <p:attrName>style.visibility</p:attrName>
                                        </p:attrNameLst>
                                      </p:cBhvr>
                                      <p:to>
                                        <p:strVal val="visible"/>
                                      </p:to>
                                    </p:set>
                                    <p:animEffect filter="dissolve" transition="in">
                                      <p:cBhvr additive="repl">
                                        <p:cTn id="187" dur="500"/>
                                        <p:tgtEl>
                                          <p:spTgt spid="649"/>
                                        </p:tgtEl>
                                      </p:cBhvr>
                                    </p:animEffect>
                                  </p:childTnLst>
                                </p:cTn>
                              </p:par>
                              <p:par>
                                <p:cTn id="188" nodeType="withEffect" fill="hold" presetClass="entr" presetID="9">
                                  <p:stCondLst>
                                    <p:cond delay="0"/>
                                  </p:stCondLst>
                                  <p:childTnLst>
                                    <p:set>
                                      <p:cBhvr>
                                        <p:cTn id="189" dur="1" fill="hold">
                                          <p:stCondLst>
                                            <p:cond delay="0"/>
                                          </p:stCondLst>
                                        </p:cTn>
                                        <p:tgtEl>
                                          <p:spTgt spid="650"/>
                                        </p:tgtEl>
                                        <p:attrNameLst>
                                          <p:attrName>style.visibility</p:attrName>
                                        </p:attrNameLst>
                                      </p:cBhvr>
                                      <p:to>
                                        <p:strVal val="visible"/>
                                      </p:to>
                                    </p:set>
                                    <p:animEffect filter="dissolve" transition="in">
                                      <p:cBhvr additive="repl">
                                        <p:cTn id="190" dur="500"/>
                                        <p:tgtEl>
                                          <p:spTgt spid="650"/>
                                        </p:tgtEl>
                                      </p:cBhvr>
                                    </p:animEffect>
                                  </p:childTnLst>
                                </p:cTn>
                              </p:par>
                              <p:par>
                                <p:cTn id="191" nodeType="withEffect" fill="hold" presetClass="entr" presetID="9">
                                  <p:stCondLst>
                                    <p:cond delay="0"/>
                                  </p:stCondLst>
                                  <p:childTnLst>
                                    <p:set>
                                      <p:cBhvr>
                                        <p:cTn id="192" dur="1" fill="hold">
                                          <p:stCondLst>
                                            <p:cond delay="0"/>
                                          </p:stCondLst>
                                        </p:cTn>
                                        <p:tgtEl>
                                          <p:spTgt spid="651"/>
                                        </p:tgtEl>
                                        <p:attrNameLst>
                                          <p:attrName>style.visibility</p:attrName>
                                        </p:attrNameLst>
                                      </p:cBhvr>
                                      <p:to>
                                        <p:strVal val="visible"/>
                                      </p:to>
                                    </p:set>
                                    <p:animEffect filter="dissolve" transition="in">
                                      <p:cBhvr additive="repl">
                                        <p:cTn id="193" dur="500"/>
                                        <p:tgtEl>
                                          <p:spTgt spid="651"/>
                                        </p:tgtEl>
                                      </p:cBhvr>
                                    </p:animEffect>
                                  </p:childTnLst>
                                </p:cTn>
                              </p:par>
                            </p:childTnLst>
                          </p:cTn>
                        </p:par>
                        <p:par>
                          <p:cTn id="194" fill="hold">
                            <p:stCondLst>
                              <p:cond delay="1000"/>
                            </p:stCondLst>
                            <p:childTnLst>
                              <p:par>
                                <p:cTn id="195" nodeType="afterEffect" fill="hold" presetClass="entr" presetID="9">
                                  <p:stCondLst>
                                    <p:cond delay="0"/>
                                  </p:stCondLst>
                                  <p:childTnLst>
                                    <p:set>
                                      <p:cBhvr>
                                        <p:cTn id="196" dur="1" fill="hold">
                                          <p:stCondLst>
                                            <p:cond delay="0"/>
                                          </p:stCondLst>
                                        </p:cTn>
                                        <p:tgtEl>
                                          <p:spTgt spid="640"/>
                                        </p:tgtEl>
                                        <p:attrNameLst>
                                          <p:attrName>style.visibility</p:attrName>
                                        </p:attrNameLst>
                                      </p:cBhvr>
                                      <p:to>
                                        <p:strVal val="visible"/>
                                      </p:to>
                                    </p:set>
                                    <p:animEffect filter="dissolve" transition="in">
                                      <p:cBhvr additive="repl">
                                        <p:cTn id="197" dur="500"/>
                                        <p:tgtEl>
                                          <p:spTgt spid="640"/>
                                        </p:tgtEl>
                                      </p:cBhvr>
                                    </p:animEffect>
                                  </p:childTnLst>
                                </p:cTn>
                              </p:par>
                              <p:par>
                                <p:cTn id="198" nodeType="withEffect" fill="hold" presetClass="entr" presetID="9">
                                  <p:stCondLst>
                                    <p:cond delay="0"/>
                                  </p:stCondLst>
                                  <p:childTnLst>
                                    <p:set>
                                      <p:cBhvr>
                                        <p:cTn id="199" dur="1" fill="hold">
                                          <p:stCondLst>
                                            <p:cond delay="0"/>
                                          </p:stCondLst>
                                        </p:cTn>
                                        <p:tgtEl>
                                          <p:spTgt spid="641"/>
                                        </p:tgtEl>
                                        <p:attrNameLst>
                                          <p:attrName>style.visibility</p:attrName>
                                        </p:attrNameLst>
                                      </p:cBhvr>
                                      <p:to>
                                        <p:strVal val="visible"/>
                                      </p:to>
                                    </p:set>
                                    <p:animEffect filter="dissolve" transition="in">
                                      <p:cBhvr additive="repl">
                                        <p:cTn id="200" dur="500"/>
                                        <p:tgtEl>
                                          <p:spTgt spid="641"/>
                                        </p:tgtEl>
                                      </p:cBhvr>
                                    </p:animEffect>
                                  </p:childTnLst>
                                </p:cTn>
                              </p:par>
                              <p:par>
                                <p:cTn id="201" nodeType="withEffect" fill="hold" presetClass="entr" presetID="9">
                                  <p:stCondLst>
                                    <p:cond delay="0"/>
                                  </p:stCondLst>
                                  <p:childTnLst>
                                    <p:set>
                                      <p:cBhvr>
                                        <p:cTn id="202" dur="1" fill="hold">
                                          <p:stCondLst>
                                            <p:cond delay="0"/>
                                          </p:stCondLst>
                                        </p:cTn>
                                        <p:tgtEl>
                                          <p:spTgt spid="642"/>
                                        </p:tgtEl>
                                        <p:attrNameLst>
                                          <p:attrName>style.visibility</p:attrName>
                                        </p:attrNameLst>
                                      </p:cBhvr>
                                      <p:to>
                                        <p:strVal val="visible"/>
                                      </p:to>
                                    </p:set>
                                    <p:animEffect filter="dissolve" transition="in">
                                      <p:cBhvr additive="repl">
                                        <p:cTn id="203" dur="500"/>
                                        <p:tgtEl>
                                          <p:spTgt spid="642"/>
                                        </p:tgtEl>
                                      </p:cBhvr>
                                    </p:animEffect>
                                  </p:childTnLst>
                                </p:cTn>
                              </p:par>
                              <p:par>
                                <p:cTn id="204" nodeType="withEffect" fill="hold" presetClass="entr" presetID="9">
                                  <p:stCondLst>
                                    <p:cond delay="0"/>
                                  </p:stCondLst>
                                  <p:childTnLst>
                                    <p:set>
                                      <p:cBhvr>
                                        <p:cTn id="205" dur="1" fill="hold">
                                          <p:stCondLst>
                                            <p:cond delay="0"/>
                                          </p:stCondLst>
                                        </p:cTn>
                                        <p:tgtEl>
                                          <p:spTgt spid="643"/>
                                        </p:tgtEl>
                                        <p:attrNameLst>
                                          <p:attrName>style.visibility</p:attrName>
                                        </p:attrNameLst>
                                      </p:cBhvr>
                                      <p:to>
                                        <p:strVal val="visible"/>
                                      </p:to>
                                    </p:set>
                                    <p:animEffect filter="dissolve" transition="in">
                                      <p:cBhvr additive="repl">
                                        <p:cTn id="206" dur="500"/>
                                        <p:tgtEl>
                                          <p:spTgt spid="643"/>
                                        </p:tgtEl>
                                      </p:cBhvr>
                                    </p:animEffect>
                                  </p:childTnLst>
                                </p:cTn>
                              </p:par>
                              <p:par>
                                <p:cTn id="207" nodeType="withEffect" fill="hold" presetClass="entr" presetID="9">
                                  <p:stCondLst>
                                    <p:cond delay="0"/>
                                  </p:stCondLst>
                                  <p:childTnLst>
                                    <p:set>
                                      <p:cBhvr>
                                        <p:cTn id="208" dur="1" fill="hold">
                                          <p:stCondLst>
                                            <p:cond delay="0"/>
                                          </p:stCondLst>
                                        </p:cTn>
                                        <p:tgtEl>
                                          <p:spTgt spid="644"/>
                                        </p:tgtEl>
                                        <p:attrNameLst>
                                          <p:attrName>style.visibility</p:attrName>
                                        </p:attrNameLst>
                                      </p:cBhvr>
                                      <p:to>
                                        <p:strVal val="visible"/>
                                      </p:to>
                                    </p:set>
                                    <p:animEffect filter="dissolve" transition="in">
                                      <p:cBhvr additive="repl">
                                        <p:cTn id="209" dur="500"/>
                                        <p:tgtEl>
                                          <p:spTgt spid="644"/>
                                        </p:tgtEl>
                                      </p:cBhvr>
                                    </p:animEffect>
                                  </p:childTnLst>
                                </p:cTn>
                              </p:par>
                              <p:par>
                                <p:cTn id="210" nodeType="withEffect" fill="hold" presetClass="entr" presetID="9">
                                  <p:stCondLst>
                                    <p:cond delay="0"/>
                                  </p:stCondLst>
                                  <p:childTnLst>
                                    <p:set>
                                      <p:cBhvr>
                                        <p:cTn id="211" dur="1" fill="hold">
                                          <p:stCondLst>
                                            <p:cond delay="0"/>
                                          </p:stCondLst>
                                        </p:cTn>
                                        <p:tgtEl>
                                          <p:spTgt spid="645"/>
                                        </p:tgtEl>
                                        <p:attrNameLst>
                                          <p:attrName>style.visibility</p:attrName>
                                        </p:attrNameLst>
                                      </p:cBhvr>
                                      <p:to>
                                        <p:strVal val="visible"/>
                                      </p:to>
                                    </p:set>
                                    <p:animEffect filter="dissolve" transition="in">
                                      <p:cBhvr additive="repl">
                                        <p:cTn id="212" dur="500"/>
                                        <p:tgtEl>
                                          <p:spTgt spid="645"/>
                                        </p:tgtEl>
                                      </p:cBhvr>
                                    </p:animEffect>
                                  </p:childTnLst>
                                </p:cTn>
                              </p:par>
                              <p:par>
                                <p:cTn id="213" nodeType="withEffect" fill="hold" presetClass="entr" presetID="9">
                                  <p:stCondLst>
                                    <p:cond delay="0"/>
                                  </p:stCondLst>
                                  <p:childTnLst>
                                    <p:set>
                                      <p:cBhvr>
                                        <p:cTn id="214" dur="1" fill="hold">
                                          <p:stCondLst>
                                            <p:cond delay="0"/>
                                          </p:stCondLst>
                                        </p:cTn>
                                        <p:tgtEl>
                                          <p:spTgt spid="646"/>
                                        </p:tgtEl>
                                        <p:attrNameLst>
                                          <p:attrName>style.visibility</p:attrName>
                                        </p:attrNameLst>
                                      </p:cBhvr>
                                      <p:to>
                                        <p:strVal val="visible"/>
                                      </p:to>
                                    </p:set>
                                    <p:animEffect filter="dissolve" transition="in">
                                      <p:cBhvr additive="repl">
                                        <p:cTn id="215" dur="500"/>
                                        <p:tgtEl>
                                          <p:spTgt spid="646"/>
                                        </p:tgtEl>
                                      </p:cBhvr>
                                    </p:animEffect>
                                  </p:childTnLst>
                                </p:cTn>
                              </p:par>
                              <p:par>
                                <p:cTn id="216" nodeType="withEffect" fill="hold" presetClass="entr" presetID="9">
                                  <p:stCondLst>
                                    <p:cond delay="0"/>
                                  </p:stCondLst>
                                  <p:childTnLst>
                                    <p:set>
                                      <p:cBhvr>
                                        <p:cTn id="217" dur="1" fill="hold">
                                          <p:stCondLst>
                                            <p:cond delay="0"/>
                                          </p:stCondLst>
                                        </p:cTn>
                                        <p:tgtEl>
                                          <p:spTgt spid="647"/>
                                        </p:tgtEl>
                                        <p:attrNameLst>
                                          <p:attrName>style.visibility</p:attrName>
                                        </p:attrNameLst>
                                      </p:cBhvr>
                                      <p:to>
                                        <p:strVal val="visible"/>
                                      </p:to>
                                    </p:set>
                                    <p:animEffect filter="dissolve" transition="in">
                                      <p:cBhvr additive="repl">
                                        <p:cTn id="218" dur="500"/>
                                        <p:tgtEl>
                                          <p:spTgt spid="647"/>
                                        </p:tgtEl>
                                      </p:cBhvr>
                                    </p:animEffect>
                                  </p:childTnLst>
                                </p:cTn>
                              </p:par>
                            </p:childTnLst>
                          </p:cTn>
                        </p:par>
                        <p:par>
                          <p:cTn id="219" fill="hold">
                            <p:stCondLst>
                              <p:cond delay="1500"/>
                            </p:stCondLst>
                            <p:childTnLst>
                              <p:par>
                                <p:cTn id="220" nodeType="afterEffect" fill="hold" presetClass="entr" presetID="9">
                                  <p:stCondLst>
                                    <p:cond delay="0"/>
                                  </p:stCondLst>
                                  <p:childTnLst>
                                    <p:set>
                                      <p:cBhvr>
                                        <p:cTn id="221" dur="1" fill="hold">
                                          <p:stCondLst>
                                            <p:cond delay="0"/>
                                          </p:stCondLst>
                                        </p:cTn>
                                        <p:tgtEl>
                                          <p:spTgt spid="635"/>
                                        </p:tgtEl>
                                        <p:attrNameLst>
                                          <p:attrName>style.visibility</p:attrName>
                                        </p:attrNameLst>
                                      </p:cBhvr>
                                      <p:to>
                                        <p:strVal val="visible"/>
                                      </p:to>
                                    </p:set>
                                    <p:animEffect filter="dissolve" transition="in">
                                      <p:cBhvr additive="repl">
                                        <p:cTn id="222"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6672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riming</a:t>
            </a:r>
            <a:endParaRPr b="0" lang="en-US" sz="4000" spc="-1" strike="noStrike">
              <a:solidFill>
                <a:srgbClr val="000000"/>
              </a:solidFill>
              <a:latin typeface="Times New Roman"/>
            </a:endParaRPr>
          </a:p>
        </p:txBody>
      </p:sp>
      <p:pic>
        <p:nvPicPr>
          <p:cNvPr id="653" name="" descr=""/>
          <p:cNvPicPr/>
          <p:nvPr/>
        </p:nvPicPr>
        <p:blipFill>
          <a:blip r:embed="rId1"/>
          <a:stretch/>
        </p:blipFill>
        <p:spPr>
          <a:xfrm>
            <a:off x="747720" y="3687840"/>
            <a:ext cx="7620120" cy="1749240"/>
          </a:xfrm>
          <a:prstGeom prst="rect">
            <a:avLst/>
          </a:prstGeom>
          <a:ln w="0">
            <a:noFill/>
          </a:ln>
        </p:spPr>
      </p:pic>
      <p:sp>
        <p:nvSpPr>
          <p:cNvPr id="654" name=""/>
          <p:cNvSpPr/>
          <p:nvPr/>
        </p:nvSpPr>
        <p:spPr>
          <a:xfrm>
            <a:off x="628560" y="1600200"/>
            <a:ext cx="7848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 retrieve a specific memory from the web of associations, you must first activate one of the strands that leads to it. This process is called </a:t>
            </a:r>
            <a:r>
              <a:rPr b="0" lang="en-US" sz="2800" spc="-1" strike="noStrike">
                <a:solidFill>
                  <a:srgbClr val="0000ff"/>
                </a:solidFill>
                <a:latin typeface="Palatino Linotype"/>
              </a:rPr>
              <a:t>priming</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69BFC95-BE82-4D00-9341-03B9674583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219320" y="990360"/>
            <a:ext cx="6858000" cy="57150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Memory Construction</a:t>
            </a:r>
            <a:endParaRPr b="0" lang="en-US" sz="36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isinformation and Imagination Effects</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urce Amnesia</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iscerning True and False Memories</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ildren’s Eyewitness Recall</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pressed or Constructed Memories of Abuse?</a:t>
            </a:r>
            <a:endParaRPr b="0" lang="en-US" sz="2800" spc="-1" strike="noStrike">
              <a:solidFill>
                <a:srgbClr val="000000"/>
              </a:solidFill>
              <a:latin typeface="Times New Roman"/>
            </a:endParaRPr>
          </a:p>
          <a:p>
            <a:pPr lvl="1" marL="3808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Improving Memory</a:t>
            </a:r>
            <a:endParaRPr b="0" lang="en-US" sz="3600" spc="-1" strike="noStrike">
              <a:solidFill>
                <a:srgbClr val="000000"/>
              </a:solidFill>
              <a:latin typeface="Times New Roman"/>
            </a:endParaRPr>
          </a:p>
          <a:p>
            <a:pPr lvl="1" marL="3808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4172B14-C066-4F9B-B6A9-04540316F6B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text Effects</a:t>
            </a:r>
            <a:endParaRPr b="0" lang="en-US" sz="4000" spc="-1" strike="noStrike">
              <a:solidFill>
                <a:srgbClr val="000000"/>
              </a:solidFill>
              <a:latin typeface="Times New Roman"/>
            </a:endParaRPr>
          </a:p>
        </p:txBody>
      </p:sp>
      <p:pic>
        <p:nvPicPr>
          <p:cNvPr id="656" name="" descr=""/>
          <p:cNvPicPr/>
          <p:nvPr/>
        </p:nvPicPr>
        <p:blipFill>
          <a:blip r:embed="rId1"/>
          <a:stretch/>
        </p:blipFill>
        <p:spPr>
          <a:xfrm>
            <a:off x="228600" y="3367080"/>
            <a:ext cx="3886200" cy="3192480"/>
          </a:xfrm>
          <a:prstGeom prst="rect">
            <a:avLst/>
          </a:prstGeom>
          <a:ln w="0">
            <a:noFill/>
          </a:ln>
        </p:spPr>
      </p:pic>
      <p:sp>
        <p:nvSpPr>
          <p:cNvPr id="657" name=""/>
          <p:cNvSpPr/>
          <p:nvPr/>
        </p:nvSpPr>
        <p:spPr>
          <a:xfrm>
            <a:off x="404640" y="1595520"/>
            <a:ext cx="83059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cuba divers recall more words underwater if they learned the list underwater, while they recall more words on land if they learned that list on land (Godden &amp; Baddeley, 1975).</a:t>
            </a:r>
            <a:endParaRPr b="0" lang="en-US" sz="2800" spc="-1" strike="noStrike">
              <a:solidFill>
                <a:srgbClr val="000000"/>
              </a:solidFill>
              <a:latin typeface="Times New Roman"/>
            </a:endParaRPr>
          </a:p>
        </p:txBody>
      </p:sp>
      <p:pic>
        <p:nvPicPr>
          <p:cNvPr id="658" name="" descr=""/>
          <p:cNvPicPr/>
          <p:nvPr/>
        </p:nvPicPr>
        <p:blipFill>
          <a:blip r:embed="rId2"/>
          <a:stretch/>
        </p:blipFill>
        <p:spPr>
          <a:xfrm>
            <a:off x="5167440" y="3429000"/>
            <a:ext cx="2819160" cy="2690640"/>
          </a:xfrm>
          <a:prstGeom prst="rect">
            <a:avLst/>
          </a:prstGeom>
          <a:ln w="0">
            <a:noFill/>
          </a:ln>
        </p:spPr>
      </p:pic>
      <p:sp>
        <p:nvSpPr>
          <p:cNvPr id="659" name=""/>
          <p:cNvSpPr/>
          <p:nvPr/>
        </p:nvSpPr>
        <p:spPr>
          <a:xfrm rot="5400000">
            <a:off x="6911280" y="4975920"/>
            <a:ext cx="226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d McConnaughey/ Photo Researchers</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4017A34E-D0BE-45B6-8173-EB3B84889E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éjà Vu</a:t>
            </a:r>
            <a:endParaRPr b="0" lang="en-US" sz="4000" spc="-1" strike="noStrike">
              <a:solidFill>
                <a:srgbClr val="000000"/>
              </a:solidFill>
              <a:latin typeface="Times New Roman"/>
            </a:endParaRPr>
          </a:p>
        </p:txBody>
      </p:sp>
      <p:sp>
        <p:nvSpPr>
          <p:cNvPr id="661" name="PlaceHolder 2"/>
          <p:cNvSpPr>
            <a:spLocks noGrp="1"/>
          </p:cNvSpPr>
          <p:nvPr>
            <p:ph/>
          </p:nvPr>
        </p:nvSpPr>
        <p:spPr>
          <a:xfrm>
            <a:off x="533520" y="1295280"/>
            <a:ext cx="7981920" cy="19051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éjà Vu means “I've experienced this before.” Cues from the current situation may unconsciously trigger retrieval of an earlier similar experience. </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2" name="" descr=""/>
          <p:cNvPicPr/>
          <p:nvPr/>
        </p:nvPicPr>
        <p:blipFill>
          <a:blip r:embed="rId1"/>
          <a:stretch/>
        </p:blipFill>
        <p:spPr>
          <a:xfrm>
            <a:off x="2652840" y="3429000"/>
            <a:ext cx="3809880" cy="3059280"/>
          </a:xfrm>
          <a:prstGeom prst="rect">
            <a:avLst/>
          </a:prstGeom>
          <a:ln w="0">
            <a:noFill/>
          </a:ln>
        </p:spPr>
      </p:pic>
      <p:sp>
        <p:nvSpPr>
          <p:cNvPr id="663" name=""/>
          <p:cNvSpPr/>
          <p:nvPr/>
        </p:nvSpPr>
        <p:spPr>
          <a:xfrm rot="5400000">
            <a:off x="5202000" y="5077800"/>
            <a:ext cx="275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New Yorker Collection, 1990. Leo Cullum from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rtoonbank.com. All Rights Reserved</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2A3941FF-83D3-4BA7-AFFB-14C46E4B766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text Effects</a:t>
            </a:r>
            <a:endParaRPr b="0" lang="en-US" sz="4000" spc="-1" strike="noStrike">
              <a:solidFill>
                <a:srgbClr val="000000"/>
              </a:solidFill>
              <a:latin typeface="Times New Roman"/>
            </a:endParaRPr>
          </a:p>
        </p:txBody>
      </p:sp>
      <p:sp>
        <p:nvSpPr>
          <p:cNvPr id="665" name="PlaceHolder 2"/>
          <p:cNvSpPr>
            <a:spLocks noGrp="1"/>
          </p:cNvSpPr>
          <p:nvPr>
            <p:ph/>
          </p:nvPr>
        </p:nvSpPr>
        <p:spPr>
          <a:xfrm>
            <a:off x="642960" y="1600200"/>
            <a:ext cx="78487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fter learning to move a mobile by kicking, infants most strongly respond when retested in the same context rather than in a different context (Rovee-Collier, 1993).</a:t>
            </a:r>
            <a:endParaRPr b="0" lang="en-US" sz="2800" spc="-1" strike="noStrike">
              <a:solidFill>
                <a:srgbClr val="000000"/>
              </a:solidFill>
              <a:latin typeface="Times New Roman"/>
            </a:endParaRPr>
          </a:p>
        </p:txBody>
      </p:sp>
      <p:pic>
        <p:nvPicPr>
          <p:cNvPr id="666" name="" descr=""/>
          <p:cNvPicPr/>
          <p:nvPr/>
        </p:nvPicPr>
        <p:blipFill>
          <a:blip r:embed="rId1"/>
          <a:srcRect l="52126" t="0" r="0" b="0"/>
          <a:stretch/>
        </p:blipFill>
        <p:spPr>
          <a:xfrm>
            <a:off x="1890720" y="3811680"/>
            <a:ext cx="2227320" cy="2741400"/>
          </a:xfrm>
          <a:prstGeom prst="rect">
            <a:avLst/>
          </a:prstGeom>
          <a:ln w="0">
            <a:noFill/>
          </a:ln>
        </p:spPr>
      </p:pic>
      <p:pic>
        <p:nvPicPr>
          <p:cNvPr id="667" name="" descr=""/>
          <p:cNvPicPr/>
          <p:nvPr/>
        </p:nvPicPr>
        <p:blipFill>
          <a:blip r:embed="rId2"/>
          <a:srcRect l="0" t="0" r="56802" b="0"/>
          <a:stretch/>
        </p:blipFill>
        <p:spPr>
          <a:xfrm>
            <a:off x="5014800" y="3782880"/>
            <a:ext cx="2009880" cy="2741760"/>
          </a:xfrm>
          <a:prstGeom prst="rect">
            <a:avLst/>
          </a:prstGeom>
          <a:ln w="0">
            <a:noFill/>
          </a:ln>
        </p:spPr>
      </p:pic>
      <p:sp>
        <p:nvSpPr>
          <p:cNvPr id="668" name=""/>
          <p:cNvSpPr/>
          <p:nvPr/>
        </p:nvSpPr>
        <p:spPr>
          <a:xfrm rot="5400000">
            <a:off x="6189840" y="5391720"/>
            <a:ext cx="203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esy of Carolyn Rovee-Colli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tgers University</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980C72DA-C306-4ED1-A82D-563A95952E1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ods and Memories</a:t>
            </a:r>
            <a:endParaRPr b="0" lang="en-US" sz="4000" spc="-1" strike="noStrike">
              <a:solidFill>
                <a:srgbClr val="000000"/>
              </a:solidFill>
              <a:latin typeface="Times New Roman"/>
            </a:endParaRPr>
          </a:p>
        </p:txBody>
      </p:sp>
      <p:sp>
        <p:nvSpPr>
          <p:cNvPr id="670" name="PlaceHolder 2"/>
          <p:cNvSpPr>
            <a:spLocks noGrp="1"/>
          </p:cNvSpPr>
          <p:nvPr>
            <p:ph/>
          </p:nvPr>
        </p:nvSpPr>
        <p:spPr>
          <a:xfrm>
            <a:off x="609480" y="1447920"/>
            <a:ext cx="7925040" cy="1752480"/>
          </a:xfrm>
          <a:prstGeom prst="rect">
            <a:avLst/>
          </a:prstGeom>
          <a:noFill/>
          <a:ln w="0">
            <a:noFill/>
          </a:ln>
        </p:spPr>
        <p:txBody>
          <a:bodyPr lIns="90000" rIns="90000" tIns="46800" bIns="46800" anchor="t">
            <a:normAutofit fontScale="93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usually recall experiences that are consistent with our current mood (state-dependent memory). Emotions, or moods, serve as retrieval cues. Our memories are mood-congruent.</a:t>
            </a:r>
            <a:endParaRPr b="0" lang="en-US" sz="2800" spc="-1" strike="noStrike">
              <a:solidFill>
                <a:srgbClr val="000000"/>
              </a:solidFill>
              <a:latin typeface="Times New Roman"/>
            </a:endParaRPr>
          </a:p>
        </p:txBody>
      </p:sp>
      <p:pic>
        <p:nvPicPr>
          <p:cNvPr id="671" name="" descr=""/>
          <p:cNvPicPr/>
          <p:nvPr/>
        </p:nvPicPr>
        <p:blipFill>
          <a:blip r:embed="rId1"/>
          <a:stretch/>
        </p:blipFill>
        <p:spPr>
          <a:xfrm>
            <a:off x="2305080" y="3429000"/>
            <a:ext cx="4495680" cy="2970360"/>
          </a:xfrm>
          <a:prstGeom prst="rect">
            <a:avLst/>
          </a:prstGeom>
          <a:ln w="0">
            <a:noFill/>
          </a:ln>
        </p:spPr>
      </p:pic>
      <p:sp>
        <p:nvSpPr>
          <p:cNvPr id="672" name=""/>
          <p:cNvSpPr/>
          <p:nvPr/>
        </p:nvSpPr>
        <p:spPr>
          <a:xfrm rot="5400000">
            <a:off x="6076800" y="5504400"/>
            <a:ext cx="1651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rgen Schytte/ Still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DCEDCF94-3E5E-44DB-BAAF-3930600DA2C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orgetting</a:t>
            </a:r>
            <a:endParaRPr b="0" lang="en-US" sz="4000" spc="-1" strike="noStrike">
              <a:solidFill>
                <a:srgbClr val="000000"/>
              </a:solidFill>
              <a:latin typeface="Times New Roman"/>
            </a:endParaRPr>
          </a:p>
        </p:txBody>
      </p:sp>
      <p:sp>
        <p:nvSpPr>
          <p:cNvPr id="674" name=""/>
          <p:cNvSpPr/>
          <p:nvPr/>
        </p:nvSpPr>
        <p:spPr>
          <a:xfrm>
            <a:off x="1038240" y="1600200"/>
            <a:ext cx="703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nability to retrieve information due to poor encoding, storage, or retrieva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CCD2C71-754A-496D-8815-51EA3183E6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coding Failure</a:t>
            </a:r>
            <a:endParaRPr b="0" lang="en-US" sz="4000" spc="-1" strike="noStrike">
              <a:solidFill>
                <a:srgbClr val="000000"/>
              </a:solidFill>
              <a:latin typeface="Times New Roman"/>
            </a:endParaRPr>
          </a:p>
        </p:txBody>
      </p:sp>
      <p:sp>
        <p:nvSpPr>
          <p:cNvPr id="676" name=""/>
          <p:cNvSpPr/>
          <p:nvPr/>
        </p:nvSpPr>
        <p:spPr>
          <a:xfrm>
            <a:off x="1038240" y="1600200"/>
            <a:ext cx="703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cannot remember what we do not encode.</a:t>
            </a:r>
            <a:endParaRPr b="0" lang="en-US" sz="2800" spc="-1" strike="noStrike">
              <a:solidFill>
                <a:srgbClr val="000000"/>
              </a:solidFill>
              <a:latin typeface="Times New Roman"/>
            </a:endParaRPr>
          </a:p>
        </p:txBody>
      </p:sp>
      <p:pic>
        <p:nvPicPr>
          <p:cNvPr id="677" name="" descr=""/>
          <p:cNvPicPr/>
          <p:nvPr/>
        </p:nvPicPr>
        <p:blipFill>
          <a:blip r:embed="rId1"/>
          <a:stretch/>
        </p:blipFill>
        <p:spPr>
          <a:xfrm>
            <a:off x="671400" y="3657600"/>
            <a:ext cx="7772400" cy="1427040"/>
          </a:xfrm>
          <a:prstGeom prst="rect">
            <a:avLst/>
          </a:prstGeom>
          <a:ln w="0">
            <a:noFill/>
          </a:ln>
        </p:spPr>
      </p:pic>
      <p:sp>
        <p:nvSpPr>
          <p:cNvPr id="3" name="PlaceHolder 2"/>
          <p:cNvSpPr>
            <a:spLocks noGrp="1"/>
          </p:cNvSpPr>
          <p:nvPr>
            <p:ph type="sldNum" idx="3"/>
          </p:nvPr>
        </p:nvSpPr>
        <p:spPr/>
        <p:txBody>
          <a:bodyPr/>
          <a:p>
            <a:fld id="{4C96FABA-868B-4EE0-ACC1-813D564857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orage Decay</a:t>
            </a:r>
            <a:endParaRPr b="0" lang="en-US" sz="4000" spc="-1" strike="noStrike">
              <a:solidFill>
                <a:srgbClr val="000000"/>
              </a:solidFill>
              <a:latin typeface="Times New Roman"/>
            </a:endParaRPr>
          </a:p>
        </p:txBody>
      </p:sp>
      <p:sp>
        <p:nvSpPr>
          <p:cNvPr id="679" name=""/>
          <p:cNvSpPr/>
          <p:nvPr/>
        </p:nvSpPr>
        <p:spPr>
          <a:xfrm>
            <a:off x="1038240" y="1600200"/>
            <a:ext cx="703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oor durability of stored memories leads to their decay. Ebbinghaus showed this with his forgetting curve.</a:t>
            </a:r>
            <a:endParaRPr b="0" lang="en-US" sz="2800" spc="-1" strike="noStrike">
              <a:solidFill>
                <a:srgbClr val="000000"/>
              </a:solidFill>
              <a:latin typeface="Times New Roman"/>
            </a:endParaRPr>
          </a:p>
        </p:txBody>
      </p:sp>
      <p:pic>
        <p:nvPicPr>
          <p:cNvPr id="680" name="" descr=""/>
          <p:cNvPicPr/>
          <p:nvPr/>
        </p:nvPicPr>
        <p:blipFill>
          <a:blip r:embed="rId1"/>
          <a:stretch/>
        </p:blipFill>
        <p:spPr>
          <a:xfrm>
            <a:off x="1301760" y="2952720"/>
            <a:ext cx="6518160" cy="3657600"/>
          </a:xfrm>
          <a:prstGeom prst="rect">
            <a:avLst/>
          </a:prstGeom>
          <a:ln w="0">
            <a:noFill/>
          </a:ln>
        </p:spPr>
      </p:pic>
      <p:sp>
        <p:nvSpPr>
          <p:cNvPr id="3" name="PlaceHolder 2"/>
          <p:cNvSpPr>
            <a:spLocks noGrp="1"/>
          </p:cNvSpPr>
          <p:nvPr>
            <p:ph type="sldNum" idx="3"/>
          </p:nvPr>
        </p:nvSpPr>
        <p:spPr/>
        <p:txBody>
          <a:bodyPr/>
          <a:p>
            <a:fld id="{0136C8F3-B986-4167-832C-556C755DF5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aining Spanish</a:t>
            </a:r>
            <a:endParaRPr b="0" lang="en-US" sz="4000" spc="-1" strike="noStrike">
              <a:solidFill>
                <a:srgbClr val="000000"/>
              </a:solidFill>
              <a:latin typeface="Times New Roman"/>
            </a:endParaRPr>
          </a:p>
        </p:txBody>
      </p:sp>
      <p:sp>
        <p:nvSpPr>
          <p:cNvPr id="682" name="PlaceHolder 2"/>
          <p:cNvSpPr>
            <a:spLocks noGrp="1"/>
          </p:cNvSpPr>
          <p:nvPr>
            <p:ph/>
          </p:nvPr>
        </p:nvSpPr>
        <p:spPr>
          <a:xfrm>
            <a:off x="518760" y="1600200"/>
            <a:ext cx="8077320" cy="990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ahrick (1984) showed a similar pattern of forgetting and retaining over 50 years.</a:t>
            </a:r>
            <a:endParaRPr b="0" lang="en-US" sz="2800" spc="-1" strike="noStrike">
              <a:solidFill>
                <a:srgbClr val="000000"/>
              </a:solidFill>
              <a:latin typeface="Times New Roman"/>
            </a:endParaRPr>
          </a:p>
        </p:txBody>
      </p:sp>
      <p:pic>
        <p:nvPicPr>
          <p:cNvPr id="683" name="" descr=""/>
          <p:cNvPicPr/>
          <p:nvPr/>
        </p:nvPicPr>
        <p:blipFill>
          <a:blip r:embed="rId1"/>
          <a:stretch/>
        </p:blipFill>
        <p:spPr>
          <a:xfrm>
            <a:off x="409680" y="2895480"/>
            <a:ext cx="5767200" cy="3657600"/>
          </a:xfrm>
          <a:prstGeom prst="rect">
            <a:avLst/>
          </a:prstGeom>
          <a:ln w="0">
            <a:noFill/>
          </a:ln>
        </p:spPr>
      </p:pic>
      <p:pic>
        <p:nvPicPr>
          <p:cNvPr id="684" name="" descr=""/>
          <p:cNvPicPr/>
          <p:nvPr/>
        </p:nvPicPr>
        <p:blipFill>
          <a:blip r:embed="rId2"/>
          <a:stretch/>
        </p:blipFill>
        <p:spPr>
          <a:xfrm>
            <a:off x="6357960" y="4367160"/>
            <a:ext cx="2328840" cy="1546200"/>
          </a:xfrm>
          <a:prstGeom prst="rect">
            <a:avLst/>
          </a:prstGeom>
          <a:ln w="0">
            <a:noFill/>
          </a:ln>
        </p:spPr>
      </p:pic>
      <p:sp>
        <p:nvSpPr>
          <p:cNvPr id="685" name=""/>
          <p:cNvSpPr/>
          <p:nvPr/>
        </p:nvSpPr>
        <p:spPr>
          <a:xfrm rot="5400000">
            <a:off x="8020800" y="5084640"/>
            <a:ext cx="157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rew Holbrooke/ Corb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9C789074-E49E-434F-BE43-47FE4916B78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rieval Failure</a:t>
            </a:r>
            <a:endParaRPr b="0" lang="en-US" sz="4000" spc="-1" strike="noStrike">
              <a:solidFill>
                <a:srgbClr val="000000"/>
              </a:solidFill>
              <a:latin typeface="Times New Roman"/>
            </a:endParaRPr>
          </a:p>
        </p:txBody>
      </p:sp>
      <p:sp>
        <p:nvSpPr>
          <p:cNvPr id="687" name="PlaceHolder 2"/>
          <p:cNvSpPr>
            <a:spLocks noGrp="1"/>
          </p:cNvSpPr>
          <p:nvPr>
            <p:ph/>
          </p:nvPr>
        </p:nvSpPr>
        <p:spPr>
          <a:xfrm>
            <a:off x="685800" y="1599840"/>
            <a:ext cx="7772400" cy="10666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lthough the information is retained in the memory store, it cannot be accessed.</a:t>
            </a:r>
            <a:endParaRPr b="0" lang="en-US" sz="2800" spc="-1" strike="noStrike">
              <a:solidFill>
                <a:srgbClr val="000000"/>
              </a:solidFill>
              <a:latin typeface="Times New Roman"/>
            </a:endParaRPr>
          </a:p>
        </p:txBody>
      </p:sp>
      <p:pic>
        <p:nvPicPr>
          <p:cNvPr id="688" name="" descr=""/>
          <p:cNvPicPr/>
          <p:nvPr/>
        </p:nvPicPr>
        <p:blipFill>
          <a:blip r:embed="rId1"/>
          <a:stretch/>
        </p:blipFill>
        <p:spPr>
          <a:xfrm>
            <a:off x="673200" y="2666880"/>
            <a:ext cx="7769160" cy="1881360"/>
          </a:xfrm>
          <a:prstGeom prst="rect">
            <a:avLst/>
          </a:prstGeom>
          <a:ln w="0">
            <a:noFill/>
          </a:ln>
        </p:spPr>
      </p:pic>
      <p:sp>
        <p:nvSpPr>
          <p:cNvPr id="689" name=""/>
          <p:cNvSpPr/>
          <p:nvPr/>
        </p:nvSpPr>
        <p:spPr>
          <a:xfrm>
            <a:off x="671400" y="5105520"/>
            <a:ext cx="7772400" cy="1371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ip-of-the-tongue (TOT) is a retrieval failure phenomenon. Given a cue (What makes blood cells red?) the subject says the word begins with an </a:t>
            </a:r>
            <a:r>
              <a:rPr b="0" i="1" lang="en-US" sz="2400" spc="-1" strike="noStrike">
                <a:solidFill>
                  <a:srgbClr val="000000"/>
                </a:solidFill>
                <a:latin typeface="Palatino Linotype"/>
              </a:rPr>
              <a:t>H</a:t>
            </a:r>
            <a:r>
              <a:rPr b="0" lang="en-US" sz="2400" spc="-1" strike="noStrike">
                <a:solidFill>
                  <a:srgbClr val="000000"/>
                </a:solidFill>
                <a:latin typeface="Palatino Linotype"/>
              </a:rPr>
              <a:t> (hemoglobi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574890-6863-4FF4-9503-F9209C6B7A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900000" y="2971800"/>
            <a:ext cx="7313760" cy="3076560"/>
          </a:xfrm>
          <a:prstGeom prst="rect">
            <a:avLst/>
          </a:prstGeom>
          <a:ln w="0">
            <a:noFill/>
          </a:ln>
        </p:spPr>
      </p:pic>
      <p:sp>
        <p:nvSpPr>
          <p:cNvPr id="691"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terference</a:t>
            </a:r>
            <a:endParaRPr b="0" lang="en-US" sz="4000" spc="-1" strike="noStrike">
              <a:solidFill>
                <a:srgbClr val="000000"/>
              </a:solidFill>
              <a:latin typeface="Times New Roman"/>
            </a:endParaRPr>
          </a:p>
        </p:txBody>
      </p:sp>
      <p:sp>
        <p:nvSpPr>
          <p:cNvPr id="692" name="PlaceHolder 2"/>
          <p:cNvSpPr>
            <a:spLocks noGrp="1"/>
          </p:cNvSpPr>
          <p:nvPr>
            <p:ph/>
          </p:nvPr>
        </p:nvSpPr>
        <p:spPr>
          <a:xfrm>
            <a:off x="533520" y="1523880"/>
            <a:ext cx="8076960" cy="990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arning some new information may disrupt</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trieval of other information.</a:t>
            </a:r>
            <a:endParaRPr b="0" lang="en-US" sz="2800" spc="-1" strike="noStrike">
              <a:solidFill>
                <a:srgbClr val="000000"/>
              </a:solidFill>
              <a:latin typeface="Times New Roman"/>
            </a:endParaRPr>
          </a:p>
        </p:txBody>
      </p:sp>
      <p:pic>
        <p:nvPicPr>
          <p:cNvPr id="693" name="" descr=""/>
          <p:cNvPicPr/>
          <p:nvPr/>
        </p:nvPicPr>
        <p:blipFill>
          <a:blip r:embed="rId2"/>
          <a:stretch/>
        </p:blipFill>
        <p:spPr>
          <a:xfrm>
            <a:off x="990720" y="2766960"/>
            <a:ext cx="7313400" cy="3405240"/>
          </a:xfrm>
          <a:prstGeom prst="rect">
            <a:avLst/>
          </a:prstGeom>
          <a:ln w="0">
            <a:noFill/>
          </a:ln>
        </p:spPr>
      </p:pic>
      <p:sp>
        <p:nvSpPr>
          <p:cNvPr id="4" name="PlaceHolder 3"/>
          <p:cNvSpPr>
            <a:spLocks noGrp="1"/>
          </p:cNvSpPr>
          <p:nvPr>
            <p:ph type="sldNum" idx="3"/>
          </p:nvPr>
        </p:nvSpPr>
        <p:spPr/>
        <p:txBody>
          <a:bodyPr/>
          <a:p>
            <a:fld id="{B5435F7E-6E73-45B9-BBAC-E1C79BA66CE7}" type="slidenum">
              <a:t>69</a:t>
            </a:fld>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xit" presetID="9">
                                  <p:stCondLst>
                                    <p:cond delay="0"/>
                                  </p:stCondLst>
                                  <p:childTnLst>
                                    <p:animEffect filter="dissolve" transition="out">
                                      <p:cBhvr additive="repl">
                                        <p:cTn id="228" dur="500"/>
                                        <p:tgtEl>
                                          <p:spTgt spid="693"/>
                                        </p:tgtEl>
                                      </p:cBhvr>
                                    </p:animEffect>
                                    <p:set>
                                      <p:cBhvr>
                                        <p:cTn id="229" dur="1" fill="hold">
                                          <p:stCondLst>
                                            <p:cond delay="499"/>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585800"/>
            <a:ext cx="777240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y is the basis for knowing your friends, your neighbors, the English language, the national anthem, and yourself.</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f memory was nonexistent, everyone would be a stranger to you; every language foreign; every task new; and even you yourself would be a strang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5F693B-61FD-4B38-96F8-1C189DC0222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roactive Interference</a:t>
            </a:r>
            <a:endParaRPr b="0" lang="en-US" sz="4000" spc="-1" strike="noStrike">
              <a:solidFill>
                <a:srgbClr val="000000"/>
              </a:solidFill>
              <a:latin typeface="Times New Roman"/>
            </a:endParaRPr>
          </a:p>
        </p:txBody>
      </p:sp>
      <p:pic>
        <p:nvPicPr>
          <p:cNvPr id="695" name="" descr=""/>
          <p:cNvPicPr/>
          <p:nvPr/>
        </p:nvPicPr>
        <p:blipFill>
          <a:blip r:embed="rId1"/>
          <a:stretch/>
        </p:blipFill>
        <p:spPr>
          <a:xfrm>
            <a:off x="1004760" y="2519280"/>
            <a:ext cx="7102440" cy="3805200"/>
          </a:xfrm>
          <a:prstGeom prst="rect">
            <a:avLst/>
          </a:prstGeom>
          <a:ln w="0">
            <a:noFill/>
          </a:ln>
        </p:spPr>
      </p:pic>
      <p:sp>
        <p:nvSpPr>
          <p:cNvPr id="696" name=""/>
          <p:cNvSpPr/>
          <p:nvPr/>
        </p:nvSpPr>
        <p:spPr>
          <a:xfrm>
            <a:off x="-5400" y="1587600"/>
            <a:ext cx="91008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leep prevents retroactive interference. Therefore, i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ads to better recal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1319559-C6EF-492D-8E57-539463AEDEA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tivated Forgetting</a:t>
            </a:r>
            <a:endParaRPr b="0" lang="en-US" sz="4000" spc="-1" strike="noStrike">
              <a:solidFill>
                <a:srgbClr val="000000"/>
              </a:solidFill>
              <a:latin typeface="Times New Roman"/>
            </a:endParaRPr>
          </a:p>
        </p:txBody>
      </p:sp>
      <p:sp>
        <p:nvSpPr>
          <p:cNvPr id="698" name="PlaceHolder 2"/>
          <p:cNvSpPr>
            <a:spLocks noGrp="1"/>
          </p:cNvSpPr>
          <p:nvPr>
            <p:ph/>
          </p:nvPr>
        </p:nvSpPr>
        <p:spPr>
          <a:xfrm>
            <a:off x="380880" y="1600200"/>
            <a:ext cx="4191120" cy="44956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otivated Forgetting:</a:t>
            </a:r>
            <a:r>
              <a:rPr b="0" lang="en-US" sz="2800" spc="-1" strike="noStrike">
                <a:solidFill>
                  <a:srgbClr val="6600cc"/>
                </a:solidFill>
                <a:latin typeface="Palatino Linotype"/>
              </a:rPr>
              <a:t> </a:t>
            </a:r>
            <a:r>
              <a:rPr b="0" lang="en-US" sz="2800" spc="-1" strike="noStrike">
                <a:solidFill>
                  <a:srgbClr val="000000"/>
                </a:solidFill>
                <a:latin typeface="Palatino Linotype"/>
              </a:rPr>
              <a:t>People unknowingly revise their memori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Repression:</a:t>
            </a:r>
            <a:r>
              <a:rPr b="0" lang="en-US" sz="2800" spc="-1" strike="noStrike">
                <a:solidFill>
                  <a:srgbClr val="6600cc"/>
                </a:solidFill>
                <a:latin typeface="Palatino Linotype"/>
              </a:rPr>
              <a:t> </a:t>
            </a:r>
            <a:r>
              <a:rPr b="0" lang="en-US" sz="2800" spc="-1" strike="noStrike">
                <a:solidFill>
                  <a:srgbClr val="000000"/>
                </a:solidFill>
                <a:latin typeface="Palatino Linotype"/>
              </a:rPr>
              <a:t>A</a:t>
            </a:r>
            <a:r>
              <a:rPr b="0" lang="en-US" sz="2800" spc="-1" strike="noStrike">
                <a:solidFill>
                  <a:srgbClr val="6600cc"/>
                </a:solidFill>
                <a:latin typeface="Palatino Linotype"/>
              </a:rPr>
              <a:t> </a:t>
            </a:r>
            <a:r>
              <a:rPr b="0" lang="en-US" sz="2800" spc="-1" strike="noStrike">
                <a:solidFill>
                  <a:srgbClr val="000000"/>
                </a:solidFill>
                <a:latin typeface="Palatino Linotype"/>
              </a:rPr>
              <a:t>defense mechanism that banishes anxiety-arousing thoughts, feelings, and memories from consciousness.</a:t>
            </a:r>
            <a:endParaRPr b="0" lang="en-US" sz="2800" spc="-1" strike="noStrike">
              <a:solidFill>
                <a:srgbClr val="000000"/>
              </a:solidFill>
              <a:latin typeface="Times New Roman"/>
            </a:endParaRPr>
          </a:p>
        </p:txBody>
      </p:sp>
      <p:pic>
        <p:nvPicPr>
          <p:cNvPr id="699" name="" descr=""/>
          <p:cNvPicPr/>
          <p:nvPr/>
        </p:nvPicPr>
        <p:blipFill>
          <a:blip r:embed="rId1"/>
          <a:stretch/>
        </p:blipFill>
        <p:spPr>
          <a:xfrm>
            <a:off x="5248440" y="1752480"/>
            <a:ext cx="3209760" cy="4114800"/>
          </a:xfrm>
          <a:prstGeom prst="rect">
            <a:avLst/>
          </a:prstGeom>
          <a:ln w="0">
            <a:noFill/>
          </a:ln>
        </p:spPr>
      </p:pic>
      <p:sp>
        <p:nvSpPr>
          <p:cNvPr id="700" name=""/>
          <p:cNvSpPr/>
          <p:nvPr/>
        </p:nvSpPr>
        <p:spPr>
          <a:xfrm>
            <a:off x="5882040" y="5929200"/>
            <a:ext cx="205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gmund Freud</a:t>
            </a:r>
            <a:endParaRPr b="0" lang="en-US" sz="2000" spc="-1" strike="noStrike">
              <a:solidFill>
                <a:srgbClr val="000000"/>
              </a:solidFill>
              <a:latin typeface="Times New Roman"/>
            </a:endParaRPr>
          </a:p>
        </p:txBody>
      </p:sp>
      <p:sp>
        <p:nvSpPr>
          <p:cNvPr id="701" name=""/>
          <p:cNvSpPr/>
          <p:nvPr/>
        </p:nvSpPr>
        <p:spPr>
          <a:xfrm rot="5400000">
            <a:off x="8095680" y="5315400"/>
            <a:ext cx="96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lver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37CAB340-6A7A-4CCB-931D-47F2379781C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y do we forget?</a:t>
            </a:r>
            <a:endParaRPr b="0" lang="en-US" sz="4000" spc="-1" strike="noStrike">
              <a:solidFill>
                <a:srgbClr val="000000"/>
              </a:solidFill>
              <a:latin typeface="Times New Roman"/>
            </a:endParaRPr>
          </a:p>
        </p:txBody>
      </p:sp>
      <p:sp>
        <p:nvSpPr>
          <p:cNvPr id="703" name="PlaceHolder 2"/>
          <p:cNvSpPr>
            <a:spLocks noGrp="1"/>
          </p:cNvSpPr>
          <p:nvPr>
            <p:ph/>
          </p:nvPr>
        </p:nvSpPr>
        <p:spPr>
          <a:xfrm>
            <a:off x="456840" y="2666880"/>
            <a:ext cx="3809880" cy="228600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getting can occur at any memory stage. We filter, alter, or lose much information during these stages.</a:t>
            </a:r>
            <a:endParaRPr b="0" lang="en-US" sz="2800" spc="-1" strike="noStrike">
              <a:solidFill>
                <a:srgbClr val="000000"/>
              </a:solidFill>
              <a:latin typeface="Times New Roman"/>
            </a:endParaRPr>
          </a:p>
        </p:txBody>
      </p:sp>
      <p:pic>
        <p:nvPicPr>
          <p:cNvPr id="704" name="" descr=""/>
          <p:cNvPicPr/>
          <p:nvPr/>
        </p:nvPicPr>
        <p:blipFill>
          <a:blip r:embed="rId1"/>
          <a:stretch/>
        </p:blipFill>
        <p:spPr>
          <a:xfrm>
            <a:off x="5054760" y="1523880"/>
            <a:ext cx="3495600" cy="4800600"/>
          </a:xfrm>
          <a:prstGeom prst="rect">
            <a:avLst/>
          </a:prstGeom>
          <a:ln w="0">
            <a:noFill/>
          </a:ln>
        </p:spPr>
      </p:pic>
      <p:sp>
        <p:nvSpPr>
          <p:cNvPr id="4" name="PlaceHolder 3"/>
          <p:cNvSpPr>
            <a:spLocks noGrp="1"/>
          </p:cNvSpPr>
          <p:nvPr>
            <p:ph type="sldNum" idx="3"/>
          </p:nvPr>
        </p:nvSpPr>
        <p:spPr/>
        <p:txBody>
          <a:bodyPr/>
          <a:p>
            <a:fld id="{A4779145-5ECC-451C-85B0-DCDD27917B63}"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Construction</a:t>
            </a:r>
            <a:endParaRPr b="0" lang="en-US" sz="4000" spc="-1" strike="noStrike">
              <a:solidFill>
                <a:srgbClr val="000000"/>
              </a:solidFill>
              <a:latin typeface="Times New Roman"/>
            </a:endParaRPr>
          </a:p>
        </p:txBody>
      </p:sp>
      <p:sp>
        <p:nvSpPr>
          <p:cNvPr id="706" name="PlaceHolder 2"/>
          <p:cNvSpPr>
            <a:spLocks noGrp="1"/>
          </p:cNvSpPr>
          <p:nvPr>
            <p:ph/>
          </p:nvPr>
        </p:nvSpPr>
        <p:spPr>
          <a:xfrm>
            <a:off x="671400" y="1676520"/>
            <a:ext cx="7772400" cy="1752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ile tapping our memories, we filter or fill in missing pieces of information to make our recall more coherent.</a:t>
            </a:r>
            <a:endParaRPr b="0" lang="en-US" sz="2800" spc="-1" strike="noStrike">
              <a:solidFill>
                <a:srgbClr val="000000"/>
              </a:solidFill>
              <a:latin typeface="Times New Roman"/>
            </a:endParaRPr>
          </a:p>
        </p:txBody>
      </p:sp>
      <p:sp>
        <p:nvSpPr>
          <p:cNvPr id="707" name=""/>
          <p:cNvSpPr/>
          <p:nvPr/>
        </p:nvSpPr>
        <p:spPr>
          <a:xfrm>
            <a:off x="671400" y="3886200"/>
            <a:ext cx="77724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isinformation Effect:</a:t>
            </a:r>
            <a:r>
              <a:rPr b="0" lang="en-US" sz="2800" spc="-1" strike="noStrike">
                <a:solidFill>
                  <a:srgbClr val="6600cc"/>
                </a:solidFill>
                <a:latin typeface="Palatino Linotype"/>
              </a:rPr>
              <a:t> </a:t>
            </a:r>
            <a:r>
              <a:rPr b="0" lang="en-US" sz="2800" spc="-1" strike="noStrike">
                <a:solidFill>
                  <a:srgbClr val="000000"/>
                </a:solidFill>
                <a:latin typeface="Palatino Linotype"/>
              </a:rPr>
              <a:t>Incorporating misleading information into one's memory of an ev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8769C1-9EAF-4333-91BB-E088D301A91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609480" y="1647720"/>
            <a:ext cx="7925040" cy="8668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yewitnesses reconstruct their memories when questioned about the event.</a:t>
            </a:r>
            <a:endParaRPr b="0" lang="en-US" sz="2800" spc="-1" strike="noStrike">
              <a:solidFill>
                <a:srgbClr val="000000"/>
              </a:solidFill>
              <a:latin typeface="Times New Roman"/>
            </a:endParaRPr>
          </a:p>
        </p:txBody>
      </p:sp>
      <p:pic>
        <p:nvPicPr>
          <p:cNvPr id="709" name="" descr=""/>
          <p:cNvPicPr/>
          <p:nvPr/>
        </p:nvPicPr>
        <p:blipFill>
          <a:blip r:embed="rId1"/>
          <a:stretch/>
        </p:blipFill>
        <p:spPr>
          <a:xfrm>
            <a:off x="1300320" y="2867040"/>
            <a:ext cx="6514920" cy="2738520"/>
          </a:xfrm>
          <a:prstGeom prst="rect">
            <a:avLst/>
          </a:prstGeom>
          <a:ln w="0">
            <a:noFill/>
          </a:ln>
        </p:spPr>
      </p:pic>
      <p:sp>
        <p:nvSpPr>
          <p:cNvPr id="710" name="PlaceHolder 2"/>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Misinformation and Imagination Effects </a:t>
            </a:r>
            <a:endParaRPr b="0" lang="en-US" sz="3600" spc="-1" strike="noStrike">
              <a:solidFill>
                <a:srgbClr val="000000"/>
              </a:solidFill>
              <a:latin typeface="Times New Roman"/>
            </a:endParaRPr>
          </a:p>
        </p:txBody>
      </p:sp>
      <p:sp>
        <p:nvSpPr>
          <p:cNvPr id="711" name=""/>
          <p:cNvSpPr/>
          <p:nvPr/>
        </p:nvSpPr>
        <p:spPr>
          <a:xfrm>
            <a:off x="2179800" y="5979960"/>
            <a:ext cx="48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piction of the actual accid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12507D-7506-43D6-9244-B025128A2F5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isinformation</a:t>
            </a:r>
            <a:endParaRPr b="0" lang="en-US" sz="4000" spc="-1" strike="noStrike">
              <a:solidFill>
                <a:srgbClr val="000000"/>
              </a:solidFill>
              <a:latin typeface="Times New Roman"/>
            </a:endParaRPr>
          </a:p>
        </p:txBody>
      </p:sp>
      <p:sp>
        <p:nvSpPr>
          <p:cNvPr id="713" name="PlaceHolder 2"/>
          <p:cNvSpPr>
            <a:spLocks noGrp="1"/>
          </p:cNvSpPr>
          <p:nvPr>
            <p:ph/>
          </p:nvPr>
        </p:nvSpPr>
        <p:spPr>
          <a:xfrm>
            <a:off x="1290600" y="1600200"/>
            <a:ext cx="6572160" cy="2666880"/>
          </a:xfrm>
          <a:prstGeom prst="rect">
            <a:avLst/>
          </a:prstGeom>
          <a:noFill/>
          <a:ln w="0">
            <a:noFill/>
          </a:ln>
        </p:spPr>
        <p:txBody>
          <a:bodyPr lIns="90000" rIns="90000" tIns="46800" bIns="46800" anchor="t">
            <a:normAutofit fontScale="98000"/>
          </a:bodyPr>
          <a:p>
            <a:pPr marL="1564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roup A: How fast were the cars going when they </a:t>
            </a:r>
            <a:r>
              <a:rPr b="1" i="1" lang="en-US" sz="2800" spc="-1" strike="noStrike">
                <a:solidFill>
                  <a:srgbClr val="000000"/>
                </a:solidFill>
                <a:latin typeface="Palatino Linotype"/>
              </a:rPr>
              <a:t>hit</a:t>
            </a:r>
            <a:r>
              <a:rPr b="0" lang="en-US" sz="2800" spc="-1" strike="noStrike">
                <a:solidFill>
                  <a:srgbClr val="000000"/>
                </a:solidFill>
                <a:latin typeface="Palatino Linotype"/>
              </a:rPr>
              <a:t> each other?</a:t>
            </a:r>
            <a:endParaRPr b="0" lang="en-US" sz="2800" spc="-1" strike="noStrike">
              <a:solidFill>
                <a:srgbClr val="000000"/>
              </a:solidFill>
              <a:latin typeface="Times New Roman"/>
            </a:endParaRPr>
          </a:p>
          <a:p>
            <a:pPr marL="1564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564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roup B: How fast were the cars going when they </a:t>
            </a:r>
            <a:r>
              <a:rPr b="1" i="1" lang="en-US" sz="2800" spc="-1" strike="noStrike">
                <a:solidFill>
                  <a:srgbClr val="000000"/>
                </a:solidFill>
                <a:latin typeface="Palatino Linotype"/>
              </a:rPr>
              <a:t>smashed into</a:t>
            </a:r>
            <a:r>
              <a:rPr b="0" lang="en-US" sz="2800" spc="-1" strike="noStrike">
                <a:solidFill>
                  <a:srgbClr val="000000"/>
                </a:solidFill>
                <a:latin typeface="Palatino Linotype"/>
              </a:rPr>
              <a:t> each oth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1CD585-6041-468D-884F-60AE3016A9F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4" name="" descr=""/>
          <p:cNvPicPr/>
          <p:nvPr/>
        </p:nvPicPr>
        <p:blipFill>
          <a:blip r:embed="rId1"/>
          <a:stretch/>
        </p:blipFill>
        <p:spPr>
          <a:xfrm>
            <a:off x="4876920" y="3429000"/>
            <a:ext cx="3970080" cy="1898640"/>
          </a:xfrm>
          <a:prstGeom prst="rect">
            <a:avLst/>
          </a:prstGeom>
          <a:ln w="0">
            <a:noFill/>
          </a:ln>
        </p:spPr>
      </p:pic>
      <p:sp>
        <p:nvSpPr>
          <p:cNvPr id="71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Construction</a:t>
            </a:r>
            <a:endParaRPr b="0" lang="en-US" sz="4000" spc="-1" strike="noStrike">
              <a:solidFill>
                <a:srgbClr val="000000"/>
              </a:solidFill>
              <a:latin typeface="Times New Roman"/>
            </a:endParaRPr>
          </a:p>
        </p:txBody>
      </p:sp>
      <p:sp>
        <p:nvSpPr>
          <p:cNvPr id="716" name=""/>
          <p:cNvSpPr/>
          <p:nvPr/>
        </p:nvSpPr>
        <p:spPr>
          <a:xfrm>
            <a:off x="609480" y="1585800"/>
            <a:ext cx="79250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week later they were asked: Was there any broken glass? </a:t>
            </a:r>
            <a:r>
              <a:rPr b="0" lang="en-US" sz="2800" spc="-1" strike="noStrike">
                <a:solidFill>
                  <a:srgbClr val="0000ff"/>
                </a:solidFill>
                <a:latin typeface="Palatino Linotype"/>
              </a:rPr>
              <a:t>Group B (</a:t>
            </a:r>
            <a:r>
              <a:rPr b="0" i="1" lang="en-US" sz="2800" spc="-1" strike="noStrike">
                <a:solidFill>
                  <a:srgbClr val="0000ff"/>
                </a:solidFill>
                <a:latin typeface="Palatino Linotype"/>
              </a:rPr>
              <a:t>smashed into)</a:t>
            </a:r>
            <a:r>
              <a:rPr b="0" lang="en-US" sz="2800" spc="-1" strike="noStrike">
                <a:solidFill>
                  <a:srgbClr val="000000"/>
                </a:solidFill>
                <a:latin typeface="Palatino Linotype"/>
              </a:rPr>
              <a:t> reported more broken glass than </a:t>
            </a:r>
            <a:r>
              <a:rPr b="0" lang="en-US" sz="2800" spc="-1" strike="noStrike">
                <a:solidFill>
                  <a:srgbClr val="0000ff"/>
                </a:solidFill>
                <a:latin typeface="Palatino Linotype"/>
              </a:rPr>
              <a:t>Group A (</a:t>
            </a:r>
            <a:r>
              <a:rPr b="0" i="1" lang="en-US" sz="2800" spc="-1" strike="noStrike">
                <a:solidFill>
                  <a:srgbClr val="0000ff"/>
                </a:solidFill>
                <a:latin typeface="Palatino Linotype"/>
              </a:rPr>
              <a:t>hit</a:t>
            </a:r>
            <a:r>
              <a:rPr b="0" lang="en-US" sz="2800" spc="-1" strike="noStrike">
                <a:solidFill>
                  <a:srgbClr val="0000ff"/>
                </a:solidFill>
                <a:latin typeface="Palatino Linotype"/>
              </a:rPr>
              <a:t>)</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graphicFrame>
        <p:nvGraphicFramePr>
          <p:cNvPr id="717" name=""/>
          <p:cNvGraphicFramePr/>
          <p:nvPr/>
        </p:nvGraphicFramePr>
        <p:xfrm>
          <a:off x="304920" y="3598920"/>
          <a:ext cx="4078080" cy="2089080"/>
        </p:xfrm>
        <a:graphic>
          <a:graphicData uri="http://schemas.openxmlformats.org/presentationml/2006/ole">
            <p:oleObj progId="Excel.Sheet.12" r:id="rId2" spid="">
              <p:embed/>
              <p:pic>
                <p:nvPicPr>
                  <p:cNvPr id="718" name="" descr=""/>
                  <p:cNvPicPr/>
                  <p:nvPr/>
                </p:nvPicPr>
                <p:blipFill>
                  <a:blip r:embed="rId3"/>
                  <a:stretch/>
                </p:blipFill>
                <p:spPr>
                  <a:xfrm>
                    <a:off x="304920" y="3598920"/>
                    <a:ext cx="4078080" cy="2089080"/>
                  </a:xfrm>
                  <a:prstGeom prst="rect">
                    <a:avLst/>
                  </a:prstGeom>
                  <a:ln w="0">
                    <a:noFill/>
                  </a:ln>
                </p:spPr>
              </p:pic>
            </p:oleObj>
          </a:graphicData>
        </a:graphic>
      </p:graphicFrame>
      <p:sp>
        <p:nvSpPr>
          <p:cNvPr id="3" name="PlaceHolder 2"/>
          <p:cNvSpPr>
            <a:spLocks noGrp="1"/>
          </p:cNvSpPr>
          <p:nvPr>
            <p:ph type="sldNum" idx="3"/>
          </p:nvPr>
        </p:nvSpPr>
        <p:spPr/>
        <p:txBody>
          <a:bodyPr/>
          <a:p>
            <a:fld id="{964DC224-0DE8-4863-BC55-40A71C98DD6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urce Amnesia</a:t>
            </a:r>
            <a:endParaRPr b="0" lang="en-US" sz="4000" spc="-1" strike="noStrike">
              <a:solidFill>
                <a:srgbClr val="000000"/>
              </a:solidFill>
              <a:latin typeface="Times New Roman"/>
            </a:endParaRPr>
          </a:p>
        </p:txBody>
      </p:sp>
      <p:sp>
        <p:nvSpPr>
          <p:cNvPr id="720" name=""/>
          <p:cNvSpPr/>
          <p:nvPr/>
        </p:nvSpPr>
        <p:spPr>
          <a:xfrm>
            <a:off x="685800" y="1600200"/>
            <a:ext cx="7772400" cy="1828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ource Amnesia:</a:t>
            </a:r>
            <a:r>
              <a:rPr b="0" lang="en-US" sz="2800" spc="-1" strike="noStrike">
                <a:solidFill>
                  <a:srgbClr val="6600cc"/>
                </a:solidFill>
                <a:latin typeface="Palatino Linotype"/>
              </a:rPr>
              <a:t> </a:t>
            </a:r>
            <a:r>
              <a:rPr b="0" lang="en-US" sz="2800" spc="-1" strike="noStrike">
                <a:solidFill>
                  <a:srgbClr val="000000"/>
                </a:solidFill>
                <a:latin typeface="Palatino Linotype"/>
              </a:rPr>
              <a:t>Attributing an event to the wrong source that we experienced, heard, read, or imagined (misattribu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4A688BF-C639-4139-8670-FA0B895CC0F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671400" y="1599840"/>
            <a:ext cx="7772400" cy="2438280"/>
          </a:xfrm>
          <a:prstGeom prst="rect">
            <a:avLst/>
          </a:prstGeom>
          <a:noFill/>
          <a:ln w="0">
            <a:noFill/>
          </a:ln>
        </p:spPr>
        <p:txBody>
          <a:bodyPr lIns="90000" rIns="90000" tIns="46800" bIns="46800" anchor="t">
            <a:normAutofit fontScale="95000"/>
          </a:bodyPr>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ildren’s eyewitness recall can be unreliable if leading questions are posed. However, if cognitive interviews are neutrally worded, the accuracy of their recall increases.  In cases of sexual abuse, this usually suggests a lower percentage of abuse.</a:t>
            </a:r>
            <a:endParaRPr b="0" lang="en-US" sz="2800" spc="-1" strike="noStrike">
              <a:solidFill>
                <a:srgbClr val="000000"/>
              </a:solidFill>
              <a:latin typeface="Times New Roman"/>
            </a:endParaRPr>
          </a:p>
        </p:txBody>
      </p:sp>
      <p:sp>
        <p:nvSpPr>
          <p:cNvPr id="722" name="PlaceHolder 2"/>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ildren’s Eyewitness Recall</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B6DEAA72-C5FA-445D-93DB-D326D60CDFA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671400" y="1599840"/>
            <a:ext cx="7772400" cy="4876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re memories of abuse repressed or constructed?</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ny psychotherapists believe that early childhood sexual abuse results in repressed memorie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ever, other psychologists question such beliefs and think that such memories may be constructed.</a:t>
            </a:r>
            <a:endParaRPr b="0" lang="en-US" sz="2800" spc="-1" strike="noStrike">
              <a:solidFill>
                <a:srgbClr val="000000"/>
              </a:solidFill>
              <a:latin typeface="Times New Roman"/>
            </a:endParaRPr>
          </a:p>
        </p:txBody>
      </p:sp>
      <p:sp>
        <p:nvSpPr>
          <p:cNvPr id="724" name="PlaceHolder 2"/>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ies of Abuse</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537DC7CE-1301-48E8-B9D1-AD72000A4FC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henomenon of Memory</a:t>
            </a:r>
            <a:endParaRPr b="0" lang="en-US" sz="4000" spc="-1" strike="noStrike">
              <a:solidFill>
                <a:srgbClr val="000000"/>
              </a:solidFill>
              <a:latin typeface="Times New Roman"/>
            </a:endParaRPr>
          </a:p>
        </p:txBody>
      </p:sp>
      <p:sp>
        <p:nvSpPr>
          <p:cNvPr id="62" name="PlaceHolder 2"/>
          <p:cNvSpPr>
            <a:spLocks noGrp="1"/>
          </p:cNvSpPr>
          <p:nvPr>
            <p:ph/>
          </p:nvPr>
        </p:nvSpPr>
        <p:spPr>
          <a:xfrm>
            <a:off x="595080" y="1599840"/>
            <a:ext cx="7924680" cy="28954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y is any indication that learning has persisted over time. It is our ability to store and retrieve inform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C772A5-094F-4923-82E3-5306FF9BA0D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structed Memories</a:t>
            </a:r>
            <a:endParaRPr b="0" lang="en-US" sz="4000" spc="-1" strike="noStrike">
              <a:solidFill>
                <a:srgbClr val="000000"/>
              </a:solidFill>
              <a:latin typeface="Times New Roman"/>
            </a:endParaRPr>
          </a:p>
        </p:txBody>
      </p:sp>
      <p:sp>
        <p:nvSpPr>
          <p:cNvPr id="726" name="PlaceHolder 2"/>
          <p:cNvSpPr>
            <a:spLocks noGrp="1"/>
          </p:cNvSpPr>
          <p:nvPr>
            <p:ph/>
          </p:nvPr>
        </p:nvSpPr>
        <p:spPr>
          <a:xfrm>
            <a:off x="595080" y="1600200"/>
            <a:ext cx="792468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ftus’ research shows that if false memories (lost at the mall or drowned in a lake) are implanted in individuals, they construct (fabricate) their memories.</a:t>
            </a:r>
            <a:endParaRPr b="0" lang="en-US" sz="2800" spc="-1" strike="noStrike">
              <a:solidFill>
                <a:srgbClr val="000000"/>
              </a:solidFill>
              <a:latin typeface="Times New Roman"/>
            </a:endParaRPr>
          </a:p>
        </p:txBody>
      </p:sp>
      <p:pic>
        <p:nvPicPr>
          <p:cNvPr id="727" name="" descr=""/>
          <p:cNvPicPr/>
          <p:nvPr/>
        </p:nvPicPr>
        <p:blipFill>
          <a:blip r:embed="rId1"/>
          <a:stretch/>
        </p:blipFill>
        <p:spPr>
          <a:xfrm>
            <a:off x="2233440" y="3460680"/>
            <a:ext cx="4648320" cy="3168720"/>
          </a:xfrm>
          <a:prstGeom prst="rect">
            <a:avLst/>
          </a:prstGeom>
          <a:ln w="0">
            <a:noFill/>
          </a:ln>
        </p:spPr>
      </p:pic>
      <p:sp>
        <p:nvSpPr>
          <p:cNvPr id="728" name=""/>
          <p:cNvSpPr/>
          <p:nvPr/>
        </p:nvSpPr>
        <p:spPr>
          <a:xfrm rot="5400000">
            <a:off x="6490800" y="6080760"/>
            <a:ext cx="97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 Shrubshell</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E5246E4B-677D-45DB-BDF4-97118FDB181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onsensus on Childhood Abuse</a:t>
            </a:r>
            <a:endParaRPr b="0" lang="en-US" sz="3600" spc="-1" strike="noStrike">
              <a:solidFill>
                <a:srgbClr val="000000"/>
              </a:solidFill>
              <a:latin typeface="Times New Roman"/>
            </a:endParaRPr>
          </a:p>
        </p:txBody>
      </p:sp>
      <p:sp>
        <p:nvSpPr>
          <p:cNvPr id="730" name="PlaceHolder 2"/>
          <p:cNvSpPr>
            <a:spLocks noGrp="1"/>
          </p:cNvSpPr>
          <p:nvPr>
            <p:ph/>
          </p:nvPr>
        </p:nvSpPr>
        <p:spPr>
          <a:xfrm>
            <a:off x="685800" y="2514240"/>
            <a:ext cx="7772400" cy="3886200"/>
          </a:xfrm>
          <a:prstGeom prst="rect">
            <a:avLst/>
          </a:prstGeom>
          <a:noFill/>
          <a:ln w="0">
            <a:noFill/>
          </a:ln>
        </p:spPr>
        <p:txBody>
          <a:bodyPr lIns="90000" rIns="90000" tIns="46800" bIns="46800" anchor="t">
            <a:normAutofit/>
          </a:bodyPr>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justice happens.</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est and other sexual abuse happen.</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ople may forget.</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covered memories are commonplace.</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covered memories under hypnosis or drugs are unreliable.</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emories of things happening before 3 years of age are unreliable.</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emories, whether real or false, are emotionally upsetting.</a:t>
            </a:r>
            <a:endParaRPr b="0" lang="en-US" sz="2400" spc="-1" strike="noStrike">
              <a:solidFill>
                <a:srgbClr val="000000"/>
              </a:solidFill>
              <a:latin typeface="Times New Roman"/>
            </a:endParaRPr>
          </a:p>
        </p:txBody>
      </p:sp>
      <p:sp>
        <p:nvSpPr>
          <p:cNvPr id="731" name=""/>
          <p:cNvSpPr/>
          <p:nvPr/>
        </p:nvSpPr>
        <p:spPr>
          <a:xfrm>
            <a:off x="582120" y="1609560"/>
            <a:ext cx="7965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ading psychological associations of the world agre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n the following concerning childhood sexual abu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27F15E-EBBB-4AD0-81D8-0E56C664C32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mproving Memory</a:t>
            </a:r>
            <a:endParaRPr b="0" lang="en-US" sz="4000" spc="-1" strike="noStrike">
              <a:solidFill>
                <a:srgbClr val="000000"/>
              </a:solidFill>
              <a:latin typeface="Times New Roman"/>
            </a:endParaRPr>
          </a:p>
        </p:txBody>
      </p:sp>
      <p:sp>
        <p:nvSpPr>
          <p:cNvPr id="733" name="PlaceHolder 2"/>
          <p:cNvSpPr>
            <a:spLocks noGrp="1"/>
          </p:cNvSpPr>
          <p:nvPr>
            <p:ph/>
          </p:nvPr>
        </p:nvSpPr>
        <p:spPr>
          <a:xfrm>
            <a:off x="685800" y="1585800"/>
            <a:ext cx="7772400" cy="46627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udy repeatedly to boost long-term recal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pend more time rehearsing or actively thinking about the materia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ke material personally meaningfu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Use mnemonic devices:</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ssociate with peg words — something already stored</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ake up a story</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hunk — acrony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749E49-065E-4564-82D2-D9BD176A749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mproving Memory</a:t>
            </a:r>
            <a:endParaRPr b="0" lang="en-US" sz="4000" spc="-1" strike="noStrike">
              <a:solidFill>
                <a:srgbClr val="000000"/>
              </a:solidFill>
              <a:latin typeface="Times New Roman"/>
            </a:endParaRPr>
          </a:p>
        </p:txBody>
      </p:sp>
      <p:sp>
        <p:nvSpPr>
          <p:cNvPr id="735" name="PlaceHolder 2"/>
          <p:cNvSpPr>
            <a:spLocks noGrp="1"/>
          </p:cNvSpPr>
          <p:nvPr>
            <p:ph/>
          </p:nvPr>
        </p:nvSpPr>
        <p:spPr>
          <a:xfrm>
            <a:off x="595080" y="1600200"/>
            <a:ext cx="7924680" cy="4191120"/>
          </a:xfrm>
          <a:prstGeom prst="rect">
            <a:avLst/>
          </a:prstGeom>
          <a:noFill/>
          <a:ln w="0">
            <a:noFill/>
          </a:ln>
        </p:spPr>
        <p:txBody>
          <a:bodyPr lIns="90000" rIns="90000" tIns="46800" bIns="46800" anchor="t">
            <a:normAutofit/>
          </a:bodyPr>
          <a:p>
            <a:pPr marL="609480" indent="-609480">
              <a:lnSpc>
                <a:spcPct val="110000"/>
              </a:lnSpc>
              <a:buClr>
                <a:srgbClr val="000000"/>
              </a:buClr>
              <a:buFont typeface="Palatino Linotyp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ctivate retrieval cues — mentally recreate the situation and mood.</a:t>
            </a:r>
            <a:endParaRPr b="0" lang="en-US" sz="2800" spc="-1" strike="noStrike">
              <a:solidFill>
                <a:srgbClr val="000000"/>
              </a:solidFill>
              <a:latin typeface="Times New Roman"/>
            </a:endParaRPr>
          </a:p>
          <a:p>
            <a:pPr marL="609480" indent="-609480">
              <a:lnSpc>
                <a:spcPct val="110000"/>
              </a:lnSpc>
              <a:buClr>
                <a:srgbClr val="000000"/>
              </a:buClr>
              <a:buFont typeface="Palatino Linotyp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call events while they are fresh — before you encounter misinformation.</a:t>
            </a:r>
            <a:endParaRPr b="0" lang="en-US" sz="2800" spc="-1" strike="noStrike">
              <a:solidFill>
                <a:srgbClr val="000000"/>
              </a:solidFill>
              <a:latin typeface="Times New Roman"/>
            </a:endParaRPr>
          </a:p>
          <a:p>
            <a:pPr marL="609480" indent="-609480">
              <a:lnSpc>
                <a:spcPct val="110000"/>
              </a:lnSpc>
              <a:buClr>
                <a:srgbClr val="000000"/>
              </a:buClr>
              <a:buFont typeface="Palatino Linotyp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inimize interference:</a:t>
            </a:r>
            <a:endParaRPr b="0" lang="en-US" sz="2800" spc="-1" strike="noStrike">
              <a:solidFill>
                <a:srgbClr val="000000"/>
              </a:solidFill>
              <a:latin typeface="Times New Roman"/>
            </a:endParaRPr>
          </a:p>
          <a:p>
            <a:pPr lvl="1" marL="1271520" indent="-533160">
              <a:lnSpc>
                <a:spcPct val="11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est your own knowledge.</a:t>
            </a:r>
            <a:endParaRPr b="0" lang="en-US" sz="2400" spc="-1" strike="noStrike">
              <a:solidFill>
                <a:srgbClr val="000000"/>
              </a:solidFill>
              <a:latin typeface="Times New Roman"/>
            </a:endParaRPr>
          </a:p>
          <a:p>
            <a:pPr lvl="1" marL="1271520" indent="-533160">
              <a:lnSpc>
                <a:spcPct val="11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hearse and then determine what you do not yet know.</a:t>
            </a:r>
            <a:endParaRPr b="0" lang="en-US" sz="2400" spc="-1" strike="noStrike">
              <a:solidFill>
                <a:srgbClr val="000000"/>
              </a:solidFill>
              <a:latin typeface="Times New Roman"/>
            </a:endParaRPr>
          </a:p>
        </p:txBody>
      </p:sp>
      <p:pic>
        <p:nvPicPr>
          <p:cNvPr id="736" name="" descr=""/>
          <p:cNvPicPr/>
          <p:nvPr/>
        </p:nvPicPr>
        <p:blipFill>
          <a:blip r:embed="rId1"/>
          <a:stretch/>
        </p:blipFill>
        <p:spPr>
          <a:xfrm>
            <a:off x="3319560" y="4952880"/>
            <a:ext cx="2476440" cy="1652760"/>
          </a:xfrm>
          <a:prstGeom prst="rect">
            <a:avLst/>
          </a:prstGeom>
          <a:ln w="0">
            <a:noFill/>
          </a:ln>
        </p:spPr>
      </p:pic>
      <p:sp>
        <p:nvSpPr>
          <p:cNvPr id="737" name=""/>
          <p:cNvSpPr/>
          <p:nvPr/>
        </p:nvSpPr>
        <p:spPr>
          <a:xfrm rot="5400000">
            <a:off x="5055120" y="5689800"/>
            <a:ext cx="1713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LWA-Dann Tardiff/ Corb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81DA4BA9-BF69-4149-97ED-1B6ED737D518}" type="slidenum">
              <a:t>83</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udying Memory: </a:t>
            </a:r>
            <a:br>
              <a:rPr sz="4000"/>
            </a:br>
            <a:r>
              <a:rPr b="0" lang="en-US" sz="4000" spc="-1" strike="noStrike">
                <a:solidFill>
                  <a:srgbClr val="000000"/>
                </a:solidFill>
                <a:latin typeface="Palatino Linotype"/>
              </a:rPr>
              <a:t>Information Processing Models</a:t>
            </a:r>
            <a:endParaRPr b="0" lang="en-US" sz="4000" spc="-1" strike="noStrike">
              <a:solidFill>
                <a:srgbClr val="000000"/>
              </a:solidFill>
              <a:latin typeface="Times New Roman"/>
            </a:endParaRPr>
          </a:p>
        </p:txBody>
      </p:sp>
      <p:sp>
        <p:nvSpPr>
          <p:cNvPr id="64" name=""/>
          <p:cNvSpPr/>
          <p:nvPr/>
        </p:nvSpPr>
        <p:spPr>
          <a:xfrm>
            <a:off x="2177280" y="556740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Keybo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Encoding)</a:t>
            </a:r>
            <a:endParaRPr b="0" lang="en-US" sz="1800" spc="-1" strike="noStrike">
              <a:solidFill>
                <a:srgbClr val="000000"/>
              </a:solidFill>
              <a:latin typeface="Times New Roman"/>
            </a:endParaRPr>
          </a:p>
        </p:txBody>
      </p:sp>
      <p:sp>
        <p:nvSpPr>
          <p:cNvPr id="65" name=""/>
          <p:cNvSpPr/>
          <p:nvPr/>
        </p:nvSpPr>
        <p:spPr>
          <a:xfrm>
            <a:off x="3973320" y="5562720"/>
            <a:ext cx="115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Dis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Storage)</a:t>
            </a:r>
            <a:endParaRPr b="0" lang="en-US" sz="1800" spc="-1" strike="noStrike">
              <a:solidFill>
                <a:srgbClr val="000000"/>
              </a:solidFill>
              <a:latin typeface="Times New Roman"/>
            </a:endParaRPr>
          </a:p>
        </p:txBody>
      </p:sp>
      <p:sp>
        <p:nvSpPr>
          <p:cNvPr id="66" name=""/>
          <p:cNvSpPr/>
          <p:nvPr/>
        </p:nvSpPr>
        <p:spPr>
          <a:xfrm>
            <a:off x="5695560" y="5543640"/>
            <a:ext cx="1326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oni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trieval)</a:t>
            </a:r>
            <a:endParaRPr b="0" lang="en-US" sz="1800" spc="-1" strike="noStrike">
              <a:solidFill>
                <a:srgbClr val="000000"/>
              </a:solidFill>
              <a:latin typeface="Times New Roman"/>
            </a:endParaRPr>
          </a:p>
        </p:txBody>
      </p:sp>
      <p:grpSp>
        <p:nvGrpSpPr>
          <p:cNvPr id="67" name=""/>
          <p:cNvGrpSpPr/>
          <p:nvPr/>
        </p:nvGrpSpPr>
        <p:grpSpPr>
          <a:xfrm>
            <a:off x="2133720" y="3822480"/>
            <a:ext cx="4876200" cy="1761120"/>
            <a:chOff x="2133720" y="3822480"/>
            <a:chExt cx="4876200" cy="1761120"/>
          </a:xfrm>
        </p:grpSpPr>
        <p:pic>
          <p:nvPicPr>
            <p:cNvPr id="68" name="" descr=""/>
            <p:cNvPicPr/>
            <p:nvPr/>
          </p:nvPicPr>
          <p:blipFill>
            <a:blip r:embed="rId1"/>
            <a:stretch/>
          </p:blipFill>
          <p:spPr>
            <a:xfrm>
              <a:off x="2133720" y="4635000"/>
              <a:ext cx="1427040" cy="940320"/>
            </a:xfrm>
            <a:prstGeom prst="rect">
              <a:avLst/>
            </a:prstGeom>
            <a:ln w="0">
              <a:noFill/>
            </a:ln>
          </p:spPr>
        </p:pic>
        <p:pic>
          <p:nvPicPr>
            <p:cNvPr id="69" name="" descr=""/>
            <p:cNvPicPr/>
            <p:nvPr/>
          </p:nvPicPr>
          <p:blipFill>
            <a:blip r:embed="rId2"/>
            <a:stretch/>
          </p:blipFill>
          <p:spPr>
            <a:xfrm>
              <a:off x="5582880" y="4575240"/>
              <a:ext cx="1427040" cy="1008360"/>
            </a:xfrm>
            <a:prstGeom prst="rect">
              <a:avLst/>
            </a:prstGeom>
            <a:ln w="0">
              <a:noFill/>
            </a:ln>
          </p:spPr>
        </p:pic>
        <p:grpSp>
          <p:nvGrpSpPr>
            <p:cNvPr id="70" name=""/>
            <p:cNvGrpSpPr/>
            <p:nvPr/>
          </p:nvGrpSpPr>
          <p:grpSpPr>
            <a:xfrm>
              <a:off x="3987000" y="3822480"/>
              <a:ext cx="747360" cy="1749600"/>
              <a:chOff x="3987000" y="3822480"/>
              <a:chExt cx="747360" cy="1749600"/>
            </a:xfrm>
          </p:grpSpPr>
          <p:sp>
            <p:nvSpPr>
              <p:cNvPr id="71" name=""/>
              <p:cNvSpPr/>
              <p:nvPr/>
            </p:nvSpPr>
            <p:spPr>
              <a:xfrm>
                <a:off x="3991680" y="3828240"/>
                <a:ext cx="737640" cy="488160"/>
              </a:xfrm>
              <a:custGeom>
                <a:avLst/>
                <a:gdLst/>
                <a:ahLst/>
                <a:rect l="l" t="t" r="r" b="b"/>
                <a:pathLst>
                  <a:path w="1816" h="1201">
                    <a:moveTo>
                      <a:pt x="0" y="1005"/>
                    </a:moveTo>
                    <a:lnTo>
                      <a:pt x="877" y="0"/>
                    </a:lnTo>
                    <a:lnTo>
                      <a:pt x="1816" y="66"/>
                    </a:lnTo>
                    <a:lnTo>
                      <a:pt x="991" y="1201"/>
                    </a:lnTo>
                    <a:lnTo>
                      <a:pt x="0" y="1005"/>
                    </a:lnTo>
                    <a:lnTo>
                      <a:pt x="0" y="1005"/>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23360" y="3876480"/>
                <a:ext cx="702720" cy="1686960"/>
              </a:xfrm>
              <a:custGeom>
                <a:avLst/>
                <a:gdLst/>
                <a:ahLst/>
                <a:rect l="l" t="t" r="r" b="b"/>
                <a:pathLst>
                  <a:path w="1730" h="4146">
                    <a:moveTo>
                      <a:pt x="0" y="928"/>
                    </a:moveTo>
                    <a:lnTo>
                      <a:pt x="930" y="1046"/>
                    </a:lnTo>
                    <a:lnTo>
                      <a:pt x="1730" y="0"/>
                    </a:lnTo>
                    <a:lnTo>
                      <a:pt x="1722" y="2772"/>
                    </a:lnTo>
                    <a:lnTo>
                      <a:pt x="926" y="4146"/>
                    </a:lnTo>
                    <a:lnTo>
                      <a:pt x="873" y="1745"/>
                    </a:lnTo>
                    <a:lnTo>
                      <a:pt x="50" y="1609"/>
                    </a:lnTo>
                    <a:lnTo>
                      <a:pt x="0" y="928"/>
                    </a:lnTo>
                    <a:lnTo>
                      <a:pt x="0" y="928"/>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074480" y="4286520"/>
                <a:ext cx="291960" cy="248040"/>
              </a:xfrm>
              <a:custGeom>
                <a:avLst/>
                <a:gdLst/>
                <a:ahLst/>
                <a:rect l="l" t="t" r="r" b="b"/>
                <a:pathLst>
                  <a:path w="716" h="610">
                    <a:moveTo>
                      <a:pt x="0" y="0"/>
                    </a:moveTo>
                    <a:lnTo>
                      <a:pt x="15" y="502"/>
                    </a:lnTo>
                    <a:lnTo>
                      <a:pt x="716" y="610"/>
                    </a:lnTo>
                    <a:lnTo>
                      <a:pt x="688" y="74"/>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087800" y="4380840"/>
                <a:ext cx="273960" cy="55080"/>
              </a:xfrm>
              <a:custGeom>
                <a:avLst/>
                <a:gdLst/>
                <a:ahLst/>
                <a:rect l="l" t="t" r="r" b="b"/>
                <a:pathLst>
                  <a:path w="673" h="135">
                    <a:moveTo>
                      <a:pt x="13" y="49"/>
                    </a:moveTo>
                    <a:lnTo>
                      <a:pt x="673" y="135"/>
                    </a:lnTo>
                    <a:lnTo>
                      <a:pt x="671" y="93"/>
                    </a:lnTo>
                    <a:lnTo>
                      <a:pt x="0" y="0"/>
                    </a:lnTo>
                    <a:lnTo>
                      <a:pt x="13" y="49"/>
                    </a:lnTo>
                    <a:lnTo>
                      <a:pt x="13" y="49"/>
                    </a:lnTo>
                    <a:close/>
                  </a:path>
                </a:pathLst>
              </a:custGeom>
              <a:solidFill>
                <a:srgbClr val="756868"/>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5" name=""/>
              <p:cNvSpPr/>
              <p:nvPr/>
            </p:nvSpPr>
            <p:spPr>
              <a:xfrm>
                <a:off x="4133880" y="4347360"/>
                <a:ext cx="123480" cy="42840"/>
              </a:xfrm>
              <a:custGeom>
                <a:avLst/>
                <a:gdLst/>
                <a:ahLst/>
                <a:rect l="l" t="t" r="r" b="b"/>
                <a:pathLst>
                  <a:path w="304" h="107">
                    <a:moveTo>
                      <a:pt x="2" y="0"/>
                    </a:moveTo>
                    <a:lnTo>
                      <a:pt x="304" y="29"/>
                    </a:lnTo>
                    <a:lnTo>
                      <a:pt x="304" y="107"/>
                    </a:lnTo>
                    <a:lnTo>
                      <a:pt x="0" y="74"/>
                    </a:lnTo>
                    <a:lnTo>
                      <a:pt x="2" y="0"/>
                    </a:lnTo>
                    <a:lnTo>
                      <a:pt x="2" y="0"/>
                    </a:lnTo>
                    <a:close/>
                  </a:path>
                </a:pathLst>
              </a:custGeom>
              <a:solidFill>
                <a:srgbClr val="75686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 name=""/>
              <p:cNvSpPr/>
              <p:nvPr/>
            </p:nvSpPr>
            <p:spPr>
              <a:xfrm>
                <a:off x="4074480" y="4283280"/>
                <a:ext cx="290520" cy="249840"/>
              </a:xfrm>
              <a:custGeom>
                <a:avLst/>
                <a:gdLst/>
                <a:ahLst/>
                <a:rect l="l" t="t" r="r" b="b"/>
                <a:pathLst>
                  <a:path w="712" h="614">
                    <a:moveTo>
                      <a:pt x="701" y="574"/>
                    </a:moveTo>
                    <a:lnTo>
                      <a:pt x="68" y="476"/>
                    </a:lnTo>
                    <a:lnTo>
                      <a:pt x="49" y="48"/>
                    </a:lnTo>
                    <a:lnTo>
                      <a:pt x="692" y="116"/>
                    </a:lnTo>
                    <a:lnTo>
                      <a:pt x="688" y="84"/>
                    </a:lnTo>
                    <a:lnTo>
                      <a:pt x="0" y="0"/>
                    </a:lnTo>
                    <a:lnTo>
                      <a:pt x="9" y="512"/>
                    </a:lnTo>
                    <a:lnTo>
                      <a:pt x="712" y="614"/>
                    </a:lnTo>
                    <a:lnTo>
                      <a:pt x="701" y="574"/>
                    </a:lnTo>
                    <a:lnTo>
                      <a:pt x="701" y="574"/>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94200" y="4233600"/>
                <a:ext cx="370800" cy="1305360"/>
              </a:xfrm>
              <a:custGeom>
                <a:avLst/>
                <a:gdLst/>
                <a:ahLst/>
                <a:rect l="l" t="t" r="r" b="b"/>
                <a:pathLst>
                  <a:path w="912" h="3208">
                    <a:moveTo>
                      <a:pt x="0" y="0"/>
                    </a:moveTo>
                    <a:lnTo>
                      <a:pt x="325" y="62"/>
                    </a:lnTo>
                    <a:lnTo>
                      <a:pt x="776" y="118"/>
                    </a:lnTo>
                    <a:lnTo>
                      <a:pt x="772" y="192"/>
                    </a:lnTo>
                    <a:lnTo>
                      <a:pt x="152" y="114"/>
                    </a:lnTo>
                    <a:lnTo>
                      <a:pt x="171" y="667"/>
                    </a:lnTo>
                    <a:lnTo>
                      <a:pt x="912" y="766"/>
                    </a:lnTo>
                    <a:lnTo>
                      <a:pt x="888" y="3208"/>
                    </a:lnTo>
                    <a:lnTo>
                      <a:pt x="171" y="3083"/>
                    </a:lnTo>
                    <a:lnTo>
                      <a:pt x="53" y="2984"/>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058280" y="4551840"/>
                <a:ext cx="64080" cy="940680"/>
              </a:xfrm>
              <a:custGeom>
                <a:avLst/>
                <a:gdLst/>
                <a:ahLst/>
                <a:rect l="l" t="t" r="r" b="b"/>
                <a:pathLst>
                  <a:path w="158" h="2311">
                    <a:moveTo>
                      <a:pt x="0" y="0"/>
                    </a:moveTo>
                    <a:lnTo>
                      <a:pt x="158" y="5"/>
                    </a:lnTo>
                    <a:lnTo>
                      <a:pt x="110" y="72"/>
                    </a:lnTo>
                    <a:lnTo>
                      <a:pt x="146" y="2286"/>
                    </a:lnTo>
                    <a:lnTo>
                      <a:pt x="38" y="231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291920" y="4279320"/>
                <a:ext cx="122760" cy="1255680"/>
              </a:xfrm>
              <a:custGeom>
                <a:avLst/>
                <a:gdLst/>
                <a:ahLst/>
                <a:rect l="l" t="t" r="r" b="b"/>
                <a:pathLst>
                  <a:path w="302" h="3087">
                    <a:moveTo>
                      <a:pt x="0" y="0"/>
                    </a:moveTo>
                    <a:lnTo>
                      <a:pt x="129" y="15"/>
                    </a:lnTo>
                    <a:lnTo>
                      <a:pt x="300" y="36"/>
                    </a:lnTo>
                    <a:lnTo>
                      <a:pt x="302" y="3087"/>
                    </a:lnTo>
                    <a:lnTo>
                      <a:pt x="28" y="3060"/>
                    </a:lnTo>
                    <a:lnTo>
                      <a:pt x="2" y="635"/>
                    </a:lnTo>
                    <a:lnTo>
                      <a:pt x="188" y="650"/>
                    </a:lnTo>
                    <a:lnTo>
                      <a:pt x="159" y="85"/>
                    </a:lnTo>
                    <a:lnTo>
                      <a:pt x="2" y="80"/>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427640" y="4624920"/>
                <a:ext cx="13680" cy="20880"/>
              </a:xfrm>
              <a:custGeom>
                <a:avLst/>
                <a:gdLst/>
                <a:ahLst/>
                <a:rect l="l" t="t" r="r" b="b"/>
                <a:pathLst>
                  <a:path w="35" h="54">
                    <a:moveTo>
                      <a:pt x="0" y="27"/>
                    </a:moveTo>
                    <a:lnTo>
                      <a:pt x="35" y="0"/>
                    </a:lnTo>
                    <a:lnTo>
                      <a:pt x="35" y="29"/>
                    </a:lnTo>
                    <a:lnTo>
                      <a:pt x="4" y="54"/>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 name=""/>
              <p:cNvSpPr/>
              <p:nvPr/>
            </p:nvSpPr>
            <p:spPr>
              <a:xfrm>
                <a:off x="4427640" y="4648680"/>
                <a:ext cx="13680" cy="20880"/>
              </a:xfrm>
              <a:custGeom>
                <a:avLst/>
                <a:gdLst/>
                <a:ahLst/>
                <a:rect l="l" t="t" r="r" b="b"/>
                <a:pathLst>
                  <a:path w="35" h="52">
                    <a:moveTo>
                      <a:pt x="0" y="25"/>
                    </a:moveTo>
                    <a:lnTo>
                      <a:pt x="35"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 name=""/>
              <p:cNvSpPr/>
              <p:nvPr/>
            </p:nvSpPr>
            <p:spPr>
              <a:xfrm>
                <a:off x="4427640" y="4672440"/>
                <a:ext cx="13680" cy="20880"/>
              </a:xfrm>
              <a:custGeom>
                <a:avLst/>
                <a:gdLst/>
                <a:ahLst/>
                <a:rect l="l" t="t" r="r" b="b"/>
                <a:pathLst>
                  <a:path w="35" h="54">
                    <a:moveTo>
                      <a:pt x="0" y="27"/>
                    </a:moveTo>
                    <a:lnTo>
                      <a:pt x="35" y="0"/>
                    </a:lnTo>
                    <a:lnTo>
                      <a:pt x="35" y="29"/>
                    </a:lnTo>
                    <a:lnTo>
                      <a:pt x="4" y="54"/>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 name=""/>
              <p:cNvSpPr/>
              <p:nvPr/>
            </p:nvSpPr>
            <p:spPr>
              <a:xfrm>
                <a:off x="4427640" y="4695840"/>
                <a:ext cx="13680" cy="20880"/>
              </a:xfrm>
              <a:custGeom>
                <a:avLst/>
                <a:gdLst/>
                <a:ahLst/>
                <a:rect l="l" t="t" r="r" b="b"/>
                <a:pathLst>
                  <a:path w="35" h="52">
                    <a:moveTo>
                      <a:pt x="0" y="25"/>
                    </a:moveTo>
                    <a:lnTo>
                      <a:pt x="35"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 name=""/>
              <p:cNvSpPr/>
              <p:nvPr/>
            </p:nvSpPr>
            <p:spPr>
              <a:xfrm>
                <a:off x="4427640" y="4719600"/>
                <a:ext cx="14400" cy="20880"/>
              </a:xfrm>
              <a:custGeom>
                <a:avLst/>
                <a:gdLst/>
                <a:ahLst/>
                <a:rect l="l" t="t" r="r" b="b"/>
                <a:pathLst>
                  <a:path w="37" h="54">
                    <a:moveTo>
                      <a:pt x="0" y="27"/>
                    </a:moveTo>
                    <a:lnTo>
                      <a:pt x="37" y="0"/>
                    </a:lnTo>
                    <a:lnTo>
                      <a:pt x="35" y="29"/>
                    </a:lnTo>
                    <a:lnTo>
                      <a:pt x="4" y="54"/>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 name=""/>
              <p:cNvSpPr/>
              <p:nvPr/>
            </p:nvSpPr>
            <p:spPr>
              <a:xfrm>
                <a:off x="4427640" y="4743000"/>
                <a:ext cx="14400" cy="20880"/>
              </a:xfrm>
              <a:custGeom>
                <a:avLst/>
                <a:gdLst/>
                <a:ahLst/>
                <a:rect l="l" t="t" r="r" b="b"/>
                <a:pathLst>
                  <a:path w="37" h="52">
                    <a:moveTo>
                      <a:pt x="0" y="25"/>
                    </a:moveTo>
                    <a:lnTo>
                      <a:pt x="37"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 name=""/>
              <p:cNvSpPr/>
              <p:nvPr/>
            </p:nvSpPr>
            <p:spPr>
              <a:xfrm>
                <a:off x="4427640" y="4766760"/>
                <a:ext cx="14400" cy="20880"/>
              </a:xfrm>
              <a:custGeom>
                <a:avLst/>
                <a:gdLst/>
                <a:ahLst/>
                <a:rect l="l" t="t" r="r" b="b"/>
                <a:pathLst>
                  <a:path w="37" h="54">
                    <a:moveTo>
                      <a:pt x="0" y="27"/>
                    </a:moveTo>
                    <a:lnTo>
                      <a:pt x="37" y="0"/>
                    </a:lnTo>
                    <a:lnTo>
                      <a:pt x="35" y="29"/>
                    </a:lnTo>
                    <a:lnTo>
                      <a:pt x="4" y="54"/>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 name=""/>
              <p:cNvSpPr/>
              <p:nvPr/>
            </p:nvSpPr>
            <p:spPr>
              <a:xfrm>
                <a:off x="4427640" y="4790160"/>
                <a:ext cx="14400" cy="20880"/>
              </a:xfrm>
              <a:custGeom>
                <a:avLst/>
                <a:gdLst/>
                <a:ahLst/>
                <a:rect l="l" t="t" r="r" b="b"/>
                <a:pathLst>
                  <a:path w="37" h="52">
                    <a:moveTo>
                      <a:pt x="0" y="25"/>
                    </a:moveTo>
                    <a:lnTo>
                      <a:pt x="37"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 name=""/>
              <p:cNvSpPr/>
              <p:nvPr/>
            </p:nvSpPr>
            <p:spPr>
              <a:xfrm>
                <a:off x="4427640" y="4813920"/>
                <a:ext cx="14400" cy="20880"/>
              </a:xfrm>
              <a:custGeom>
                <a:avLst/>
                <a:gdLst/>
                <a:ahLst/>
                <a:rect l="l" t="t" r="r" b="b"/>
                <a:pathLst>
                  <a:path w="37" h="53">
                    <a:moveTo>
                      <a:pt x="0" y="27"/>
                    </a:moveTo>
                    <a:lnTo>
                      <a:pt x="37" y="0"/>
                    </a:lnTo>
                    <a:lnTo>
                      <a:pt x="35" y="29"/>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 name=""/>
              <p:cNvSpPr/>
              <p:nvPr/>
            </p:nvSpPr>
            <p:spPr>
              <a:xfrm>
                <a:off x="4427640" y="4837680"/>
                <a:ext cx="14400" cy="20880"/>
              </a:xfrm>
              <a:custGeom>
                <a:avLst/>
                <a:gdLst/>
                <a:ahLst/>
                <a:rect l="l" t="t" r="r" b="b"/>
                <a:pathLst>
                  <a:path w="37" h="52">
                    <a:moveTo>
                      <a:pt x="0" y="25"/>
                    </a:moveTo>
                    <a:lnTo>
                      <a:pt x="37" y="0"/>
                    </a:lnTo>
                    <a:lnTo>
                      <a:pt x="35" y="27"/>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 name=""/>
              <p:cNvSpPr/>
              <p:nvPr/>
            </p:nvSpPr>
            <p:spPr>
              <a:xfrm>
                <a:off x="4427640" y="4861080"/>
                <a:ext cx="14400" cy="20160"/>
              </a:xfrm>
              <a:custGeom>
                <a:avLst/>
                <a:gdLst/>
                <a:ahLst/>
                <a:rect l="l" t="t" r="r" b="b"/>
                <a:pathLst>
                  <a:path w="37" h="52">
                    <a:moveTo>
                      <a:pt x="0" y="25"/>
                    </a:moveTo>
                    <a:lnTo>
                      <a:pt x="37"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1" name=""/>
              <p:cNvSpPr/>
              <p:nvPr/>
            </p:nvSpPr>
            <p:spPr>
              <a:xfrm>
                <a:off x="4427640" y="4883760"/>
                <a:ext cx="14400" cy="21960"/>
              </a:xfrm>
              <a:custGeom>
                <a:avLst/>
                <a:gdLst/>
                <a:ahLst/>
                <a:rect l="l" t="t" r="r" b="b"/>
                <a:pathLst>
                  <a:path w="37" h="53">
                    <a:moveTo>
                      <a:pt x="0" y="27"/>
                    </a:moveTo>
                    <a:lnTo>
                      <a:pt x="37" y="0"/>
                    </a:lnTo>
                    <a:lnTo>
                      <a:pt x="35" y="29"/>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 name=""/>
              <p:cNvSpPr/>
              <p:nvPr/>
            </p:nvSpPr>
            <p:spPr>
              <a:xfrm>
                <a:off x="4428720" y="4908240"/>
                <a:ext cx="13680" cy="20160"/>
              </a:xfrm>
              <a:custGeom>
                <a:avLst/>
                <a:gdLst/>
                <a:ahLst/>
                <a:rect l="l" t="t" r="r" b="b"/>
                <a:pathLst>
                  <a:path w="35" h="51">
                    <a:moveTo>
                      <a:pt x="0" y="25"/>
                    </a:moveTo>
                    <a:lnTo>
                      <a:pt x="35" y="0"/>
                    </a:lnTo>
                    <a:lnTo>
                      <a:pt x="33" y="29"/>
                    </a:lnTo>
                    <a:lnTo>
                      <a:pt x="2" y="51"/>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3" name=""/>
              <p:cNvSpPr/>
              <p:nvPr/>
            </p:nvSpPr>
            <p:spPr>
              <a:xfrm>
                <a:off x="4428720" y="4930920"/>
                <a:ext cx="13680" cy="21960"/>
              </a:xfrm>
              <a:custGeom>
                <a:avLst/>
                <a:gdLst/>
                <a:ahLst/>
                <a:rect l="l" t="t" r="r" b="b"/>
                <a:pathLst>
                  <a:path w="35" h="53">
                    <a:moveTo>
                      <a:pt x="0" y="27"/>
                    </a:moveTo>
                    <a:lnTo>
                      <a:pt x="35" y="0"/>
                    </a:lnTo>
                    <a:lnTo>
                      <a:pt x="33" y="29"/>
                    </a:lnTo>
                    <a:lnTo>
                      <a:pt x="2"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4428720" y="4955400"/>
                <a:ext cx="13680" cy="20160"/>
              </a:xfrm>
              <a:custGeom>
                <a:avLst/>
                <a:gdLst/>
                <a:ahLst/>
                <a:rect l="l" t="t" r="r" b="b"/>
                <a:pathLst>
                  <a:path w="35" h="51">
                    <a:moveTo>
                      <a:pt x="0" y="25"/>
                    </a:moveTo>
                    <a:lnTo>
                      <a:pt x="35" y="0"/>
                    </a:lnTo>
                    <a:lnTo>
                      <a:pt x="33" y="29"/>
                    </a:lnTo>
                    <a:lnTo>
                      <a:pt x="2" y="51"/>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5" name=""/>
              <p:cNvSpPr/>
              <p:nvPr/>
            </p:nvSpPr>
            <p:spPr>
              <a:xfrm>
                <a:off x="4428720" y="4978440"/>
                <a:ext cx="13680" cy="21960"/>
              </a:xfrm>
              <a:custGeom>
                <a:avLst/>
                <a:gdLst/>
                <a:ahLst/>
                <a:rect l="l" t="t" r="r" b="b"/>
                <a:pathLst>
                  <a:path w="35" h="53">
                    <a:moveTo>
                      <a:pt x="0" y="27"/>
                    </a:moveTo>
                    <a:lnTo>
                      <a:pt x="35" y="0"/>
                    </a:lnTo>
                    <a:lnTo>
                      <a:pt x="33" y="29"/>
                    </a:lnTo>
                    <a:lnTo>
                      <a:pt x="2"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 name=""/>
              <p:cNvSpPr/>
              <p:nvPr/>
            </p:nvSpPr>
            <p:spPr>
              <a:xfrm>
                <a:off x="4428720" y="5002560"/>
                <a:ext cx="13680" cy="20160"/>
              </a:xfrm>
              <a:custGeom>
                <a:avLst/>
                <a:gdLst/>
                <a:ahLst/>
                <a:rect l="l" t="t" r="r" b="b"/>
                <a:pathLst>
                  <a:path w="35" h="51">
                    <a:moveTo>
                      <a:pt x="0" y="25"/>
                    </a:moveTo>
                    <a:lnTo>
                      <a:pt x="35" y="0"/>
                    </a:lnTo>
                    <a:lnTo>
                      <a:pt x="33" y="29"/>
                    </a:lnTo>
                    <a:lnTo>
                      <a:pt x="2" y="51"/>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7" name=""/>
              <p:cNvSpPr/>
              <p:nvPr/>
            </p:nvSpPr>
            <p:spPr>
              <a:xfrm>
                <a:off x="4428720" y="5025600"/>
                <a:ext cx="13680" cy="20880"/>
              </a:xfrm>
              <a:custGeom>
                <a:avLst/>
                <a:gdLst/>
                <a:ahLst/>
                <a:rect l="l" t="t" r="r" b="b"/>
                <a:pathLst>
                  <a:path w="35" h="51">
                    <a:moveTo>
                      <a:pt x="0" y="27"/>
                    </a:moveTo>
                    <a:lnTo>
                      <a:pt x="35" y="0"/>
                    </a:lnTo>
                    <a:lnTo>
                      <a:pt x="33" y="29"/>
                    </a:lnTo>
                    <a:lnTo>
                      <a:pt x="2" y="51"/>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 name=""/>
              <p:cNvSpPr/>
              <p:nvPr/>
            </p:nvSpPr>
            <p:spPr>
              <a:xfrm>
                <a:off x="4428720" y="5050080"/>
                <a:ext cx="13680" cy="20160"/>
              </a:xfrm>
              <a:custGeom>
                <a:avLst/>
                <a:gdLst/>
                <a:ahLst/>
                <a:rect l="l" t="t" r="r" b="b"/>
                <a:pathLst>
                  <a:path w="35" h="51">
                    <a:moveTo>
                      <a:pt x="0" y="25"/>
                    </a:moveTo>
                    <a:lnTo>
                      <a:pt x="35" y="0"/>
                    </a:lnTo>
                    <a:lnTo>
                      <a:pt x="33" y="29"/>
                    </a:lnTo>
                    <a:lnTo>
                      <a:pt x="2" y="51"/>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 name=""/>
              <p:cNvSpPr/>
              <p:nvPr/>
            </p:nvSpPr>
            <p:spPr>
              <a:xfrm>
                <a:off x="4428720" y="5072760"/>
                <a:ext cx="13680" cy="20880"/>
              </a:xfrm>
              <a:custGeom>
                <a:avLst/>
                <a:gdLst/>
                <a:ahLst/>
                <a:rect l="l" t="t" r="r" b="b"/>
                <a:pathLst>
                  <a:path w="35" h="51">
                    <a:moveTo>
                      <a:pt x="0" y="25"/>
                    </a:moveTo>
                    <a:lnTo>
                      <a:pt x="35" y="0"/>
                    </a:lnTo>
                    <a:lnTo>
                      <a:pt x="33" y="29"/>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 name=""/>
              <p:cNvSpPr/>
              <p:nvPr/>
            </p:nvSpPr>
            <p:spPr>
              <a:xfrm>
                <a:off x="4428720" y="5096160"/>
                <a:ext cx="13680" cy="20880"/>
              </a:xfrm>
              <a:custGeom>
                <a:avLst/>
                <a:gdLst/>
                <a:ahLst/>
                <a:rect l="l" t="t" r="r" b="b"/>
                <a:pathLst>
                  <a:path w="35" h="51">
                    <a:moveTo>
                      <a:pt x="0" y="25"/>
                    </a:moveTo>
                    <a:lnTo>
                      <a:pt x="35" y="0"/>
                    </a:lnTo>
                    <a:lnTo>
                      <a:pt x="33" y="27"/>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 name=""/>
              <p:cNvSpPr/>
              <p:nvPr/>
            </p:nvSpPr>
            <p:spPr>
              <a:xfrm>
                <a:off x="4428720" y="5119920"/>
                <a:ext cx="13680" cy="20880"/>
              </a:xfrm>
              <a:custGeom>
                <a:avLst/>
                <a:gdLst/>
                <a:ahLst/>
                <a:rect l="l" t="t" r="r" b="b"/>
                <a:pathLst>
                  <a:path w="35" h="51">
                    <a:moveTo>
                      <a:pt x="0" y="25"/>
                    </a:moveTo>
                    <a:lnTo>
                      <a:pt x="35" y="0"/>
                    </a:lnTo>
                    <a:lnTo>
                      <a:pt x="33" y="29"/>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 name=""/>
              <p:cNvSpPr/>
              <p:nvPr/>
            </p:nvSpPr>
            <p:spPr>
              <a:xfrm>
                <a:off x="4428720" y="5143680"/>
                <a:ext cx="13680" cy="20880"/>
              </a:xfrm>
              <a:custGeom>
                <a:avLst/>
                <a:gdLst/>
                <a:ahLst/>
                <a:rect l="l" t="t" r="r" b="b"/>
                <a:pathLst>
                  <a:path w="35" h="53">
                    <a:moveTo>
                      <a:pt x="0" y="27"/>
                    </a:moveTo>
                    <a:lnTo>
                      <a:pt x="35" y="0"/>
                    </a:lnTo>
                    <a:lnTo>
                      <a:pt x="35" y="29"/>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 name=""/>
              <p:cNvSpPr/>
              <p:nvPr/>
            </p:nvSpPr>
            <p:spPr>
              <a:xfrm>
                <a:off x="4428720" y="5167080"/>
                <a:ext cx="13680" cy="20880"/>
              </a:xfrm>
              <a:custGeom>
                <a:avLst/>
                <a:gdLst/>
                <a:ahLst/>
                <a:rect l="l" t="t" r="r" b="b"/>
                <a:pathLst>
                  <a:path w="35" h="51">
                    <a:moveTo>
                      <a:pt x="0" y="25"/>
                    </a:moveTo>
                    <a:lnTo>
                      <a:pt x="35" y="0"/>
                    </a:lnTo>
                    <a:lnTo>
                      <a:pt x="35" y="28"/>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 name=""/>
              <p:cNvSpPr/>
              <p:nvPr/>
            </p:nvSpPr>
            <p:spPr>
              <a:xfrm>
                <a:off x="4428720" y="5189760"/>
                <a:ext cx="13680" cy="21960"/>
              </a:xfrm>
              <a:custGeom>
                <a:avLst/>
                <a:gdLst/>
                <a:ahLst/>
                <a:rect l="l" t="t" r="r" b="b"/>
                <a:pathLst>
                  <a:path w="35" h="53">
                    <a:moveTo>
                      <a:pt x="0" y="27"/>
                    </a:moveTo>
                    <a:lnTo>
                      <a:pt x="35" y="0"/>
                    </a:lnTo>
                    <a:lnTo>
                      <a:pt x="35" y="28"/>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 name=""/>
              <p:cNvSpPr/>
              <p:nvPr/>
            </p:nvSpPr>
            <p:spPr>
              <a:xfrm>
                <a:off x="4428720" y="5214240"/>
                <a:ext cx="13680" cy="20880"/>
              </a:xfrm>
              <a:custGeom>
                <a:avLst/>
                <a:gdLst/>
                <a:ahLst/>
                <a:rect l="l" t="t" r="r" b="b"/>
                <a:pathLst>
                  <a:path w="35" h="51">
                    <a:moveTo>
                      <a:pt x="0" y="25"/>
                    </a:moveTo>
                    <a:lnTo>
                      <a:pt x="35" y="0"/>
                    </a:lnTo>
                    <a:lnTo>
                      <a:pt x="35" y="28"/>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 name=""/>
              <p:cNvSpPr/>
              <p:nvPr/>
            </p:nvSpPr>
            <p:spPr>
              <a:xfrm>
                <a:off x="4428720" y="5236920"/>
                <a:ext cx="14400" cy="21960"/>
              </a:xfrm>
              <a:custGeom>
                <a:avLst/>
                <a:gdLst/>
                <a:ahLst/>
                <a:rect l="l" t="t" r="r" b="b"/>
                <a:pathLst>
                  <a:path w="36" h="53">
                    <a:moveTo>
                      <a:pt x="0" y="27"/>
                    </a:moveTo>
                    <a:lnTo>
                      <a:pt x="36" y="0"/>
                    </a:lnTo>
                    <a:lnTo>
                      <a:pt x="35" y="28"/>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 name=""/>
              <p:cNvSpPr/>
              <p:nvPr/>
            </p:nvSpPr>
            <p:spPr>
              <a:xfrm>
                <a:off x="4428720" y="5261400"/>
                <a:ext cx="14400" cy="20880"/>
              </a:xfrm>
              <a:custGeom>
                <a:avLst/>
                <a:gdLst/>
                <a:ahLst/>
                <a:rect l="l" t="t" r="r" b="b"/>
                <a:pathLst>
                  <a:path w="36" h="51">
                    <a:moveTo>
                      <a:pt x="0" y="25"/>
                    </a:moveTo>
                    <a:lnTo>
                      <a:pt x="36" y="0"/>
                    </a:lnTo>
                    <a:lnTo>
                      <a:pt x="35" y="28"/>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8" name=""/>
              <p:cNvSpPr/>
              <p:nvPr/>
            </p:nvSpPr>
            <p:spPr>
              <a:xfrm>
                <a:off x="4428720" y="5284440"/>
                <a:ext cx="14400" cy="20880"/>
              </a:xfrm>
              <a:custGeom>
                <a:avLst/>
                <a:gdLst/>
                <a:ahLst/>
                <a:rect l="l" t="t" r="r" b="b"/>
                <a:pathLst>
                  <a:path w="36" h="51">
                    <a:moveTo>
                      <a:pt x="0" y="26"/>
                    </a:moveTo>
                    <a:lnTo>
                      <a:pt x="36" y="0"/>
                    </a:lnTo>
                    <a:lnTo>
                      <a:pt x="35" y="28"/>
                    </a:lnTo>
                    <a:lnTo>
                      <a:pt x="4" y="51"/>
                    </a:lnTo>
                    <a:lnTo>
                      <a:pt x="0" y="26"/>
                    </a:lnTo>
                    <a:lnTo>
                      <a:pt x="0" y="2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9" name=""/>
              <p:cNvSpPr/>
              <p:nvPr/>
            </p:nvSpPr>
            <p:spPr>
              <a:xfrm>
                <a:off x="4428720" y="5308560"/>
                <a:ext cx="14400" cy="20880"/>
              </a:xfrm>
              <a:custGeom>
                <a:avLst/>
                <a:gdLst/>
                <a:ahLst/>
                <a:rect l="l" t="t" r="r" b="b"/>
                <a:pathLst>
                  <a:path w="36" h="51">
                    <a:moveTo>
                      <a:pt x="0" y="25"/>
                    </a:moveTo>
                    <a:lnTo>
                      <a:pt x="36" y="0"/>
                    </a:lnTo>
                    <a:lnTo>
                      <a:pt x="35" y="28"/>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0" name=""/>
              <p:cNvSpPr/>
              <p:nvPr/>
            </p:nvSpPr>
            <p:spPr>
              <a:xfrm>
                <a:off x="4428720" y="5331600"/>
                <a:ext cx="14400" cy="20880"/>
              </a:xfrm>
              <a:custGeom>
                <a:avLst/>
                <a:gdLst/>
                <a:ahLst/>
                <a:rect l="l" t="t" r="r" b="b"/>
                <a:pathLst>
                  <a:path w="36" h="51">
                    <a:moveTo>
                      <a:pt x="0" y="26"/>
                    </a:moveTo>
                    <a:lnTo>
                      <a:pt x="36" y="0"/>
                    </a:lnTo>
                    <a:lnTo>
                      <a:pt x="35" y="28"/>
                    </a:lnTo>
                    <a:lnTo>
                      <a:pt x="4" y="51"/>
                    </a:lnTo>
                    <a:lnTo>
                      <a:pt x="0" y="26"/>
                    </a:lnTo>
                    <a:lnTo>
                      <a:pt x="0" y="2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1" name=""/>
              <p:cNvSpPr/>
              <p:nvPr/>
            </p:nvSpPr>
            <p:spPr>
              <a:xfrm>
                <a:off x="4428720" y="5356080"/>
                <a:ext cx="14400" cy="20880"/>
              </a:xfrm>
              <a:custGeom>
                <a:avLst/>
                <a:gdLst/>
                <a:ahLst/>
                <a:rect l="l" t="t" r="r" b="b"/>
                <a:pathLst>
                  <a:path w="36" h="51">
                    <a:moveTo>
                      <a:pt x="0" y="24"/>
                    </a:moveTo>
                    <a:lnTo>
                      <a:pt x="36" y="0"/>
                    </a:lnTo>
                    <a:lnTo>
                      <a:pt x="35" y="26"/>
                    </a:lnTo>
                    <a:lnTo>
                      <a:pt x="4" y="51"/>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 name=""/>
              <p:cNvSpPr/>
              <p:nvPr/>
            </p:nvSpPr>
            <p:spPr>
              <a:xfrm>
                <a:off x="4428720" y="5378760"/>
                <a:ext cx="14400" cy="20880"/>
              </a:xfrm>
              <a:custGeom>
                <a:avLst/>
                <a:gdLst/>
                <a:ahLst/>
                <a:rect l="l" t="t" r="r" b="b"/>
                <a:pathLst>
                  <a:path w="36" h="51">
                    <a:moveTo>
                      <a:pt x="0" y="24"/>
                    </a:moveTo>
                    <a:lnTo>
                      <a:pt x="36" y="0"/>
                    </a:lnTo>
                    <a:lnTo>
                      <a:pt x="35" y="28"/>
                    </a:lnTo>
                    <a:lnTo>
                      <a:pt x="4" y="51"/>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 name=""/>
              <p:cNvSpPr/>
              <p:nvPr/>
            </p:nvSpPr>
            <p:spPr>
              <a:xfrm>
                <a:off x="4428720" y="5402160"/>
                <a:ext cx="14400" cy="21960"/>
              </a:xfrm>
              <a:custGeom>
                <a:avLst/>
                <a:gdLst/>
                <a:ahLst/>
                <a:rect l="l" t="t" r="r" b="b"/>
                <a:pathLst>
                  <a:path w="36" h="53">
                    <a:moveTo>
                      <a:pt x="0" y="26"/>
                    </a:moveTo>
                    <a:lnTo>
                      <a:pt x="36" y="0"/>
                    </a:lnTo>
                    <a:lnTo>
                      <a:pt x="35" y="28"/>
                    </a:lnTo>
                    <a:lnTo>
                      <a:pt x="4" y="53"/>
                    </a:lnTo>
                    <a:lnTo>
                      <a:pt x="0" y="26"/>
                    </a:lnTo>
                    <a:lnTo>
                      <a:pt x="0" y="2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 name=""/>
              <p:cNvSpPr/>
              <p:nvPr/>
            </p:nvSpPr>
            <p:spPr>
              <a:xfrm>
                <a:off x="4429440" y="5425920"/>
                <a:ext cx="13680" cy="20880"/>
              </a:xfrm>
              <a:custGeom>
                <a:avLst/>
                <a:gdLst/>
                <a:ahLst/>
                <a:rect l="l" t="t" r="r" b="b"/>
                <a:pathLst>
                  <a:path w="34" h="51">
                    <a:moveTo>
                      <a:pt x="0" y="24"/>
                    </a:moveTo>
                    <a:lnTo>
                      <a:pt x="34" y="0"/>
                    </a:lnTo>
                    <a:lnTo>
                      <a:pt x="33" y="28"/>
                    </a:lnTo>
                    <a:lnTo>
                      <a:pt x="2" y="51"/>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 name=""/>
              <p:cNvSpPr/>
              <p:nvPr/>
            </p:nvSpPr>
            <p:spPr>
              <a:xfrm>
                <a:off x="4115520" y="4563360"/>
                <a:ext cx="61560" cy="911520"/>
              </a:xfrm>
              <a:custGeom>
                <a:avLst/>
                <a:gdLst/>
                <a:ahLst/>
                <a:rect l="l" t="t" r="r" b="b"/>
                <a:pathLst>
                  <a:path w="152" h="2241">
                    <a:moveTo>
                      <a:pt x="0" y="65"/>
                    </a:moveTo>
                    <a:lnTo>
                      <a:pt x="123" y="0"/>
                    </a:lnTo>
                    <a:lnTo>
                      <a:pt x="152" y="2241"/>
                    </a:lnTo>
                    <a:lnTo>
                      <a:pt x="38" y="2188"/>
                    </a:lnTo>
                    <a:lnTo>
                      <a:pt x="0" y="65"/>
                    </a:lnTo>
                    <a:lnTo>
                      <a:pt x="0" y="65"/>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987000" y="3822480"/>
                <a:ext cx="747360" cy="1708200"/>
              </a:xfrm>
              <a:custGeom>
                <a:avLst/>
                <a:gdLst/>
                <a:ahLst/>
                <a:rect l="l" t="t" r="r" b="b"/>
                <a:pathLst>
                  <a:path w="1838" h="4197">
                    <a:moveTo>
                      <a:pt x="0" y="1004"/>
                    </a:moveTo>
                    <a:lnTo>
                      <a:pt x="886" y="0"/>
                    </a:lnTo>
                    <a:lnTo>
                      <a:pt x="1834" y="71"/>
                    </a:lnTo>
                    <a:lnTo>
                      <a:pt x="1838" y="2907"/>
                    </a:lnTo>
                    <a:lnTo>
                      <a:pt x="1120" y="4180"/>
                    </a:lnTo>
                    <a:lnTo>
                      <a:pt x="1055" y="4197"/>
                    </a:lnTo>
                    <a:lnTo>
                      <a:pt x="1798" y="2895"/>
                    </a:lnTo>
                    <a:lnTo>
                      <a:pt x="1785" y="114"/>
                    </a:lnTo>
                    <a:lnTo>
                      <a:pt x="895" y="46"/>
                    </a:lnTo>
                    <a:lnTo>
                      <a:pt x="19" y="1012"/>
                    </a:lnTo>
                    <a:lnTo>
                      <a:pt x="101" y="4036"/>
                    </a:lnTo>
                    <a:lnTo>
                      <a:pt x="57" y="3973"/>
                    </a:lnTo>
                    <a:lnTo>
                      <a:pt x="0" y="1004"/>
                    </a:lnTo>
                    <a:lnTo>
                      <a:pt x="0"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10000" y="3861000"/>
                <a:ext cx="321120" cy="435960"/>
              </a:xfrm>
              <a:custGeom>
                <a:avLst/>
                <a:gdLst/>
                <a:ahLst/>
                <a:rect l="l" t="t" r="r" b="b"/>
                <a:pathLst>
                  <a:path w="790" h="1073">
                    <a:moveTo>
                      <a:pt x="0" y="1065"/>
                    </a:moveTo>
                    <a:lnTo>
                      <a:pt x="750" y="0"/>
                    </a:lnTo>
                    <a:lnTo>
                      <a:pt x="790" y="31"/>
                    </a:lnTo>
                    <a:lnTo>
                      <a:pt x="15" y="1073"/>
                    </a:lnTo>
                    <a:lnTo>
                      <a:pt x="0" y="1065"/>
                    </a:lnTo>
                    <a:lnTo>
                      <a:pt x="0" y="10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008600" y="5435640"/>
                <a:ext cx="434880" cy="136440"/>
              </a:xfrm>
              <a:custGeom>
                <a:avLst/>
                <a:gdLst/>
                <a:ahLst/>
                <a:rect l="l" t="t" r="r" b="b"/>
                <a:pathLst>
                  <a:path w="1070" h="336">
                    <a:moveTo>
                      <a:pt x="0" y="0"/>
                    </a:moveTo>
                    <a:lnTo>
                      <a:pt x="17" y="47"/>
                    </a:lnTo>
                    <a:lnTo>
                      <a:pt x="95" y="104"/>
                    </a:lnTo>
                    <a:lnTo>
                      <a:pt x="57" y="148"/>
                    </a:lnTo>
                    <a:lnTo>
                      <a:pt x="249" y="222"/>
                    </a:lnTo>
                    <a:lnTo>
                      <a:pt x="361" y="207"/>
                    </a:lnTo>
                    <a:lnTo>
                      <a:pt x="521" y="277"/>
                    </a:lnTo>
                    <a:lnTo>
                      <a:pt x="956" y="336"/>
                    </a:lnTo>
                    <a:lnTo>
                      <a:pt x="1070" y="205"/>
                    </a:lnTo>
                    <a:lnTo>
                      <a:pt x="996" y="226"/>
                    </a:lnTo>
                    <a:lnTo>
                      <a:pt x="605" y="193"/>
                    </a:lnTo>
                    <a:lnTo>
                      <a:pt x="356" y="125"/>
                    </a:lnTo>
                    <a:lnTo>
                      <a:pt x="232" y="60"/>
                    </a:lnTo>
                    <a:lnTo>
                      <a:pt x="167" y="96"/>
                    </a:lnTo>
                    <a:lnTo>
                      <a:pt x="52" y="5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990960" y="4229640"/>
                <a:ext cx="420480" cy="64080"/>
              </a:xfrm>
              <a:custGeom>
                <a:avLst/>
                <a:gdLst/>
                <a:ahLst/>
                <a:rect l="l" t="t" r="r" b="b"/>
                <a:pathLst>
                  <a:path w="1033" h="158">
                    <a:moveTo>
                      <a:pt x="0" y="10"/>
                    </a:moveTo>
                    <a:lnTo>
                      <a:pt x="197" y="59"/>
                    </a:lnTo>
                    <a:lnTo>
                      <a:pt x="406" y="97"/>
                    </a:lnTo>
                    <a:lnTo>
                      <a:pt x="722" y="135"/>
                    </a:lnTo>
                    <a:lnTo>
                      <a:pt x="1033" y="158"/>
                    </a:lnTo>
                    <a:lnTo>
                      <a:pt x="705" y="112"/>
                    </a:lnTo>
                    <a:lnTo>
                      <a:pt x="317" y="59"/>
                    </a:lnTo>
                    <a:lnTo>
                      <a:pt x="20" y="0"/>
                    </a:lnTo>
                    <a:lnTo>
                      <a:pt x="0" y="10"/>
                    </a:lnTo>
                    <a:lnTo>
                      <a:pt x="0" y="1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0" name=""/>
              <p:cNvSpPr/>
              <p:nvPr/>
            </p:nvSpPr>
            <p:spPr>
              <a:xfrm>
                <a:off x="4007880" y="4206600"/>
                <a:ext cx="439920" cy="371880"/>
              </a:xfrm>
              <a:custGeom>
                <a:avLst/>
                <a:gdLst/>
                <a:ahLst/>
                <a:rect l="l" t="t" r="r" b="b"/>
                <a:pathLst>
                  <a:path w="1084" h="914">
                    <a:moveTo>
                      <a:pt x="0" y="12"/>
                    </a:moveTo>
                    <a:lnTo>
                      <a:pt x="1055" y="152"/>
                    </a:lnTo>
                    <a:lnTo>
                      <a:pt x="1072" y="914"/>
                    </a:lnTo>
                    <a:lnTo>
                      <a:pt x="1084" y="895"/>
                    </a:lnTo>
                    <a:lnTo>
                      <a:pt x="1065" y="139"/>
                    </a:lnTo>
                    <a:lnTo>
                      <a:pt x="19"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64040" y="4275000"/>
                <a:ext cx="307440" cy="261720"/>
              </a:xfrm>
              <a:custGeom>
                <a:avLst/>
                <a:gdLst/>
                <a:ahLst/>
                <a:rect l="l" t="t" r="r" b="b"/>
                <a:pathLst>
                  <a:path w="757" h="645">
                    <a:moveTo>
                      <a:pt x="0" y="0"/>
                    </a:moveTo>
                    <a:lnTo>
                      <a:pt x="19" y="542"/>
                    </a:lnTo>
                    <a:lnTo>
                      <a:pt x="757" y="645"/>
                    </a:lnTo>
                    <a:lnTo>
                      <a:pt x="730" y="93"/>
                    </a:lnTo>
                    <a:lnTo>
                      <a:pt x="711" y="95"/>
                    </a:lnTo>
                    <a:lnTo>
                      <a:pt x="734" y="618"/>
                    </a:lnTo>
                    <a:lnTo>
                      <a:pt x="65" y="519"/>
                    </a:lnTo>
                    <a:lnTo>
                      <a:pt x="38"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064040" y="4274280"/>
                <a:ext cx="299160" cy="46440"/>
              </a:xfrm>
              <a:custGeom>
                <a:avLst/>
                <a:gdLst/>
                <a:ahLst/>
                <a:rect l="l" t="t" r="r" b="b"/>
                <a:pathLst>
                  <a:path w="736" h="114">
                    <a:moveTo>
                      <a:pt x="0" y="0"/>
                    </a:moveTo>
                    <a:lnTo>
                      <a:pt x="736" y="99"/>
                    </a:lnTo>
                    <a:lnTo>
                      <a:pt x="717" y="114"/>
                    </a:lnTo>
                    <a:lnTo>
                      <a:pt x="34" y="48"/>
                    </a:lnTo>
                    <a:lnTo>
                      <a:pt x="0" y="0"/>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3" name=""/>
              <p:cNvSpPr/>
              <p:nvPr/>
            </p:nvSpPr>
            <p:spPr>
              <a:xfrm>
                <a:off x="4132440" y="4294800"/>
                <a:ext cx="124200" cy="43920"/>
              </a:xfrm>
              <a:custGeom>
                <a:avLst/>
                <a:gdLst/>
                <a:ahLst/>
                <a:rect l="l" t="t" r="r" b="b"/>
                <a:pathLst>
                  <a:path w="306" h="108">
                    <a:moveTo>
                      <a:pt x="0" y="2"/>
                    </a:moveTo>
                    <a:lnTo>
                      <a:pt x="2" y="74"/>
                    </a:lnTo>
                    <a:lnTo>
                      <a:pt x="306" y="108"/>
                    </a:lnTo>
                    <a:lnTo>
                      <a:pt x="306" y="93"/>
                    </a:lnTo>
                    <a:lnTo>
                      <a:pt x="40" y="57"/>
                    </a:lnTo>
                    <a:lnTo>
                      <a:pt x="38" y="0"/>
                    </a:lnTo>
                    <a:lnTo>
                      <a:pt x="0" y="2"/>
                    </a:lnTo>
                    <a:lnTo>
                      <a:pt x="0" y="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4" name=""/>
              <p:cNvSpPr/>
              <p:nvPr/>
            </p:nvSpPr>
            <p:spPr>
              <a:xfrm>
                <a:off x="4126680" y="4434480"/>
                <a:ext cx="223560" cy="51120"/>
              </a:xfrm>
              <a:custGeom>
                <a:avLst/>
                <a:gdLst/>
                <a:ahLst/>
                <a:rect l="l" t="t" r="r" b="b"/>
                <a:pathLst>
                  <a:path w="549" h="125">
                    <a:moveTo>
                      <a:pt x="0" y="0"/>
                    </a:moveTo>
                    <a:lnTo>
                      <a:pt x="2" y="44"/>
                    </a:lnTo>
                    <a:lnTo>
                      <a:pt x="549" y="125"/>
                    </a:lnTo>
                    <a:lnTo>
                      <a:pt x="547" y="72"/>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5" name=""/>
              <p:cNvSpPr/>
              <p:nvPr/>
            </p:nvSpPr>
            <p:spPr>
              <a:xfrm>
                <a:off x="4078800" y="4379400"/>
                <a:ext cx="282240" cy="44640"/>
              </a:xfrm>
              <a:custGeom>
                <a:avLst/>
                <a:gdLst/>
                <a:ahLst/>
                <a:rect l="l" t="t" r="r" b="b"/>
                <a:pathLst>
                  <a:path w="694" h="110">
                    <a:moveTo>
                      <a:pt x="4" y="0"/>
                    </a:moveTo>
                    <a:lnTo>
                      <a:pt x="694" y="89"/>
                    </a:lnTo>
                    <a:lnTo>
                      <a:pt x="694" y="110"/>
                    </a:lnTo>
                    <a:lnTo>
                      <a:pt x="0" y="27"/>
                    </a:lnTo>
                    <a:lnTo>
                      <a:pt x="4" y="0"/>
                    </a:lnTo>
                    <a:lnTo>
                      <a:pt x="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6" name=""/>
              <p:cNvSpPr/>
              <p:nvPr/>
            </p:nvSpPr>
            <p:spPr>
              <a:xfrm>
                <a:off x="4129920" y="4340160"/>
                <a:ext cx="129240" cy="38880"/>
              </a:xfrm>
              <a:custGeom>
                <a:avLst/>
                <a:gdLst/>
                <a:ahLst/>
                <a:rect l="l" t="t" r="r" b="b"/>
                <a:pathLst>
                  <a:path w="319" h="95">
                    <a:moveTo>
                      <a:pt x="0" y="0"/>
                    </a:moveTo>
                    <a:lnTo>
                      <a:pt x="2" y="93"/>
                    </a:lnTo>
                    <a:lnTo>
                      <a:pt x="28" y="95"/>
                    </a:lnTo>
                    <a:lnTo>
                      <a:pt x="26" y="27"/>
                    </a:lnTo>
                    <a:lnTo>
                      <a:pt x="302" y="59"/>
                    </a:lnTo>
                    <a:lnTo>
                      <a:pt x="319" y="38"/>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7" name=""/>
              <p:cNvSpPr/>
              <p:nvPr/>
            </p:nvSpPr>
            <p:spPr>
              <a:xfrm>
                <a:off x="4427640" y="4601520"/>
                <a:ext cx="13680" cy="20880"/>
              </a:xfrm>
              <a:custGeom>
                <a:avLst/>
                <a:gdLst/>
                <a:ahLst/>
                <a:rect l="l" t="t" r="r" b="b"/>
                <a:pathLst>
                  <a:path w="35" h="52">
                    <a:moveTo>
                      <a:pt x="0" y="25"/>
                    </a:moveTo>
                    <a:lnTo>
                      <a:pt x="35"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 name=""/>
              <p:cNvSpPr/>
              <p:nvPr/>
            </p:nvSpPr>
            <p:spPr>
              <a:xfrm>
                <a:off x="4429440" y="5449320"/>
                <a:ext cx="13680" cy="20880"/>
              </a:xfrm>
              <a:custGeom>
                <a:avLst/>
                <a:gdLst/>
                <a:ahLst/>
                <a:rect l="l" t="t" r="r" b="b"/>
                <a:pathLst>
                  <a:path w="34" h="53">
                    <a:moveTo>
                      <a:pt x="0" y="26"/>
                    </a:moveTo>
                    <a:lnTo>
                      <a:pt x="34" y="0"/>
                    </a:lnTo>
                    <a:lnTo>
                      <a:pt x="33" y="28"/>
                    </a:lnTo>
                    <a:lnTo>
                      <a:pt x="2" y="53"/>
                    </a:lnTo>
                    <a:lnTo>
                      <a:pt x="0" y="26"/>
                    </a:lnTo>
                    <a:lnTo>
                      <a:pt x="0" y="2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9" name=""/>
              <p:cNvSpPr/>
              <p:nvPr/>
            </p:nvSpPr>
            <p:spPr>
              <a:xfrm>
                <a:off x="4070520" y="4551120"/>
                <a:ext cx="47880" cy="107280"/>
              </a:xfrm>
              <a:custGeom>
                <a:avLst/>
                <a:gdLst/>
                <a:ahLst/>
                <a:rect l="l" t="t" r="r" b="b"/>
                <a:pathLst>
                  <a:path w="118" h="262">
                    <a:moveTo>
                      <a:pt x="118" y="9"/>
                    </a:moveTo>
                    <a:lnTo>
                      <a:pt x="0" y="0"/>
                    </a:lnTo>
                    <a:lnTo>
                      <a:pt x="10" y="262"/>
                    </a:lnTo>
                    <a:lnTo>
                      <a:pt x="53" y="249"/>
                    </a:lnTo>
                    <a:lnTo>
                      <a:pt x="52" y="25"/>
                    </a:lnTo>
                    <a:lnTo>
                      <a:pt x="118" y="9"/>
                    </a:lnTo>
                    <a:lnTo>
                      <a:pt x="1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074480" y="4669920"/>
                <a:ext cx="20160" cy="95040"/>
              </a:xfrm>
              <a:custGeom>
                <a:avLst/>
                <a:gdLst/>
                <a:ahLst/>
                <a:rect l="l" t="t" r="r" b="b"/>
                <a:pathLst>
                  <a:path w="49" h="234">
                    <a:moveTo>
                      <a:pt x="0" y="15"/>
                    </a:moveTo>
                    <a:lnTo>
                      <a:pt x="3" y="234"/>
                    </a:lnTo>
                    <a:lnTo>
                      <a:pt x="49" y="220"/>
                    </a:lnTo>
                    <a:lnTo>
                      <a:pt x="41"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076280" y="4770720"/>
                <a:ext cx="20160" cy="95040"/>
              </a:xfrm>
              <a:custGeom>
                <a:avLst/>
                <a:gdLst/>
                <a:ahLst/>
                <a:rect l="l" t="t" r="r" b="b"/>
                <a:pathLst>
                  <a:path w="50" h="234">
                    <a:moveTo>
                      <a:pt x="0" y="15"/>
                    </a:moveTo>
                    <a:lnTo>
                      <a:pt x="4" y="234"/>
                    </a:lnTo>
                    <a:lnTo>
                      <a:pt x="50" y="218"/>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078080" y="4871520"/>
                <a:ext cx="20160" cy="95040"/>
              </a:xfrm>
              <a:custGeom>
                <a:avLst/>
                <a:gdLst/>
                <a:ahLst/>
                <a:rect l="l" t="t" r="r" b="b"/>
                <a:pathLst>
                  <a:path w="50" h="234">
                    <a:moveTo>
                      <a:pt x="0" y="15"/>
                    </a:moveTo>
                    <a:lnTo>
                      <a:pt x="4" y="234"/>
                    </a:lnTo>
                    <a:lnTo>
                      <a:pt x="50" y="220"/>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079520" y="4971960"/>
                <a:ext cx="20880" cy="95040"/>
              </a:xfrm>
              <a:custGeom>
                <a:avLst/>
                <a:gdLst/>
                <a:ahLst/>
                <a:rect l="l" t="t" r="r" b="b"/>
                <a:pathLst>
                  <a:path w="51" h="234">
                    <a:moveTo>
                      <a:pt x="0" y="15"/>
                    </a:moveTo>
                    <a:lnTo>
                      <a:pt x="6" y="234"/>
                    </a:lnTo>
                    <a:lnTo>
                      <a:pt x="51" y="220"/>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081320" y="5072760"/>
                <a:ext cx="20880" cy="96120"/>
              </a:xfrm>
              <a:custGeom>
                <a:avLst/>
                <a:gdLst/>
                <a:ahLst/>
                <a:rect l="l" t="t" r="r" b="b"/>
                <a:pathLst>
                  <a:path w="51" h="236">
                    <a:moveTo>
                      <a:pt x="0" y="17"/>
                    </a:moveTo>
                    <a:lnTo>
                      <a:pt x="6" y="236"/>
                    </a:lnTo>
                    <a:lnTo>
                      <a:pt x="51" y="221"/>
                    </a:lnTo>
                    <a:lnTo>
                      <a:pt x="42"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083840" y="5174640"/>
                <a:ext cx="20160" cy="93960"/>
              </a:xfrm>
              <a:custGeom>
                <a:avLst/>
                <a:gdLst/>
                <a:ahLst/>
                <a:rect l="l" t="t" r="r" b="b"/>
                <a:pathLst>
                  <a:path w="49" h="234">
                    <a:moveTo>
                      <a:pt x="0" y="15"/>
                    </a:moveTo>
                    <a:lnTo>
                      <a:pt x="3" y="234"/>
                    </a:lnTo>
                    <a:lnTo>
                      <a:pt x="49" y="221"/>
                    </a:lnTo>
                    <a:lnTo>
                      <a:pt x="40"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085280" y="5274360"/>
                <a:ext cx="19440" cy="95040"/>
              </a:xfrm>
              <a:custGeom>
                <a:avLst/>
                <a:gdLst/>
                <a:ahLst/>
                <a:rect l="l" t="t" r="r" b="b"/>
                <a:pathLst>
                  <a:path w="50" h="234">
                    <a:moveTo>
                      <a:pt x="0" y="15"/>
                    </a:moveTo>
                    <a:lnTo>
                      <a:pt x="4" y="234"/>
                    </a:lnTo>
                    <a:lnTo>
                      <a:pt x="50" y="221"/>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126680" y="4577040"/>
                <a:ext cx="168120" cy="31680"/>
              </a:xfrm>
              <a:custGeom>
                <a:avLst/>
                <a:gdLst/>
                <a:ahLst/>
                <a:rect l="l" t="t" r="r" b="b"/>
                <a:pathLst>
                  <a:path w="414" h="78">
                    <a:moveTo>
                      <a:pt x="0" y="0"/>
                    </a:moveTo>
                    <a:lnTo>
                      <a:pt x="146" y="30"/>
                    </a:lnTo>
                    <a:lnTo>
                      <a:pt x="308" y="49"/>
                    </a:lnTo>
                    <a:lnTo>
                      <a:pt x="412" y="59"/>
                    </a:lnTo>
                    <a:lnTo>
                      <a:pt x="414" y="78"/>
                    </a:lnTo>
                    <a:lnTo>
                      <a:pt x="298" y="72"/>
                    </a:lnTo>
                    <a:lnTo>
                      <a:pt x="135" y="51"/>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 name=""/>
              <p:cNvSpPr/>
              <p:nvPr/>
            </p:nvSpPr>
            <p:spPr>
              <a:xfrm>
                <a:off x="4131000" y="4678920"/>
                <a:ext cx="167400" cy="31680"/>
              </a:xfrm>
              <a:custGeom>
                <a:avLst/>
                <a:gdLst/>
                <a:ahLst/>
                <a:rect l="l" t="t" r="r" b="b"/>
                <a:pathLst>
                  <a:path w="412" h="77">
                    <a:moveTo>
                      <a:pt x="0" y="0"/>
                    </a:moveTo>
                    <a:lnTo>
                      <a:pt x="144" y="30"/>
                    </a:lnTo>
                    <a:lnTo>
                      <a:pt x="306" y="51"/>
                    </a:lnTo>
                    <a:lnTo>
                      <a:pt x="412" y="58"/>
                    </a:lnTo>
                    <a:lnTo>
                      <a:pt x="412" y="77"/>
                    </a:lnTo>
                    <a:lnTo>
                      <a:pt x="298" y="72"/>
                    </a:lnTo>
                    <a:lnTo>
                      <a:pt x="134" y="53"/>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a:off x="4133880" y="4782240"/>
                <a:ext cx="168120" cy="31680"/>
              </a:xfrm>
              <a:custGeom>
                <a:avLst/>
                <a:gdLst/>
                <a:ahLst/>
                <a:rect l="l" t="t" r="r" b="b"/>
                <a:pathLst>
                  <a:path w="414" h="78">
                    <a:moveTo>
                      <a:pt x="2" y="0"/>
                    </a:moveTo>
                    <a:lnTo>
                      <a:pt x="146" y="31"/>
                    </a:lnTo>
                    <a:lnTo>
                      <a:pt x="308" y="50"/>
                    </a:lnTo>
                    <a:lnTo>
                      <a:pt x="413" y="59"/>
                    </a:lnTo>
                    <a:lnTo>
                      <a:pt x="414" y="78"/>
                    </a:lnTo>
                    <a:lnTo>
                      <a:pt x="299" y="73"/>
                    </a:lnTo>
                    <a:lnTo>
                      <a:pt x="137" y="52"/>
                    </a:lnTo>
                    <a:lnTo>
                      <a:pt x="0" y="19"/>
                    </a:lnTo>
                    <a:lnTo>
                      <a:pt x="2" y="0"/>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 name=""/>
              <p:cNvSpPr/>
              <p:nvPr/>
            </p:nvSpPr>
            <p:spPr>
              <a:xfrm>
                <a:off x="4137480" y="4883760"/>
                <a:ext cx="168120" cy="31680"/>
              </a:xfrm>
              <a:custGeom>
                <a:avLst/>
                <a:gdLst/>
                <a:ahLst/>
                <a:rect l="l" t="t" r="r" b="b"/>
                <a:pathLst>
                  <a:path w="414" h="78">
                    <a:moveTo>
                      <a:pt x="0" y="0"/>
                    </a:moveTo>
                    <a:lnTo>
                      <a:pt x="146" y="31"/>
                    </a:lnTo>
                    <a:lnTo>
                      <a:pt x="306" y="52"/>
                    </a:lnTo>
                    <a:lnTo>
                      <a:pt x="412" y="59"/>
                    </a:lnTo>
                    <a:lnTo>
                      <a:pt x="414" y="78"/>
                    </a:lnTo>
                    <a:lnTo>
                      <a:pt x="298" y="72"/>
                    </a:lnTo>
                    <a:lnTo>
                      <a:pt x="135" y="53"/>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 name=""/>
              <p:cNvSpPr/>
              <p:nvPr/>
            </p:nvSpPr>
            <p:spPr>
              <a:xfrm>
                <a:off x="4141440" y="4986360"/>
                <a:ext cx="167400" cy="31680"/>
              </a:xfrm>
              <a:custGeom>
                <a:avLst/>
                <a:gdLst/>
                <a:ahLst/>
                <a:rect l="l" t="t" r="r" b="b"/>
                <a:pathLst>
                  <a:path w="413" h="80">
                    <a:moveTo>
                      <a:pt x="0" y="0"/>
                    </a:moveTo>
                    <a:lnTo>
                      <a:pt x="145" y="32"/>
                    </a:lnTo>
                    <a:lnTo>
                      <a:pt x="306" y="51"/>
                    </a:lnTo>
                    <a:lnTo>
                      <a:pt x="413" y="61"/>
                    </a:lnTo>
                    <a:lnTo>
                      <a:pt x="413" y="80"/>
                    </a:lnTo>
                    <a:lnTo>
                      <a:pt x="299" y="74"/>
                    </a:lnTo>
                    <a:lnTo>
                      <a:pt x="135" y="53"/>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2" name=""/>
              <p:cNvSpPr/>
              <p:nvPr/>
            </p:nvSpPr>
            <p:spPr>
              <a:xfrm>
                <a:off x="4147200" y="5096160"/>
                <a:ext cx="159120" cy="64800"/>
              </a:xfrm>
              <a:custGeom>
                <a:avLst/>
                <a:gdLst/>
                <a:ahLst/>
                <a:rect l="l" t="t" r="r" b="b"/>
                <a:pathLst>
                  <a:path w="394" h="162">
                    <a:moveTo>
                      <a:pt x="371" y="101"/>
                    </a:moveTo>
                    <a:lnTo>
                      <a:pt x="350" y="74"/>
                    </a:lnTo>
                    <a:lnTo>
                      <a:pt x="306" y="61"/>
                    </a:lnTo>
                    <a:lnTo>
                      <a:pt x="52" y="17"/>
                    </a:lnTo>
                    <a:lnTo>
                      <a:pt x="29" y="23"/>
                    </a:lnTo>
                    <a:lnTo>
                      <a:pt x="18" y="44"/>
                    </a:lnTo>
                    <a:lnTo>
                      <a:pt x="27" y="78"/>
                    </a:lnTo>
                    <a:lnTo>
                      <a:pt x="61" y="101"/>
                    </a:lnTo>
                    <a:lnTo>
                      <a:pt x="333" y="148"/>
                    </a:lnTo>
                    <a:lnTo>
                      <a:pt x="363" y="139"/>
                    </a:lnTo>
                    <a:lnTo>
                      <a:pt x="375" y="120"/>
                    </a:lnTo>
                    <a:lnTo>
                      <a:pt x="379" y="141"/>
                    </a:lnTo>
                    <a:lnTo>
                      <a:pt x="350" y="162"/>
                    </a:lnTo>
                    <a:lnTo>
                      <a:pt x="303" y="162"/>
                    </a:lnTo>
                    <a:lnTo>
                      <a:pt x="38" y="112"/>
                    </a:lnTo>
                    <a:lnTo>
                      <a:pt x="10" y="84"/>
                    </a:lnTo>
                    <a:lnTo>
                      <a:pt x="0" y="40"/>
                    </a:lnTo>
                    <a:lnTo>
                      <a:pt x="16" y="11"/>
                    </a:lnTo>
                    <a:lnTo>
                      <a:pt x="54" y="0"/>
                    </a:lnTo>
                    <a:lnTo>
                      <a:pt x="329" y="44"/>
                    </a:lnTo>
                    <a:lnTo>
                      <a:pt x="369" y="63"/>
                    </a:lnTo>
                    <a:lnTo>
                      <a:pt x="390" y="91"/>
                    </a:lnTo>
                    <a:lnTo>
                      <a:pt x="394" y="114"/>
                    </a:lnTo>
                    <a:lnTo>
                      <a:pt x="371" y="101"/>
                    </a:lnTo>
                    <a:lnTo>
                      <a:pt x="371" y="10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 name=""/>
              <p:cNvSpPr/>
              <p:nvPr/>
            </p:nvSpPr>
            <p:spPr>
              <a:xfrm>
                <a:off x="4086000" y="5378040"/>
                <a:ext cx="17640" cy="69840"/>
              </a:xfrm>
              <a:custGeom>
                <a:avLst/>
                <a:gdLst/>
                <a:ahLst/>
                <a:rect l="l" t="t" r="r" b="b"/>
                <a:pathLst>
                  <a:path w="46" h="171">
                    <a:moveTo>
                      <a:pt x="0" y="13"/>
                    </a:moveTo>
                    <a:lnTo>
                      <a:pt x="40" y="0"/>
                    </a:lnTo>
                    <a:lnTo>
                      <a:pt x="46" y="152"/>
                    </a:lnTo>
                    <a:lnTo>
                      <a:pt x="2" y="171"/>
                    </a:lnTo>
                    <a:lnTo>
                      <a:pt x="0" y="13"/>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4" name=""/>
              <p:cNvSpPr/>
              <p:nvPr/>
            </p:nvSpPr>
            <p:spPr>
              <a:xfrm>
                <a:off x="4002480" y="4367160"/>
                <a:ext cx="44640" cy="128520"/>
              </a:xfrm>
              <a:custGeom>
                <a:avLst/>
                <a:gdLst/>
                <a:ahLst/>
                <a:rect l="l" t="t" r="r" b="b"/>
                <a:pathLst>
                  <a:path w="110" h="316">
                    <a:moveTo>
                      <a:pt x="4" y="0"/>
                    </a:moveTo>
                    <a:lnTo>
                      <a:pt x="101" y="18"/>
                    </a:lnTo>
                    <a:lnTo>
                      <a:pt x="110" y="307"/>
                    </a:lnTo>
                    <a:lnTo>
                      <a:pt x="86" y="316"/>
                    </a:lnTo>
                    <a:lnTo>
                      <a:pt x="11" y="299"/>
                    </a:lnTo>
                    <a:lnTo>
                      <a:pt x="0" y="274"/>
                    </a:lnTo>
                    <a:lnTo>
                      <a:pt x="84" y="291"/>
                    </a:lnTo>
                    <a:lnTo>
                      <a:pt x="76" y="39"/>
                    </a:lnTo>
                    <a:lnTo>
                      <a:pt x="2" y="23"/>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266000" y="4331160"/>
                <a:ext cx="33120" cy="12960"/>
              </a:xfrm>
              <a:custGeom>
                <a:avLst/>
                <a:gdLst/>
                <a:ahLst/>
                <a:rect l="l" t="t" r="r" b="b"/>
                <a:pathLst>
                  <a:path w="82" h="32">
                    <a:moveTo>
                      <a:pt x="0" y="15"/>
                    </a:moveTo>
                    <a:lnTo>
                      <a:pt x="61" y="17"/>
                    </a:lnTo>
                    <a:lnTo>
                      <a:pt x="61" y="0"/>
                    </a:lnTo>
                    <a:lnTo>
                      <a:pt x="82" y="4"/>
                    </a:lnTo>
                    <a:lnTo>
                      <a:pt x="82" y="32"/>
                    </a:lnTo>
                    <a:lnTo>
                      <a:pt x="6" y="27"/>
                    </a:lnTo>
                    <a:lnTo>
                      <a:pt x="0" y="15"/>
                    </a:lnTo>
                    <a:lnTo>
                      <a:pt x="0"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 name=""/>
              <p:cNvSpPr/>
              <p:nvPr/>
            </p:nvSpPr>
            <p:spPr>
              <a:xfrm>
                <a:off x="4149360" y="5134680"/>
                <a:ext cx="156960" cy="39600"/>
              </a:xfrm>
              <a:custGeom>
                <a:avLst/>
                <a:gdLst/>
                <a:ahLst/>
                <a:rect l="l" t="t" r="r" b="b"/>
                <a:pathLst>
                  <a:path w="388" h="97">
                    <a:moveTo>
                      <a:pt x="0" y="0"/>
                    </a:moveTo>
                    <a:lnTo>
                      <a:pt x="38" y="32"/>
                    </a:lnTo>
                    <a:lnTo>
                      <a:pt x="321" y="76"/>
                    </a:lnTo>
                    <a:lnTo>
                      <a:pt x="365" y="65"/>
                    </a:lnTo>
                    <a:lnTo>
                      <a:pt x="388" y="40"/>
                    </a:lnTo>
                    <a:lnTo>
                      <a:pt x="380" y="74"/>
                    </a:lnTo>
                    <a:lnTo>
                      <a:pt x="325" y="97"/>
                    </a:lnTo>
                    <a:lnTo>
                      <a:pt x="32" y="48"/>
                    </a:lnTo>
                    <a:lnTo>
                      <a:pt x="0" y="0"/>
                    </a:lnTo>
                    <a:lnTo>
                      <a:pt x="0" y="0"/>
                    </a:lnTo>
                    <a:close/>
                  </a:path>
                </a:pathLst>
              </a:custGeom>
              <a:solidFill>
                <a:srgbClr val="e8d9d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 name=""/>
              <p:cNvSpPr/>
              <p:nvPr/>
            </p:nvSpPr>
            <p:spPr>
              <a:xfrm>
                <a:off x="4046400" y="4549320"/>
                <a:ext cx="25200" cy="920160"/>
              </a:xfrm>
              <a:custGeom>
                <a:avLst/>
                <a:gdLst/>
                <a:ahLst/>
                <a:rect l="l" t="t" r="r" b="b"/>
                <a:pathLst>
                  <a:path w="61" h="2262">
                    <a:moveTo>
                      <a:pt x="21" y="8"/>
                    </a:moveTo>
                    <a:lnTo>
                      <a:pt x="61" y="2262"/>
                    </a:lnTo>
                    <a:lnTo>
                      <a:pt x="44" y="2258"/>
                    </a:lnTo>
                    <a:lnTo>
                      <a:pt x="0" y="0"/>
                    </a:lnTo>
                    <a:lnTo>
                      <a:pt x="21" y="8"/>
                    </a:lnTo>
                    <a:lnTo>
                      <a:pt x="21" y="8"/>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4155480" y="4575240"/>
              <a:ext cx="1083240" cy="991800"/>
              <a:chOff x="4155480" y="4575240"/>
              <a:chExt cx="1083240" cy="991800"/>
            </a:xfrm>
          </p:grpSpPr>
          <p:sp>
            <p:nvSpPr>
              <p:cNvPr id="149" name=""/>
              <p:cNvSpPr/>
              <p:nvPr/>
            </p:nvSpPr>
            <p:spPr>
              <a:xfrm>
                <a:off x="4237560" y="4635720"/>
                <a:ext cx="1001160" cy="931320"/>
              </a:xfrm>
              <a:custGeom>
                <a:avLst/>
                <a:gdLst/>
                <a:ahLst/>
                <a:rect l="l" t="t" r="r" b="b"/>
                <a:pathLst>
                  <a:path w="1093" h="1015">
                    <a:moveTo>
                      <a:pt x="871" y="0"/>
                    </a:moveTo>
                    <a:lnTo>
                      <a:pt x="852" y="3"/>
                    </a:lnTo>
                    <a:lnTo>
                      <a:pt x="833" y="6"/>
                    </a:lnTo>
                    <a:lnTo>
                      <a:pt x="815" y="11"/>
                    </a:lnTo>
                    <a:lnTo>
                      <a:pt x="796" y="15"/>
                    </a:lnTo>
                    <a:lnTo>
                      <a:pt x="778" y="19"/>
                    </a:lnTo>
                    <a:lnTo>
                      <a:pt x="760" y="24"/>
                    </a:lnTo>
                    <a:lnTo>
                      <a:pt x="741" y="28"/>
                    </a:lnTo>
                    <a:lnTo>
                      <a:pt x="724" y="33"/>
                    </a:lnTo>
                    <a:lnTo>
                      <a:pt x="724" y="33"/>
                    </a:lnTo>
                    <a:lnTo>
                      <a:pt x="724" y="33"/>
                    </a:lnTo>
                    <a:lnTo>
                      <a:pt x="723" y="33"/>
                    </a:lnTo>
                    <a:lnTo>
                      <a:pt x="723" y="33"/>
                    </a:lnTo>
                    <a:lnTo>
                      <a:pt x="718" y="34"/>
                    </a:lnTo>
                    <a:lnTo>
                      <a:pt x="712" y="36"/>
                    </a:lnTo>
                    <a:lnTo>
                      <a:pt x="708" y="38"/>
                    </a:lnTo>
                    <a:lnTo>
                      <a:pt x="702" y="39"/>
                    </a:lnTo>
                    <a:lnTo>
                      <a:pt x="702" y="40"/>
                    </a:lnTo>
                    <a:lnTo>
                      <a:pt x="702" y="40"/>
                    </a:lnTo>
                    <a:lnTo>
                      <a:pt x="701" y="40"/>
                    </a:lnTo>
                    <a:lnTo>
                      <a:pt x="701" y="40"/>
                    </a:lnTo>
                    <a:lnTo>
                      <a:pt x="689" y="43"/>
                    </a:lnTo>
                    <a:lnTo>
                      <a:pt x="679" y="46"/>
                    </a:lnTo>
                    <a:lnTo>
                      <a:pt x="671" y="49"/>
                    </a:lnTo>
                    <a:lnTo>
                      <a:pt x="663" y="51"/>
                    </a:lnTo>
                    <a:lnTo>
                      <a:pt x="657" y="53"/>
                    </a:lnTo>
                    <a:lnTo>
                      <a:pt x="651" y="55"/>
                    </a:lnTo>
                    <a:lnTo>
                      <a:pt x="648" y="55"/>
                    </a:lnTo>
                    <a:lnTo>
                      <a:pt x="646" y="56"/>
                    </a:lnTo>
                    <a:lnTo>
                      <a:pt x="628" y="62"/>
                    </a:lnTo>
                    <a:lnTo>
                      <a:pt x="611" y="68"/>
                    </a:lnTo>
                    <a:lnTo>
                      <a:pt x="594" y="73"/>
                    </a:lnTo>
                    <a:lnTo>
                      <a:pt x="576" y="79"/>
                    </a:lnTo>
                    <a:lnTo>
                      <a:pt x="560" y="85"/>
                    </a:lnTo>
                    <a:lnTo>
                      <a:pt x="544" y="92"/>
                    </a:lnTo>
                    <a:lnTo>
                      <a:pt x="527" y="97"/>
                    </a:lnTo>
                    <a:lnTo>
                      <a:pt x="511" y="103"/>
                    </a:lnTo>
                    <a:lnTo>
                      <a:pt x="484" y="112"/>
                    </a:lnTo>
                    <a:lnTo>
                      <a:pt x="459" y="123"/>
                    </a:lnTo>
                    <a:lnTo>
                      <a:pt x="434" y="133"/>
                    </a:lnTo>
                    <a:lnTo>
                      <a:pt x="408" y="142"/>
                    </a:lnTo>
                    <a:lnTo>
                      <a:pt x="382" y="153"/>
                    </a:lnTo>
                    <a:lnTo>
                      <a:pt x="356" y="162"/>
                    </a:lnTo>
                    <a:lnTo>
                      <a:pt x="331" y="172"/>
                    </a:lnTo>
                    <a:lnTo>
                      <a:pt x="307" y="182"/>
                    </a:lnTo>
                    <a:lnTo>
                      <a:pt x="281" y="191"/>
                    </a:lnTo>
                    <a:lnTo>
                      <a:pt x="256" y="200"/>
                    </a:lnTo>
                    <a:lnTo>
                      <a:pt x="231" y="209"/>
                    </a:lnTo>
                    <a:lnTo>
                      <a:pt x="205" y="218"/>
                    </a:lnTo>
                    <a:lnTo>
                      <a:pt x="179" y="226"/>
                    </a:lnTo>
                    <a:lnTo>
                      <a:pt x="153" y="236"/>
                    </a:lnTo>
                    <a:lnTo>
                      <a:pt x="128" y="243"/>
                    </a:lnTo>
                    <a:lnTo>
                      <a:pt x="102" y="251"/>
                    </a:lnTo>
                    <a:lnTo>
                      <a:pt x="102" y="251"/>
                    </a:lnTo>
                    <a:lnTo>
                      <a:pt x="102" y="251"/>
                    </a:lnTo>
                    <a:lnTo>
                      <a:pt x="102" y="251"/>
                    </a:lnTo>
                    <a:lnTo>
                      <a:pt x="102" y="251"/>
                    </a:lnTo>
                    <a:lnTo>
                      <a:pt x="95" y="253"/>
                    </a:lnTo>
                    <a:lnTo>
                      <a:pt x="89" y="255"/>
                    </a:lnTo>
                    <a:lnTo>
                      <a:pt x="82" y="256"/>
                    </a:lnTo>
                    <a:lnTo>
                      <a:pt x="76" y="259"/>
                    </a:lnTo>
                    <a:lnTo>
                      <a:pt x="71" y="260"/>
                    </a:lnTo>
                    <a:lnTo>
                      <a:pt x="64" y="262"/>
                    </a:lnTo>
                    <a:lnTo>
                      <a:pt x="58" y="263"/>
                    </a:lnTo>
                    <a:lnTo>
                      <a:pt x="51" y="265"/>
                    </a:lnTo>
                    <a:lnTo>
                      <a:pt x="44" y="278"/>
                    </a:lnTo>
                    <a:lnTo>
                      <a:pt x="38" y="292"/>
                    </a:lnTo>
                    <a:lnTo>
                      <a:pt x="31" y="305"/>
                    </a:lnTo>
                    <a:lnTo>
                      <a:pt x="26" y="318"/>
                    </a:lnTo>
                    <a:lnTo>
                      <a:pt x="20" y="331"/>
                    </a:lnTo>
                    <a:lnTo>
                      <a:pt x="13" y="344"/>
                    </a:lnTo>
                    <a:lnTo>
                      <a:pt x="7" y="357"/>
                    </a:lnTo>
                    <a:lnTo>
                      <a:pt x="0" y="371"/>
                    </a:lnTo>
                    <a:lnTo>
                      <a:pt x="35" y="448"/>
                    </a:lnTo>
                    <a:lnTo>
                      <a:pt x="66" y="525"/>
                    </a:lnTo>
                    <a:lnTo>
                      <a:pt x="92" y="602"/>
                    </a:lnTo>
                    <a:lnTo>
                      <a:pt x="114" y="682"/>
                    </a:lnTo>
                    <a:lnTo>
                      <a:pt x="134" y="760"/>
                    </a:lnTo>
                    <a:lnTo>
                      <a:pt x="150" y="841"/>
                    </a:lnTo>
                    <a:lnTo>
                      <a:pt x="163" y="921"/>
                    </a:lnTo>
                    <a:lnTo>
                      <a:pt x="174" y="1003"/>
                    </a:lnTo>
                    <a:lnTo>
                      <a:pt x="193" y="1001"/>
                    </a:lnTo>
                    <a:lnTo>
                      <a:pt x="211" y="998"/>
                    </a:lnTo>
                    <a:lnTo>
                      <a:pt x="228" y="996"/>
                    </a:lnTo>
                    <a:lnTo>
                      <a:pt x="247" y="995"/>
                    </a:lnTo>
                    <a:lnTo>
                      <a:pt x="265" y="993"/>
                    </a:lnTo>
                    <a:lnTo>
                      <a:pt x="284" y="991"/>
                    </a:lnTo>
                    <a:lnTo>
                      <a:pt x="301" y="990"/>
                    </a:lnTo>
                    <a:lnTo>
                      <a:pt x="319" y="989"/>
                    </a:lnTo>
                    <a:lnTo>
                      <a:pt x="338" y="988"/>
                    </a:lnTo>
                    <a:lnTo>
                      <a:pt x="356" y="987"/>
                    </a:lnTo>
                    <a:lnTo>
                      <a:pt x="374" y="986"/>
                    </a:lnTo>
                    <a:lnTo>
                      <a:pt x="392" y="986"/>
                    </a:lnTo>
                    <a:lnTo>
                      <a:pt x="410" y="986"/>
                    </a:lnTo>
                    <a:lnTo>
                      <a:pt x="429" y="985"/>
                    </a:lnTo>
                    <a:lnTo>
                      <a:pt x="446" y="985"/>
                    </a:lnTo>
                    <a:lnTo>
                      <a:pt x="465" y="985"/>
                    </a:lnTo>
                    <a:lnTo>
                      <a:pt x="489" y="985"/>
                    </a:lnTo>
                    <a:lnTo>
                      <a:pt x="513" y="985"/>
                    </a:lnTo>
                    <a:lnTo>
                      <a:pt x="537" y="986"/>
                    </a:lnTo>
                    <a:lnTo>
                      <a:pt x="561" y="986"/>
                    </a:lnTo>
                    <a:lnTo>
                      <a:pt x="586" y="987"/>
                    </a:lnTo>
                    <a:lnTo>
                      <a:pt x="610" y="988"/>
                    </a:lnTo>
                    <a:lnTo>
                      <a:pt x="633" y="990"/>
                    </a:lnTo>
                    <a:lnTo>
                      <a:pt x="656" y="991"/>
                    </a:lnTo>
                    <a:lnTo>
                      <a:pt x="680" y="994"/>
                    </a:lnTo>
                    <a:lnTo>
                      <a:pt x="702" y="996"/>
                    </a:lnTo>
                    <a:lnTo>
                      <a:pt x="725" y="998"/>
                    </a:lnTo>
                    <a:lnTo>
                      <a:pt x="748" y="1002"/>
                    </a:lnTo>
                    <a:lnTo>
                      <a:pt x="770" y="1004"/>
                    </a:lnTo>
                    <a:lnTo>
                      <a:pt x="793" y="1008"/>
                    </a:lnTo>
                    <a:lnTo>
                      <a:pt x="815" y="1011"/>
                    </a:lnTo>
                    <a:lnTo>
                      <a:pt x="837" y="1015"/>
                    </a:lnTo>
                    <a:lnTo>
                      <a:pt x="853" y="1010"/>
                    </a:lnTo>
                    <a:lnTo>
                      <a:pt x="869" y="1006"/>
                    </a:lnTo>
                    <a:lnTo>
                      <a:pt x="885" y="1002"/>
                    </a:lnTo>
                    <a:lnTo>
                      <a:pt x="900" y="998"/>
                    </a:lnTo>
                    <a:lnTo>
                      <a:pt x="916" y="994"/>
                    </a:lnTo>
                    <a:lnTo>
                      <a:pt x="932" y="989"/>
                    </a:lnTo>
                    <a:lnTo>
                      <a:pt x="949" y="986"/>
                    </a:lnTo>
                    <a:lnTo>
                      <a:pt x="965" y="981"/>
                    </a:lnTo>
                    <a:lnTo>
                      <a:pt x="980" y="978"/>
                    </a:lnTo>
                    <a:lnTo>
                      <a:pt x="996" y="973"/>
                    </a:lnTo>
                    <a:lnTo>
                      <a:pt x="1012" y="968"/>
                    </a:lnTo>
                    <a:lnTo>
                      <a:pt x="1028" y="965"/>
                    </a:lnTo>
                    <a:lnTo>
                      <a:pt x="1044" y="960"/>
                    </a:lnTo>
                    <a:lnTo>
                      <a:pt x="1060" y="957"/>
                    </a:lnTo>
                    <a:lnTo>
                      <a:pt x="1077" y="952"/>
                    </a:lnTo>
                    <a:lnTo>
                      <a:pt x="1093" y="949"/>
                    </a:lnTo>
                    <a:lnTo>
                      <a:pt x="1087" y="889"/>
                    </a:lnTo>
                    <a:lnTo>
                      <a:pt x="1081" y="830"/>
                    </a:lnTo>
                    <a:lnTo>
                      <a:pt x="1074" y="771"/>
                    </a:lnTo>
                    <a:lnTo>
                      <a:pt x="1066" y="713"/>
                    </a:lnTo>
                    <a:lnTo>
                      <a:pt x="1057" y="654"/>
                    </a:lnTo>
                    <a:lnTo>
                      <a:pt x="1047" y="596"/>
                    </a:lnTo>
                    <a:lnTo>
                      <a:pt x="1035" y="538"/>
                    </a:lnTo>
                    <a:lnTo>
                      <a:pt x="1022" y="480"/>
                    </a:lnTo>
                    <a:lnTo>
                      <a:pt x="1009" y="421"/>
                    </a:lnTo>
                    <a:lnTo>
                      <a:pt x="992" y="362"/>
                    </a:lnTo>
                    <a:lnTo>
                      <a:pt x="976" y="304"/>
                    </a:lnTo>
                    <a:lnTo>
                      <a:pt x="958" y="244"/>
                    </a:lnTo>
                    <a:lnTo>
                      <a:pt x="939" y="184"/>
                    </a:lnTo>
                    <a:lnTo>
                      <a:pt x="917" y="124"/>
                    </a:lnTo>
                    <a:lnTo>
                      <a:pt x="896" y="62"/>
                    </a:lnTo>
                    <a:lnTo>
                      <a:pt x="871" y="0"/>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55480" y="4575240"/>
                <a:ext cx="1008000" cy="990000"/>
              </a:xfrm>
              <a:custGeom>
                <a:avLst/>
                <a:gdLst/>
                <a:ahLst/>
                <a:rect l="l" t="t" r="r" b="b"/>
                <a:pathLst>
                  <a:path w="1102" h="1078">
                    <a:moveTo>
                      <a:pt x="864" y="0"/>
                    </a:moveTo>
                    <a:lnTo>
                      <a:pt x="836" y="6"/>
                    </a:lnTo>
                    <a:lnTo>
                      <a:pt x="807" y="13"/>
                    </a:lnTo>
                    <a:lnTo>
                      <a:pt x="778" y="19"/>
                    </a:lnTo>
                    <a:lnTo>
                      <a:pt x="750" y="28"/>
                    </a:lnTo>
                    <a:lnTo>
                      <a:pt x="723" y="34"/>
                    </a:lnTo>
                    <a:lnTo>
                      <a:pt x="696" y="42"/>
                    </a:lnTo>
                    <a:lnTo>
                      <a:pt x="670" y="52"/>
                    </a:lnTo>
                    <a:lnTo>
                      <a:pt x="643" y="60"/>
                    </a:lnTo>
                    <a:lnTo>
                      <a:pt x="617" y="69"/>
                    </a:lnTo>
                    <a:lnTo>
                      <a:pt x="591" y="78"/>
                    </a:lnTo>
                    <a:lnTo>
                      <a:pt x="565" y="87"/>
                    </a:lnTo>
                    <a:lnTo>
                      <a:pt x="539" y="97"/>
                    </a:lnTo>
                    <a:lnTo>
                      <a:pt x="515" y="107"/>
                    </a:lnTo>
                    <a:lnTo>
                      <a:pt x="490" y="116"/>
                    </a:lnTo>
                    <a:lnTo>
                      <a:pt x="466" y="127"/>
                    </a:lnTo>
                    <a:lnTo>
                      <a:pt x="440" y="136"/>
                    </a:lnTo>
                    <a:lnTo>
                      <a:pt x="416" y="146"/>
                    </a:lnTo>
                    <a:lnTo>
                      <a:pt x="392" y="157"/>
                    </a:lnTo>
                    <a:lnTo>
                      <a:pt x="368" y="166"/>
                    </a:lnTo>
                    <a:lnTo>
                      <a:pt x="344" y="176"/>
                    </a:lnTo>
                    <a:lnTo>
                      <a:pt x="319" y="185"/>
                    </a:lnTo>
                    <a:lnTo>
                      <a:pt x="295" y="196"/>
                    </a:lnTo>
                    <a:lnTo>
                      <a:pt x="271" y="205"/>
                    </a:lnTo>
                    <a:lnTo>
                      <a:pt x="247" y="214"/>
                    </a:lnTo>
                    <a:lnTo>
                      <a:pt x="223" y="223"/>
                    </a:lnTo>
                    <a:lnTo>
                      <a:pt x="198" y="233"/>
                    </a:lnTo>
                    <a:lnTo>
                      <a:pt x="174" y="241"/>
                    </a:lnTo>
                    <a:lnTo>
                      <a:pt x="149" y="250"/>
                    </a:lnTo>
                    <a:lnTo>
                      <a:pt x="125" y="258"/>
                    </a:lnTo>
                    <a:lnTo>
                      <a:pt x="100" y="265"/>
                    </a:lnTo>
                    <a:lnTo>
                      <a:pt x="75" y="273"/>
                    </a:lnTo>
                    <a:lnTo>
                      <a:pt x="50" y="280"/>
                    </a:lnTo>
                    <a:lnTo>
                      <a:pt x="43" y="294"/>
                    </a:lnTo>
                    <a:lnTo>
                      <a:pt x="37" y="307"/>
                    </a:lnTo>
                    <a:lnTo>
                      <a:pt x="30" y="320"/>
                    </a:lnTo>
                    <a:lnTo>
                      <a:pt x="24" y="334"/>
                    </a:lnTo>
                    <a:lnTo>
                      <a:pt x="19" y="347"/>
                    </a:lnTo>
                    <a:lnTo>
                      <a:pt x="13" y="360"/>
                    </a:lnTo>
                    <a:lnTo>
                      <a:pt x="6" y="373"/>
                    </a:lnTo>
                    <a:lnTo>
                      <a:pt x="0" y="387"/>
                    </a:lnTo>
                    <a:lnTo>
                      <a:pt x="21" y="428"/>
                    </a:lnTo>
                    <a:lnTo>
                      <a:pt x="39" y="470"/>
                    </a:lnTo>
                    <a:lnTo>
                      <a:pt x="58" y="513"/>
                    </a:lnTo>
                    <a:lnTo>
                      <a:pt x="74" y="554"/>
                    </a:lnTo>
                    <a:lnTo>
                      <a:pt x="89" y="597"/>
                    </a:lnTo>
                    <a:lnTo>
                      <a:pt x="103" y="639"/>
                    </a:lnTo>
                    <a:lnTo>
                      <a:pt x="117" y="682"/>
                    </a:lnTo>
                    <a:lnTo>
                      <a:pt x="128" y="726"/>
                    </a:lnTo>
                    <a:lnTo>
                      <a:pt x="138" y="768"/>
                    </a:lnTo>
                    <a:lnTo>
                      <a:pt x="149" y="812"/>
                    </a:lnTo>
                    <a:lnTo>
                      <a:pt x="158" y="856"/>
                    </a:lnTo>
                    <a:lnTo>
                      <a:pt x="166" y="900"/>
                    </a:lnTo>
                    <a:lnTo>
                      <a:pt x="174" y="943"/>
                    </a:lnTo>
                    <a:lnTo>
                      <a:pt x="181" y="988"/>
                    </a:lnTo>
                    <a:lnTo>
                      <a:pt x="187" y="1033"/>
                    </a:lnTo>
                    <a:lnTo>
                      <a:pt x="193" y="1078"/>
                    </a:lnTo>
                    <a:lnTo>
                      <a:pt x="216" y="1075"/>
                    </a:lnTo>
                    <a:lnTo>
                      <a:pt x="238" y="1071"/>
                    </a:lnTo>
                    <a:lnTo>
                      <a:pt x="261" y="1069"/>
                    </a:lnTo>
                    <a:lnTo>
                      <a:pt x="284" y="1066"/>
                    </a:lnTo>
                    <a:lnTo>
                      <a:pt x="306" y="1063"/>
                    </a:lnTo>
                    <a:lnTo>
                      <a:pt x="329" y="1061"/>
                    </a:lnTo>
                    <a:lnTo>
                      <a:pt x="352" y="1060"/>
                    </a:lnTo>
                    <a:lnTo>
                      <a:pt x="375" y="1057"/>
                    </a:lnTo>
                    <a:lnTo>
                      <a:pt x="397" y="1056"/>
                    </a:lnTo>
                    <a:lnTo>
                      <a:pt x="420" y="1054"/>
                    </a:lnTo>
                    <a:lnTo>
                      <a:pt x="443" y="1053"/>
                    </a:lnTo>
                    <a:lnTo>
                      <a:pt x="465" y="1052"/>
                    </a:lnTo>
                    <a:lnTo>
                      <a:pt x="488" y="1052"/>
                    </a:lnTo>
                    <a:lnTo>
                      <a:pt x="511" y="1051"/>
                    </a:lnTo>
                    <a:lnTo>
                      <a:pt x="533" y="1051"/>
                    </a:lnTo>
                    <a:lnTo>
                      <a:pt x="556" y="1051"/>
                    </a:lnTo>
                    <a:lnTo>
                      <a:pt x="576" y="1051"/>
                    </a:lnTo>
                    <a:lnTo>
                      <a:pt x="596" y="1051"/>
                    </a:lnTo>
                    <a:lnTo>
                      <a:pt x="616" y="1051"/>
                    </a:lnTo>
                    <a:lnTo>
                      <a:pt x="635" y="1052"/>
                    </a:lnTo>
                    <a:lnTo>
                      <a:pt x="655" y="1052"/>
                    </a:lnTo>
                    <a:lnTo>
                      <a:pt x="673" y="1053"/>
                    </a:lnTo>
                    <a:lnTo>
                      <a:pt x="693" y="1054"/>
                    </a:lnTo>
                    <a:lnTo>
                      <a:pt x="711" y="1055"/>
                    </a:lnTo>
                    <a:lnTo>
                      <a:pt x="735" y="1048"/>
                    </a:lnTo>
                    <a:lnTo>
                      <a:pt x="760" y="1041"/>
                    </a:lnTo>
                    <a:lnTo>
                      <a:pt x="784" y="1036"/>
                    </a:lnTo>
                    <a:lnTo>
                      <a:pt x="808" y="1029"/>
                    </a:lnTo>
                    <a:lnTo>
                      <a:pt x="832" y="1022"/>
                    </a:lnTo>
                    <a:lnTo>
                      <a:pt x="856" y="1015"/>
                    </a:lnTo>
                    <a:lnTo>
                      <a:pt x="882" y="1008"/>
                    </a:lnTo>
                    <a:lnTo>
                      <a:pt x="906" y="1001"/>
                    </a:lnTo>
                    <a:lnTo>
                      <a:pt x="930" y="994"/>
                    </a:lnTo>
                    <a:lnTo>
                      <a:pt x="954" y="987"/>
                    </a:lnTo>
                    <a:lnTo>
                      <a:pt x="979" y="980"/>
                    </a:lnTo>
                    <a:lnTo>
                      <a:pt x="1004" y="973"/>
                    </a:lnTo>
                    <a:lnTo>
                      <a:pt x="1028" y="966"/>
                    </a:lnTo>
                    <a:lnTo>
                      <a:pt x="1052" y="960"/>
                    </a:lnTo>
                    <a:lnTo>
                      <a:pt x="1078" y="953"/>
                    </a:lnTo>
                    <a:lnTo>
                      <a:pt x="1102" y="946"/>
                    </a:lnTo>
                    <a:lnTo>
                      <a:pt x="1096" y="886"/>
                    </a:lnTo>
                    <a:lnTo>
                      <a:pt x="1089" y="827"/>
                    </a:lnTo>
                    <a:lnTo>
                      <a:pt x="1081" y="768"/>
                    </a:lnTo>
                    <a:lnTo>
                      <a:pt x="1072" y="710"/>
                    </a:lnTo>
                    <a:lnTo>
                      <a:pt x="1061" y="652"/>
                    </a:lnTo>
                    <a:lnTo>
                      <a:pt x="1050" y="594"/>
                    </a:lnTo>
                    <a:lnTo>
                      <a:pt x="1037" y="536"/>
                    </a:lnTo>
                    <a:lnTo>
                      <a:pt x="1023" y="478"/>
                    </a:lnTo>
                    <a:lnTo>
                      <a:pt x="1008" y="419"/>
                    </a:lnTo>
                    <a:lnTo>
                      <a:pt x="992" y="362"/>
                    </a:lnTo>
                    <a:lnTo>
                      <a:pt x="975" y="303"/>
                    </a:lnTo>
                    <a:lnTo>
                      <a:pt x="955" y="243"/>
                    </a:lnTo>
                    <a:lnTo>
                      <a:pt x="935" y="183"/>
                    </a:lnTo>
                    <a:lnTo>
                      <a:pt x="913" y="123"/>
                    </a:lnTo>
                    <a:lnTo>
                      <a:pt x="890" y="62"/>
                    </a:lnTo>
                    <a:lnTo>
                      <a:pt x="864" y="0"/>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05400" y="5002560"/>
                <a:ext cx="339120" cy="349920"/>
              </a:xfrm>
              <a:custGeom>
                <a:avLst/>
                <a:gdLst/>
                <a:ahLst/>
                <a:rect l="l" t="t" r="r" b="b"/>
                <a:pathLst>
                  <a:path w="369" h="384">
                    <a:moveTo>
                      <a:pt x="226" y="377"/>
                    </a:moveTo>
                    <a:lnTo>
                      <a:pt x="261" y="362"/>
                    </a:lnTo>
                    <a:lnTo>
                      <a:pt x="293" y="341"/>
                    </a:lnTo>
                    <a:lnTo>
                      <a:pt x="319" y="316"/>
                    </a:lnTo>
                    <a:lnTo>
                      <a:pt x="341" y="286"/>
                    </a:lnTo>
                    <a:lnTo>
                      <a:pt x="357" y="252"/>
                    </a:lnTo>
                    <a:lnTo>
                      <a:pt x="366" y="216"/>
                    </a:lnTo>
                    <a:lnTo>
                      <a:pt x="369" y="178"/>
                    </a:lnTo>
                    <a:lnTo>
                      <a:pt x="363" y="138"/>
                    </a:lnTo>
                    <a:lnTo>
                      <a:pt x="356" y="119"/>
                    </a:lnTo>
                    <a:lnTo>
                      <a:pt x="348" y="102"/>
                    </a:lnTo>
                    <a:lnTo>
                      <a:pt x="339" y="84"/>
                    </a:lnTo>
                    <a:lnTo>
                      <a:pt x="327" y="69"/>
                    </a:lnTo>
                    <a:lnTo>
                      <a:pt x="315" y="55"/>
                    </a:lnTo>
                    <a:lnTo>
                      <a:pt x="302" y="43"/>
                    </a:lnTo>
                    <a:lnTo>
                      <a:pt x="287" y="32"/>
                    </a:lnTo>
                    <a:lnTo>
                      <a:pt x="271" y="22"/>
                    </a:lnTo>
                    <a:lnTo>
                      <a:pt x="255" y="14"/>
                    </a:lnTo>
                    <a:lnTo>
                      <a:pt x="237" y="8"/>
                    </a:lnTo>
                    <a:lnTo>
                      <a:pt x="220" y="4"/>
                    </a:lnTo>
                    <a:lnTo>
                      <a:pt x="202" y="0"/>
                    </a:lnTo>
                    <a:lnTo>
                      <a:pt x="183" y="0"/>
                    </a:lnTo>
                    <a:lnTo>
                      <a:pt x="165" y="0"/>
                    </a:lnTo>
                    <a:lnTo>
                      <a:pt x="145" y="4"/>
                    </a:lnTo>
                    <a:lnTo>
                      <a:pt x="127" y="8"/>
                    </a:lnTo>
                    <a:lnTo>
                      <a:pt x="92" y="23"/>
                    </a:lnTo>
                    <a:lnTo>
                      <a:pt x="62" y="45"/>
                    </a:lnTo>
                    <a:lnTo>
                      <a:pt x="38" y="70"/>
                    </a:lnTo>
                    <a:lnTo>
                      <a:pt x="20" y="100"/>
                    </a:lnTo>
                    <a:lnTo>
                      <a:pt x="7" y="134"/>
                    </a:lnTo>
                    <a:lnTo>
                      <a:pt x="0" y="168"/>
                    </a:lnTo>
                    <a:lnTo>
                      <a:pt x="0" y="206"/>
                    </a:lnTo>
                    <a:lnTo>
                      <a:pt x="6" y="244"/>
                    </a:lnTo>
                    <a:lnTo>
                      <a:pt x="11" y="263"/>
                    </a:lnTo>
                    <a:lnTo>
                      <a:pt x="18" y="280"/>
                    </a:lnTo>
                    <a:lnTo>
                      <a:pt x="28" y="297"/>
                    </a:lnTo>
                    <a:lnTo>
                      <a:pt x="38" y="312"/>
                    </a:lnTo>
                    <a:lnTo>
                      <a:pt x="48" y="326"/>
                    </a:lnTo>
                    <a:lnTo>
                      <a:pt x="61" y="339"/>
                    </a:lnTo>
                    <a:lnTo>
                      <a:pt x="74" y="349"/>
                    </a:lnTo>
                    <a:lnTo>
                      <a:pt x="89" y="360"/>
                    </a:lnTo>
                    <a:lnTo>
                      <a:pt x="104" y="368"/>
                    </a:lnTo>
                    <a:lnTo>
                      <a:pt x="119" y="375"/>
                    </a:lnTo>
                    <a:lnTo>
                      <a:pt x="136" y="379"/>
                    </a:lnTo>
                    <a:lnTo>
                      <a:pt x="152" y="383"/>
                    </a:lnTo>
                    <a:lnTo>
                      <a:pt x="170" y="384"/>
                    </a:lnTo>
                    <a:lnTo>
                      <a:pt x="189" y="384"/>
                    </a:lnTo>
                    <a:lnTo>
                      <a:pt x="207" y="381"/>
                    </a:lnTo>
                    <a:lnTo>
                      <a:pt x="226" y="3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620960" y="5125320"/>
                <a:ext cx="95040" cy="98640"/>
              </a:xfrm>
              <a:custGeom>
                <a:avLst/>
                <a:gdLst/>
                <a:ahLst/>
                <a:rect l="l" t="t" r="r" b="b"/>
                <a:pathLst>
                  <a:path w="102" h="107">
                    <a:moveTo>
                      <a:pt x="102" y="84"/>
                    </a:moveTo>
                    <a:lnTo>
                      <a:pt x="96" y="62"/>
                    </a:lnTo>
                    <a:lnTo>
                      <a:pt x="92" y="41"/>
                    </a:lnTo>
                    <a:lnTo>
                      <a:pt x="86" y="21"/>
                    </a:lnTo>
                    <a:lnTo>
                      <a:pt x="80" y="0"/>
                    </a:lnTo>
                    <a:lnTo>
                      <a:pt x="70" y="3"/>
                    </a:lnTo>
                    <a:lnTo>
                      <a:pt x="59" y="6"/>
                    </a:lnTo>
                    <a:lnTo>
                      <a:pt x="49" y="9"/>
                    </a:lnTo>
                    <a:lnTo>
                      <a:pt x="40" y="11"/>
                    </a:lnTo>
                    <a:lnTo>
                      <a:pt x="29" y="15"/>
                    </a:lnTo>
                    <a:lnTo>
                      <a:pt x="19" y="18"/>
                    </a:lnTo>
                    <a:lnTo>
                      <a:pt x="10" y="21"/>
                    </a:lnTo>
                    <a:lnTo>
                      <a:pt x="0" y="24"/>
                    </a:lnTo>
                    <a:lnTo>
                      <a:pt x="5" y="45"/>
                    </a:lnTo>
                    <a:lnTo>
                      <a:pt x="10" y="66"/>
                    </a:lnTo>
                    <a:lnTo>
                      <a:pt x="16" y="86"/>
                    </a:lnTo>
                    <a:lnTo>
                      <a:pt x="21" y="107"/>
                    </a:lnTo>
                    <a:lnTo>
                      <a:pt x="32" y="104"/>
                    </a:lnTo>
                    <a:lnTo>
                      <a:pt x="41" y="101"/>
                    </a:lnTo>
                    <a:lnTo>
                      <a:pt x="51" y="98"/>
                    </a:lnTo>
                    <a:lnTo>
                      <a:pt x="62" y="96"/>
                    </a:lnTo>
                    <a:lnTo>
                      <a:pt x="71" y="93"/>
                    </a:lnTo>
                    <a:lnTo>
                      <a:pt x="81" y="90"/>
                    </a:lnTo>
                    <a:lnTo>
                      <a:pt x="92" y="88"/>
                    </a:lnTo>
                    <a:lnTo>
                      <a:pt x="102" y="84"/>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468680" y="5392800"/>
                <a:ext cx="569880" cy="155880"/>
              </a:xfrm>
              <a:custGeom>
                <a:avLst/>
                <a:gdLst/>
                <a:ahLst/>
                <a:rect l="l" t="t" r="r" b="b"/>
                <a:pathLst>
                  <a:path w="624" h="169">
                    <a:moveTo>
                      <a:pt x="613" y="24"/>
                    </a:moveTo>
                    <a:lnTo>
                      <a:pt x="612" y="18"/>
                    </a:lnTo>
                    <a:lnTo>
                      <a:pt x="609" y="12"/>
                    </a:lnTo>
                    <a:lnTo>
                      <a:pt x="605" y="8"/>
                    </a:lnTo>
                    <a:lnTo>
                      <a:pt x="602" y="4"/>
                    </a:lnTo>
                    <a:lnTo>
                      <a:pt x="596" y="2"/>
                    </a:lnTo>
                    <a:lnTo>
                      <a:pt x="590" y="1"/>
                    </a:lnTo>
                    <a:lnTo>
                      <a:pt x="585" y="0"/>
                    </a:lnTo>
                    <a:lnTo>
                      <a:pt x="579" y="1"/>
                    </a:lnTo>
                    <a:lnTo>
                      <a:pt x="542" y="11"/>
                    </a:lnTo>
                    <a:lnTo>
                      <a:pt x="505" y="21"/>
                    </a:lnTo>
                    <a:lnTo>
                      <a:pt x="469" y="32"/>
                    </a:lnTo>
                    <a:lnTo>
                      <a:pt x="434" y="41"/>
                    </a:lnTo>
                    <a:lnTo>
                      <a:pt x="398" y="51"/>
                    </a:lnTo>
                    <a:lnTo>
                      <a:pt x="363" y="62"/>
                    </a:lnTo>
                    <a:lnTo>
                      <a:pt x="328" y="72"/>
                    </a:lnTo>
                    <a:lnTo>
                      <a:pt x="293" y="81"/>
                    </a:lnTo>
                    <a:lnTo>
                      <a:pt x="257" y="92"/>
                    </a:lnTo>
                    <a:lnTo>
                      <a:pt x="223" y="101"/>
                    </a:lnTo>
                    <a:lnTo>
                      <a:pt x="188" y="111"/>
                    </a:lnTo>
                    <a:lnTo>
                      <a:pt x="154" y="122"/>
                    </a:lnTo>
                    <a:lnTo>
                      <a:pt x="119" y="131"/>
                    </a:lnTo>
                    <a:lnTo>
                      <a:pt x="85" y="141"/>
                    </a:lnTo>
                    <a:lnTo>
                      <a:pt x="49" y="151"/>
                    </a:lnTo>
                    <a:lnTo>
                      <a:pt x="14" y="161"/>
                    </a:lnTo>
                    <a:lnTo>
                      <a:pt x="10" y="162"/>
                    </a:lnTo>
                    <a:lnTo>
                      <a:pt x="6" y="164"/>
                    </a:lnTo>
                    <a:lnTo>
                      <a:pt x="3" y="167"/>
                    </a:lnTo>
                    <a:lnTo>
                      <a:pt x="0" y="169"/>
                    </a:lnTo>
                    <a:lnTo>
                      <a:pt x="14" y="168"/>
                    </a:lnTo>
                    <a:lnTo>
                      <a:pt x="27" y="167"/>
                    </a:lnTo>
                    <a:lnTo>
                      <a:pt x="41" y="165"/>
                    </a:lnTo>
                    <a:lnTo>
                      <a:pt x="53" y="164"/>
                    </a:lnTo>
                    <a:lnTo>
                      <a:pt x="67" y="163"/>
                    </a:lnTo>
                    <a:lnTo>
                      <a:pt x="81" y="163"/>
                    </a:lnTo>
                    <a:lnTo>
                      <a:pt x="94" y="162"/>
                    </a:lnTo>
                    <a:lnTo>
                      <a:pt x="108" y="161"/>
                    </a:lnTo>
                    <a:lnTo>
                      <a:pt x="120" y="161"/>
                    </a:lnTo>
                    <a:lnTo>
                      <a:pt x="134" y="160"/>
                    </a:lnTo>
                    <a:lnTo>
                      <a:pt x="148" y="160"/>
                    </a:lnTo>
                    <a:lnTo>
                      <a:pt x="161" y="160"/>
                    </a:lnTo>
                    <a:lnTo>
                      <a:pt x="174" y="159"/>
                    </a:lnTo>
                    <a:lnTo>
                      <a:pt x="187" y="159"/>
                    </a:lnTo>
                    <a:lnTo>
                      <a:pt x="201" y="159"/>
                    </a:lnTo>
                    <a:lnTo>
                      <a:pt x="214" y="159"/>
                    </a:lnTo>
                    <a:lnTo>
                      <a:pt x="234" y="159"/>
                    </a:lnTo>
                    <a:lnTo>
                      <a:pt x="254" y="159"/>
                    </a:lnTo>
                    <a:lnTo>
                      <a:pt x="274" y="159"/>
                    </a:lnTo>
                    <a:lnTo>
                      <a:pt x="293" y="160"/>
                    </a:lnTo>
                    <a:lnTo>
                      <a:pt x="313" y="160"/>
                    </a:lnTo>
                    <a:lnTo>
                      <a:pt x="331" y="161"/>
                    </a:lnTo>
                    <a:lnTo>
                      <a:pt x="351" y="162"/>
                    </a:lnTo>
                    <a:lnTo>
                      <a:pt x="369" y="163"/>
                    </a:lnTo>
                    <a:lnTo>
                      <a:pt x="385" y="159"/>
                    </a:lnTo>
                    <a:lnTo>
                      <a:pt x="400" y="154"/>
                    </a:lnTo>
                    <a:lnTo>
                      <a:pt x="416" y="149"/>
                    </a:lnTo>
                    <a:lnTo>
                      <a:pt x="433" y="146"/>
                    </a:lnTo>
                    <a:lnTo>
                      <a:pt x="448" y="141"/>
                    </a:lnTo>
                    <a:lnTo>
                      <a:pt x="464" y="137"/>
                    </a:lnTo>
                    <a:lnTo>
                      <a:pt x="480" y="132"/>
                    </a:lnTo>
                    <a:lnTo>
                      <a:pt x="496" y="127"/>
                    </a:lnTo>
                    <a:lnTo>
                      <a:pt x="512" y="124"/>
                    </a:lnTo>
                    <a:lnTo>
                      <a:pt x="527" y="119"/>
                    </a:lnTo>
                    <a:lnTo>
                      <a:pt x="543" y="115"/>
                    </a:lnTo>
                    <a:lnTo>
                      <a:pt x="559" y="110"/>
                    </a:lnTo>
                    <a:lnTo>
                      <a:pt x="575" y="106"/>
                    </a:lnTo>
                    <a:lnTo>
                      <a:pt x="592" y="101"/>
                    </a:lnTo>
                    <a:lnTo>
                      <a:pt x="608" y="96"/>
                    </a:lnTo>
                    <a:lnTo>
                      <a:pt x="624" y="92"/>
                    </a:lnTo>
                    <a:lnTo>
                      <a:pt x="622" y="74"/>
                    </a:lnTo>
                    <a:lnTo>
                      <a:pt x="619" y="57"/>
                    </a:lnTo>
                    <a:lnTo>
                      <a:pt x="616" y="41"/>
                    </a:lnTo>
                    <a:lnTo>
                      <a:pt x="613" y="24"/>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37560" y="4610160"/>
                <a:ext cx="648720" cy="406800"/>
              </a:xfrm>
              <a:custGeom>
                <a:avLst/>
                <a:gdLst/>
                <a:ahLst/>
                <a:rect l="l" t="t" r="r" b="b"/>
                <a:pathLst>
                  <a:path w="710" h="443">
                    <a:moveTo>
                      <a:pt x="122" y="442"/>
                    </a:moveTo>
                    <a:lnTo>
                      <a:pt x="156" y="432"/>
                    </a:lnTo>
                    <a:lnTo>
                      <a:pt x="189" y="420"/>
                    </a:lnTo>
                    <a:lnTo>
                      <a:pt x="222" y="410"/>
                    </a:lnTo>
                    <a:lnTo>
                      <a:pt x="257" y="398"/>
                    </a:lnTo>
                    <a:lnTo>
                      <a:pt x="290" y="387"/>
                    </a:lnTo>
                    <a:lnTo>
                      <a:pt x="324" y="375"/>
                    </a:lnTo>
                    <a:lnTo>
                      <a:pt x="358" y="364"/>
                    </a:lnTo>
                    <a:lnTo>
                      <a:pt x="393" y="352"/>
                    </a:lnTo>
                    <a:lnTo>
                      <a:pt x="429" y="340"/>
                    </a:lnTo>
                    <a:lnTo>
                      <a:pt x="463" y="328"/>
                    </a:lnTo>
                    <a:lnTo>
                      <a:pt x="499" y="317"/>
                    </a:lnTo>
                    <a:lnTo>
                      <a:pt x="536" y="305"/>
                    </a:lnTo>
                    <a:lnTo>
                      <a:pt x="573" y="292"/>
                    </a:lnTo>
                    <a:lnTo>
                      <a:pt x="610" y="282"/>
                    </a:lnTo>
                    <a:lnTo>
                      <a:pt x="648" y="270"/>
                    </a:lnTo>
                    <a:lnTo>
                      <a:pt x="687" y="259"/>
                    </a:lnTo>
                    <a:lnTo>
                      <a:pt x="698" y="253"/>
                    </a:lnTo>
                    <a:lnTo>
                      <a:pt x="706" y="243"/>
                    </a:lnTo>
                    <a:lnTo>
                      <a:pt x="710" y="231"/>
                    </a:lnTo>
                    <a:lnTo>
                      <a:pt x="709" y="219"/>
                    </a:lnTo>
                    <a:lnTo>
                      <a:pt x="700" y="191"/>
                    </a:lnTo>
                    <a:lnTo>
                      <a:pt x="689" y="163"/>
                    </a:lnTo>
                    <a:lnTo>
                      <a:pt x="680" y="137"/>
                    </a:lnTo>
                    <a:lnTo>
                      <a:pt x="670" y="109"/>
                    </a:lnTo>
                    <a:lnTo>
                      <a:pt x="660" y="83"/>
                    </a:lnTo>
                    <a:lnTo>
                      <a:pt x="649" y="55"/>
                    </a:lnTo>
                    <a:lnTo>
                      <a:pt x="638" y="27"/>
                    </a:lnTo>
                    <a:lnTo>
                      <a:pt x="627" y="0"/>
                    </a:lnTo>
                    <a:lnTo>
                      <a:pt x="584" y="12"/>
                    </a:lnTo>
                    <a:lnTo>
                      <a:pt x="543" y="26"/>
                    </a:lnTo>
                    <a:lnTo>
                      <a:pt x="501" y="41"/>
                    </a:lnTo>
                    <a:lnTo>
                      <a:pt x="462" y="56"/>
                    </a:lnTo>
                    <a:lnTo>
                      <a:pt x="422" y="71"/>
                    </a:lnTo>
                    <a:lnTo>
                      <a:pt x="383" y="86"/>
                    </a:lnTo>
                    <a:lnTo>
                      <a:pt x="345" y="101"/>
                    </a:lnTo>
                    <a:lnTo>
                      <a:pt x="307" y="117"/>
                    </a:lnTo>
                    <a:lnTo>
                      <a:pt x="269" y="132"/>
                    </a:lnTo>
                    <a:lnTo>
                      <a:pt x="231" y="148"/>
                    </a:lnTo>
                    <a:lnTo>
                      <a:pt x="193" y="163"/>
                    </a:lnTo>
                    <a:lnTo>
                      <a:pt x="154" y="178"/>
                    </a:lnTo>
                    <a:lnTo>
                      <a:pt x="116" y="192"/>
                    </a:lnTo>
                    <a:lnTo>
                      <a:pt x="77" y="206"/>
                    </a:lnTo>
                    <a:lnTo>
                      <a:pt x="39" y="219"/>
                    </a:lnTo>
                    <a:lnTo>
                      <a:pt x="0" y="231"/>
                    </a:lnTo>
                    <a:lnTo>
                      <a:pt x="12" y="255"/>
                    </a:lnTo>
                    <a:lnTo>
                      <a:pt x="23" y="279"/>
                    </a:lnTo>
                    <a:lnTo>
                      <a:pt x="35" y="302"/>
                    </a:lnTo>
                    <a:lnTo>
                      <a:pt x="45" y="326"/>
                    </a:lnTo>
                    <a:lnTo>
                      <a:pt x="55" y="349"/>
                    </a:lnTo>
                    <a:lnTo>
                      <a:pt x="66" y="373"/>
                    </a:lnTo>
                    <a:lnTo>
                      <a:pt x="75" y="397"/>
                    </a:lnTo>
                    <a:lnTo>
                      <a:pt x="84" y="421"/>
                    </a:lnTo>
                    <a:lnTo>
                      <a:pt x="88" y="427"/>
                    </a:lnTo>
                    <a:lnTo>
                      <a:pt x="91" y="432"/>
                    </a:lnTo>
                    <a:lnTo>
                      <a:pt x="96" y="436"/>
                    </a:lnTo>
                    <a:lnTo>
                      <a:pt x="100" y="440"/>
                    </a:lnTo>
                    <a:lnTo>
                      <a:pt x="105" y="442"/>
                    </a:lnTo>
                    <a:lnTo>
                      <a:pt x="111" y="443"/>
                    </a:lnTo>
                    <a:lnTo>
                      <a:pt x="116" y="443"/>
                    </a:lnTo>
                    <a:lnTo>
                      <a:pt x="122" y="44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76040" y="4664880"/>
                <a:ext cx="161280" cy="179280"/>
              </a:xfrm>
              <a:custGeom>
                <a:avLst/>
                <a:gdLst/>
                <a:ahLst/>
                <a:rect l="l" t="t" r="r" b="b"/>
                <a:pathLst>
                  <a:path w="177" h="197">
                    <a:moveTo>
                      <a:pt x="177" y="160"/>
                    </a:moveTo>
                    <a:lnTo>
                      <a:pt x="170" y="139"/>
                    </a:lnTo>
                    <a:lnTo>
                      <a:pt x="163" y="119"/>
                    </a:lnTo>
                    <a:lnTo>
                      <a:pt x="156" y="100"/>
                    </a:lnTo>
                    <a:lnTo>
                      <a:pt x="148" y="79"/>
                    </a:lnTo>
                    <a:lnTo>
                      <a:pt x="141" y="60"/>
                    </a:lnTo>
                    <a:lnTo>
                      <a:pt x="133" y="40"/>
                    </a:lnTo>
                    <a:lnTo>
                      <a:pt x="125" y="20"/>
                    </a:lnTo>
                    <a:lnTo>
                      <a:pt x="117" y="0"/>
                    </a:lnTo>
                    <a:lnTo>
                      <a:pt x="102" y="4"/>
                    </a:lnTo>
                    <a:lnTo>
                      <a:pt x="88" y="9"/>
                    </a:lnTo>
                    <a:lnTo>
                      <a:pt x="73" y="13"/>
                    </a:lnTo>
                    <a:lnTo>
                      <a:pt x="59" y="19"/>
                    </a:lnTo>
                    <a:lnTo>
                      <a:pt x="44" y="24"/>
                    </a:lnTo>
                    <a:lnTo>
                      <a:pt x="29" y="28"/>
                    </a:lnTo>
                    <a:lnTo>
                      <a:pt x="15" y="34"/>
                    </a:lnTo>
                    <a:lnTo>
                      <a:pt x="0" y="39"/>
                    </a:lnTo>
                    <a:lnTo>
                      <a:pt x="9" y="58"/>
                    </a:lnTo>
                    <a:lnTo>
                      <a:pt x="15" y="79"/>
                    </a:lnTo>
                    <a:lnTo>
                      <a:pt x="23" y="99"/>
                    </a:lnTo>
                    <a:lnTo>
                      <a:pt x="30" y="118"/>
                    </a:lnTo>
                    <a:lnTo>
                      <a:pt x="37" y="138"/>
                    </a:lnTo>
                    <a:lnTo>
                      <a:pt x="44" y="157"/>
                    </a:lnTo>
                    <a:lnTo>
                      <a:pt x="51" y="177"/>
                    </a:lnTo>
                    <a:lnTo>
                      <a:pt x="58" y="197"/>
                    </a:lnTo>
                    <a:lnTo>
                      <a:pt x="73" y="192"/>
                    </a:lnTo>
                    <a:lnTo>
                      <a:pt x="87" y="187"/>
                    </a:lnTo>
                    <a:lnTo>
                      <a:pt x="102" y="183"/>
                    </a:lnTo>
                    <a:lnTo>
                      <a:pt x="117" y="178"/>
                    </a:lnTo>
                    <a:lnTo>
                      <a:pt x="132" y="174"/>
                    </a:lnTo>
                    <a:lnTo>
                      <a:pt x="147" y="169"/>
                    </a:lnTo>
                    <a:lnTo>
                      <a:pt x="162" y="164"/>
                    </a:lnTo>
                    <a:lnTo>
                      <a:pt x="177" y="160"/>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3333600" y="6232680"/>
            <a:ext cx="244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equential Process</a:t>
            </a:r>
            <a:endParaRPr b="0" lang="en-US" sz="2000" spc="-1" strike="noStrike">
              <a:solidFill>
                <a:srgbClr val="000000"/>
              </a:solidFill>
              <a:latin typeface="Times New Roman"/>
            </a:endParaRPr>
          </a:p>
        </p:txBody>
      </p:sp>
      <p:sp>
        <p:nvSpPr>
          <p:cNvPr id="157" name=""/>
          <p:cNvSpPr/>
          <p:nvPr/>
        </p:nvSpPr>
        <p:spPr>
          <a:xfrm>
            <a:off x="5772240" y="624204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3"/>
          <a:stretch/>
        </p:blipFill>
        <p:spPr>
          <a:xfrm>
            <a:off x="1994040" y="1519200"/>
            <a:ext cx="5135400" cy="2230560"/>
          </a:xfrm>
          <a:prstGeom prst="rect">
            <a:avLst/>
          </a:prstGeom>
          <a:ln w="0">
            <a:noFill/>
          </a:ln>
        </p:spPr>
      </p:pic>
      <p:sp>
        <p:nvSpPr>
          <p:cNvPr id="3" name="PlaceHolder 2"/>
          <p:cNvSpPr>
            <a:spLocks noGrp="1"/>
          </p:cNvSpPr>
          <p:nvPr>
            <p:ph type="sldNum" idx="3"/>
          </p:nvPr>
        </p:nvSpPr>
        <p:spPr/>
        <p:txBody>
          <a:bodyPr/>
          <a:p>
            <a:fld id="{8C27BC4B-DDBD-485E-9322-DA13EF20B035}"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gtEl>
                                        <p:attrNameLst>
                                          <p:attrName>style.visibility</p:attrName>
                                        </p:attrNameLst>
                                      </p:cBhvr>
                                      <p:to>
                                        <p:strVal val="visible"/>
                                      </p:to>
                                    </p:set>
                                    <p:animEffect filter="dissolve" transition="in">
                                      <p:cBhvr additive="repl">
                                        <p:cTn id="7" dur="500"/>
                                        <p:tgtEl>
                                          <p:spTgt spid="64"/>
                                        </p:tgtEl>
                                      </p:cBhvr>
                                    </p:animEffect>
                                  </p:childTnLst>
                                </p:cTn>
                              </p:par>
                              <p:par>
                                <p:cTn id="8" nodeType="withEffect" fill="hold" presetClass="entr" presetID="9">
                                  <p:stCondLst>
                                    <p:cond delay="0"/>
                                  </p:stCondLst>
                                  <p:childTnLst>
                                    <p:set>
                                      <p:cBhvr>
                                        <p:cTn id="9" dur="1" fill="hold">
                                          <p:stCondLst>
                                            <p:cond delay="0"/>
                                          </p:stCondLst>
                                        </p:cTn>
                                        <p:tgtEl>
                                          <p:spTgt spid="65"/>
                                        </p:tgtEl>
                                        <p:attrNameLst>
                                          <p:attrName>style.visibility</p:attrName>
                                        </p:attrNameLst>
                                      </p:cBhvr>
                                      <p:to>
                                        <p:strVal val="visible"/>
                                      </p:to>
                                    </p:set>
                                    <p:animEffect filter="dissolve" transition="in">
                                      <p:cBhvr additive="repl">
                                        <p:cTn id="10" dur="500"/>
                                        <p:tgtEl>
                                          <p:spTgt spid="65"/>
                                        </p:tgtEl>
                                      </p:cBhvr>
                                    </p:animEffect>
                                  </p:childTnLst>
                                </p:cTn>
                              </p:par>
                              <p:par>
                                <p:cTn id="11" nodeType="withEffect" fill="hold" presetClass="entr" presetID="9">
                                  <p:stCondLst>
                                    <p:cond delay="0"/>
                                  </p:stCondLst>
                                  <p:childTnLst>
                                    <p:set>
                                      <p:cBhvr>
                                        <p:cTn id="12" dur="1" fill="hold">
                                          <p:stCondLst>
                                            <p:cond delay="0"/>
                                          </p:stCondLst>
                                        </p:cTn>
                                        <p:tgtEl>
                                          <p:spTgt spid="66"/>
                                        </p:tgtEl>
                                        <p:attrNameLst>
                                          <p:attrName>style.visibility</p:attrName>
                                        </p:attrNameLst>
                                      </p:cBhvr>
                                      <p:to>
                                        <p:strVal val="visible"/>
                                      </p:to>
                                    </p:set>
                                    <p:animEffect filter="dissolve" transition="in">
                                      <p:cBhvr additive="repl">
                                        <p:cTn id="13" dur="500"/>
                                        <p:tgtEl>
                                          <p:spTgt spid="66"/>
                                        </p:tgtEl>
                                      </p:cBhvr>
                                    </p:animEffect>
                                  </p:childTnLst>
                                </p:cTn>
                              </p:par>
                              <p:par>
                                <p:cTn id="14" nodeType="withEffect" fill="hold" presetClass="entr" presetID="9">
                                  <p:stCondLst>
                                    <p:cond delay="0"/>
                                  </p:stCondLst>
                                  <p:childTnLst>
                                    <p:set>
                                      <p:cBhvr>
                                        <p:cTn id="15" dur="1" fill="hold">
                                          <p:stCondLst>
                                            <p:cond delay="0"/>
                                          </p:stCondLst>
                                        </p:cTn>
                                        <p:tgtEl>
                                          <p:spTgt spid="67"/>
                                        </p:tgtEl>
                                        <p:attrNameLst>
                                          <p:attrName>style.visibility</p:attrName>
                                        </p:attrNameLst>
                                      </p:cBhvr>
                                      <p:to>
                                        <p:strVal val="visible"/>
                                      </p:to>
                                    </p:set>
                                    <p:animEffect filter="dissolve" transition="in">
                                      <p:cBhvr additive="repl">
                                        <p:cTn id="16" dur="500"/>
                                        <p:tgtEl>
                                          <p:spTgt spid="6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6"/>
                                        </p:tgtEl>
                                        <p:attrNameLst>
                                          <p:attrName>style.visibility</p:attrName>
                                        </p:attrNameLst>
                                      </p:cBhvr>
                                      <p:to>
                                        <p:strVal val="visible"/>
                                      </p:to>
                                    </p:set>
                                    <p:animEffect filter="dissolve" transition="in">
                                      <p:cBhvr additive="repl">
                                        <p:cTn id="21" dur="500"/>
                                        <p:tgtEl>
                                          <p:spTgt spid="156"/>
                                        </p:tgtEl>
                                      </p:cBhvr>
                                    </p:animEffect>
                                  </p:childTnLst>
                                </p:cTn>
                              </p:par>
                              <p:par>
                                <p:cTn id="22" nodeType="withEffect" fill="hold" presetClass="entr" presetID="9">
                                  <p:stCondLst>
                                    <p:cond delay="0"/>
                                  </p:stCondLst>
                                  <p:childTnLst>
                                    <p:set>
                                      <p:cBhvr>
                                        <p:cTn id="23" dur="1" fill="hold">
                                          <p:stCondLst>
                                            <p:cond delay="0"/>
                                          </p:stCondLst>
                                        </p:cTn>
                                        <p:tgtEl>
                                          <p:spTgt spid="157"/>
                                        </p:tgtEl>
                                        <p:attrNameLst>
                                          <p:attrName>style.visibility</p:attrName>
                                        </p:attrNameLst>
                                      </p:cBhvr>
                                      <p:to>
                                        <p:strVal val="visible"/>
                                      </p:to>
                                    </p:set>
                                    <p:animEffect filter="dissolve" transition="in">
                                      <p:cBhvr additive="repl">
                                        <p:cTn id="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Ptwickler</cp:lastModifiedBy>
  <dcterms:modified xsi:type="dcterms:W3CDTF">2009-04-03T16:06:39Z</dcterms:modified>
  <cp:revision>531</cp:revision>
  <dc:subject/>
  <dc:title>Memory</dc:title>
</cp:coreProperties>
</file>